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25.jpeg" ContentType="image/jpeg"/>
  <Override PartName="/ppt/media/image24.jpeg" ContentType="image/jpeg"/>
  <Override PartName="/ppt/media/image5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C59F-787D-49D2-BD96-361B1F7A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B4C6-4C98-41F1-9F61-7BD5E099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741C-B038-41C9-94EE-05B93C33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468A-C4BF-4066-A692-10A6518D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4E5A-3A4E-4122-A222-7784BBAD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315A-5031-467D-A323-B6F40F9C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B73A-1921-4061-824F-2BC59F6D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E960-4E2E-49DA-8395-7838D12F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AAE3-F913-4C24-AA64-A4906DFF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A1E1-9F88-40CF-9838-85FF52EF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787B-831D-49B5-A804-FF5103C4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E435-61FE-43A8-B07D-408FF576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3689-E5B9-4C7D-959B-9C1C200CEE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F088-5F8D-489D-AB4C-276992AE5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1828800" y="1905120"/>
            <a:ext cx="541008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980720"/>
            <a:ext cx="7772400" cy="146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Любимое искусство: мультиплик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4D4B-8D2C-4160-9F07-7E33B70CD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152280" y="6135840"/>
            <a:ext cx="184320" cy="36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Title 1" descr=""/>
          <p:cNvPicPr/>
          <p:nvPr/>
        </p:nvPicPr>
        <p:blipFill>
          <a:blip r:embed="rId2"/>
          <a:stretch/>
        </p:blipFill>
        <p:spPr>
          <a:xfrm>
            <a:off x="-36360" y="4309920"/>
            <a:ext cx="84312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2"/>
          <p:cNvSpPr/>
          <p:nvPr/>
        </p:nvSpPr>
        <p:spPr>
          <a:xfrm>
            <a:off x="371520" y="380880"/>
            <a:ext cx="8305920" cy="617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57B2-ECC8-4A71-9574-21EEFBFEB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Documents and Settings\martha\Рабочий стол\ДЕТИ\мультфильмы\IMG_2378.JPG"/>
          <p:cNvPicPr/>
          <p:nvPr/>
        </p:nvPicPr>
        <p:blipFill>
          <a:blip r:embed="rId1"/>
          <a:stretch/>
        </p:blipFill>
        <p:spPr>
          <a:xfrm>
            <a:off x="690480" y="838080"/>
            <a:ext cx="1946520" cy="279900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9" name="Picture 5" descr="C:\Documents and Settings\martha\Рабочий стол\ДЕТИ\мультфильмы\IMG_2362.JPG"/>
          <p:cNvPicPr/>
          <p:nvPr/>
        </p:nvPicPr>
        <p:blipFill>
          <a:blip r:embed="rId2"/>
          <a:stretch/>
        </p:blipFill>
        <p:spPr>
          <a:xfrm>
            <a:off x="690480" y="3681360"/>
            <a:ext cx="3892680" cy="249084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0" name="TextBox 1"/>
          <p:cNvSpPr/>
          <p:nvPr/>
        </p:nvSpPr>
        <p:spPr>
          <a:xfrm>
            <a:off x="4767120" y="771480"/>
            <a:ext cx="3276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На студии «Пилот» создают мультфильмы: рисуют, лепят из пластилина и обрабатывают при помощи компьютера. Так сделана, например, серия  «Гора самоцветов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Documents and Settings\martha\Рабочий стол\ДЕТИ\мультфильмы\IMG_2358.JPG"/>
          <p:cNvPicPr/>
          <p:nvPr/>
        </p:nvPicPr>
        <p:blipFill>
          <a:blip r:embed="rId3"/>
          <a:stretch/>
        </p:blipFill>
        <p:spPr>
          <a:xfrm>
            <a:off x="2666880" y="838080"/>
            <a:ext cx="1916280" cy="279900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2" name="TextBox 6"/>
          <p:cNvSpPr/>
          <p:nvPr/>
        </p:nvSpPr>
        <p:spPr>
          <a:xfrm>
            <a:off x="4800600" y="3581280"/>
            <a:ext cx="33526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Мастера лепят из пластилина героев  и декорации, иногда целые горо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384120" y="380880"/>
            <a:ext cx="36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Наша экскурсия на студию «Пило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7"/>
          <p:cNvSpPr/>
          <p:nvPr/>
        </p:nvSpPr>
        <p:spPr>
          <a:xfrm>
            <a:off x="371520" y="304920"/>
            <a:ext cx="8305920" cy="627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DA76-9AE8-4C31-B521-6430BC9C4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C:\Documents and Settings\martha\Рабочий стол\ДЕТИ\мультфильмы\IMG_2350.JPG"/>
          <p:cNvPicPr/>
          <p:nvPr/>
        </p:nvPicPr>
        <p:blipFill>
          <a:blip r:embed="rId1"/>
          <a:stretch/>
        </p:blipFill>
        <p:spPr>
          <a:xfrm>
            <a:off x="693720" y="3576600"/>
            <a:ext cx="4032360" cy="259560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07" name="Picture 4" descr="C:\Documents and Settings\martha\Рабочий стол\ДЕТИ\мультфильмы\IMG_2366.JPG"/>
          <p:cNvPicPr/>
          <p:nvPr/>
        </p:nvPicPr>
        <p:blipFill>
          <a:blip r:embed="rId2"/>
          <a:stretch/>
        </p:blipFill>
        <p:spPr>
          <a:xfrm>
            <a:off x="677880" y="825480"/>
            <a:ext cx="4046400" cy="259092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8" name="TextBox 6"/>
          <p:cNvSpPr/>
          <p:nvPr/>
        </p:nvSpPr>
        <p:spPr>
          <a:xfrm>
            <a:off x="4952880" y="762120"/>
            <a:ext cx="3429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Как делается пластилиновый мультфиль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Лепим героев и декор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Снимаем (фотографируем) каждое изменение положения герое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Соединяем кадры, быстро «прокручиваем» их, чтобы создать впечатление движ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Накладываем звук и титры (надпис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Смотрим мультфиль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8"/>
          <p:cNvSpPr/>
          <p:nvPr/>
        </p:nvSpPr>
        <p:spPr>
          <a:xfrm>
            <a:off x="384120" y="380880"/>
            <a:ext cx="36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Наша экскурсия на студию «Пило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376200" y="380880"/>
            <a:ext cx="8305920" cy="617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378000" y="907920"/>
            <a:ext cx="8394480" cy="1231920"/>
          </a:xfrm>
          <a:prstGeom prst="rect">
            <a:avLst/>
          </a:prstGeom>
          <a:ln w="0">
            <a:noFill/>
          </a:ln>
        </p:spPr>
      </p:pic>
      <p:pic>
        <p:nvPicPr>
          <p:cNvPr id="112" name="Title 1" descr=""/>
          <p:cNvPicPr/>
          <p:nvPr/>
        </p:nvPicPr>
        <p:blipFill>
          <a:blip r:embed="rId2"/>
          <a:stretch/>
        </p:blipFill>
        <p:spPr>
          <a:xfrm>
            <a:off x="450720" y="2584440"/>
            <a:ext cx="8394840" cy="123192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AAB0-953D-4843-9BBA-095B29C81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5"/>
          <p:cNvSpPr/>
          <p:nvPr/>
        </p:nvSpPr>
        <p:spPr>
          <a:xfrm>
            <a:off x="338040" y="380880"/>
            <a:ext cx="8305920" cy="617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AE87-CA10-429F-AB59-7F67677A9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785880" y="554040"/>
            <a:ext cx="6767280" cy="2738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630360" y="3657600"/>
            <a:ext cx="2112840" cy="28098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3" descr=""/>
          <p:cNvPicPr/>
          <p:nvPr/>
        </p:nvPicPr>
        <p:blipFill>
          <a:blip r:embed="rId3"/>
          <a:stretch/>
        </p:blipFill>
        <p:spPr>
          <a:xfrm>
            <a:off x="3071880" y="3346560"/>
            <a:ext cx="54687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5"/>
          <p:cNvSpPr/>
          <p:nvPr/>
        </p:nvSpPr>
        <p:spPr>
          <a:xfrm>
            <a:off x="371520" y="380880"/>
            <a:ext cx="8305920" cy="617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8507-C42A-43A6-9450-2B6D20D61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25880" y="380880"/>
            <a:ext cx="26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История мультиплик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590400" y="914400"/>
            <a:ext cx="76392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1859c"/>
                </a:solidFill>
                <a:latin typeface="Calibri"/>
              </a:rPr>
              <a:t>134 года назад (в 1877 году) инженер из Франции Эмиль Рейно изобрел аппарат (праксиноскоп), позволяющий показывать нарисованные картинки с эффектом движения. Этот «оптический театр» появился раньше кинематографа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1859c"/>
                </a:solidFill>
                <a:latin typeface="Calibri"/>
              </a:rPr>
              <a:t>После того, как появился кинематограф, мультфильмы стали снимать на киноплен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060640" y="2235240"/>
            <a:ext cx="4873680" cy="300024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5"/>
          <p:cNvSpPr/>
          <p:nvPr/>
        </p:nvSpPr>
        <p:spPr>
          <a:xfrm>
            <a:off x="371520" y="380880"/>
            <a:ext cx="8305920" cy="617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ервым русским биологом по образованию, он решил сделать обучающий фильм с насеком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2043-8488-4D75-AB62-6D7A69DCD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425880" y="380880"/>
            <a:ext cx="26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История мультиплик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073240" y="1741320"/>
            <a:ext cx="4572000" cy="345132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0" name="TextBox 6"/>
          <p:cNvSpPr/>
          <p:nvPr/>
        </p:nvSpPr>
        <p:spPr>
          <a:xfrm>
            <a:off x="380880" y="838080"/>
            <a:ext cx="792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Первым русским мультипликатором был  Владислав Старевич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Он делал мультфильмы про насекомы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5"/>
          <p:cNvSpPr/>
          <p:nvPr/>
        </p:nvSpPr>
        <p:spPr>
          <a:xfrm>
            <a:off x="380880" y="380880"/>
            <a:ext cx="8305920" cy="617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ервым русским биологом по образованию, он решил сделать обучающий фильм с насеком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A9ED-CEA2-4ADD-BA4C-3FEE65975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2277360" y="544680"/>
            <a:ext cx="40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Новые виды мультиплик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2743200" y="50292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Компьютерная аним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Трехмерные мультфиль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rcRect l="41277" t="0" r="0" b="0"/>
          <a:stretch/>
        </p:blipFill>
        <p:spPr>
          <a:xfrm>
            <a:off x="762120" y="1066680"/>
            <a:ext cx="3166920" cy="358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286056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5"/>
          <p:cNvSpPr/>
          <p:nvPr/>
        </p:nvSpPr>
        <p:spPr>
          <a:xfrm>
            <a:off x="371520" y="320760"/>
            <a:ext cx="8305920" cy="617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Calibri"/>
              </a:rPr>
              <a:t>Самый известный мультипликатор в мире –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Уолт Дисней</a:t>
            </a:r>
            <a:r>
              <a:rPr b="0" lang="ru-RU" sz="2200" spc="-1" strike="noStrike">
                <a:solidFill>
                  <a:srgbClr val="0070c0"/>
                </a:solidFill>
                <a:latin typeface="Calibri"/>
              </a:rPr>
              <a:t>, создатель первого в истории звукового мультфильма, первого музыкального и первого полнометражного, основатель знаменитой студии.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Calibri"/>
              </a:rPr>
              <a:t>1923 год: студия Дисней.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Calibri"/>
              </a:rPr>
              <a:t>1936: студия «Союзмультфильм»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C136-A954-4DD6-96F2-03ECA017B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609480" y="34336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5210280" y="3962520"/>
            <a:ext cx="3019320" cy="2138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 rot="20231400">
            <a:off x="3137040" y="3560760"/>
            <a:ext cx="104292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5"/>
          <p:cNvSpPr/>
          <p:nvPr/>
        </p:nvSpPr>
        <p:spPr>
          <a:xfrm>
            <a:off x="353880" y="320760"/>
            <a:ext cx="8305920" cy="617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10666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Русская школа мультипликации одна из самых интересных и сильных во всем мир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7FED-C8ED-47A4-A865-D41BFF444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Rectangle 3" descr=""/>
          <p:cNvPicPr/>
          <p:nvPr/>
        </p:nvPicPr>
        <p:blipFill>
          <a:blip r:embed="rId1"/>
          <a:stretch/>
        </p:blipFill>
        <p:spPr>
          <a:xfrm>
            <a:off x="3962520" y="2925720"/>
            <a:ext cx="4578120" cy="1487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Documents and Settings\martha\Рабочий стол\ДЕТИ\мультфильмы\362.jpg"/>
          <p:cNvPicPr/>
          <p:nvPr/>
        </p:nvPicPr>
        <p:blipFill>
          <a:blip r:embed="rId2"/>
          <a:stretch/>
        </p:blipFill>
        <p:spPr>
          <a:xfrm>
            <a:off x="838080" y="3032280"/>
            <a:ext cx="3124440" cy="253044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8" name="TextBox 2"/>
          <p:cNvSpPr/>
          <p:nvPr/>
        </p:nvSpPr>
        <p:spPr>
          <a:xfrm>
            <a:off x="2363040" y="2209680"/>
            <a:ext cx="37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Самый знаменитый мультфиль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5"/>
          <p:cNvSpPr/>
          <p:nvPr/>
        </p:nvSpPr>
        <p:spPr>
          <a:xfrm>
            <a:off x="372960" y="380880"/>
            <a:ext cx="8305920" cy="617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ервым русским биологом по образованию, он решил сделать обучающий фильм с насеком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7151-BB1F-4E15-A1CE-A47F9118F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838080" y="1752480"/>
            <a:ext cx="754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Как получается мультфиль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Мульти</a:t>
            </a:r>
            <a:r>
              <a:rPr b="0" lang="ru-RU" sz="3200" spc="-1" strike="noStrike">
                <a:solidFill>
                  <a:srgbClr val="31859c"/>
                </a:solidFill>
                <a:latin typeface="Calibri"/>
              </a:rPr>
              <a:t> – значит мн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1859c"/>
                </a:solidFill>
                <a:latin typeface="Calibri"/>
              </a:rPr>
              <a:t>Мультипликация – это способ получения движущихся изображений при помощи большого количества неподвижных карти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2"/>
          <p:cNvSpPr/>
          <p:nvPr/>
        </p:nvSpPr>
        <p:spPr>
          <a:xfrm>
            <a:off x="371520" y="380880"/>
            <a:ext cx="8305920" cy="617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ыстрач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6A8F-871D-4A4C-843F-750CF58C2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1810080" y="496800"/>
            <a:ext cx="52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</a:rPr>
              <a:t>Как создаётся иллюзия движения в мультфильмах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C:\Documents and Settings\martha\Рабочий стол\мама.ру\ПОТОК_КРЕАТИВЫ\тексты\отработанные\мультик\minimovi.gif"/>
          <p:cNvPicPr/>
          <p:nvPr/>
        </p:nvPicPr>
        <p:blipFill>
          <a:blip r:embed="rId1"/>
          <a:stretch/>
        </p:blipFill>
        <p:spPr>
          <a:xfrm>
            <a:off x="1506600" y="3579840"/>
            <a:ext cx="1218960" cy="274464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6" name="Picture 5" descr="C:\Documents and Settings\martha\Рабочий стол\мама.ру\ПОТОК_КРЕАТИВЫ\тексты\отработанные\мультик\IMG_0082.JPG"/>
          <p:cNvPicPr/>
          <p:nvPr/>
        </p:nvPicPr>
        <p:blipFill>
          <a:blip r:embed="rId2"/>
          <a:stretch/>
        </p:blipFill>
        <p:spPr>
          <a:xfrm>
            <a:off x="6437160" y="1228680"/>
            <a:ext cx="1411560" cy="151452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7" name="Picture 6" descr="C:\Documents and Settings\martha\Рабочий стол\мама.ру\ПОТОК_КРЕАТИВЫ\тексты\отработанные\мультик\IMG_0075.JPG"/>
          <p:cNvPicPr/>
          <p:nvPr/>
        </p:nvPicPr>
        <p:blipFill>
          <a:blip r:embed="rId3"/>
          <a:stretch/>
        </p:blipFill>
        <p:spPr>
          <a:xfrm>
            <a:off x="1523880" y="1228680"/>
            <a:ext cx="2057400" cy="148284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8" name="Picture 7" descr="C:\Documents and Settings\martha\Рабочий стол\мама.ру\ПОТОК_КРЕАТИВЫ\тексты\отработанные\мультик\IMG_0083.JPG"/>
          <p:cNvPicPr/>
          <p:nvPr/>
        </p:nvPicPr>
        <p:blipFill>
          <a:blip r:embed="rId4"/>
          <a:stretch/>
        </p:blipFill>
        <p:spPr>
          <a:xfrm>
            <a:off x="3097080" y="3579840"/>
            <a:ext cx="4751640" cy="274464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9" name="Picture 8" descr="C:\Documents and Settings\martha\Рабочий стол\мама.ру\ПОТОК_КРЕАТИВЫ\тексты\отработанные\мультик\IMG_0087.JPG"/>
          <p:cNvPicPr/>
          <p:nvPr/>
        </p:nvPicPr>
        <p:blipFill>
          <a:blip r:embed="rId5"/>
          <a:stretch/>
        </p:blipFill>
        <p:spPr>
          <a:xfrm>
            <a:off x="3962520" y="1228680"/>
            <a:ext cx="2133360" cy="151452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0" name="TextBox 8"/>
          <p:cNvSpPr/>
          <p:nvPr/>
        </p:nvSpPr>
        <p:spPr>
          <a:xfrm>
            <a:off x="1145160" y="10666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6098040" y="107784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3605760" y="10666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8"/>
          <p:cNvSpPr/>
          <p:nvPr/>
        </p:nvSpPr>
        <p:spPr>
          <a:xfrm>
            <a:off x="1148040" y="346536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609480" y="2855880"/>
            <a:ext cx="84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</a:rPr>
              <a:t>При быстрой смене картинок нам кажется, что предмет двигается, например, молния «бьет» из туч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392760" y="380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Мои эксперимен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XTreme</cp:lastModifiedBy>
  <dcterms:modified xsi:type="dcterms:W3CDTF">2011-07-20T19:13:31Z</dcterms:modified>
  <cp:revision>120</cp:revision>
  <dc:subject/>
  <dc:title>Slide 1</dc:title>
</cp:coreProperties>
</file>