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27.png" ContentType="image/png"/>
  <Override PartName="/ppt/media/image25.jpeg" ContentType="image/jpeg"/>
  <Override PartName="/ppt/media/image24.jpeg" ContentType="image/jpeg"/>
  <Override PartName="/ppt/media/image5.png" ContentType="image/png"/>
  <Override PartName="/ppt/media/image10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26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49DF-42C7-49FC-9C86-A978B4ECB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AC56-A764-4D6D-B2FE-4D0CF061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BCC2-42E9-411A-8B79-943AB15BF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105F-2FEB-49A4-808D-7F4AFCA3A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0A4E-D11B-4BA1-844A-4BA809F8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E34F-8C04-4BC6-8DF0-42C24E73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7E05-5E42-46AF-9807-8F9A63A2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C667-5D9F-4B5B-80D3-0DF3A785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F6EF-C99D-49B2-891E-4AB73039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B4F0-BFDD-436E-A751-E68C0143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2FE9-AA9B-4A62-BD36-0A5C0E75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D97D-6B9F-4342-B911-7AA81493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DB6A-C329-4281-B268-B4A8D1E448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F7EB-0BDD-48F7-8D52-4FBCD73AB5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1828800" y="1905120"/>
            <a:ext cx="5410080" cy="16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1980720"/>
            <a:ext cx="7772400" cy="1467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Calibri"/>
              </a:rPr>
              <a:t>Любимое искусство: мультиплика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0FE0-AD37-46FF-A9B8-67599372F1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152280" y="6135840"/>
            <a:ext cx="184320" cy="36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Title 1" descr=""/>
          <p:cNvPicPr/>
          <p:nvPr/>
        </p:nvPicPr>
        <p:blipFill>
          <a:blip r:embed="rId2"/>
          <a:stretch/>
        </p:blipFill>
        <p:spPr>
          <a:xfrm>
            <a:off x="-36360" y="4309920"/>
            <a:ext cx="843120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2"/>
          <p:cNvSpPr/>
          <p:nvPr/>
        </p:nvSpPr>
        <p:spPr>
          <a:xfrm>
            <a:off x="371520" y="380880"/>
            <a:ext cx="8305920" cy="6172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5E03-1BB2-463A-A1C4-C521B0D920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C:\Documents and Settings\martha\Рабочий стол\ДЕТИ\мультфильмы\IMG_2378.JPG"/>
          <p:cNvPicPr/>
          <p:nvPr/>
        </p:nvPicPr>
        <p:blipFill>
          <a:blip r:embed="rId1"/>
          <a:stretch/>
        </p:blipFill>
        <p:spPr>
          <a:xfrm>
            <a:off x="690480" y="838080"/>
            <a:ext cx="1946520" cy="279900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99" name="Picture 5" descr="C:\Documents and Settings\martha\Рабочий стол\ДЕТИ\мультфильмы\IMG_2362.JPG"/>
          <p:cNvPicPr/>
          <p:nvPr/>
        </p:nvPicPr>
        <p:blipFill>
          <a:blip r:embed="rId2"/>
          <a:stretch/>
        </p:blipFill>
        <p:spPr>
          <a:xfrm>
            <a:off x="690480" y="3681360"/>
            <a:ext cx="3892680" cy="249084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00" name="TextBox 1"/>
          <p:cNvSpPr/>
          <p:nvPr/>
        </p:nvSpPr>
        <p:spPr>
          <a:xfrm>
            <a:off x="4767120" y="771480"/>
            <a:ext cx="3276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На студии «Пилот» создают мультфильмы: рисуют, лепят из пластилина и обрабатывают при помощи компьютера. Так сделана, например, серия  «Гора самоцветов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C:\Documents and Settings\martha\Рабочий стол\ДЕТИ\мультфильмы\IMG_2358.JPG"/>
          <p:cNvPicPr/>
          <p:nvPr/>
        </p:nvPicPr>
        <p:blipFill>
          <a:blip r:embed="rId3"/>
          <a:stretch/>
        </p:blipFill>
        <p:spPr>
          <a:xfrm>
            <a:off x="2666880" y="838080"/>
            <a:ext cx="1916280" cy="279900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02" name="TextBox 6"/>
          <p:cNvSpPr/>
          <p:nvPr/>
        </p:nvSpPr>
        <p:spPr>
          <a:xfrm>
            <a:off x="4800600" y="3581280"/>
            <a:ext cx="33526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Мастера лепят из пластилина героев  и декорации, иногда целые город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384120" y="380880"/>
            <a:ext cx="363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Наша экскурсия на студию «Пилот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7"/>
          <p:cNvSpPr/>
          <p:nvPr/>
        </p:nvSpPr>
        <p:spPr>
          <a:xfrm>
            <a:off x="371520" y="304920"/>
            <a:ext cx="8305920" cy="6275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874B-C1CC-42A9-887B-CCCB015D92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C:\Documents and Settings\martha\Рабочий стол\ДЕТИ\мультфильмы\IMG_2350.JPG"/>
          <p:cNvPicPr/>
          <p:nvPr/>
        </p:nvPicPr>
        <p:blipFill>
          <a:blip r:embed="rId1"/>
          <a:stretch/>
        </p:blipFill>
        <p:spPr>
          <a:xfrm>
            <a:off x="693720" y="3576600"/>
            <a:ext cx="4032360" cy="259560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07" name="Picture 4" descr="C:\Documents and Settings\martha\Рабочий стол\ДЕТИ\мультфильмы\IMG_2366.JPG"/>
          <p:cNvPicPr/>
          <p:nvPr/>
        </p:nvPicPr>
        <p:blipFill>
          <a:blip r:embed="rId2"/>
          <a:stretch/>
        </p:blipFill>
        <p:spPr>
          <a:xfrm>
            <a:off x="677880" y="825480"/>
            <a:ext cx="4046400" cy="259092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08" name="TextBox 6"/>
          <p:cNvSpPr/>
          <p:nvPr/>
        </p:nvSpPr>
        <p:spPr>
          <a:xfrm>
            <a:off x="4952880" y="762120"/>
            <a:ext cx="3429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Как делается пластилиновый мультфильм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Лепим героев и декор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Снимаем (фотографируем) каждое изменение положения герое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Соединяем кадры, быстро «прокручиваем» их, чтобы создать впечатление движ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Накладываем звук и титры (надписи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Смотрим мультфильм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18"/>
          <p:cNvSpPr/>
          <p:nvPr/>
        </p:nvSpPr>
        <p:spPr>
          <a:xfrm>
            <a:off x="384120" y="380880"/>
            <a:ext cx="363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Наша экскурсия на студию «Пилот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1"/>
          <p:cNvSpPr/>
          <p:nvPr/>
        </p:nvSpPr>
        <p:spPr>
          <a:xfrm>
            <a:off x="376200" y="380880"/>
            <a:ext cx="8305920" cy="6172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Title 1" descr=""/>
          <p:cNvPicPr/>
          <p:nvPr/>
        </p:nvPicPr>
        <p:blipFill>
          <a:blip r:embed="rId1"/>
          <a:stretch/>
        </p:blipFill>
        <p:spPr>
          <a:xfrm>
            <a:off x="378000" y="907920"/>
            <a:ext cx="8394480" cy="1231920"/>
          </a:xfrm>
          <a:prstGeom prst="rect">
            <a:avLst/>
          </a:prstGeom>
          <a:ln w="0">
            <a:noFill/>
          </a:ln>
        </p:spPr>
      </p:pic>
      <p:pic>
        <p:nvPicPr>
          <p:cNvPr id="112" name="Title 1" descr=""/>
          <p:cNvPicPr/>
          <p:nvPr/>
        </p:nvPicPr>
        <p:blipFill>
          <a:blip r:embed="rId2"/>
          <a:stretch/>
        </p:blipFill>
        <p:spPr>
          <a:xfrm>
            <a:off x="450720" y="2584440"/>
            <a:ext cx="8394840" cy="1231920"/>
          </a:xfrm>
          <a:prstGeom prst="rect">
            <a:avLst/>
          </a:prstGeom>
          <a:ln w="0">
            <a:noFill/>
          </a:ln>
        </p:spPr>
      </p:pic>
      <p:sp>
        <p:nvSpPr>
          <p:cNvPr id="1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4BA0-01CA-49F6-9DED-92E69F5F63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5"/>
          <p:cNvSpPr/>
          <p:nvPr/>
        </p:nvSpPr>
        <p:spPr>
          <a:xfrm>
            <a:off x="338040" y="380880"/>
            <a:ext cx="8305920" cy="6172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1B35-D203-4662-AA1B-B370976057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Rectangle 3" descr=""/>
          <p:cNvPicPr/>
          <p:nvPr/>
        </p:nvPicPr>
        <p:blipFill>
          <a:blip r:embed="rId1"/>
          <a:stretch/>
        </p:blipFill>
        <p:spPr>
          <a:xfrm>
            <a:off x="785880" y="554040"/>
            <a:ext cx="6767280" cy="2738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630360" y="3657600"/>
            <a:ext cx="2112840" cy="2809800"/>
          </a:xfrm>
          <a:prstGeom prst="rect">
            <a:avLst/>
          </a:prstGeom>
          <a:ln w="0">
            <a:noFill/>
          </a:ln>
        </p:spPr>
      </p:pic>
      <p:pic>
        <p:nvPicPr>
          <p:cNvPr id="50" name="Rectangle 3" descr=""/>
          <p:cNvPicPr/>
          <p:nvPr/>
        </p:nvPicPr>
        <p:blipFill>
          <a:blip r:embed="rId3"/>
          <a:stretch/>
        </p:blipFill>
        <p:spPr>
          <a:xfrm>
            <a:off x="3071880" y="3346560"/>
            <a:ext cx="54687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5"/>
          <p:cNvSpPr/>
          <p:nvPr/>
        </p:nvSpPr>
        <p:spPr>
          <a:xfrm>
            <a:off x="371520" y="380880"/>
            <a:ext cx="8305920" cy="6172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0186-7CE4-46E2-9CFD-1497BD05C6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25880" y="380880"/>
            <a:ext cx="26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История мультиплик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590400" y="914400"/>
            <a:ext cx="76392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1859c"/>
                </a:solidFill>
                <a:latin typeface="Calibri"/>
              </a:rPr>
              <a:t>134 года назад (в 1877 году) инженер из Франции Эмиль Рейно изобрел аппарат (праксиноскоп), позволяющий показывать нарисованные картинки с эффектом движения. Этот «оптический театр» появился раньше кинематографа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1859c"/>
                </a:solidFill>
                <a:latin typeface="Calibri"/>
              </a:rPr>
              <a:t>После того, как появился кинематограф, мультфильмы стали снимать на киноплен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060640" y="2235240"/>
            <a:ext cx="4873680" cy="300024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5"/>
          <p:cNvSpPr/>
          <p:nvPr/>
        </p:nvSpPr>
        <p:spPr>
          <a:xfrm>
            <a:off x="371520" y="380880"/>
            <a:ext cx="8305920" cy="6172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ервым русским биологом по образованию, он решил сделать обучающий фильм с насекомы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7DC0-B6A2-44E0-B4BD-D73FA5638D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425880" y="380880"/>
            <a:ext cx="26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История мультиплик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073240" y="1741320"/>
            <a:ext cx="4572000" cy="345132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60" name="TextBox 6"/>
          <p:cNvSpPr/>
          <p:nvPr/>
        </p:nvSpPr>
        <p:spPr>
          <a:xfrm>
            <a:off x="380880" y="838080"/>
            <a:ext cx="792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Первым русским мультипликатором был  Владислав Старевич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Он делал мультфильмы про насекомы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5"/>
          <p:cNvSpPr/>
          <p:nvPr/>
        </p:nvSpPr>
        <p:spPr>
          <a:xfrm>
            <a:off x="380880" y="380880"/>
            <a:ext cx="8305920" cy="6172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ервым русским биологом по образованию, он решил сделать обучающий фильм с насекомы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B16F-A30D-42F0-81A0-04D483CB8B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2277360" y="544680"/>
            <a:ext cx="40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Новые виды мультиплик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2743200" y="502920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Компьютерная анима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Трехмерные мультфиль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rcRect l="41277" t="0" r="0" b="0"/>
          <a:stretch/>
        </p:blipFill>
        <p:spPr>
          <a:xfrm>
            <a:off x="762120" y="1066680"/>
            <a:ext cx="3166920" cy="3581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5105520" y="1676520"/>
            <a:ext cx="2860560" cy="21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5"/>
          <p:cNvSpPr/>
          <p:nvPr/>
        </p:nvSpPr>
        <p:spPr>
          <a:xfrm>
            <a:off x="371520" y="320760"/>
            <a:ext cx="8305920" cy="6172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15328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Calibri"/>
              </a:rPr>
              <a:t>Самый известный мультипликатор в мире – </a:t>
            </a: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Уолт Дисней</a:t>
            </a:r>
            <a:r>
              <a:rPr b="0" lang="ru-RU" sz="2200" spc="-1" strike="noStrike">
                <a:solidFill>
                  <a:srgbClr val="0070c0"/>
                </a:solidFill>
                <a:latin typeface="Calibri"/>
              </a:rPr>
              <a:t>, создатель первого в истории звукового мультфильма, первого музыкального и первого полнометражного, основатель знаменитой студии.</a:t>
            </a:r>
            <a:br>
              <a:rPr sz="2200"/>
            </a:br>
            <a:r>
              <a:rPr b="0" lang="ru-RU" sz="2200" spc="-1" strike="noStrike">
                <a:solidFill>
                  <a:srgbClr val="0070c0"/>
                </a:solidFill>
                <a:latin typeface="Calibri"/>
              </a:rPr>
              <a:t>1923 год: студия Дисней.</a:t>
            </a:r>
            <a:br>
              <a:rPr sz="2200"/>
            </a:br>
            <a:r>
              <a:rPr b="0" lang="ru-RU" sz="2200" spc="-1" strike="noStrike">
                <a:solidFill>
                  <a:srgbClr val="0070c0"/>
                </a:solidFill>
                <a:latin typeface="Calibri"/>
              </a:rPr>
              <a:t>1936: студия «Союзмультфильм»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447B-E806-4BA0-BB86-0F4BA23D22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609480" y="343368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5210280" y="3962520"/>
            <a:ext cx="3019320" cy="2138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3"/>
          <a:stretch/>
        </p:blipFill>
        <p:spPr>
          <a:xfrm rot="20231400">
            <a:off x="3137040" y="3560760"/>
            <a:ext cx="104292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5"/>
          <p:cNvSpPr/>
          <p:nvPr/>
        </p:nvSpPr>
        <p:spPr>
          <a:xfrm>
            <a:off x="353880" y="320760"/>
            <a:ext cx="8305920" cy="6172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10666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Русская школа мультипликации одна из самых интересных и сильных во всем мир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2292-85CA-424D-AD0D-BBEE202E7A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Rectangle 3" descr=""/>
          <p:cNvPicPr/>
          <p:nvPr/>
        </p:nvPicPr>
        <p:blipFill>
          <a:blip r:embed="rId1"/>
          <a:stretch/>
        </p:blipFill>
        <p:spPr>
          <a:xfrm>
            <a:off x="3962520" y="2925720"/>
            <a:ext cx="4578120" cy="1487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Documents and Settings\martha\Рабочий стол\ДЕТИ\мультфильмы\362.jpg"/>
          <p:cNvPicPr/>
          <p:nvPr/>
        </p:nvPicPr>
        <p:blipFill>
          <a:blip r:embed="rId2"/>
          <a:stretch/>
        </p:blipFill>
        <p:spPr>
          <a:xfrm>
            <a:off x="838080" y="3032280"/>
            <a:ext cx="3124440" cy="253044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78" name="TextBox 2"/>
          <p:cNvSpPr/>
          <p:nvPr/>
        </p:nvSpPr>
        <p:spPr>
          <a:xfrm>
            <a:off x="2363040" y="2209680"/>
            <a:ext cx="37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Самый знаменитый мультфиль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5"/>
          <p:cNvSpPr/>
          <p:nvPr/>
        </p:nvSpPr>
        <p:spPr>
          <a:xfrm>
            <a:off x="372960" y="380880"/>
            <a:ext cx="8305920" cy="6172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ервым русским биологом по образованию, он решил сделать обучающий фильм с насекомы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ECCE-44F3-4067-B398-B86EAB3C94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2"/>
          <p:cNvSpPr/>
          <p:nvPr/>
        </p:nvSpPr>
        <p:spPr>
          <a:xfrm>
            <a:off x="838080" y="1752480"/>
            <a:ext cx="7543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Как получается мультфиль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Мульти</a:t>
            </a:r>
            <a:r>
              <a:rPr b="0" lang="ru-RU" sz="3200" spc="-1" strike="noStrike">
                <a:solidFill>
                  <a:srgbClr val="31859c"/>
                </a:solidFill>
                <a:latin typeface="Calibri"/>
              </a:rPr>
              <a:t> – значит мно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1859c"/>
                </a:solidFill>
                <a:latin typeface="Calibri"/>
              </a:rPr>
              <a:t>Мультипликация – это способ получения движущихся изображений при помощи большого количества неподвижных картин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2"/>
          <p:cNvSpPr/>
          <p:nvPr/>
        </p:nvSpPr>
        <p:spPr>
          <a:xfrm>
            <a:off x="371520" y="380880"/>
            <a:ext cx="8305920" cy="6172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ыстрач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A439-E07F-4215-BB82-396689A58D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1810080" y="496800"/>
            <a:ext cx="521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1859c"/>
                </a:solidFill>
                <a:latin typeface="Calibri"/>
              </a:rPr>
              <a:t>Как создаётся иллюзия движения в мультфильмах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C:\Documents and Settings\martha\Рабочий стол\мама.ру\ПОТОК_КРЕАТИВЫ\тексты\отработанные\мультик\minimovi.gif"/>
          <p:cNvPicPr/>
          <p:nvPr/>
        </p:nvPicPr>
        <p:blipFill>
          <a:blip r:embed="rId1"/>
          <a:stretch/>
        </p:blipFill>
        <p:spPr>
          <a:xfrm>
            <a:off x="1506600" y="3579840"/>
            <a:ext cx="1218960" cy="274464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86" name="Picture 5" descr="C:\Documents and Settings\martha\Рабочий стол\мама.ру\ПОТОК_КРЕАТИВЫ\тексты\отработанные\мультик\IMG_0082.JPG"/>
          <p:cNvPicPr/>
          <p:nvPr/>
        </p:nvPicPr>
        <p:blipFill>
          <a:blip r:embed="rId2"/>
          <a:stretch/>
        </p:blipFill>
        <p:spPr>
          <a:xfrm>
            <a:off x="6437160" y="1228680"/>
            <a:ext cx="1411560" cy="151452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87" name="Picture 6" descr="C:\Documents and Settings\martha\Рабочий стол\мама.ру\ПОТОК_КРЕАТИВЫ\тексты\отработанные\мультик\IMG_0075.JPG"/>
          <p:cNvPicPr/>
          <p:nvPr/>
        </p:nvPicPr>
        <p:blipFill>
          <a:blip r:embed="rId3"/>
          <a:stretch/>
        </p:blipFill>
        <p:spPr>
          <a:xfrm>
            <a:off x="1523880" y="1228680"/>
            <a:ext cx="2057400" cy="148284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88" name="Picture 7" descr="C:\Documents and Settings\martha\Рабочий стол\мама.ру\ПОТОК_КРЕАТИВЫ\тексты\отработанные\мультик\IMG_0083.JPG"/>
          <p:cNvPicPr/>
          <p:nvPr/>
        </p:nvPicPr>
        <p:blipFill>
          <a:blip r:embed="rId4"/>
          <a:stretch/>
        </p:blipFill>
        <p:spPr>
          <a:xfrm>
            <a:off x="3097080" y="3579840"/>
            <a:ext cx="4751640" cy="274464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89" name="Picture 8" descr="C:\Documents and Settings\martha\Рабочий стол\мама.ру\ПОТОК_КРЕАТИВЫ\тексты\отработанные\мультик\IMG_0087.JPG"/>
          <p:cNvPicPr/>
          <p:nvPr/>
        </p:nvPicPr>
        <p:blipFill>
          <a:blip r:embed="rId5"/>
          <a:stretch/>
        </p:blipFill>
        <p:spPr>
          <a:xfrm>
            <a:off x="3962520" y="1228680"/>
            <a:ext cx="2133360" cy="151452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90" name="TextBox 8"/>
          <p:cNvSpPr/>
          <p:nvPr/>
        </p:nvSpPr>
        <p:spPr>
          <a:xfrm>
            <a:off x="1145160" y="106668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16"/>
          <p:cNvSpPr/>
          <p:nvPr/>
        </p:nvSpPr>
        <p:spPr>
          <a:xfrm>
            <a:off x="6098040" y="107784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17"/>
          <p:cNvSpPr/>
          <p:nvPr/>
        </p:nvSpPr>
        <p:spPr>
          <a:xfrm>
            <a:off x="3605760" y="106668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18"/>
          <p:cNvSpPr/>
          <p:nvPr/>
        </p:nvSpPr>
        <p:spPr>
          <a:xfrm>
            <a:off x="1148040" y="346536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609480" y="2855880"/>
            <a:ext cx="843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1859c"/>
                </a:solidFill>
                <a:latin typeface="Calibri"/>
              </a:rPr>
              <a:t>При быстрой смене картинок нам кажется, что предмет двигается, например, молния «бьет» из туч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4"/>
          <p:cNvSpPr/>
          <p:nvPr/>
        </p:nvSpPr>
        <p:spPr>
          <a:xfrm>
            <a:off x="392760" y="3808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Мои эксперимен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XTreme</cp:lastModifiedBy>
  <dcterms:modified xsi:type="dcterms:W3CDTF">2011-07-20T19:13:31Z</dcterms:modified>
  <cp:revision>120</cp:revision>
  <dc:subject/>
  <dc:title>Slide 1</dc:title>
</cp:coreProperties>
</file>