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14.png" ContentType="image/png"/>
  <Override PartName="/ppt/media/image5.gif" ContentType="image/gif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.gif" ContentType="image/gif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2B5-40FE-4D0E-83AF-A4EA28B9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35A-3786-48D5-B258-80921778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8A3-7048-4C16-8875-654AF9A5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3E3-0B40-4B0C-A56A-A1AAAB19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B83-D30C-4E2E-93B5-D374F00F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ECC-A7A8-4344-84EE-43F8C280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D78-A02B-4535-A36C-1B531D08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106-31F0-4278-B3A3-310A819D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B8C-93C2-48BF-9B4A-4AADFDC7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736-E4F4-4525-A3C0-B53FD6BB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D54-BEE0-4AC0-9A8E-CF5AD49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76F-6A45-405E-9317-1C4214E1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ECC8-91EA-44C2-A8A7-A355593C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ovecrochet.ru/paskhalnye-motivy-v-filejjnojj-tekhnike/" TargetMode="External"/><Relationship Id="rId2" Type="http://schemas.openxmlformats.org/officeDocument/2006/relationships/hyperlink" Target="http://lovecrochet.ru/paskhalnye-motivy-v-filejjnojj-tekhnike/" TargetMode="External"/><Relationship Id="rId3" Type="http://schemas.openxmlformats.org/officeDocument/2006/relationships/hyperlink" Target="http://lovecrochet.ru/paskhalnye-motivy-v-filejjnojj-tekhnike/" TargetMode="External"/><Relationship Id="rId4" Type="http://schemas.openxmlformats.org/officeDocument/2006/relationships/hyperlink" Target="http://lovecrochet.ru/paskhalnye-motivy-v-filejjnojj-tekhnike/" TargetMode="External"/><Relationship Id="rId5" Type="http://schemas.openxmlformats.org/officeDocument/2006/relationships/hyperlink" Target="http://lovecrochet.ru/paskhalnye-motivy-v-filejjnojj-tekhnike/" TargetMode="External"/><Relationship Id="rId6" Type="http://schemas.openxmlformats.org/officeDocument/2006/relationships/hyperlink" Target="http://lovecrochet.ru/paskhalnye-motivy-v-filejjnojj-tekhnike/" TargetMode="External"/><Relationship Id="rId7" Type="http://schemas.openxmlformats.org/officeDocument/2006/relationships/image" Target="../media/image1.gif"/><Relationship Id="rId8" Type="http://schemas.openxmlformats.org/officeDocument/2006/relationships/image" Target="../media/image5.gif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914400"/>
            <a:ext cx="883944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376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ригинальные  пасхальные яйца</a:t>
            </a:r>
            <a:endParaRPr b="0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840" cy="87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34320" y="1905120"/>
            <a:ext cx="2047680" cy="3143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9880" y="2286000"/>
            <a:ext cx="944640" cy="91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2209680"/>
            <a:ext cx="228600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696160" y="5981760"/>
            <a:ext cx="447840" cy="876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0800000">
            <a:off x="3273480" y="5539320"/>
            <a:ext cx="48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70120" y="1675800"/>
            <a:ext cx="19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rcRect l="12252" t="45103" r="33848" b="0"/>
          <a:stretch/>
        </p:blipFill>
        <p:spPr>
          <a:xfrm>
            <a:off x="3886200" y="4343400"/>
            <a:ext cx="16765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03524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12040" y="3245760"/>
            <a:ext cx="35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http://www.marthastewart.c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7544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тернет-рес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09600" y="2772720"/>
            <a:ext cx="67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ovecroche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askhalnye-motivy-v-filejjnojj-tekhnik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380880" y="304920"/>
            <a:ext cx="447840" cy="876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8458200" y="5715000"/>
            <a:ext cx="447840" cy="876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0" y="4599000"/>
            <a:ext cx="2895480" cy="225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6865920" y="0"/>
            <a:ext cx="227808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Пасхальные яйца своими руками"/>
          <p:cNvPicPr/>
          <p:nvPr/>
        </p:nvPicPr>
        <p:blipFill>
          <a:blip r:embed="rId1"/>
          <a:srcRect l="25806" t="0" r="0" b="0"/>
          <a:stretch/>
        </p:blipFill>
        <p:spPr>
          <a:xfrm>
            <a:off x="1219320" y="0"/>
            <a:ext cx="3504960" cy="316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10080" y="13698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риготовьте ткань, сложите пополам, нарисуйте овал и выкройте 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Пасхальные яйца своими руками"/>
          <p:cNvPicPr/>
          <p:nvPr/>
        </p:nvPicPr>
        <p:blipFill>
          <a:blip r:embed="rId2"/>
          <a:srcRect l="19408" t="0" r="10451" b="0"/>
          <a:stretch/>
        </p:blipFill>
        <p:spPr>
          <a:xfrm>
            <a:off x="1371600" y="3276720"/>
            <a:ext cx="3581280" cy="342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38680" y="44636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Для одного яйца  понадобится 4  ов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162920" y="2819520"/>
            <a:ext cx="447480" cy="87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181480" y="380880"/>
            <a:ext cx="2800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йцо из тка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Пасхальные яйца своими руками"/>
          <p:cNvPicPr/>
          <p:nvPr/>
        </p:nvPicPr>
        <p:blipFill>
          <a:blip r:embed="rId1"/>
          <a:srcRect l="19049" t="0" r="0" b="0"/>
          <a:stretch/>
        </p:blipFill>
        <p:spPr>
          <a:xfrm>
            <a:off x="914400" y="0"/>
            <a:ext cx="3886200" cy="321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52880" y="1152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Стачайте части пасхального яйца попа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Пасхальные яйца своими руками"/>
          <p:cNvPicPr/>
          <p:nvPr/>
        </p:nvPicPr>
        <p:blipFill>
          <a:blip r:embed="rId2"/>
          <a:stretch/>
        </p:blipFill>
        <p:spPr>
          <a:xfrm>
            <a:off x="304920" y="3352680"/>
            <a:ext cx="5029200" cy="3368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86400" y="3617640"/>
            <a:ext cx="36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Положите две половинки перед собой, одну выверните, а другу оставьте как е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543800" y="2286000"/>
            <a:ext cx="44784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Пасхальные яйца своими руками"/>
          <p:cNvPicPr/>
          <p:nvPr/>
        </p:nvPicPr>
        <p:blipFill>
          <a:blip r:embed="rId1"/>
          <a:srcRect l="14514" t="0" r="11292" b="0"/>
          <a:stretch/>
        </p:blipFill>
        <p:spPr>
          <a:xfrm>
            <a:off x="685800" y="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00600" y="132984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Стачайте детали таким образом, чтобы остался лишь небольш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застроченный уча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Пасхальные яйца своими руками"/>
          <p:cNvPicPr/>
          <p:nvPr/>
        </p:nvPicPr>
        <p:blipFill>
          <a:blip r:embed="rId2"/>
          <a:srcRect l="33847" t="11479" r="0" b="0"/>
          <a:stretch/>
        </p:blipFill>
        <p:spPr>
          <a:xfrm>
            <a:off x="2133720" y="3809880"/>
            <a:ext cx="3276360" cy="2938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5000" y="4655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Выверните изделие на лицевую ст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391520" y="3048120"/>
            <a:ext cx="4474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Пасхальные яйца своими руками"/>
          <p:cNvPicPr/>
          <p:nvPr/>
        </p:nvPicPr>
        <p:blipFill>
          <a:blip r:embed="rId1"/>
          <a:srcRect l="24142" t="0" r="0" b="0"/>
          <a:stretch/>
        </p:blipFill>
        <p:spPr>
          <a:xfrm>
            <a:off x="1371600" y="304920"/>
            <a:ext cx="3352680" cy="335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66880" y="39207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полните яйцо синтепоном и зашейте оставшийся не застроченным участок вру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15200" y="2133720"/>
            <a:ext cx="44784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Пасхальные яйца своими руками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29436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1294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одберите несколько видов бумажных салфеток с мотивами на белом 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2972880"/>
            <a:ext cx="475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Расположите вырезанные мотивы на яйце и приклейте разведенным клеем П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495216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Покройте яйца акриловым л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458200" y="2133720"/>
            <a:ext cx="447840" cy="876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066680" y="457200"/>
            <a:ext cx="4867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йцо в технике декупа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89280" y="0"/>
            <a:ext cx="5487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53602" b="54292"/>
          <a:stretch/>
        </p:blipFill>
        <p:spPr>
          <a:xfrm>
            <a:off x="2286000" y="3124080"/>
            <a:ext cx="2271600" cy="2819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52801" t="0" r="2404" b="51749"/>
          <a:stretch/>
        </p:blipFill>
        <p:spPr>
          <a:xfrm>
            <a:off x="6897600" y="838080"/>
            <a:ext cx="2133720" cy="2895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52067" r="55204" b="0"/>
          <a:stretch/>
        </p:blipFill>
        <p:spPr>
          <a:xfrm>
            <a:off x="0" y="3886200"/>
            <a:ext cx="2205000" cy="2971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rcRect l="52801" t="52067" r="2404" b="0"/>
          <a:stretch/>
        </p:blipFill>
        <p:spPr>
          <a:xfrm>
            <a:off x="4648320" y="2514600"/>
            <a:ext cx="2190600" cy="295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447840" cy="876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8458200" y="5715000"/>
            <a:ext cx="447840" cy="876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-533520" y="457200"/>
            <a:ext cx="9068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йцо связанное  в филейной техни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7-12T12:28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