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14.png" ContentType="image/png"/>
  <Override PartName="/ppt/media/image5.gif" ContentType="image/gif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.gif" ContentType="image/gif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285-7336-4300-B202-63297239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C48-5D02-46A0-B7E3-F81A2EA7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616-6C7D-46AC-A317-DE996B93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CF2-7867-4D16-A6B1-ACFECB6A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05D-92B6-4BEE-97A0-5F192925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3B5-FDEE-4763-A6AD-F611582E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65E-46D6-4197-86B9-02D0ECED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659-B233-4739-AC10-A2935BAA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873-66CA-4299-82E0-FD0F4115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651-AB52-4425-8C07-3C6F9838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84A-AF38-4024-B768-319F6D8B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605-D2CC-4BEE-94F1-EEEE0E98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EB69-CDD3-4790-970B-2E2DA19A4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ovecrochet.ru/paskhalnye-motivy-v-filejjnojj-tekhnike/" TargetMode="External"/><Relationship Id="rId2" Type="http://schemas.openxmlformats.org/officeDocument/2006/relationships/hyperlink" Target="http://lovecrochet.ru/paskhalnye-motivy-v-filejjnojj-tekhnike/" TargetMode="External"/><Relationship Id="rId3" Type="http://schemas.openxmlformats.org/officeDocument/2006/relationships/hyperlink" Target="http://lovecrochet.ru/paskhalnye-motivy-v-filejjnojj-tekhnike/" TargetMode="External"/><Relationship Id="rId4" Type="http://schemas.openxmlformats.org/officeDocument/2006/relationships/hyperlink" Target="http://lovecrochet.ru/paskhalnye-motivy-v-filejjnojj-tekhnike/" TargetMode="External"/><Relationship Id="rId5" Type="http://schemas.openxmlformats.org/officeDocument/2006/relationships/hyperlink" Target="http://lovecrochet.ru/paskhalnye-motivy-v-filejjnojj-tekhnike/" TargetMode="External"/><Relationship Id="rId6" Type="http://schemas.openxmlformats.org/officeDocument/2006/relationships/hyperlink" Target="http://lovecrochet.ru/paskhalnye-motivy-v-filejjnojj-tekhnike/" TargetMode="External"/><Relationship Id="rId7" Type="http://schemas.openxmlformats.org/officeDocument/2006/relationships/image" Target="../media/image1.gif"/><Relationship Id="rId8" Type="http://schemas.openxmlformats.org/officeDocument/2006/relationships/image" Target="../media/image5.gif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914400"/>
            <a:ext cx="883944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376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ригинальные  пасхальные яйца</a:t>
            </a:r>
            <a:endParaRPr b="0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7840" cy="87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934320" y="1905120"/>
            <a:ext cx="2047680" cy="3143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2286000"/>
            <a:ext cx="944640" cy="917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2209680"/>
            <a:ext cx="228600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8696160" y="5981760"/>
            <a:ext cx="447840" cy="876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0800000">
            <a:off x="3273480" y="5539320"/>
            <a:ext cx="48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70120" y="1675800"/>
            <a:ext cx="19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стер-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6"/>
          <a:srcRect l="12252" t="45103" r="33848" b="0"/>
          <a:stretch/>
        </p:blipFill>
        <p:spPr>
          <a:xfrm>
            <a:off x="3886200" y="4343400"/>
            <a:ext cx="16765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0352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912040" y="3245760"/>
            <a:ext cx="35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http://www.marthastewart.c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67544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рнет-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09600" y="2772720"/>
            <a:ext cx="67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ovecrochet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askhalnye-motivy-v-filejjnojj-tekhnik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380880" y="304920"/>
            <a:ext cx="447840" cy="876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8458200" y="5715000"/>
            <a:ext cx="447840" cy="876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0" y="4599000"/>
            <a:ext cx="2895480" cy="225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6865920" y="0"/>
            <a:ext cx="2278080" cy="24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Пасхальные яйца своими руками"/>
          <p:cNvPicPr/>
          <p:nvPr/>
        </p:nvPicPr>
        <p:blipFill>
          <a:blip r:embed="rId1"/>
          <a:srcRect l="25806" t="0" r="0" b="0"/>
          <a:stretch/>
        </p:blipFill>
        <p:spPr>
          <a:xfrm>
            <a:off x="1219320" y="0"/>
            <a:ext cx="3504960" cy="3166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10080" y="13698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риготовьте ткань, сложите пополам, нарисуйте овал и выкройте 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Пасхальные яйца своими руками"/>
          <p:cNvPicPr/>
          <p:nvPr/>
        </p:nvPicPr>
        <p:blipFill>
          <a:blip r:embed="rId2"/>
          <a:srcRect l="19408" t="0" r="10451" b="0"/>
          <a:stretch/>
        </p:blipFill>
        <p:spPr>
          <a:xfrm>
            <a:off x="1371600" y="3276720"/>
            <a:ext cx="3581280" cy="342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38680" y="446364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Для одного яйца  понадобится 4  ов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162920" y="2819520"/>
            <a:ext cx="447480" cy="87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181480" y="380880"/>
            <a:ext cx="2800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йцо из тка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Пасхальные яйца своими руками"/>
          <p:cNvPicPr/>
          <p:nvPr/>
        </p:nvPicPr>
        <p:blipFill>
          <a:blip r:embed="rId1"/>
          <a:srcRect l="19049" t="0" r="0" b="0"/>
          <a:stretch/>
        </p:blipFill>
        <p:spPr>
          <a:xfrm>
            <a:off x="914400" y="0"/>
            <a:ext cx="3886200" cy="321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952880" y="1152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Стачайте части пасхального яйца попа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Пасхальные яйца своими руками"/>
          <p:cNvPicPr/>
          <p:nvPr/>
        </p:nvPicPr>
        <p:blipFill>
          <a:blip r:embed="rId2"/>
          <a:stretch/>
        </p:blipFill>
        <p:spPr>
          <a:xfrm>
            <a:off x="304920" y="3352680"/>
            <a:ext cx="5029200" cy="3368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6400" y="3617640"/>
            <a:ext cx="36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Положите две половинки перед собой, одну выверните, а другу оставьте как е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543800" y="2286000"/>
            <a:ext cx="44784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Пасхальные яйца своими руками"/>
          <p:cNvPicPr/>
          <p:nvPr/>
        </p:nvPicPr>
        <p:blipFill>
          <a:blip r:embed="rId1"/>
          <a:srcRect l="14514" t="0" r="11292" b="0"/>
          <a:stretch/>
        </p:blipFill>
        <p:spPr>
          <a:xfrm>
            <a:off x="685800" y="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00600" y="132984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Стачайте детали таким образом, чтобы остался лишь небольш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застроченный учас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Пасхальные яйца своими руками"/>
          <p:cNvPicPr/>
          <p:nvPr/>
        </p:nvPicPr>
        <p:blipFill>
          <a:blip r:embed="rId2"/>
          <a:srcRect l="33847" t="11479" r="0" b="0"/>
          <a:stretch/>
        </p:blipFill>
        <p:spPr>
          <a:xfrm>
            <a:off x="2133720" y="3809880"/>
            <a:ext cx="3276360" cy="2938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15000" y="4655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Выверните изделие на лицевую ст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391520" y="3048120"/>
            <a:ext cx="4474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Пасхальные яйца своими руками"/>
          <p:cNvPicPr/>
          <p:nvPr/>
        </p:nvPicPr>
        <p:blipFill>
          <a:blip r:embed="rId1"/>
          <a:srcRect l="24142" t="0" r="0" b="0"/>
          <a:stretch/>
        </p:blipFill>
        <p:spPr>
          <a:xfrm>
            <a:off x="1371600" y="304920"/>
            <a:ext cx="3352680" cy="335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66880" y="392076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полните яйцо синтепоном и зашейте оставшийся не застроченным участок вруч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315200" y="2133720"/>
            <a:ext cx="44784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Пасхальные яйца своими руками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59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29436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12949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дберите несколько видов бумажных салфеток с мотивами на белом 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2972880"/>
            <a:ext cx="475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Расположите вырезанные мотивы на яйце и приклейте разведенным клеем П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95216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Покройте яйца акриловым ла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458200" y="2133720"/>
            <a:ext cx="447840" cy="876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066680" y="457200"/>
            <a:ext cx="4867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йцо в технике декупа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89280" y="0"/>
            <a:ext cx="5487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53602" b="54292"/>
          <a:stretch/>
        </p:blipFill>
        <p:spPr>
          <a:xfrm>
            <a:off x="2286000" y="3124080"/>
            <a:ext cx="2271600" cy="2819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52801" t="0" r="2404" b="51749"/>
          <a:stretch/>
        </p:blipFill>
        <p:spPr>
          <a:xfrm>
            <a:off x="6897600" y="838080"/>
            <a:ext cx="2133720" cy="2895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52067" r="55204" b="0"/>
          <a:stretch/>
        </p:blipFill>
        <p:spPr>
          <a:xfrm>
            <a:off x="0" y="3886200"/>
            <a:ext cx="2205000" cy="2971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rcRect l="52801" t="52067" r="2404" b="0"/>
          <a:stretch/>
        </p:blipFill>
        <p:spPr>
          <a:xfrm>
            <a:off x="4648320" y="2514600"/>
            <a:ext cx="2190600" cy="2952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447840" cy="876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8458200" y="5715000"/>
            <a:ext cx="447840" cy="876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-533520" y="457200"/>
            <a:ext cx="9068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йцо связанное  в филейной техник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7-12T12:28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