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8F1-A849-4472-AD0F-54EEE347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60B-2A4E-4EC7-AFC3-25C7DEF5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6D6-FE1F-4E30-80B4-0FEAE72E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780-D59D-4D32-9886-810F4827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BDE-E127-481B-8075-88A8DFB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1596-DDF7-4A29-A86A-1B7EC5D8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D9C9-BDE5-4608-8A76-219780DA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C8A-9EA0-4A26-BC67-9820C78C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A31-FF92-4BEF-A8E6-C5104AF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10F-FD5D-4E54-AC36-614E13F4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485-CF0D-48DF-8194-D1F2ACA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D24-D930-45C0-9412-5549FCED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5B6F-1A0C-4B41-B9BA-5ACB9215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348000" y="1125360"/>
            <a:ext cx="579600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071960" y="46753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zhik6_thumbnail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233f766c15at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77893a1aae64t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obez02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bear11_thumbnail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afc598c9a72t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ow003_thumbnail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ox01_thumbnail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tani52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pigX1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ult35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ult12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lion01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hipolino_thumbnail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47e70ce75cbt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ffc1609f0396t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fc4b62a12544t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skazka-princess-frog_thumbnail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mult10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>
            <a:hlinkClick r:id="rId12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мат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цветок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Копия цветок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Копия Копия цветок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Копия Копия Копия цветок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Копия Копия Копия Копия цветок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цветок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Копия цветок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Копия (2) Копия цветок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Копия (3) Копия цветок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опия (4) Копия цветок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0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dog001_thumbnail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f369a5c2bd2at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at3_thumbnail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dog002_thumbnail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at6_thumbnail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10_thumbnail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88e9d6630cet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9a82fc82b6d9t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584f4a3ea33at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fc4b62a12544t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9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d8d0762310a9t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0">
            <a:hlinkClick r:id="rId12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0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2вк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tehno26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и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п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парово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яп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e6b445a01863t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6546c10a927t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2405790adbc3t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>
            <a:hlinkClick r:id="rId12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en-US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бабочки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4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Я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Х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У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С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З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П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Б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О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В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Р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1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___</cp:lastModifiedBy>
  <dcterms:modified xsi:type="dcterms:W3CDTF">2011-07-04T09:06:33Z</dcterms:modified>
  <cp:revision>32</cp:revision>
  <dc:subject/>
  <dc:title>Слайд 1</dc:title>
</cp:coreProperties>
</file>