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chimes.wav" ContentType="audio/x-wav"/>
  <Override PartName="/ppt/media/image6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1.gif" ContentType="image/gif"/>
  <Override PartName="/ppt/media/image7.jpeg" ContentType="image/jpeg"/>
  <Override PartName="/ppt/media/image10.gif" ContentType="image/gif"/>
  <Override PartName="/ppt/media/image13.png" ContentType="image/pn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07DE50-3FE0-4A69-BD04-FC0BC9FA3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F181B3-D255-441E-AB1A-831668192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11EC07-4D75-487C-9F74-4C3AC73FE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C1CB89-189C-4EFD-A15E-28589257A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251A1-1C37-40B6-AEAD-823346DA0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97416-3E83-4688-82BD-58609243A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B5577-CE51-486A-B754-E29D0536B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EF655-6F74-4523-B056-454F1C62C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893D9-7B12-4E8B-87F1-B5AF75D63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036A4-0483-48D8-B6F3-0C894378B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E4186-3BDD-4290-997C-48CFCD457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6E4720-54A8-48AD-85B8-B6677F35D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5A6FC-5206-44AB-8590-873A937F6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269AA-7944-4624-BEB1-E6280599F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A010C-F50D-46CE-8543-6637B9EA2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AFE68-76BF-4592-9121-BAF3D9EB3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2A5DB-5120-420E-9425-FB6D28571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8991CE-5754-45D1-A430-3BE11FED6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EE4B3F-411C-4ABE-BE09-033767C67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06647B-A970-4EF7-9715-C284DB6DD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E3D480-C52E-4B45-9D8E-3E83E0527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7B39EC-4C5B-4E74-9484-B692684EB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47E44F-86B9-4AC2-9D3F-1353831BD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AED58B-EA7C-481C-92D4-CDD5D8B24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B91DC-5C91-47C1-BF6D-E16E037B9467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78843-9BDA-4978-A29D-879A03ACBA61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С  РОЖДЕСТВОМ!!!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-109440" y="-82440"/>
            <a:ext cx="9362880" cy="7022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7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8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468360" y="0"/>
            <a:ext cx="82072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539640" y="189000"/>
            <a:ext cx="7561440" cy="604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3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  РОЖДЕСТВОМ!!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684360" y="287280"/>
            <a:ext cx="7920000" cy="6166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5e2f00"/>
            </a:gs>
            <a:gs pos="100000">
              <a:srgbClr val="cc66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539640" y="201600"/>
            <a:ext cx="7848720" cy="6180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remove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95280" y="189000"/>
            <a:ext cx="8459640" cy="6346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8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7848720" cy="5832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684360" y="260280"/>
            <a:ext cx="7991280" cy="599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468360" y="0"/>
            <a:ext cx="8207280" cy="6156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-324000" y="-2430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-324000" y="-2430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25T18:13:29Z</dcterms:created>
  <dc:creator>Семья Чефрановых</dc:creator>
  <dc:description/>
  <dc:language>en-US</dc:language>
  <cp:lastModifiedBy>База</cp:lastModifiedBy>
  <dcterms:modified xsi:type="dcterms:W3CDTF">2011-12-08T02:16:47Z</dcterms:modified>
  <cp:revision>4</cp:revision>
  <dc:subject/>
  <dc:title> С  РОЖДЕСТВОМ!!!</dc:title>
</cp:coreProperties>
</file>