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10.gif" ContentType="image/gif"/>
  <Override PartName="/ppt/media/image13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D4390-FFCB-4D08-8E8A-CBBE952D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7414-86AB-4BE3-B551-28A5F0CD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26DA-77D1-4092-9E4B-FD6EC19E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9361-C6B5-455C-BE71-9F72416D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FE2C-B58A-4A70-AD0E-39EBD87C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B83A-2909-4EA3-A377-0D9CC388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B4B3-F51E-4F14-9897-45462F22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C5A9-D7C6-4C98-9840-0DF3F932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05F6-6A84-4AE2-88E5-60668FFE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18BC-16D4-440C-AFF3-658CD79B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102D-7373-468E-A691-D131B1E4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F944-C7F6-4203-AD68-04287664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1EF1-47F5-4D15-9E50-9871C7FC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075-9650-4342-BA23-42A4C875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E909-F7C3-487D-BEAD-EFB3B224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90D9-B91D-4F86-9006-9878ADE0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66CF-9138-402D-9864-1037184D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D1CC5-19B3-4063-9017-ABA8D6E0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1EB9-8E0B-4B25-B838-D8125051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DFF4-C46A-4438-B5F4-F7CC8041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B9C8-F926-4AA0-8CA7-D1304A7C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7B1B-92B5-40A3-8B6F-5A051023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E7BF-04C3-4FB6-A810-0EB21B30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F99B5-3EEA-4627-982B-2AE00ED8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D8AF-3050-477C-A27A-BDC407419FE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845B-3976-44AC-81EC-D72AAC2470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  РОЖДЕСТВОМ!!!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56144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 РОЖДЕСТВОМ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287280"/>
            <a:ext cx="7920000" cy="616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2f00"/>
            </a:gs>
            <a:gs pos="100000">
              <a:srgbClr val="cc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01600"/>
            <a:ext cx="7848720" cy="618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remove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459640" cy="634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84872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8:13:29Z</dcterms:created>
  <dc:creator>Семья Чефрановых</dc:creator>
  <dc:description/>
  <dc:language>en-US</dc:language>
  <cp:lastModifiedBy>База</cp:lastModifiedBy>
  <dcterms:modified xsi:type="dcterms:W3CDTF">2011-12-08T02:16:47Z</dcterms:modified>
  <cp:revision>4</cp:revision>
  <dc:subject/>
  <dc:title> С  РОЖДЕСТВОМ!!!</dc:title>
</cp:coreProperties>
</file>