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875-2B36-4400-BE72-F593833D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207-00B6-4136-B324-2CBCF37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026-7186-4F15-889F-C2902AAD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A12-5F98-498D-AA5E-45AE9139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14B-1E15-4156-B428-542ECF84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E2E-1F47-4B9A-BF39-645AF09A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2D22-5D9A-42FE-B70B-1456C3AA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B76D-C258-4ECD-A57C-64B0CAB4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12BE-BC5B-4B0A-BD3B-09037B2F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BBC-144E-46DA-B9D9-9532E609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5FB-492F-4496-8414-A8FE8C3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13-414A-4573-8719-02CA8017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7B8-BC12-4643-A3D8-AFE22169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F3D7-C66F-4A13-9D02-A7D585FE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40D5-0DA2-4588-9CB7-805922C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ED6-3895-42F5-8D6D-F76BDB1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CCDB-3847-42BE-8033-9854BBC0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78D-286A-4C4B-9149-F7F923B8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D2D-D0E2-41A3-A895-47733EA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CFB-D315-47F1-B02B-C1986AF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680-91A0-439A-BEA6-55BF204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77E-1DB6-4DF7-BEC6-B6C20C3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F97-466E-474E-BCB4-F36558AB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CCD-A4CA-4EC5-A74F-E417B9F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4524-F368-457A-A2B7-53269354EC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1CB3-5B5D-4DFF-819C-FD9E628BAB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1773000"/>
            <a:ext cx="41036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Тема урока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9360">
            <a:solidFill>
              <a:srgbClr val="33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«Сварочные электр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56360" y="907920"/>
            <a:ext cx="2665440" cy="199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4328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Преподаватель А.П.Гагар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Технология изготовления</a:t>
            </a:r>
            <a:r>
              <a:rPr b="1" lang="en-US" sz="3800" spc="-1" strike="noStrike">
                <a:solidFill>
                  <a:srgbClr val="330033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готовка стерж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Измельчение компонентов обм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Окунание и опрес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Контроль качества и упак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1. Заготовка стержне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881440" cy="288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328920" cy="250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924360" y="2997360"/>
            <a:ext cx="143964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805360"/>
            <a:ext cx="466560" cy="61128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611280"/>
              <a:gd name="textAreaBottom" fmla="*/ 581040 h 611280"/>
            </a:gdLst>
            <a:ahLst/>
            <a:rect l="textAreaLeft" t="textAreaTop" r="textAreaRight" b="textAreaBottom"/>
            <a:pathLst>
              <a:path w="21600" h="28295">
                <a:moveTo>
                  <a:pt x="0" y="0"/>
                </a:moveTo>
                <a:lnTo>
                  <a:pt x="21600" y="0"/>
                </a:lnTo>
                <a:lnTo>
                  <a:pt x="21600" y="28295"/>
                </a:lnTo>
                <a:lnTo>
                  <a:pt x="0" y="28295"/>
                </a:lnTo>
                <a:close/>
              </a:path>
              <a:path fill="lightenLess" w="21600" h="28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295">
                <a:moveTo>
                  <a:pt x="21600" y="0"/>
                </a:moveTo>
                <a:lnTo>
                  <a:pt x="21600" y="28295"/>
                </a:lnTo>
                <a:lnTo>
                  <a:pt x="20200" y="26895"/>
                </a:lnTo>
                <a:lnTo>
                  <a:pt x="20200" y="1400"/>
                </a:lnTo>
                <a:close/>
              </a:path>
              <a:path fill="darkenLess" w="21600" h="28295">
                <a:moveTo>
                  <a:pt x="21600" y="28295"/>
                </a:moveTo>
                <a:lnTo>
                  <a:pt x="0" y="28295"/>
                </a:lnTo>
                <a:lnTo>
                  <a:pt x="1400" y="26895"/>
                </a:lnTo>
                <a:lnTo>
                  <a:pt x="20200" y="26895"/>
                </a:lnTo>
                <a:close/>
              </a:path>
              <a:path fill="lighten" w="21600" h="28295">
                <a:moveTo>
                  <a:pt x="0" y="28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6895"/>
                </a:lnTo>
                <a:close/>
              </a:path>
              <a:path fill="darken" w="21600" h="28295">
                <a:moveTo>
                  <a:pt x="7301" y="14147"/>
                </a:moveTo>
                <a:lnTo>
                  <a:pt x="17806" y="7141"/>
                </a:lnTo>
                <a:lnTo>
                  <a:pt x="17806" y="21154"/>
                </a:lnTo>
                <a:close/>
              </a:path>
              <a:path fill="darken" w="21600" h="28295">
                <a:moveTo>
                  <a:pt x="3794" y="7141"/>
                </a:moveTo>
                <a:lnTo>
                  <a:pt x="5456" y="7141"/>
                </a:lnTo>
                <a:lnTo>
                  <a:pt x="5456" y="21154"/>
                </a:lnTo>
                <a:lnTo>
                  <a:pt x="3794" y="2115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330033"/>
                </a:solidFill>
                <a:latin typeface="Arial Black"/>
              </a:rPr>
              <a:t>2. Измельчение компонентов обмазки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2087640" cy="164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16720" y="5084640"/>
            <a:ext cx="2376360" cy="1587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1942920" cy="1627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516720" y="6381720"/>
            <a:ext cx="122400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e1"/>
                </a:solidFill>
                <a:latin typeface="Times New Roman"/>
              </a:rPr>
              <a:t>мрам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4724280"/>
            <a:ext cx="1152720" cy="459000"/>
          </a:xfrm>
          <a:prstGeom prst="rect">
            <a:avLst/>
          </a:prstGeom>
          <a:noFill/>
          <a:ln w="1908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e1"/>
                </a:solidFill>
                <a:latin typeface="Times New Roman"/>
              </a:rPr>
              <a:t>Концентрат рутил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4360" y="3068640"/>
            <a:ext cx="86328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e1"/>
                </a:solidFill>
                <a:latin typeface="Times New Roman"/>
              </a:rPr>
              <a:t>Слюда</a:t>
            </a:r>
            <a:r>
              <a:rPr b="0" lang="en-US" sz="1200" spc="-1" strike="noStrike">
                <a:solidFill>
                  <a:srgbClr val="ffff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2781360"/>
            <a:ext cx="2305080" cy="1522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340000" y="4005360"/>
            <a:ext cx="1440000" cy="27648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e1"/>
                </a:solidFill>
                <a:latin typeface="Times New Roman"/>
              </a:rPr>
              <a:t>Плавиковый шп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10196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  <a:path fill="darken" w="27390" h="21600">
                <a:moveTo>
                  <a:pt x="6688" y="3794"/>
                </a:moveTo>
                <a:lnTo>
                  <a:pt x="8351" y="3794"/>
                </a:lnTo>
                <a:lnTo>
                  <a:pt x="8351" y="17806"/>
                </a:lnTo>
                <a:lnTo>
                  <a:pt x="668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Arial Black"/>
              </a:rPr>
              <a:t>3. Окунание и опресов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4208400" cy="258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2700360" cy="37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468360" y="6093000"/>
            <a:ext cx="538200" cy="61092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610920"/>
              <a:gd name="textAreaBottom" fmla="*/ 576360 h 610920"/>
            </a:gdLst>
            <a:ahLst/>
            <a:rect l="textAreaLeft" t="textAreaTop" r="textAreaRight" b="textAreaBottom"/>
            <a:pathLst>
              <a:path w="21600" h="24517">
                <a:moveTo>
                  <a:pt x="0" y="0"/>
                </a:moveTo>
                <a:lnTo>
                  <a:pt x="21600" y="0"/>
                </a:lnTo>
                <a:lnTo>
                  <a:pt x="21600" y="24517"/>
                </a:lnTo>
                <a:lnTo>
                  <a:pt x="0" y="24517"/>
                </a:lnTo>
                <a:close/>
              </a:path>
              <a:path fill="lightenLess" w="21600" h="245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17">
                <a:moveTo>
                  <a:pt x="21600" y="0"/>
                </a:moveTo>
                <a:lnTo>
                  <a:pt x="21600" y="24517"/>
                </a:lnTo>
                <a:lnTo>
                  <a:pt x="20200" y="23117"/>
                </a:lnTo>
                <a:lnTo>
                  <a:pt x="20200" y="1400"/>
                </a:lnTo>
                <a:close/>
              </a:path>
              <a:path fill="darkenLess" w="21600" h="24517">
                <a:moveTo>
                  <a:pt x="21600" y="24517"/>
                </a:moveTo>
                <a:lnTo>
                  <a:pt x="0" y="24517"/>
                </a:lnTo>
                <a:lnTo>
                  <a:pt x="1400" y="23117"/>
                </a:lnTo>
                <a:lnTo>
                  <a:pt x="20200" y="23117"/>
                </a:lnTo>
                <a:close/>
              </a:path>
              <a:path fill="lighten" w="21600" h="24517">
                <a:moveTo>
                  <a:pt x="0" y="2451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17"/>
                </a:lnTo>
                <a:close/>
              </a:path>
              <a:path fill="darken" w="21600" h="24517">
                <a:moveTo>
                  <a:pt x="7301" y="12258"/>
                </a:moveTo>
                <a:lnTo>
                  <a:pt x="17806" y="5252"/>
                </a:lnTo>
                <a:lnTo>
                  <a:pt x="17806" y="19265"/>
                </a:lnTo>
                <a:close/>
              </a:path>
              <a:path fill="darken" w="21600" h="24517">
                <a:moveTo>
                  <a:pt x="3794" y="5252"/>
                </a:moveTo>
                <a:lnTo>
                  <a:pt x="5456" y="5252"/>
                </a:lnTo>
                <a:lnTo>
                  <a:pt x="5456" y="19265"/>
                </a:lnTo>
                <a:lnTo>
                  <a:pt x="3794" y="19265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4. Контроль качества и упаков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357720"/>
            <a:ext cx="2663640" cy="204444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2752920" cy="250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2735280" cy="189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324000" y="5950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8595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  <a:path fill="darken" w="24188" h="21600">
                <a:moveTo>
                  <a:pt x="5088" y="3794"/>
                </a:moveTo>
                <a:lnTo>
                  <a:pt x="6750" y="3794"/>
                </a:lnTo>
                <a:lnTo>
                  <a:pt x="6750" y="17806"/>
                </a:lnTo>
                <a:lnTo>
                  <a:pt x="5088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Функции покрыт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987640" y="1989000"/>
            <a:ext cx="3146400" cy="367200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Размеры электродов, мм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26920" y="1758960"/>
            <a:ext cx="7777440" cy="407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Назначения покрытия электрод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24360" cy="496908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2771640" y="1773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1773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по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220500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Металлический стерж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213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Расплавленное покры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357336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Направление сва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422100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Капля металла стерж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530064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Основной мета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6021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Расплавленный мета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0000" y="6021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602136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Шлаковая кор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3640" y="566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1"/>
                </a:solidFill>
                <a:latin typeface="Times New Roman"/>
              </a:rPr>
              <a:t>Металл ш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Обобщение и закрепление новых знан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28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какого способа сварки, и каких сталей предназначен покрытый электро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зовите функции электрода при св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му равен диаметр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ова длина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чем назначение покрытия элект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ие группы элементов входят в состав покры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Спасибо за урок!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608200" y="1700280"/>
            <a:ext cx="3799080" cy="46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Назначение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265800" cy="4470480"/>
          </a:xfrm>
          <a:prstGeom prst="rect">
            <a:avLst/>
          </a:prstGeom>
          <a:ln w="28440">
            <a:solidFill>
              <a:srgbClr val="33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Сварочные электрод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306864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1916280"/>
            <a:ext cx="25210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металл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306864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844640"/>
            <a:ext cx="2303280" cy="57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металл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00720" y="3573360"/>
            <a:ext cx="230364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Угольны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графит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00720" y="306864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 Black"/>
              </a:rPr>
              <a:t>неплавя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573360"/>
            <a:ext cx="2303280" cy="505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вольфрам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4869000"/>
            <a:ext cx="230364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покры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486900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Без покры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5373720"/>
            <a:ext cx="2303280" cy="504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Проволок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33"/>
                </a:solidFill>
                <a:latin typeface="Arial Black"/>
              </a:rPr>
              <a:t>л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1128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3573360"/>
            <a:ext cx="2087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Важные даты истор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1" action="ppaction://hlinksldjump"/>
              </a:rPr>
              <a:t>1881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2" action="ppaction://hlinksldjump"/>
              </a:rPr>
              <a:t>1888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3" action="ppaction://hlinksldjump"/>
              </a:rPr>
              <a:t>1902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4" action="ppaction://hlinksldjump"/>
              </a:rPr>
              <a:t>192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193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81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усский изобретатель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иколай Никола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ернанд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227640" y="2565360"/>
            <a:ext cx="2698920" cy="34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324000" y="60930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888г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русский изобре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иколай Гаврил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лавя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56360" y="2565360"/>
            <a:ext cx="2773440" cy="366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179280" y="6093000"/>
            <a:ext cx="466920" cy="539640"/>
          </a:xfrm>
          <a:custGeom>
            <a:avLst/>
            <a:gdLst>
              <a:gd name="textAreaLeft" fmla="*/ 30240 w 466920"/>
              <a:gd name="textAreaRight" fmla="*/ 436680 w 466920"/>
              <a:gd name="textAreaTop" fmla="*/ 30240 h 539640"/>
              <a:gd name="textAreaBottom" fmla="*/ 509400 h 539640"/>
            </a:gdLst>
            <a:ahLst/>
            <a:rect l="textAreaLeft" t="textAreaTop" r="textAreaRight" b="textAreaBottom"/>
            <a:pathLst>
              <a:path w="21600" h="24961">
                <a:moveTo>
                  <a:pt x="0" y="0"/>
                </a:moveTo>
                <a:lnTo>
                  <a:pt x="21600" y="0"/>
                </a:lnTo>
                <a:lnTo>
                  <a:pt x="21600" y="24961"/>
                </a:lnTo>
                <a:lnTo>
                  <a:pt x="0" y="24961"/>
                </a:lnTo>
                <a:close/>
              </a:path>
              <a:path fill="lightenLess" w="21600" h="249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61">
                <a:moveTo>
                  <a:pt x="21600" y="0"/>
                </a:moveTo>
                <a:lnTo>
                  <a:pt x="21600" y="24961"/>
                </a:lnTo>
                <a:lnTo>
                  <a:pt x="20200" y="23561"/>
                </a:lnTo>
                <a:lnTo>
                  <a:pt x="20200" y="1400"/>
                </a:lnTo>
                <a:close/>
              </a:path>
              <a:path fill="darkenLess" w="21600" h="24961">
                <a:moveTo>
                  <a:pt x="21600" y="24961"/>
                </a:moveTo>
                <a:lnTo>
                  <a:pt x="0" y="24961"/>
                </a:lnTo>
                <a:lnTo>
                  <a:pt x="1400" y="23561"/>
                </a:lnTo>
                <a:lnTo>
                  <a:pt x="20200" y="23561"/>
                </a:lnTo>
                <a:close/>
              </a:path>
              <a:path fill="lighten" w="21600" h="24961">
                <a:moveTo>
                  <a:pt x="0" y="249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61"/>
                </a:lnTo>
                <a:close/>
              </a:path>
              <a:path fill="darken" w="21600" h="24961">
                <a:moveTo>
                  <a:pt x="7301" y="12481"/>
                </a:moveTo>
                <a:lnTo>
                  <a:pt x="17806" y="5474"/>
                </a:lnTo>
                <a:lnTo>
                  <a:pt x="17806" y="19487"/>
                </a:lnTo>
                <a:close/>
              </a:path>
              <a:path fill="darken" w="21600" h="24961">
                <a:moveTo>
                  <a:pt x="3794" y="5474"/>
                </a:moveTo>
                <a:lnTo>
                  <a:pt x="5456" y="5474"/>
                </a:lnTo>
                <a:lnTo>
                  <a:pt x="5456" y="19487"/>
                </a:lnTo>
                <a:lnTo>
                  <a:pt x="3794" y="1948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02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нженер из Шве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скар Кельберг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664240" y="2276640"/>
            <a:ext cx="2527200" cy="367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79280" y="5950080"/>
            <a:ext cx="609840" cy="61092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10920"/>
              <a:gd name="textAreaBottom" fmla="*/ 571680 h 610920"/>
            </a:gdLst>
            <a:ahLst/>
            <a:rect l="textAreaLeft" t="textAreaTop" r="textAreaRight" b="textAreaBottom"/>
            <a:pathLst>
              <a:path w="21600" h="21638">
                <a:moveTo>
                  <a:pt x="0" y="0"/>
                </a:moveTo>
                <a:lnTo>
                  <a:pt x="21600" y="0"/>
                </a:lnTo>
                <a:lnTo>
                  <a:pt x="21600" y="21638"/>
                </a:lnTo>
                <a:lnTo>
                  <a:pt x="0" y="21638"/>
                </a:lnTo>
                <a:close/>
              </a:path>
              <a:path fill="lightenLess" w="21600" h="2163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8">
                <a:moveTo>
                  <a:pt x="21600" y="0"/>
                </a:moveTo>
                <a:lnTo>
                  <a:pt x="21600" y="21638"/>
                </a:lnTo>
                <a:lnTo>
                  <a:pt x="20200" y="20238"/>
                </a:lnTo>
                <a:lnTo>
                  <a:pt x="20200" y="1400"/>
                </a:lnTo>
                <a:close/>
              </a:path>
              <a:path fill="darkenLess" w="21600" h="21638">
                <a:moveTo>
                  <a:pt x="21600" y="21638"/>
                </a:moveTo>
                <a:lnTo>
                  <a:pt x="0" y="21638"/>
                </a:lnTo>
                <a:lnTo>
                  <a:pt x="1400" y="20238"/>
                </a:lnTo>
                <a:lnTo>
                  <a:pt x="20200" y="20238"/>
                </a:lnTo>
                <a:close/>
              </a:path>
              <a:path fill="lighten" w="21600" h="21638">
                <a:moveTo>
                  <a:pt x="0" y="2163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8"/>
                </a:lnTo>
                <a:close/>
              </a:path>
              <a:path fill="darken" w="21600" h="21638">
                <a:moveTo>
                  <a:pt x="7301" y="10819"/>
                </a:moveTo>
                <a:lnTo>
                  <a:pt x="17806" y="3813"/>
                </a:lnTo>
                <a:lnTo>
                  <a:pt x="17806" y="17826"/>
                </a:lnTo>
                <a:close/>
              </a:path>
              <a:path fill="darken" w="21600" h="21638">
                <a:moveTo>
                  <a:pt x="3794" y="3813"/>
                </a:moveTo>
                <a:lnTo>
                  <a:pt x="5456" y="3813"/>
                </a:lnTo>
                <a:lnTo>
                  <a:pt x="5456" y="17826"/>
                </a:lnTo>
                <a:lnTo>
                  <a:pt x="3794" y="1782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28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2781360"/>
            <a:ext cx="4267080" cy="26478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24000" y="6021360"/>
            <a:ext cx="466560" cy="53820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38200"/>
              <a:gd name="textAreaBottom" fmla="*/ 507960 h 538200"/>
            </a:gdLst>
            <a:ahLst/>
            <a:rect l="textAreaLeft" t="textAreaTop" r="textAreaRight" b="textAreaBottom"/>
            <a:pathLst>
              <a:path w="21600" h="24914">
                <a:moveTo>
                  <a:pt x="0" y="0"/>
                </a:moveTo>
                <a:lnTo>
                  <a:pt x="21600" y="0"/>
                </a:lnTo>
                <a:lnTo>
                  <a:pt x="21600" y="24914"/>
                </a:lnTo>
                <a:lnTo>
                  <a:pt x="0" y="24914"/>
                </a:lnTo>
                <a:close/>
              </a:path>
              <a:path fill="lightenLess" w="21600" h="24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4">
                <a:moveTo>
                  <a:pt x="21600" y="0"/>
                </a:moveTo>
                <a:lnTo>
                  <a:pt x="21600" y="24914"/>
                </a:lnTo>
                <a:lnTo>
                  <a:pt x="20200" y="23514"/>
                </a:lnTo>
                <a:lnTo>
                  <a:pt x="20200" y="1400"/>
                </a:lnTo>
                <a:close/>
              </a:path>
              <a:path fill="darkenLess" w="21600" h="24914">
                <a:moveTo>
                  <a:pt x="21600" y="24914"/>
                </a:moveTo>
                <a:lnTo>
                  <a:pt x="0" y="24914"/>
                </a:lnTo>
                <a:lnTo>
                  <a:pt x="1400" y="23514"/>
                </a:lnTo>
                <a:lnTo>
                  <a:pt x="20200" y="23514"/>
                </a:lnTo>
                <a:close/>
              </a:path>
              <a:path fill="lighten" w="21600" h="24914">
                <a:moveTo>
                  <a:pt x="0" y="24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4"/>
                </a:lnTo>
                <a:close/>
              </a:path>
              <a:path fill="darken" w="21600" h="24914">
                <a:moveTo>
                  <a:pt x="7301" y="12457"/>
                </a:moveTo>
                <a:lnTo>
                  <a:pt x="17806" y="5451"/>
                </a:lnTo>
                <a:lnTo>
                  <a:pt x="17806" y="19464"/>
                </a:lnTo>
                <a:close/>
              </a:path>
              <a:path fill="darken" w="21600" h="24914">
                <a:moveTo>
                  <a:pt x="3794" y="5451"/>
                </a:moveTo>
                <a:lnTo>
                  <a:pt x="5456" y="5451"/>
                </a:lnTo>
                <a:lnTo>
                  <a:pt x="5456" y="19464"/>
                </a:lnTo>
                <a:lnTo>
                  <a:pt x="3794" y="1946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Black"/>
              </a:rPr>
              <a:t>История сварочных электрод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1933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3771720" cy="451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250920" y="6093000"/>
            <a:ext cx="609480" cy="53784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4475" h="21600">
                <a:moveTo>
                  <a:pt x="0" y="0"/>
                </a:moveTo>
                <a:lnTo>
                  <a:pt x="24475" y="0"/>
                </a:lnTo>
                <a:lnTo>
                  <a:pt x="24475" y="21600"/>
                </a:lnTo>
                <a:lnTo>
                  <a:pt x="0" y="21600"/>
                </a:lnTo>
                <a:close/>
              </a:path>
              <a:path fill="lightenLess" w="24475" h="21600">
                <a:moveTo>
                  <a:pt x="0" y="0"/>
                </a:moveTo>
                <a:lnTo>
                  <a:pt x="24475" y="0"/>
                </a:lnTo>
                <a:lnTo>
                  <a:pt x="23075" y="1400"/>
                </a:lnTo>
                <a:lnTo>
                  <a:pt x="1400" y="1400"/>
                </a:lnTo>
                <a:close/>
              </a:path>
              <a:path fill="darken" w="24475" h="21600">
                <a:moveTo>
                  <a:pt x="24475" y="0"/>
                </a:moveTo>
                <a:lnTo>
                  <a:pt x="24475" y="21600"/>
                </a:lnTo>
                <a:lnTo>
                  <a:pt x="23075" y="20200"/>
                </a:lnTo>
                <a:lnTo>
                  <a:pt x="23075" y="1400"/>
                </a:lnTo>
                <a:close/>
              </a:path>
              <a:path fill="darkenLess" w="24475" h="21600">
                <a:moveTo>
                  <a:pt x="24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5" y="20200"/>
                </a:lnTo>
                <a:close/>
              </a:path>
              <a:path fill="lighten" w="24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5" h="21600">
                <a:moveTo>
                  <a:pt x="8739" y="10800"/>
                </a:moveTo>
                <a:lnTo>
                  <a:pt x="19244" y="3794"/>
                </a:lnTo>
                <a:lnTo>
                  <a:pt x="19244" y="17806"/>
                </a:lnTo>
                <a:close/>
              </a:path>
              <a:path fill="darken" w="24475" h="21600">
                <a:moveTo>
                  <a:pt x="5231" y="3794"/>
                </a:moveTo>
                <a:lnTo>
                  <a:pt x="6894" y="3794"/>
                </a:lnTo>
                <a:lnTo>
                  <a:pt x="6894" y="17806"/>
                </a:lnTo>
                <a:lnTo>
                  <a:pt x="523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0:16:10Z</dcterms:created>
  <dc:creator>Customer</dc:creator>
  <dc:description/>
  <dc:language>en-US</dc:language>
  <cp:lastModifiedBy>База</cp:lastModifiedBy>
  <dcterms:modified xsi:type="dcterms:W3CDTF">2011-12-14T19:03:02Z</dcterms:modified>
  <cp:revision>13</cp:revision>
  <dc:subject/>
  <dc:title>Слайд 1</dc:title>
</cp:coreProperties>
</file>