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B2E-2521-4DB6-8ED3-86BE94B5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BD6-1EE7-4270-BD8C-A26817E2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BF7-C2F9-43D8-837D-E8FEA13A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BD1-ECBC-49E4-AC9C-87DC440B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7119-B120-4804-87D4-CECD176F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D46-5F2A-4F78-93A0-607FB047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FD9-98D1-4D6F-8B43-0AFF17FD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A310-1DB4-4CFD-A9F1-6157D90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B14-2EE7-4612-865A-A3520B3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783-EDBD-461B-A4EB-068A908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B01-5BF8-4D23-AA6D-6E23EB3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53B-DC65-42FF-8252-4EAE1D0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F992-EABE-4479-8EFA-3961A833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CDDC-B503-4B22-9F9D-1ADCFCF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ECF2-E94F-4F3B-A3DC-4D0AEEF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0AE1-315A-4042-B726-1D9BA566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27A9-1319-48D0-B884-81CA4E9C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B4F-95E5-43B2-A4F6-16238B2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D45-E02F-4DA8-A7DD-E93CC8A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6A2-E746-4A0B-A4A5-0B48378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11C-42C3-4076-A776-9FB9874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84C-AC70-4674-8DCD-74FF33B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29F-D1C2-4A54-894B-14AC9FF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689-D173-431A-A201-047E97E6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A91-79F7-46C6-883D-87ECBDBA48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563-6A07-49E4-B24C-6F65B627B1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1773000"/>
            <a:ext cx="41036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Тема уро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«Сварочные элект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90792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Преподаватель А.П.Гагар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Технология изготовления</a:t>
            </a:r>
            <a:r>
              <a:rPr b="1" lang="en-US" sz="38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отовка стерж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Измельчение компонентов обм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кунание и опрес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Контроль качества и упа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1. Заготовка стержне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881440" cy="28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328920" cy="250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924360" y="2997360"/>
            <a:ext cx="143964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805360"/>
            <a:ext cx="466560" cy="611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611280"/>
              <a:gd name="textAreaBottom" fmla="*/ 581040 h 611280"/>
            </a:gdLst>
            <a:ahLst/>
            <a:rect l="textAreaLeft" t="textAreaTop" r="textAreaRight" b="textAreaBottom"/>
            <a:pathLst>
              <a:path w="21600" h="28295">
                <a:moveTo>
                  <a:pt x="0" y="0"/>
                </a:moveTo>
                <a:lnTo>
                  <a:pt x="21600" y="0"/>
                </a:lnTo>
                <a:lnTo>
                  <a:pt x="21600" y="28295"/>
                </a:lnTo>
                <a:lnTo>
                  <a:pt x="0" y="28295"/>
                </a:lnTo>
                <a:close/>
              </a:path>
              <a:path fill="lightenLess" w="21600" h="28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295">
                <a:moveTo>
                  <a:pt x="21600" y="0"/>
                </a:moveTo>
                <a:lnTo>
                  <a:pt x="21600" y="28295"/>
                </a:lnTo>
                <a:lnTo>
                  <a:pt x="20200" y="26895"/>
                </a:lnTo>
                <a:lnTo>
                  <a:pt x="20200" y="1400"/>
                </a:lnTo>
                <a:close/>
              </a:path>
              <a:path fill="darkenLess" w="21600" h="28295">
                <a:moveTo>
                  <a:pt x="21600" y="28295"/>
                </a:moveTo>
                <a:lnTo>
                  <a:pt x="0" y="28295"/>
                </a:lnTo>
                <a:lnTo>
                  <a:pt x="1400" y="26895"/>
                </a:lnTo>
                <a:lnTo>
                  <a:pt x="20200" y="26895"/>
                </a:lnTo>
                <a:close/>
              </a:path>
              <a:path fill="lighten" w="21600" h="28295">
                <a:moveTo>
                  <a:pt x="0" y="28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895"/>
                </a:lnTo>
                <a:close/>
              </a:path>
              <a:path fill="darken" w="21600" h="28295">
                <a:moveTo>
                  <a:pt x="7301" y="14147"/>
                </a:moveTo>
                <a:lnTo>
                  <a:pt x="17806" y="7141"/>
                </a:lnTo>
                <a:lnTo>
                  <a:pt x="17806" y="21154"/>
                </a:lnTo>
                <a:close/>
              </a:path>
              <a:path fill="darken" w="21600" h="28295">
                <a:moveTo>
                  <a:pt x="3794" y="7141"/>
                </a:moveTo>
                <a:lnTo>
                  <a:pt x="5456" y="7141"/>
                </a:lnTo>
                <a:lnTo>
                  <a:pt x="5456" y="21154"/>
                </a:lnTo>
                <a:lnTo>
                  <a:pt x="3794" y="2115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330033"/>
                </a:solidFill>
                <a:latin typeface="Arial Black"/>
              </a:rPr>
              <a:t>2. Измельчение компонентов обмазки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2087640" cy="164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16720" y="5084640"/>
            <a:ext cx="2376360" cy="158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1942920" cy="1627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516720" y="6381720"/>
            <a:ext cx="122400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e1"/>
                </a:solidFill>
                <a:latin typeface="Times New Roman"/>
              </a:rPr>
              <a:t>мрам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4724280"/>
            <a:ext cx="1152720" cy="459000"/>
          </a:xfrm>
          <a:prstGeom prst="rect">
            <a:avLst/>
          </a:prstGeom>
          <a:noFill/>
          <a:ln w="1908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e1"/>
                </a:solidFill>
                <a:latin typeface="Times New Roman"/>
              </a:rPr>
              <a:t>Концентрат рутил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068640"/>
            <a:ext cx="86328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e1"/>
                </a:solidFill>
                <a:latin typeface="Times New Roman"/>
              </a:rPr>
              <a:t>Слюда</a:t>
            </a:r>
            <a:r>
              <a:rPr b="0" lang="en-US" sz="1200" spc="-1" strike="noStrike">
                <a:solidFill>
                  <a:srgbClr val="ffff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2781360"/>
            <a:ext cx="2305080" cy="1522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340000" y="4005360"/>
            <a:ext cx="144000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e1"/>
                </a:solidFill>
                <a:latin typeface="Times New Roman"/>
              </a:rPr>
              <a:t>Плавиковый шп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10196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  <a:path fill="darken" w="27390" h="21600">
                <a:moveTo>
                  <a:pt x="6688" y="3794"/>
                </a:moveTo>
                <a:lnTo>
                  <a:pt x="8351" y="3794"/>
                </a:lnTo>
                <a:lnTo>
                  <a:pt x="8351" y="17806"/>
                </a:lnTo>
                <a:lnTo>
                  <a:pt x="668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 Black"/>
              </a:rPr>
              <a:t>3. Окунание и опресов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4208400" cy="258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700360" cy="37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468360" y="6093000"/>
            <a:ext cx="538200" cy="61092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10920"/>
              <a:gd name="textAreaBottom" fmla="*/ 576360 h 610920"/>
            </a:gdLst>
            <a:ahLst/>
            <a:rect l="textAreaLeft" t="textAreaTop" r="textAreaRight" b="textAreaBottom"/>
            <a:pathLst>
              <a:path w="21600" h="24517">
                <a:moveTo>
                  <a:pt x="0" y="0"/>
                </a:moveTo>
                <a:lnTo>
                  <a:pt x="21600" y="0"/>
                </a:lnTo>
                <a:lnTo>
                  <a:pt x="21600" y="24517"/>
                </a:lnTo>
                <a:lnTo>
                  <a:pt x="0" y="24517"/>
                </a:lnTo>
                <a:close/>
              </a:path>
              <a:path fill="lightenLess" w="21600" h="24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17">
                <a:moveTo>
                  <a:pt x="21600" y="0"/>
                </a:moveTo>
                <a:lnTo>
                  <a:pt x="21600" y="24517"/>
                </a:lnTo>
                <a:lnTo>
                  <a:pt x="20200" y="23117"/>
                </a:lnTo>
                <a:lnTo>
                  <a:pt x="20200" y="1400"/>
                </a:lnTo>
                <a:close/>
              </a:path>
              <a:path fill="darkenLess" w="21600" h="24517">
                <a:moveTo>
                  <a:pt x="21600" y="24517"/>
                </a:moveTo>
                <a:lnTo>
                  <a:pt x="0" y="24517"/>
                </a:lnTo>
                <a:lnTo>
                  <a:pt x="1400" y="23117"/>
                </a:lnTo>
                <a:lnTo>
                  <a:pt x="20200" y="23117"/>
                </a:lnTo>
                <a:close/>
              </a:path>
              <a:path fill="lighten" w="21600" h="24517">
                <a:moveTo>
                  <a:pt x="0" y="24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17"/>
                </a:lnTo>
                <a:close/>
              </a:path>
              <a:path fill="darken" w="21600" h="24517">
                <a:moveTo>
                  <a:pt x="7301" y="12258"/>
                </a:moveTo>
                <a:lnTo>
                  <a:pt x="17806" y="5252"/>
                </a:lnTo>
                <a:lnTo>
                  <a:pt x="17806" y="19265"/>
                </a:lnTo>
                <a:close/>
              </a:path>
              <a:path fill="darken" w="21600" h="24517">
                <a:moveTo>
                  <a:pt x="3794" y="5252"/>
                </a:moveTo>
                <a:lnTo>
                  <a:pt x="5456" y="5252"/>
                </a:lnTo>
                <a:lnTo>
                  <a:pt x="5456" y="19265"/>
                </a:lnTo>
                <a:lnTo>
                  <a:pt x="3794" y="1926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4. Контроль качества и упаков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663640" cy="204444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752920" cy="250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2735280" cy="189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324000" y="5950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8595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  <a:path fill="darken" w="24188" h="21600">
                <a:moveTo>
                  <a:pt x="5088" y="3794"/>
                </a:moveTo>
                <a:lnTo>
                  <a:pt x="6750" y="3794"/>
                </a:lnTo>
                <a:lnTo>
                  <a:pt x="6750" y="17806"/>
                </a:lnTo>
                <a:lnTo>
                  <a:pt x="508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Функции покрыт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46400" cy="367200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Размеры электродов, мм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758960"/>
            <a:ext cx="777744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Назначения покрытия электр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24360" cy="496908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2771640" y="1773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по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2205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Металлический стерж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213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Расплавленное по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57336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Направление сва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221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Капля металла стерж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30064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Основной мета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6021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Расплавленный мета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6021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6021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Шлаковая ко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566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Металл ш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Обобщение и закрепление новых знан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какого способа сварки, и каких сталей предназначен покрытый электр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овите функции электрода при св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му равен диаметр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ва длина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чем назначение покрытия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группы элементов входят в состав покры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Спасибо за урок!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08200" y="1700280"/>
            <a:ext cx="3799080" cy="46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Назначение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265800" cy="447048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Сварочные электрод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306864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1916280"/>
            <a:ext cx="25210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металл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306864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844640"/>
            <a:ext cx="23032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металл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3573360"/>
            <a:ext cx="230364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Угольн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графит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06864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573360"/>
            <a:ext cx="230328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вольфрам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86900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покры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86900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Без покры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537372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Проволо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л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573360"/>
            <a:ext cx="2087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Важные даты истор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1881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1888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1902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4" action="ppaction://hlinksldjump"/>
              </a:rPr>
              <a:t>192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193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81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усский изобретател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иколай Никола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ернанд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2565360"/>
            <a:ext cx="2698920" cy="34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24000" y="609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888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усский изобре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иколай Гаврил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лавя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773440" cy="366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179280" y="6093000"/>
            <a:ext cx="466920" cy="53964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961">
                <a:moveTo>
                  <a:pt x="0" y="0"/>
                </a:moveTo>
                <a:lnTo>
                  <a:pt x="21600" y="0"/>
                </a:lnTo>
                <a:lnTo>
                  <a:pt x="21600" y="24961"/>
                </a:lnTo>
                <a:lnTo>
                  <a:pt x="0" y="24961"/>
                </a:lnTo>
                <a:close/>
              </a:path>
              <a:path fill="lightenLess" w="21600" h="24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1">
                <a:moveTo>
                  <a:pt x="21600" y="0"/>
                </a:moveTo>
                <a:lnTo>
                  <a:pt x="21600" y="24961"/>
                </a:lnTo>
                <a:lnTo>
                  <a:pt x="20200" y="23561"/>
                </a:lnTo>
                <a:lnTo>
                  <a:pt x="20200" y="1400"/>
                </a:lnTo>
                <a:close/>
              </a:path>
              <a:path fill="darkenLess" w="21600" h="24961">
                <a:moveTo>
                  <a:pt x="21600" y="24961"/>
                </a:moveTo>
                <a:lnTo>
                  <a:pt x="0" y="24961"/>
                </a:lnTo>
                <a:lnTo>
                  <a:pt x="1400" y="23561"/>
                </a:lnTo>
                <a:lnTo>
                  <a:pt x="20200" y="23561"/>
                </a:lnTo>
                <a:close/>
              </a:path>
              <a:path fill="lighten" w="21600" h="24961">
                <a:moveTo>
                  <a:pt x="0" y="24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1"/>
                </a:lnTo>
                <a:close/>
              </a:path>
              <a:path fill="darken" w="21600" h="24961">
                <a:moveTo>
                  <a:pt x="7301" y="12481"/>
                </a:moveTo>
                <a:lnTo>
                  <a:pt x="17806" y="5474"/>
                </a:lnTo>
                <a:lnTo>
                  <a:pt x="17806" y="19487"/>
                </a:lnTo>
                <a:close/>
              </a:path>
              <a:path fill="darken" w="21600" h="24961">
                <a:moveTo>
                  <a:pt x="3794" y="5474"/>
                </a:moveTo>
                <a:lnTo>
                  <a:pt x="5456" y="5474"/>
                </a:lnTo>
                <a:lnTo>
                  <a:pt x="5456" y="19487"/>
                </a:lnTo>
                <a:lnTo>
                  <a:pt x="3794" y="1948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02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нженер из Шве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скар Кельбер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64240" y="2276640"/>
            <a:ext cx="2527200" cy="36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79280" y="5950080"/>
            <a:ext cx="609840" cy="6109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10920"/>
              <a:gd name="textAreaBottom" fmla="*/ 571680 h 61092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7301" y="10819"/>
                </a:moveTo>
                <a:lnTo>
                  <a:pt x="17806" y="3813"/>
                </a:lnTo>
                <a:lnTo>
                  <a:pt x="17806" y="17826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5456" y="3813"/>
                </a:lnTo>
                <a:lnTo>
                  <a:pt x="5456" y="17826"/>
                </a:lnTo>
                <a:lnTo>
                  <a:pt x="3794" y="1782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2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267080" cy="26478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24000" y="6021360"/>
            <a:ext cx="466560" cy="53820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38200"/>
              <a:gd name="textAreaBottom" fmla="*/ 507960 h 538200"/>
            </a:gdLst>
            <a:ahLst/>
            <a:rect l="textAreaLeft" t="textAreaTop" r="textAreaRight" b="textAreaBottom"/>
            <a:pathLst>
              <a:path w="21600" h="24914">
                <a:moveTo>
                  <a:pt x="0" y="0"/>
                </a:moveTo>
                <a:lnTo>
                  <a:pt x="21600" y="0"/>
                </a:lnTo>
                <a:lnTo>
                  <a:pt x="21600" y="24914"/>
                </a:lnTo>
                <a:lnTo>
                  <a:pt x="0" y="24914"/>
                </a:lnTo>
                <a:close/>
              </a:path>
              <a:path fill="lightenLess" w="21600" h="24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4">
                <a:moveTo>
                  <a:pt x="21600" y="0"/>
                </a:moveTo>
                <a:lnTo>
                  <a:pt x="21600" y="24914"/>
                </a:lnTo>
                <a:lnTo>
                  <a:pt x="20200" y="23514"/>
                </a:lnTo>
                <a:lnTo>
                  <a:pt x="20200" y="1400"/>
                </a:lnTo>
                <a:close/>
              </a:path>
              <a:path fill="darkenLess" w="21600" h="24914">
                <a:moveTo>
                  <a:pt x="21600" y="24914"/>
                </a:moveTo>
                <a:lnTo>
                  <a:pt x="0" y="24914"/>
                </a:lnTo>
                <a:lnTo>
                  <a:pt x="1400" y="23514"/>
                </a:lnTo>
                <a:lnTo>
                  <a:pt x="20200" y="23514"/>
                </a:lnTo>
                <a:close/>
              </a:path>
              <a:path fill="lighten" w="21600" h="24914">
                <a:moveTo>
                  <a:pt x="0" y="24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4"/>
                </a:lnTo>
                <a:close/>
              </a:path>
              <a:path fill="darken" w="21600" h="24914">
                <a:moveTo>
                  <a:pt x="7301" y="12457"/>
                </a:moveTo>
                <a:lnTo>
                  <a:pt x="17806" y="5451"/>
                </a:lnTo>
                <a:lnTo>
                  <a:pt x="17806" y="19464"/>
                </a:lnTo>
                <a:close/>
              </a:path>
              <a:path fill="darken" w="21600" h="24914">
                <a:moveTo>
                  <a:pt x="3794" y="5451"/>
                </a:moveTo>
                <a:lnTo>
                  <a:pt x="5456" y="5451"/>
                </a:lnTo>
                <a:lnTo>
                  <a:pt x="5456" y="19464"/>
                </a:lnTo>
                <a:lnTo>
                  <a:pt x="3794" y="1946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3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3771720" cy="45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250920" y="6093000"/>
            <a:ext cx="609480" cy="53784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4475" h="21600">
                <a:moveTo>
                  <a:pt x="0" y="0"/>
                </a:moveTo>
                <a:lnTo>
                  <a:pt x="24475" y="0"/>
                </a:lnTo>
                <a:lnTo>
                  <a:pt x="24475" y="21600"/>
                </a:lnTo>
                <a:lnTo>
                  <a:pt x="0" y="21600"/>
                </a:lnTo>
                <a:close/>
              </a:path>
              <a:path fill="lightenLess" w="24475" h="21600">
                <a:moveTo>
                  <a:pt x="0" y="0"/>
                </a:moveTo>
                <a:lnTo>
                  <a:pt x="24475" y="0"/>
                </a:lnTo>
                <a:lnTo>
                  <a:pt x="23075" y="1400"/>
                </a:lnTo>
                <a:lnTo>
                  <a:pt x="1400" y="1400"/>
                </a:lnTo>
                <a:close/>
              </a:path>
              <a:path fill="darken" w="24475" h="21600">
                <a:moveTo>
                  <a:pt x="24475" y="0"/>
                </a:moveTo>
                <a:lnTo>
                  <a:pt x="24475" y="21600"/>
                </a:lnTo>
                <a:lnTo>
                  <a:pt x="23075" y="20200"/>
                </a:lnTo>
                <a:lnTo>
                  <a:pt x="23075" y="1400"/>
                </a:lnTo>
                <a:close/>
              </a:path>
              <a:path fill="darkenLess" w="24475" h="21600">
                <a:moveTo>
                  <a:pt x="24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5" y="20200"/>
                </a:lnTo>
                <a:close/>
              </a:path>
              <a:path fill="lighten" w="24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5" h="21600">
                <a:moveTo>
                  <a:pt x="8739" y="10800"/>
                </a:moveTo>
                <a:lnTo>
                  <a:pt x="19244" y="3794"/>
                </a:lnTo>
                <a:lnTo>
                  <a:pt x="19244" y="17806"/>
                </a:lnTo>
                <a:close/>
              </a:path>
              <a:path fill="darken" w="24475" h="21600">
                <a:moveTo>
                  <a:pt x="5231" y="3794"/>
                </a:moveTo>
                <a:lnTo>
                  <a:pt x="6894" y="3794"/>
                </a:lnTo>
                <a:lnTo>
                  <a:pt x="6894" y="17806"/>
                </a:lnTo>
                <a:lnTo>
                  <a:pt x="523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0:16:10Z</dcterms:created>
  <dc:creator>Customer</dc:creator>
  <dc:description/>
  <dc:language>en-US</dc:language>
  <cp:lastModifiedBy>База</cp:lastModifiedBy>
  <dcterms:modified xsi:type="dcterms:W3CDTF">2011-12-14T19:03:02Z</dcterms:modified>
  <cp:revision>13</cp:revision>
  <dc:subject/>
  <dc:title>Слайд 1</dc:title>
</cp:coreProperties>
</file>