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7.gif" ContentType="image/gif"/>
  <Override PartName="/ppt/media/image16.png" ContentType="image/png"/>
  <Override PartName="/ppt/media/image15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png" ContentType="image/png"/>
  <Override PartName="/ppt/media/image18.gif" ContentType="image/gif"/>
  <Override PartName="/ppt/media/image13.jpeg" ContentType="image/jpeg"/>
  <Override PartName="/ppt/media/image5.jpeg" ContentType="image/jpeg"/>
  <Override PartName="/ppt/media/image2.gif" ContentType="image/gi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5DC1-AA43-4C0A-AD83-10DD2934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7E68-9BF7-49F4-9AE5-3421BAB0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7E43-00AF-4388-8912-49AC8C10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87BB-95A1-4229-81BE-524F9A7D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C7ED-7472-4635-8E35-56FEC628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3F2B-2792-40F6-B434-6AB96E7D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EBC1-A777-42D7-A401-C8D3D808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6964-CD2D-4512-A90E-FAB83162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5671-1BA9-4D0D-B6A6-16171C9B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B4A0-D9E7-436C-A619-B9DEA465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7C0A-C712-49A7-9842-7AE4654A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C1BC-0053-420A-A455-06F35ECE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8B6E-25FB-49DC-A4A9-97A44A50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B0ED-7E05-4D66-B70F-ECCCF4A5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A390-BC2F-4660-8382-E885AE78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BF25-F6EF-4192-A2F7-BCB3D9EA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426D-204D-445F-836C-6B6ACDEC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A863-26CB-453F-ABF6-EF6A13AC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5C5-BC6D-4756-BD9E-99C04343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DE2E-F011-4FE5-987E-5FF0DE5E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9BF7-5D54-4C3B-822A-E50043E7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1AEE-3096-4B2A-99DC-D9EF81D8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49EF-6832-4B2B-A20E-43932746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C01F-1539-4F3D-82E0-11366E5A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DD8C-1959-452E-ADB9-AA02D70CF5A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0465-4851-4ED8-ABB8-92180041668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Сверление отверстий.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564000" y="2276640"/>
            <a:ext cx="1585800" cy="15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Техника безопасности при сверлени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дёжно закреплять заготовку и подкладную доску на верста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дёжно, без перекоса, закреплять сверло в патроне, не допуская его перекос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учку коловорота или дрели вращать свободно, без больших усил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ловорот или дрель класть на верстак сверлом от себ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380360" y="537372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Вопросы для закрепления материала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то называют отверстиям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ие виды отверстий вы знает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ие виды свёрл вы знает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определить диаметр сверл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ем отличается коловорот от дрел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ля какой цели при сверлении отверстия под заготовку подкладывают дос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172360" y="5157720"/>
            <a:ext cx="7812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Литератур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Технология». Учебник для 5 класса общеобразовательных учреждений. Под редакцией В.Д. Симоненк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декс (картинки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лан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ды отверст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ды свёр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Элементы свер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струменты для свер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ёмы свер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хника безопасности при сверлен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опросы для закрепления материа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164360" y="1557360"/>
            <a:ext cx="5238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иды отверстий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Отверст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представляют собой углубления в деталях. Они могут быть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сквозным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глухи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Сквозные отверстия проходят через всю деталь насквозь. Глухие не выходят наружу, а только выполняются на определённую глубин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321080" cy="18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иды отверстий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тверстиями называют углубления любой формы в поперечном сечении: круглые,  квадратные, прямоугольные, овальные, треугольные и т.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68440" y="2352600"/>
            <a:ext cx="5708520" cy="8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иды свёрл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углые отверстия легко и довольно точно высверливают свёрла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иболее распространены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спиральные свёрл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Их применяют для сверления различных материалов: металлов, древесины, пластмас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66960" cy="2185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3095640" cy="19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иды свёрл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высверливания отверстий в древесине применяют также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центровые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вёрла с подрезателями,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винтовые, шнековые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ложечны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др. Диаметр сверла (в миллиметрах) указан на его стержн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1787760" cy="2185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3280" y="1224000"/>
            <a:ext cx="3313440" cy="22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Элементы сверла.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ое сверло на своей торцевой части имеет две режущие кромки. Режущими кромками при сверлении подрезаются  волокна древесины, и её частички в виде стружек выходят наружу через винтовые канавки. Хвостовая часть сверла служит для крепления его в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атроне коловоро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учной дре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Эти инструменты предназначены для вращения свер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3168720" cy="3313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04000" y="1413000"/>
            <a:ext cx="1504800" cy="2376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500720" y="1413000"/>
            <a:ext cx="164304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Инструменты для сверления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486900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ловоро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ре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2417760" cy="2192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372360" y="1916280"/>
            <a:ext cx="2305080" cy="1253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348000" y="162864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219640" y="378936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ёмы сверления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50920" y="530028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зажиме верст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подстав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56000" y="1338120"/>
            <a:ext cx="3960720" cy="380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06:45:22Z</dcterms:created>
  <dc:creator>Admin</dc:creator>
  <dc:description/>
  <dc:language>en-US</dc:language>
  <cp:lastModifiedBy>База</cp:lastModifiedBy>
  <dcterms:modified xsi:type="dcterms:W3CDTF">2011-12-14T18:54:07Z</dcterms:modified>
  <cp:revision>7</cp:revision>
  <dc:subject/>
  <dc:title>Сверление отверстий.</dc:title>
</cp:coreProperties>
</file>