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7.gif" ContentType="image/gif"/>
  <Override PartName="/ppt/media/image16.png" ContentType="image/png"/>
  <Override PartName="/ppt/media/image15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144-14EC-4185-B6CB-7B8403F6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FD6-7A2B-4113-B773-72C2D74D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12A-EE5C-4D1A-93F9-061BE6CE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235-4B43-4291-BFDA-422741D3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185A-6EB3-43AE-84A8-EA90F908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C053-CBEF-447E-B3AF-902FD545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56B-042F-4E3A-B7E5-2F93C915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57F-D5B3-4ECC-99DB-24CF5115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0396-D977-4DF6-B960-C4827E28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FA7-F7AE-4ECF-8BCF-001FF91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A683-9D52-49A5-B795-38BED414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05F-0C17-4825-AF20-0FF44309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AD10-AE8A-4A3E-A588-E9B4E86F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9D21-E535-44C6-B0AD-17ED0B64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678D-E3B8-4803-A0C1-90BF2C0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6A2-F485-49A2-BAFB-7B20DA9F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B120-7D41-4C10-BE9F-5359E505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A1BD-3D8A-4AF0-A175-B35B6B9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790-2351-4C42-AD32-5336571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3F0-6292-4DCC-892E-CA3904A3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B55C-B710-4609-84A8-F7BF9691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DC7-0CC9-4C60-9828-9CF12308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948-5A55-4085-B93C-D2288E70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BAA0-8142-4ECF-9F84-8E91F247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792A-DC35-4AB9-B962-1D82ABCE27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B14D-82B6-45E4-B82E-2FF57D4AE9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верление отверстий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585800" cy="15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сверлени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 закреплять заготовку и подкладную доску на верста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дёжно, без перекоса, закреплять сверло в патроне, не допуская его переко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учку коловорота или дрели вращать свободно, без больших усил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ловорот или дрель класть на верстак сверлом от себ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380360" y="537372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опросы для закрепления материал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то называют отверстия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отверстий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ие виды свёрл вы знает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 определить диаметр свер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отличается коловорот от дрел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какой цели при сверлении отверстия под заготовку подкладывают доск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5157720"/>
            <a:ext cx="781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итератур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ехнология». Учебник для 5 класса общеобразовательных учреждений. Под редакцией В.Д. Симоненк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декс (картинк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н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отверст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свёр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лементы свер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ы для свер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ёмы свер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ика безопасности при сверл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просы для закрепления матери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164360" y="1557360"/>
            <a:ext cx="5238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Отверст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дставляют собой углубления в деталях. Они могут быть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квозным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глухи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Сквозные отверстия проходят через всю деталь насквозь. Глухие не выходят наружу, а только выполняются на определённую глуб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21080" cy="18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отверстий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верстиями называют углубления любой формы в поперечном сечении: круглые,  квадратные, прямоугольные, овальные, треугольные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68440" y="2352600"/>
            <a:ext cx="5708520" cy="8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лые отверстия легко и довольно точно высверливают свёр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распространены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спиральные свёрл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Их применяют для сверления различных материалов: металлов, древесины, пластма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6696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09564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свёр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высверливания отверстий в древесине применяют также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центровы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вёрла с подрезателями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интовые, шнековые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ложеч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др. Диаметр сверла (в миллиметрах) указан на его стержн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1787760" cy="218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3280" y="1224000"/>
            <a:ext cx="3313440" cy="22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менты сверла.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е сверло на своей торцевой части имеет две режущие кромки. Режущими кромками при сверлении подрезаются  волокна древесины, и её частички в виде стружек выходят наружу через винтовые канавки. Хвостовая часть сверла служит для крепления его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атроне коловор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учной др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Эти инструменты предназначены для вращения свер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168720" cy="331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50480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164304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струменты для сверл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486900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ловоро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е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417760" cy="2192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72360" y="1916280"/>
            <a:ext cx="2305080" cy="125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348000" y="162864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ёмы сверл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5300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жиме верст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од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56000" y="1338120"/>
            <a:ext cx="3960720" cy="380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45:22Z</dcterms:created>
  <dc:creator>Admin</dc:creator>
  <dc:description/>
  <dc:language>en-US</dc:language>
  <cp:lastModifiedBy>База</cp:lastModifiedBy>
  <dcterms:modified xsi:type="dcterms:W3CDTF">2011-12-14T18:54:07Z</dcterms:modified>
  <cp:revision>7</cp:revision>
  <dc:subject/>
  <dc:title>Сверление отверстий.</dc:title>
</cp:coreProperties>
</file>