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A7A-E0E4-42D5-9450-E887E440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F48-876C-47A7-A67C-87DF5C3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6F8-9CAA-4C0C-AD61-BEB19951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1CC-E15D-4D91-86ED-E9477792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795-EE9B-41F0-9EB7-2278673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411-354A-4130-BB32-D0C23CEC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B13-2FF7-4B55-AE30-6BB49EA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0F5-10F6-4C82-9C55-73BD11E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D45-2AA4-4834-9393-08FB905E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387-444D-4E49-8343-BEF0106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418-EEBD-4F6B-BF36-2DF1B49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679-D77B-4555-BD77-B691BC6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FF1-AC63-4499-9824-D6CC59028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b400"/>
            </a:gs>
            <a:gs pos="50000">
              <a:srgbClr val="6699ff"/>
            </a:gs>
            <a:gs pos="100000">
              <a:srgbClr val="ccb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1413000"/>
            <a:ext cx="7570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seaso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children 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 Grandfather Fr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rings the New Year Tre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often ….……..  in aut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ees change their colour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to ………… .I can go ……..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play ……….…. in aut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2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32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2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2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08000" y="3428640"/>
            <a:ext cx="4824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snowdrops b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nobody 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stay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birds make their ne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all like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836640"/>
            <a:ext cx="31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2700000"/>
                </a:gradFill>
                <a:latin typeface="Arial"/>
              </a:rPr>
              <a:t>Dec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635280" y="1413000"/>
            <a:ext cx="27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Januar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5" name="WordArt 7"/>
          <p:cNvGrpSpPr/>
          <p:nvPr/>
        </p:nvGrpSpPr>
        <p:grpSpPr>
          <a:xfrm>
            <a:off x="6261120" y="2200320"/>
            <a:ext cx="2889360" cy="804960"/>
            <a:chOff x="6261120" y="2200320"/>
            <a:chExt cx="2889360" cy="804960"/>
          </a:xfrm>
        </p:grpSpPr>
        <p:pic>
          <p:nvPicPr>
            <p:cNvPr id="46" name="WordArt 7" descr=""/>
            <p:cNvPicPr/>
            <p:nvPr/>
          </p:nvPicPr>
          <p:blipFill>
            <a:blip r:embed="rId1"/>
            <a:stretch/>
          </p:blipFill>
          <p:spPr>
            <a:xfrm>
              <a:off x="6261120" y="2200320"/>
              <a:ext cx="2889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264360" y="2205000"/>
              <a:ext cx="28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bru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24000" y="333000"/>
            <a:ext cx="46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0" y="2276640"/>
            <a:ext cx="183528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Arial"/>
              </a:rPr>
              <a:t>Jun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16360" y="227664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Jul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5292720" y="227664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August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050920" y="37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s is the sea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en fruit is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s is the sea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en school-friends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-360"/>
            <a:ext cx="4259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Arial"/>
              </a:rPr>
              <a:t>Autumn</a:t>
            </a:r>
            <a:endParaRPr b="0" lang="en-US" sz="7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50920" y="422100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ff9900"/>
                    </a:gs>
                    <a:gs pos="100000">
                      <a:srgbClr val="808000"/>
                    </a:gs>
                  </a:gsLst>
                  <a:lin ang="2700000"/>
                </a:gradFill>
                <a:latin typeface="Arial"/>
              </a:rPr>
              <a:t>Sept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50000">
                    <a:srgbClr val="ff9900"/>
                  </a:gs>
                  <a:gs pos="100000">
                    <a:srgbClr val="808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276720" y="5084640"/>
            <a:ext cx="28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Octo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508720" y="5950080"/>
            <a:ext cx="363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33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Nov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33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and up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up, hands down!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on hips, sit down.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up, to the sid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end left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end right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, two, three, 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, two, three, st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and sti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404640"/>
          <a:ext cx="8147160" cy="5846760"/>
        </p:xfrm>
        <a:graphic>
          <a:graphicData uri="http://schemas.openxmlformats.org/drawingml/2006/table">
            <a:tbl>
              <a:tblPr/>
              <a:tblGrid>
                <a:gridCol w="1652760"/>
                <a:gridCol w="4030560"/>
                <a:gridCol w="745920"/>
                <a:gridCol w="1717920"/>
              </a:tblGrid>
              <a:tr h="58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e 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 snowm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rollerblad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foo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hock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 in th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 in the su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i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pr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um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tum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b400"/>
            </a:gs>
            <a:gs pos="50000">
              <a:srgbClr val="d16349"/>
            </a:gs>
            <a:gs pos="100000">
              <a:srgbClr val="ccb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much ……….. in winter.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….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in winter. I c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.. and play 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.. in win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16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32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66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ather is ….……..  and war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 ………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spring. I can …….…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eet and play …..……. in spr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66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 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….……..  and hot. It 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……….. in summer. I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in the river and ……….. i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2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2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32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44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7:25:53Z</dcterms:created>
  <dc:creator>Пользователь</dc:creator>
  <dc:description/>
  <dc:language>en-US</dc:language>
  <cp:lastModifiedBy>База</cp:lastModifiedBy>
  <dcterms:modified xsi:type="dcterms:W3CDTF">2011-12-19T15:01:30Z</dcterms:modified>
  <cp:revision>24</cp:revision>
  <dc:subject/>
  <dc:title>The Theme:                      Weather</dc:title>
</cp:coreProperties>
</file>