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8FA-D90E-4526-99F6-88CB563E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B5E-CA69-49D6-B1F3-2E2030C8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C3FB-70E7-4DD9-B0F6-D41E2DDC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D2A8-5B99-4E14-B7A0-83DE1620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1EF1-D713-4258-9E80-FE0C6CA3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138-3FB6-4971-B1A3-8E164ED8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278B-0A50-4B3B-BCC5-5DCB18C6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3F1-4146-4F7A-B5A8-4FD3B5CC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00D-187F-446E-ADB8-14BED93B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E96-CB7F-417D-8DA8-C6559075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3804-42FB-49B7-B035-5B1D8BAF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0D00-0E9F-476F-AD55-D392FAD0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70E4-FE95-4A3B-8AED-AA981997F6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b400"/>
            </a:gs>
            <a:gs pos="50000">
              <a:srgbClr val="6699ff"/>
            </a:gs>
            <a:gs pos="100000">
              <a:srgbClr val="ccb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187280" y="1413000"/>
            <a:ext cx="7570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is the season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en children sk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nd Grandfather Fr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rings the New Year Tre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cc00"/>
            </a:gs>
            <a:gs pos="100000">
              <a:srgbClr val="66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64216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favourite season is ………… .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ather is often ….……..  in aut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rees change their colour fr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n to ………… .I can go ……..…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play ……….…. in aut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120"/>
                            </p:stCondLst>
                            <p:childTnLst>
                              <p:par>
                                <p:cTn id="4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32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520"/>
                            </p:stCondLst>
                            <p:childTnLst>
                              <p:par>
                                <p:cTn id="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52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2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1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908000" y="3428640"/>
            <a:ext cx="4824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the seas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en snowdrops bloo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en nobody li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 stay in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the seas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en birds make their nes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the seas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 all like b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50920" y="836640"/>
            <a:ext cx="3168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5e9eff"/>
                    </a:gs>
                  </a:gsLst>
                  <a:lin ang="2700000"/>
                </a:gradFill>
                <a:latin typeface="Arial"/>
              </a:rPr>
              <a:t>December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5e9e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3635280" y="1413000"/>
            <a:ext cx="273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2700000"/>
                </a:gradFill>
                <a:latin typeface="Arial"/>
              </a:rPr>
              <a:t>January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pSp>
        <p:nvGrpSpPr>
          <p:cNvPr id="45" name="WordArt 7"/>
          <p:cNvGrpSpPr/>
          <p:nvPr/>
        </p:nvGrpSpPr>
        <p:grpSpPr>
          <a:xfrm>
            <a:off x="6261120" y="2200320"/>
            <a:ext cx="2889360" cy="804960"/>
            <a:chOff x="6261120" y="2200320"/>
            <a:chExt cx="2889360" cy="804960"/>
          </a:xfrm>
        </p:grpSpPr>
        <p:pic>
          <p:nvPicPr>
            <p:cNvPr id="46" name="WordArt 7" descr=""/>
            <p:cNvPicPr/>
            <p:nvPr/>
          </p:nvPicPr>
          <p:blipFill>
            <a:blip r:embed="rId1"/>
            <a:stretch/>
          </p:blipFill>
          <p:spPr>
            <a:xfrm>
              <a:off x="6261120" y="2200320"/>
              <a:ext cx="288936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264360" y="2205000"/>
              <a:ext cx="28796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bruar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124000" y="333000"/>
            <a:ext cx="4608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0" y="2276640"/>
            <a:ext cx="183528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700000"/>
                </a:gradFill>
                <a:latin typeface="Arial"/>
              </a:rPr>
              <a:t>June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2916360" y="2276640"/>
            <a:ext cx="1655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latin typeface="Arial"/>
              </a:rPr>
              <a:t>July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5292720" y="2276640"/>
            <a:ext cx="266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August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2050920" y="371628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is is the sea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When fruit is sw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is is the seas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When school-friends m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7280" y="-360"/>
            <a:ext cx="42591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3300"/>
                </a:solidFill>
                <a:latin typeface="Arial"/>
              </a:rPr>
              <a:t>Autumn</a:t>
            </a:r>
            <a:endParaRPr b="0" lang="en-US" sz="7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250920" y="4221000"/>
            <a:ext cx="388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808000"/>
                    </a:gs>
                    <a:gs pos="50000">
                      <a:srgbClr val="ff9900"/>
                    </a:gs>
                    <a:gs pos="100000">
                      <a:srgbClr val="808000"/>
                    </a:gs>
                  </a:gsLst>
                  <a:lin ang="2700000"/>
                </a:gradFill>
                <a:latin typeface="Arial"/>
              </a:rPr>
              <a:t>September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808000"/>
                  </a:gs>
                  <a:gs pos="50000">
                    <a:srgbClr val="ff9900"/>
                  </a:gs>
                  <a:gs pos="100000">
                    <a:srgbClr val="808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3276720" y="5084640"/>
            <a:ext cx="280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2700000"/>
                </a:gradFill>
                <a:latin typeface="Arial"/>
              </a:rPr>
              <a:t>October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5508720" y="5950080"/>
            <a:ext cx="3635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993300"/>
                    </a:gs>
                    <a:gs pos="100000">
                      <a:srgbClr val="ffcc00"/>
                    </a:gs>
                  </a:gsLst>
                  <a:lin ang="2700000"/>
                </a:gradFill>
                <a:latin typeface="Arial"/>
              </a:rPr>
              <a:t>November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993300"/>
                  </a:gs>
                  <a:gs pos="100000">
                    <a:srgbClr val="ffcc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Stand up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ands up, hands down!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ands on hips, sit down.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Hands up, to the side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Bend left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bend right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One, two, three, ho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One, two, three, sto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Stand still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57200" y="404640"/>
          <a:ext cx="8147160" cy="5846760"/>
        </p:xfrm>
        <a:graphic>
          <a:graphicData uri="http://schemas.openxmlformats.org/drawingml/2006/table">
            <a:tbl>
              <a:tblPr/>
              <a:tblGrid>
                <a:gridCol w="1652760"/>
                <a:gridCol w="4030560"/>
                <a:gridCol w="745920"/>
                <a:gridCol w="1717920"/>
              </a:tblGrid>
              <a:tr h="588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We c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 a snowm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rollerblad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footba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hock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m in the riv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e in the su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wint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spr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summ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autum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b400"/>
            </a:gs>
            <a:gs pos="50000">
              <a:srgbClr val="d16349"/>
            </a:gs>
            <a:gs pos="100000">
              <a:srgbClr val="ccb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favourite season is …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re is much ……….. in winter.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ather is ….…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in winter. I ca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.. and play ……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.. in win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160"/>
                            </p:stCondLst>
                            <p:childTnLst>
                              <p:par>
                                <p:cTn id="2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32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7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66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favourite season is ………… 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eather is ….……..  and war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 ………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spring. I can …….….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reet and play …..……. in spr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8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200"/>
                            </p:stCondLst>
                            <p:childTnLst>
                              <p:par>
                                <p:cTn id="3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66ff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favourite season is ………… . 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ather is ….……..  and hot. It  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times ……….. in summer. I 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in the river and ……….. in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2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20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32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44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7:25:53Z</dcterms:created>
  <dc:creator>Пользователь</dc:creator>
  <dc:description/>
  <dc:language>en-US</dc:language>
  <cp:lastModifiedBy>База</cp:lastModifiedBy>
  <dcterms:modified xsi:type="dcterms:W3CDTF">2011-12-19T15:01:30Z</dcterms:modified>
  <cp:revision>24</cp:revision>
  <dc:subject/>
  <dc:title>The Theme:                      Weather</dc:title>
</cp:coreProperties>
</file>