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CB2E-0F97-420C-B20B-5A1DFE8D85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5D53-1399-4DD7-B9AD-F116B90069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0A6-B6FE-4A3C-AE07-09A181B6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4E5-30A4-40B6-B561-95A76594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5E6-2516-4D53-8B9A-ACF51E8A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628-8295-42D4-83AF-4E3D51FC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7FA8-5C9F-42F7-9DBD-77F9ADD3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E0ED-9FEC-4105-8632-FAF3FA0B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056B-1302-44C9-AD25-0035A8DA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5721-E338-4A87-A028-615E99F3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DBB2-6632-4356-86B9-B58185E9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6B1E-776B-4F74-80A4-D3B68567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8695-BD10-4DE0-A2C7-8FF6FE08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7DF7-7AF8-429B-9D40-2377E57F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F0DA-B769-43D4-91AC-1A98CC75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C577-7183-400A-ABEC-0CEFA770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7117-5BE3-4AE3-AAB3-5BE415D1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26D4-9C1B-4B92-ADE4-AFC47F70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DCA4-BF94-4F72-99F4-E25B10F3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061A8-C402-4253-B669-F1FB329F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15F5F-AAB1-472C-83AF-24EF2A0A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D43A1-5E35-4B75-AF4D-11ED70CB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D0C13-64BD-4CC3-81AC-EE1A2761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91261-EBCD-4505-836E-0646B52C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EAB-74B6-49AF-8263-E786FEDD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36FA4-0EBA-49EA-B9F1-7E4567C3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BCA6F-6E30-4121-955A-691712EA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851F9-6483-4443-AA38-D3ECDBBC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C4311-2383-411A-B70E-100CC93F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94021-C5B0-4637-93C5-ED0DFA69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F48C3-632F-44D5-9902-4BC48392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4407F-54E0-47A2-ACA5-B19EC06F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2E021-31D2-4D5F-BD59-7F47B573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7A507-5A8C-4158-86A0-1808D068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03603-0483-4EE9-91E0-67F080FA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050C-41F7-4DA5-9409-A4710169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74BDC-87C4-45E2-942B-A53EAD7D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8F1B0-638D-4F75-A95B-97B55B88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32570-EE07-4B19-B72B-1C86875F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993FD-A022-431A-AF78-E3B5EABE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0903D-8024-4D05-9B07-0C852828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AC652-297A-4D0D-8C6D-2EFF6C09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C56CC-C28E-4998-AB3E-B445B680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DC5A3-5A10-46AF-8948-08D634B4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35CEA-1C9E-4CA7-BB24-639DBD0E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CCEFE-8479-490B-8B6B-B62BCA53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5764-8667-4935-BCDD-0CEB2E14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BB178-133F-4C21-90F6-6F8AA005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601E8-8226-4F5B-AE36-2116FD05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1301D-6E0A-4270-B86E-1F840E9B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4E573-03E6-4F1F-AA02-7C97B782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40FD7-A9A9-494D-890C-AF8E1B36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75F99-50A2-48D2-8D0D-638116FF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03211-2E0E-46B7-B3AA-AC540C3B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82FEE-29BE-4A3E-842B-FED581B6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B5B99-0136-4624-9D01-125275BB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C527B-4001-4A40-BD0D-1CC5DA18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9E20-E808-42CF-B001-87D48B73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97B7E-AD8F-4571-BF77-D6A69448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99521-CF46-4F14-B5FF-1BAABF06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4D62E-A19E-4035-BFDF-AE41ACA1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18D15-F889-485D-A5EC-71D3F159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8F8C8-4E7F-4431-B30A-3F4A9EE9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8D0D4-8FBD-4072-967A-41234FF0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E65A4-9F78-407C-A43D-FB8C34F4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E0BC7-4A8E-4F8B-A87C-C09D4142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4ABE1-D712-45DD-A8F7-4ACDC53A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5441C-8E63-4733-B081-AEB39D73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7A4-F81B-4541-B69C-850F785F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2B05A-D076-41F2-B226-F088FBAA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6C4D6-C467-4A23-826D-CB46725C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98A2E-3131-4C44-9EA4-3A39AC4A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BC16E-D49B-4AD0-BB3E-D6022F69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229B5-71A2-474A-A5F1-73475260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A70C8-FCFE-4C94-8B55-9B89977C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E189A-6615-4D73-B375-7964CDA7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B60AF-28E1-4C2D-A53B-6934596B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06776-E421-4F5D-8DAF-BEA888A0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03880-CA01-4404-A147-CAF1DEA3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A2D-9F05-429D-BC82-76DF894B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B55EC-BDFB-44CC-B1E5-CC7EB4B9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E0C1B-967F-47A2-AEE0-0DC253FC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5A6EB-64AD-46EE-8F38-EC621C65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6F6C0-6750-4CE5-8C43-AB813270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C26B1-1497-4F2D-9A25-B5D67312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56D-7C8F-4A25-A5C7-CB11A198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3BD5-31F7-4363-AB7F-1F06C39FFC35}" type="datetime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8FF5-D477-4495-94CD-26599A967D3A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1D85-484C-4858-8872-21593D70FB4E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91B8-D028-4B0A-91D6-DEE5B5A933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AE10-129B-420C-873D-B9393CF1F068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5C90-996D-406E-B45E-CBC392CF6A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9C53-A59D-45B5-B74F-587E71DD1B43}" type="datetime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BA90-A98F-4D38-BAB9-DF929CB6FF2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AA06-52B6-4127-8A1D-0F876C6A61DF}" type="datetime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C12E-DF62-47CF-9294-0FD625D540FD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C09E-2B28-4538-8C90-5D86EE9215BC}" type="datetime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B7B2-E677-4768-8634-379C8A52031A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EEEF-9890-4AF9-BCA4-5B277F891EC1}" type="datetime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06CD-0CC6-4987-A5A5-A99132657EF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353880" y="281160"/>
            <a:ext cx="8302680" cy="59436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928440" y="285480"/>
            <a:ext cx="6686280" cy="542916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5e5e6"/>
                </a:solidFill>
                <a:latin typeface="Corbel"/>
              </a:rPr>
              <a:t>УРОК – ИГРА  «Математическая поликлиника » 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8E65-882B-4B65-8166-07DB4D938748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298440" y="128520"/>
            <a:ext cx="8437680" cy="15908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6.  30 больных перенесли инфаркт (нарушение питания участка сердечной мышцы и его омертвение). Известно, что среди них 24 человека курильщики. Сколько % курящих могли быть здоровыми? 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AFD9-8518-49DA-B983-A7634655AD34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1" descr=""/>
          <p:cNvPicPr/>
          <p:nvPr/>
        </p:nvPicPr>
        <p:blipFill>
          <a:blip r:embed="rId1"/>
          <a:stretch/>
        </p:blipFill>
        <p:spPr>
          <a:xfrm>
            <a:off x="281160" y="152280"/>
            <a:ext cx="8412120" cy="1262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ВАРИАНТ 3   Д.М-6КЛ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179 -181 с. 71-72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A294-A5EA-4767-944A-7D15C052CA9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78000"/>
          </a:bodyPr>
          <a:p>
            <a:pPr marL="341640" indent="-248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174    с.99 (решение)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41640" indent="-248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172    с.99 (решение)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41640" indent="-248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166    с.71 (решение)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41640" indent="-248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158    с.98 (решение)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9EE4-9155-40D2-9B07-CAE37A1739B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12C8-0CB5-478D-9AE6-19036F172EC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Блок-схема: извлечение 2"/>
          <p:cNvSpPr/>
          <p:nvPr/>
        </p:nvSpPr>
        <p:spPr>
          <a:xfrm>
            <a:off x="285840" y="428760"/>
            <a:ext cx="2428920" cy="1785960"/>
          </a:xfrm>
          <a:prstGeom prst="flowChartExtract">
            <a:avLst/>
          </a:prstGeom>
          <a:solidFill>
            <a:srgbClr val="479249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Блок-схема: ИЛИ 3"/>
          <p:cNvSpPr/>
          <p:nvPr/>
        </p:nvSpPr>
        <p:spPr>
          <a:xfrm>
            <a:off x="1500120" y="1428840"/>
            <a:ext cx="612720" cy="612720"/>
          </a:xfrm>
          <a:prstGeom prst="flowChartOr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Рисунок 6" descr="ПАВР.png"/>
          <p:cNvPicPr/>
          <p:nvPr/>
        </p:nvPicPr>
        <p:blipFill>
          <a:blip r:embed="rId1"/>
          <a:stretch/>
        </p:blipFill>
        <p:spPr>
          <a:xfrm>
            <a:off x="214200" y="2357280"/>
            <a:ext cx="6224760" cy="4214880"/>
          </a:xfrm>
          <a:prstGeom prst="rect">
            <a:avLst/>
          </a:prstGeom>
          <a:ln w="0">
            <a:noFill/>
          </a:ln>
        </p:spPr>
      </p:pic>
      <p:sp>
        <p:nvSpPr>
          <p:cNvPr id="352" name="Прямоугольник 7"/>
          <p:cNvSpPr/>
          <p:nvPr/>
        </p:nvSpPr>
        <p:spPr>
          <a:xfrm>
            <a:off x="4786200" y="214200"/>
            <a:ext cx="4000680" cy="2857680"/>
          </a:xfrm>
          <a:prstGeom prst="rect">
            <a:avLst/>
          </a:prstGeom>
          <a:solidFill>
            <a:srgbClr val="00b05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Выноска-облако 8"/>
          <p:cNvSpPr/>
          <p:nvPr/>
        </p:nvSpPr>
        <p:spPr>
          <a:xfrm>
            <a:off x="2071800" y="3643200"/>
            <a:ext cx="914400" cy="6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Месяц 12"/>
          <p:cNvSpPr/>
          <p:nvPr/>
        </p:nvSpPr>
        <p:spPr>
          <a:xfrm>
            <a:off x="7858080" y="85716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5-конечная звезда 13"/>
          <p:cNvSpPr/>
          <p:nvPr/>
        </p:nvSpPr>
        <p:spPr>
          <a:xfrm>
            <a:off x="6357960" y="18572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dddfe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5-конечная звезда 14"/>
          <p:cNvSpPr/>
          <p:nvPr/>
        </p:nvSpPr>
        <p:spPr>
          <a:xfrm>
            <a:off x="5214960" y="57168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ffd25d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-79200" y="-152280"/>
            <a:ext cx="8772480" cy="1566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rbel"/>
              </a:rPr>
              <a:t>   </a:t>
            </a:r>
            <a:r>
              <a:rPr b="0" lang="ru-RU" sz="7200" spc="-1" strike="noStrike">
                <a:solidFill>
                  <a:srgbClr val="002060"/>
                </a:solidFill>
                <a:latin typeface="Corbel"/>
              </a:rPr>
              <a:t>«ПРОПОРЦИИ  И ОТНОШЕНИЯ»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rbel"/>
              </a:rPr>
              <a:t>      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6 КЛАСС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5D84-325A-4CFA-BE00-2380B02F914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73080" y="79200"/>
            <a:ext cx="8620200" cy="133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"/>
          <p:cNvGraphicFramePr/>
          <p:nvPr/>
        </p:nvGraphicFramePr>
        <p:xfrm>
          <a:off x="457200" y="1774800"/>
          <a:ext cx="8229600" cy="4351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ыразите десятичной дробь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ыразите в 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айди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67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3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% от 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% от 9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% от 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% от 6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318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3159-1501-4C30-9E78-96B2DC6D3C8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7404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2020"/>
                </a:solidFill>
                <a:latin typeface="Corbel"/>
              </a:rPr>
              <a:t>Вычисли и узнай слово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2020"/>
                </a:solidFill>
                <a:latin typeface="Corbel"/>
              </a:rPr>
              <a:t>1) 2,5 + 1,3;                     5) 7,5: 3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2020"/>
                </a:solidFill>
                <a:latin typeface="Corbel"/>
              </a:rPr>
              <a:t>2) 1,4 - 0,7;                      6) 1 -0,3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2020"/>
                </a:solidFill>
                <a:latin typeface="Corbel"/>
              </a:rPr>
              <a:t>3) 0,3 *6;                          7) 0,4 +2,6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2020"/>
                </a:solidFill>
                <a:latin typeface="Corbel"/>
              </a:rPr>
              <a:t>4)3,5 *2;                          8) 4,2 : 0,7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E124-ACBA-4BEA-A42C-77F42ECBC2A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23760" y="512640"/>
            <a:ext cx="8871120" cy="1419480"/>
          </a:xfrm>
          <a:prstGeom prst="rect">
            <a:avLst/>
          </a:prstGeom>
          <a:ln w="0">
            <a:noFill/>
          </a:ln>
        </p:spPr>
      </p:pic>
      <p:pic>
        <p:nvPicPr>
          <p:cNvPr id="323" name="Содержимое 6" descr=""/>
          <p:cNvPicPr/>
          <p:nvPr/>
        </p:nvPicPr>
        <p:blipFill>
          <a:blip r:embed="rId2"/>
          <a:stretch/>
        </p:blipFill>
        <p:spPr>
          <a:xfrm>
            <a:off x="853920" y="2852640"/>
            <a:ext cx="7436160" cy="2809800"/>
          </a:xfrm>
          <a:prstGeom prst="rect">
            <a:avLst/>
          </a:prstGeom>
          <a:ln w="0">
            <a:noFill/>
          </a:ln>
        </p:spPr>
      </p:pic>
      <p:sp>
        <p:nvSpPr>
          <p:cNvPr id="324" name="Номер слайда 7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659A-E3CF-45EE-89CE-7A729D7F55D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4465440" y="657000"/>
            <a:ext cx="212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1. Известно, что в среднем 80% курящих страдают заболеванием легких. Найдите количество больных, если курят 500 человек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24E7-707C-4400-99FC-40ADD98E559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Rectangle 1"/>
          <p:cNvSpPr/>
          <p:nvPr/>
        </p:nvSpPr>
        <p:spPr>
          <a:xfrm>
            <a:off x="-130680" y="-209880"/>
            <a:ext cx="93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mbria"/>
                <a:ea typeface="Times New Roman"/>
              </a:rPr>
              <a:t>ЗАДАЧИ</a:t>
            </a:r>
            <a:r>
              <a:rPr b="0" lang="ru-RU" sz="7200" spc="-1" strike="noStrike">
                <a:solidFill>
                  <a:srgbClr val="c00000"/>
                </a:solidFill>
                <a:latin typeface="Cambria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c00000"/>
                </a:solidFill>
                <a:latin typeface="Cambria"/>
                <a:ea typeface="Times New Roman"/>
              </a:rPr>
              <a:t>ОТ  ВИТАМИНА   «А»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33200" y="66600"/>
            <a:ext cx="8529840" cy="18655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571680" y="21492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2. После курения происходит уменьшение диаметра мельчайших артерий на 30%. На сколько микрон уменьшился диаметр артерий, если он был равен 20 микронам?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EEAB-765D-44E2-BCA0-224DCBACC1A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281160" y="66600"/>
            <a:ext cx="8528040" cy="1865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500040" y="2428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3. Одна сигарета разрушает 25 мг витамина С. Дневная норма приема витамина С 500 мг. Сколько витамина ворует у себя тот, кто выкуривает 14 сигарет в день? Сколько витамина С у него останется?</a:t>
            </a: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2D43-FFAE-4740-A5DC-1705816ED96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378000" y="171360"/>
            <a:ext cx="8497800" cy="18334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500040" y="25714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5. В отделении 20 человек с диагнозом рак легких. 18 человек из них курильщики. Сколько % всех больных могли избежать этого заболевания?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EB24-C68D-48AC-B27D-9F98B26F4B4C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1:45:41Z</dcterms:created>
  <dc:creator>Зинаида</dc:creator>
  <dc:description/>
  <dc:language>en-US</dc:language>
  <cp:lastModifiedBy>Кристиночка</cp:lastModifiedBy>
  <dcterms:modified xsi:type="dcterms:W3CDTF">2011-07-21T05:50:43Z</dcterms:modified>
  <cp:revision>44</cp:revision>
  <dc:subject/>
  <dc:title>ПРОГНШЛО</dc:title>
</cp:coreProperties>
</file>