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move the slide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B7D45-D035-4A55-9392-1D0DCD11486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BF188-C7AC-41D0-979F-426382E13CE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F7379-3CA6-4FB1-B8C5-33BE6D7D1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B924E-80EE-455D-851D-B86EEDAD3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35B7B-799A-4F5A-AD2A-55353737C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264E8-AEF2-4E6B-800E-BF786BB9E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8D211-CCF8-48C6-880E-586A1D36E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274D6-5071-4E4E-AB2F-4B35E9755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2D823-178B-4B01-9DBB-EDBE9A420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31161-FF57-4C20-8787-008F7A242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ED4BC-7DC5-4A42-B56B-21F969881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F03BA-AEA1-4ED0-AFB2-C233E6441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05527-25D3-4A49-9EE3-86598974B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7BEA8-8322-4510-A548-E4AEBCFE4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0A955-6C03-48B0-8386-4DF21457C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231C2-DDF5-4BBF-8952-9927A9CBC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EF633-001C-421C-8B51-EE5D22423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4DDC6-5BF6-4F53-B2B2-4A2E29E37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9431E-E8FF-4E9F-90B8-F7D34BF4A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DF923D-AB05-40B9-96FA-E8CF5E7B4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1A982B-4167-4556-AF73-A53799218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A84720-3BAE-495B-9C13-48DA4BB9F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1D2EC0-A619-4F50-8811-50C8FC1ED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EAF5FB-3707-43E3-96FB-8E1B3B242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E22EA-F1E1-492B-B2E2-6BA8681F8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113729-8DB5-4986-BC13-A3A48CD6A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BBB2B3-78E7-4D72-AE81-CA8F35640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5DA69F-2793-4D05-B43E-13A756998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C37DD8-0029-48B4-968B-49F1D6C51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884C66-4DED-450A-A51E-AA01CFFCE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A51DA9-9758-4CC7-80CB-A8198741C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77B78C-1B15-4B1A-B91F-F457FAFBD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1A900C-DAFB-434F-8AF4-745AF0B83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08DEDD-4B94-45E7-BB44-33DA6F6A1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334565-70AF-4D82-9491-BF1F76E78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053CA-CE00-4164-8C98-1EBA71044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2C6CCF-6273-4ACB-A255-80EB586B5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E22FAB-39D7-4977-BACA-2C51E1309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8BBFD1-03EF-4211-BE50-2434AFCD9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A52358-8B59-4E64-8D93-86D9AD872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BAA99F-30D9-4089-B34B-D68EE37C3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F4A243-4A17-4267-8B23-BBAFB6066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B31934-9F09-4202-88CB-70CF84F56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14F87C-1AC2-43D4-A041-58168776C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F67E43-3791-4ACE-B171-134F83D59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F239AA-231F-4B4C-8898-DA60C43A7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07D12-767E-4DD3-824D-095CCD99D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81BBA7-BCC3-46D0-891C-FA2EAB80F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7B1CFD-AF51-4CA2-BD28-F965769CE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CC0878-23D5-4BA0-9CE9-A20A80D38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558251-A177-409B-A406-88A5D9585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730A8F-2BEA-4EE4-B726-674B127CE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F50798-5CBE-488C-AC77-F0F89DC8C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59F2F8-864B-4CF4-BC2F-D1E5132A4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42DA87-9385-4B3A-A00C-20A15B223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7D9D03-F34C-4562-A8D4-0FE6A4604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8D80C2-D709-4543-8804-6381E7BB8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FABC8-3CDF-413E-944C-6C2FAC2A2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3BED47-3304-451F-AF6C-4D5AC7194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65D8C4-53EA-4D5C-9A2C-E4E702157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8B66E6-5519-4834-B52D-3E6DE1FA7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00D3FB-EA47-49CB-9C50-5531D2322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E722F7-ADFB-43D9-A8B2-32E5497E1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D7B400-6B49-4743-92FC-6E5C42828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8A4E60-409C-4948-B250-169B97489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28AD0D-686F-43EA-83CC-08D41F879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8CA1BC-E629-4016-901B-1CBCA3C51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654EBB-1BE8-4D01-AC44-C94690D93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5C169-CD33-49A1-893F-93A8DF1B2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6B6483-61BA-40F7-AB7A-1543C47BC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D228FB-C010-49EF-BF77-0A28D68B2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D54965-2FA7-4ABC-A63B-7FE8975EF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E88DA1-EE5B-4364-875F-6D168B593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47EC8A-D8DD-4169-B3F5-70E526CBE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4D6E5C-26EE-4BB5-AFEA-B00151745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BF030C-3F1F-4AB9-B6F6-D4859B104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83FEC3-D9A4-44EF-ADAE-90603956C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90CDDF-479C-40F7-8F8B-C986DBEAE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BED59B-4B01-49CC-B199-BA1BAC337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92ED1-7D76-4542-87DC-58C72AC58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085C80-C251-41C5-AD37-68C09F6CA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6D2C7D-ED07-4794-96E3-43E9F1031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247740-9BD3-4840-87B9-32C4D288A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3C755C-77D6-4961-B90C-A9EFCA996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FCF77F-E068-4DBF-9564-C7EF377C6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64A88-C3D2-4016-AF61-DB4074DF3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Прямоугольник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6626B-9138-4510-95EB-D0E26D1DBF42}" type="datetime">
              <a:rPr b="0" lang="ru-RU" sz="1200" spc="-1" strike="noStrike">
                <a:solidFill>
                  <a:srgbClr val="3f3f3f"/>
                </a:solidFill>
                <a:latin typeface="Times New Roman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75FB4-A952-46B2-BCBA-E35A9F33C817}" type="slidenum">
              <a:rPr b="0" lang="ru-RU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8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Прямоугольник 10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34FB9-15AE-4E53-BC06-E388A3D5DB26}" type="datetime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BA622-8C01-44AF-A1D7-05B518812D49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рямоугольник 8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Прямоугольник 10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B6B84-37A0-4372-ABEA-3B0819E5F400}" type="datetime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29D08-950F-448C-8010-97F2CBDBD081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6E76E-FA4C-4D84-8718-30FDE21CFE69}" type="datetime">
              <a:rPr b="0" lang="ru-RU" sz="1200" spc="-1" strike="noStrike">
                <a:solidFill>
                  <a:srgbClr val="3f3f3f"/>
                </a:solidFill>
                <a:latin typeface="Times New Roman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F4667-50CC-4E94-AA1B-7AD49A220F83}" type="slidenum">
              <a:rPr b="0" lang="ru-RU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Прямоугольник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Прямоугольник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Прямоугольник 8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3" name="Прямоугольник 10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F3829-6A8B-4315-910D-1E50B61155BB}" type="datetime">
              <a:rPr b="0" lang="ru-RU" sz="1200" spc="-1" strike="noStrike">
                <a:solidFill>
                  <a:srgbClr val="3f3f3f"/>
                </a:solidFill>
                <a:latin typeface="Times New Roman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5A033-5D29-43D1-8D1A-F9C1A55A06C2}" type="slidenum">
              <a:rPr b="0" lang="ru-RU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Прямоугольник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6" name="Прямоугольник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7" name="Прямоугольник 8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Прямоугольник 10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4548D-8B08-4A09-BF7F-9D81AB354D66}" type="datetime">
              <a:rPr b="0" lang="ru-RU" sz="1200" spc="-1" strike="noStrike">
                <a:solidFill>
                  <a:srgbClr val="3f3f3f"/>
                </a:solidFill>
                <a:latin typeface="Times New Roman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8E65F-14B9-4264-A0B7-B423612243C3}" type="slidenum">
              <a:rPr b="0" lang="ru-RU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Прямоугольник 8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1" name="Прямоугольник 10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E886E-873A-4DE4-A00B-EB8CC0F8300C}" type="datetime">
              <a:rPr b="0" lang="ru-RU" sz="1200" spc="-1" strike="noStrike">
                <a:solidFill>
                  <a:srgbClr val="3f3f3f"/>
                </a:solidFill>
                <a:latin typeface="Times New Roman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37E76-B20B-4A2B-BE5D-8EB3F6105777}" type="slidenum">
              <a:rPr b="0" lang="ru-RU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Заголовок 1" descr=""/>
          <p:cNvPicPr/>
          <p:nvPr/>
        </p:nvPicPr>
        <p:blipFill>
          <a:blip r:embed="rId1"/>
          <a:stretch/>
        </p:blipFill>
        <p:spPr>
          <a:xfrm>
            <a:off x="353880" y="281160"/>
            <a:ext cx="8302680" cy="5943600"/>
          </a:xfrm>
          <a:prstGeom prst="rect">
            <a:avLst/>
          </a:prstGeom>
          <a:ln w="0">
            <a:noFill/>
          </a:ln>
        </p:spPr>
      </p:pic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928440" y="285480"/>
            <a:ext cx="6686280" cy="5429160"/>
          </a:xfrm>
          <a:prstGeom prst="rect">
            <a:avLst/>
          </a:prstGeom>
          <a:noFill/>
          <a:ln w="0">
            <a:noFill/>
          </a:ln>
        </p:spPr>
        <p:txBody>
          <a:bodyPr lIns="118800" rIns="4572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e5e5e6"/>
                </a:solidFill>
                <a:latin typeface="Corbel"/>
              </a:rPr>
              <a:t>УРОК – ИГРА  «Математическая поликлиника » </a:t>
            </a:r>
            <a:endParaRPr b="0" lang="en-US" sz="6600" spc="-1" strike="noStrike">
              <a:solidFill>
                <a:srgbClr val="ffffff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2" name="Номер слайда 3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071A2-699D-4592-8A83-101CB8414541}" type="slidenum">
              <a:rPr b="0" lang="ru-RU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Заголовок 1" descr=""/>
          <p:cNvPicPr/>
          <p:nvPr/>
        </p:nvPicPr>
        <p:blipFill>
          <a:blip r:embed="rId1"/>
          <a:stretch/>
        </p:blipFill>
        <p:spPr>
          <a:xfrm>
            <a:off x="298440" y="128520"/>
            <a:ext cx="8437680" cy="159084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 fontScale="92000"/>
          </a:bodyPr>
          <a:p>
            <a:pPr marL="402840" indent="-2934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rbel"/>
              </a:rPr>
              <a:t>№</a:t>
            </a:r>
            <a:r>
              <a:rPr b="0" lang="ru-RU" sz="4000" spc="-1" strike="noStrike">
                <a:solidFill>
                  <a:srgbClr val="000000"/>
                </a:solidFill>
                <a:latin typeface="Corbel"/>
              </a:rPr>
              <a:t>6.  30 больных перенесли инфаркт (нарушение питания участка сердечной мышцы и его омертвение). Известно, что среди них 24 человека курильщики. Сколько % курящих могли быть здоровыми?   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402840" indent="-2934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1" name="Номер слайда 3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6AFC0-4367-4BB1-B6E9-A236D4CD76E8}" type="slidenum">
              <a:rPr b="0" lang="ru-RU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Заголовок 1" descr=""/>
          <p:cNvPicPr/>
          <p:nvPr/>
        </p:nvPicPr>
        <p:blipFill>
          <a:blip r:embed="rId1"/>
          <a:stretch/>
        </p:blipFill>
        <p:spPr>
          <a:xfrm>
            <a:off x="281160" y="152280"/>
            <a:ext cx="8412120" cy="1262160"/>
          </a:xfrm>
          <a:prstGeom prst="rect">
            <a:avLst/>
          </a:prstGeom>
          <a:ln w="0">
            <a:noFill/>
          </a:ln>
        </p:spPr>
      </p:pic>
      <p:sp>
        <p:nvSpPr>
          <p:cNvPr id="343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orbel"/>
              </a:rPr>
              <a:t>ВАРИАНТ 3   Д.М-6КЛ.</a:t>
            </a:r>
            <a:endParaRPr b="0" lang="en-US" sz="5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orbel"/>
              </a:rPr>
              <a:t> </a:t>
            </a:r>
            <a:endParaRPr b="0" lang="en-US" sz="5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orbel"/>
              </a:rPr>
              <a:t>№</a:t>
            </a:r>
            <a:r>
              <a:rPr b="0" lang="ru-RU" sz="5400" spc="-1" strike="noStrike">
                <a:solidFill>
                  <a:srgbClr val="000000"/>
                </a:solidFill>
                <a:latin typeface="Corbel"/>
              </a:rPr>
              <a:t>179 -181 с. 71-72.</a:t>
            </a:r>
            <a:endParaRPr b="0" lang="en-US" sz="5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4" name="Номер слайда 3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B7E6E-1853-40AF-8B65-880EBA1D5513}" type="slidenum">
              <a:rPr b="0" lang="ru-RU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Заголовок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46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 fontScale="78000"/>
          </a:bodyPr>
          <a:p>
            <a:pPr marL="341640" indent="-248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orbel"/>
              </a:rPr>
              <a:t>№</a:t>
            </a:r>
            <a:r>
              <a:rPr b="0" lang="ru-RU" sz="6000" spc="-1" strike="noStrike">
                <a:solidFill>
                  <a:srgbClr val="000000"/>
                </a:solidFill>
                <a:latin typeface="Corbel"/>
              </a:rPr>
              <a:t>174    с.99 (решение)</a:t>
            </a: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  <a:p>
            <a:pPr marL="341640" indent="-248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orbel"/>
              </a:rPr>
              <a:t>№</a:t>
            </a:r>
            <a:r>
              <a:rPr b="0" lang="ru-RU" sz="6000" spc="-1" strike="noStrike">
                <a:solidFill>
                  <a:srgbClr val="000000"/>
                </a:solidFill>
                <a:latin typeface="Corbel"/>
              </a:rPr>
              <a:t>172    с.99 (решение)</a:t>
            </a: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  <a:p>
            <a:pPr marL="341640" indent="-248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orbel"/>
              </a:rPr>
              <a:t>№</a:t>
            </a:r>
            <a:r>
              <a:rPr b="0" lang="ru-RU" sz="6000" spc="-1" strike="noStrike">
                <a:solidFill>
                  <a:srgbClr val="000000"/>
                </a:solidFill>
                <a:latin typeface="Corbel"/>
              </a:rPr>
              <a:t>166    с.71 (решение)</a:t>
            </a: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  <a:p>
            <a:pPr marL="341640" indent="-248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orbel"/>
              </a:rPr>
              <a:t>№</a:t>
            </a:r>
            <a:r>
              <a:rPr b="0" lang="ru-RU" sz="6000" spc="-1" strike="noStrike">
                <a:solidFill>
                  <a:srgbClr val="000000"/>
                </a:solidFill>
                <a:latin typeface="Corbel"/>
              </a:rPr>
              <a:t>158    с.98 (решение)</a:t>
            </a: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7" name="Номер слайда 3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BBC52-5A40-4FAA-AAEF-C6A41EA48517}" type="slidenum">
              <a:rPr b="0" lang="ru-RU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Номер слайда 1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48DF4-94B2-4554-91F0-0C45F434AAE8}" type="slidenum">
              <a:rPr b="0" lang="ru-RU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9" name="Блок-схема: извлечение 2"/>
          <p:cNvSpPr/>
          <p:nvPr/>
        </p:nvSpPr>
        <p:spPr>
          <a:xfrm>
            <a:off x="285840" y="428760"/>
            <a:ext cx="2428920" cy="1785960"/>
          </a:xfrm>
          <a:prstGeom prst="flowChartExtract">
            <a:avLst/>
          </a:prstGeom>
          <a:solidFill>
            <a:srgbClr val="479249"/>
          </a:solidFill>
          <a:ln w="478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0" name="Блок-схема: ИЛИ 3"/>
          <p:cNvSpPr/>
          <p:nvPr/>
        </p:nvSpPr>
        <p:spPr>
          <a:xfrm>
            <a:off x="1500120" y="1428840"/>
            <a:ext cx="612720" cy="612720"/>
          </a:xfrm>
          <a:prstGeom prst="flowChartOr">
            <a:avLst/>
          </a:prstGeom>
          <a:solidFill>
            <a:srgbClr val="f0ad00"/>
          </a:solidFill>
          <a:ln w="478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51" name="Рисунок 6" descr="ПАВР.png"/>
          <p:cNvPicPr/>
          <p:nvPr/>
        </p:nvPicPr>
        <p:blipFill>
          <a:blip r:embed="rId1"/>
          <a:stretch/>
        </p:blipFill>
        <p:spPr>
          <a:xfrm>
            <a:off x="214200" y="2357280"/>
            <a:ext cx="6224760" cy="4214880"/>
          </a:xfrm>
          <a:prstGeom prst="rect">
            <a:avLst/>
          </a:prstGeom>
          <a:ln w="0">
            <a:noFill/>
          </a:ln>
        </p:spPr>
      </p:pic>
      <p:sp>
        <p:nvSpPr>
          <p:cNvPr id="352" name="Прямоугольник 7"/>
          <p:cNvSpPr/>
          <p:nvPr/>
        </p:nvSpPr>
        <p:spPr>
          <a:xfrm>
            <a:off x="4786200" y="214200"/>
            <a:ext cx="4000680" cy="2857680"/>
          </a:xfrm>
          <a:prstGeom prst="rect">
            <a:avLst/>
          </a:prstGeom>
          <a:solidFill>
            <a:srgbClr val="00b050"/>
          </a:solidFill>
          <a:ln w="478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3" name="Выноска-облако 8"/>
          <p:cNvSpPr/>
          <p:nvPr/>
        </p:nvSpPr>
        <p:spPr>
          <a:xfrm>
            <a:off x="2071800" y="3643200"/>
            <a:ext cx="914400" cy="61272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f0ad00"/>
          </a:solidFill>
          <a:ln w="478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4" name="Месяц 12"/>
          <p:cNvSpPr/>
          <p:nvPr/>
        </p:nvSpPr>
        <p:spPr>
          <a:xfrm>
            <a:off x="7858080" y="857160"/>
            <a:ext cx="457200" cy="914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ff00"/>
          </a:solidFill>
          <a:ln w="478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5" name="5-конечная звезда 13"/>
          <p:cNvSpPr/>
          <p:nvPr/>
        </p:nvSpPr>
        <p:spPr>
          <a:xfrm>
            <a:off x="6357960" y="1857240"/>
            <a:ext cx="914400" cy="914400"/>
          </a:xfrm>
          <a:custGeom>
            <a:avLst/>
            <a:gdLst>
              <a:gd name="textAreaLeft" fmla="*/ 282600 w 914400"/>
              <a:gd name="textAreaRight" fmla="*/ 631800 w 914400"/>
              <a:gd name="textAreaTop" fmla="*/ 349200 h 914400"/>
              <a:gd name="textAreaBottom" fmla="*/ 698760 h 914400"/>
            </a:gdLst>
            <a:ahLst/>
            <a:rect l="textAreaLeft" t="textAreaTop" r="textAreaRight" b="textAreaBottom"/>
            <a:pathLst>
              <a:path w="914400" h="914400">
                <a:moveTo>
                  <a:pt x="1" y="349269"/>
                </a:moveTo>
                <a:lnTo>
                  <a:pt x="349272" y="349271"/>
                </a:lnTo>
                <a:lnTo>
                  <a:pt x="457200" y="0"/>
                </a:lnTo>
                <a:lnTo>
                  <a:pt x="565128" y="349271"/>
                </a:lnTo>
                <a:lnTo>
                  <a:pt x="914399" y="349269"/>
                </a:lnTo>
                <a:lnTo>
                  <a:pt x="631832" y="565127"/>
                </a:lnTo>
                <a:lnTo>
                  <a:pt x="739765" y="914397"/>
                </a:lnTo>
                <a:lnTo>
                  <a:pt x="457200" y="698535"/>
                </a:lnTo>
                <a:lnTo>
                  <a:pt x="174635" y="914397"/>
                </a:lnTo>
                <a:lnTo>
                  <a:pt x="282568" y="565127"/>
                </a:lnTo>
                <a:close/>
              </a:path>
            </a:pathLst>
          </a:custGeom>
          <a:solidFill>
            <a:srgbClr val="dddfe5"/>
          </a:solidFill>
          <a:ln w="47880">
            <a:solidFill>
              <a:srgbClr val="b07e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6" name="5-конечная звезда 14"/>
          <p:cNvSpPr/>
          <p:nvPr/>
        </p:nvSpPr>
        <p:spPr>
          <a:xfrm>
            <a:off x="5214960" y="571680"/>
            <a:ext cx="914400" cy="914400"/>
          </a:xfrm>
          <a:custGeom>
            <a:avLst/>
            <a:gdLst>
              <a:gd name="textAreaLeft" fmla="*/ 282600 w 914400"/>
              <a:gd name="textAreaRight" fmla="*/ 631800 w 914400"/>
              <a:gd name="textAreaTop" fmla="*/ 349200 h 914400"/>
              <a:gd name="textAreaBottom" fmla="*/ 698760 h 914400"/>
            </a:gdLst>
            <a:ahLst/>
            <a:rect l="textAreaLeft" t="textAreaTop" r="textAreaRight" b="textAreaBottom"/>
            <a:pathLst>
              <a:path w="914400" h="914400">
                <a:moveTo>
                  <a:pt x="1" y="349269"/>
                </a:moveTo>
                <a:lnTo>
                  <a:pt x="349272" y="349271"/>
                </a:lnTo>
                <a:lnTo>
                  <a:pt x="457200" y="0"/>
                </a:lnTo>
                <a:lnTo>
                  <a:pt x="565128" y="349271"/>
                </a:lnTo>
                <a:lnTo>
                  <a:pt x="914399" y="349269"/>
                </a:lnTo>
                <a:lnTo>
                  <a:pt x="631832" y="565127"/>
                </a:lnTo>
                <a:lnTo>
                  <a:pt x="739765" y="914397"/>
                </a:lnTo>
                <a:lnTo>
                  <a:pt x="457200" y="698535"/>
                </a:lnTo>
                <a:lnTo>
                  <a:pt x="174635" y="914397"/>
                </a:lnTo>
                <a:lnTo>
                  <a:pt x="282568" y="565127"/>
                </a:lnTo>
                <a:close/>
              </a:path>
            </a:pathLst>
          </a:custGeom>
          <a:solidFill>
            <a:srgbClr val="ffd25d"/>
          </a:solidFill>
          <a:ln w="47880">
            <a:solidFill>
              <a:srgbClr val="b07e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Заголовок 1" descr=""/>
          <p:cNvPicPr/>
          <p:nvPr/>
        </p:nvPicPr>
        <p:blipFill>
          <a:blip r:embed="rId1"/>
          <a:stretch/>
        </p:blipFill>
        <p:spPr>
          <a:xfrm>
            <a:off x="-79200" y="-152280"/>
            <a:ext cx="8772480" cy="1566720"/>
          </a:xfrm>
          <a:prstGeom prst="rect">
            <a:avLst/>
          </a:prstGeom>
          <a:ln w="0">
            <a:noFill/>
          </a:ln>
        </p:spPr>
      </p:pic>
      <p:sp>
        <p:nvSpPr>
          <p:cNvPr id="314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2060"/>
                </a:solidFill>
                <a:latin typeface="Corbel"/>
              </a:rPr>
              <a:t>   </a:t>
            </a:r>
            <a:r>
              <a:rPr b="0" lang="ru-RU" sz="7200" spc="-1" strike="noStrike">
                <a:solidFill>
                  <a:srgbClr val="002060"/>
                </a:solidFill>
                <a:latin typeface="Corbel"/>
              </a:rPr>
              <a:t>«ПРОПОРЦИИ  И ОТНОШЕНИЯ»</a:t>
            </a:r>
            <a:endParaRPr b="0" lang="en-US" sz="7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2060"/>
                </a:solidFill>
                <a:latin typeface="Corbel"/>
              </a:rPr>
              <a:t>                                     </a:t>
            </a:r>
            <a:r>
              <a:rPr b="0" lang="ru-RU" sz="2400" spc="-1" strike="noStrike">
                <a:solidFill>
                  <a:srgbClr val="002060"/>
                </a:solidFill>
                <a:latin typeface="Corbel"/>
              </a:rPr>
              <a:t>6 КЛАСС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Номер слайда 3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91918-6574-4BE3-8EA6-46C729A6A0F6}" type="slidenum">
              <a:rPr b="0" lang="ru-RU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Заголовок 1" descr=""/>
          <p:cNvPicPr/>
          <p:nvPr/>
        </p:nvPicPr>
        <p:blipFill>
          <a:blip r:embed="rId1"/>
          <a:stretch/>
        </p:blipFill>
        <p:spPr>
          <a:xfrm>
            <a:off x="73080" y="79200"/>
            <a:ext cx="8620200" cy="1335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17" name=""/>
          <p:cNvGraphicFramePr/>
          <p:nvPr/>
        </p:nvGraphicFramePr>
        <p:xfrm>
          <a:off x="457200" y="1774800"/>
          <a:ext cx="8229600" cy="43513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682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Выразите десятичной дробью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d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Выразите в %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d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Найдите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d00"/>
                    </a:solidFill>
                  </a:tcPr>
                </a:tc>
              </a:tr>
              <a:tr h="679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4%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,3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% от 20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</a:tr>
              <a:tr h="785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5%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,0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0% от 90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</a:tr>
              <a:tr h="64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23%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,2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1% от 80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</a:tr>
              <a:tr h="560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,5%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,00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0% от 62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</a:tr>
            </a:tbl>
          </a:graphicData>
        </a:graphic>
      </p:graphicFrame>
      <p:sp>
        <p:nvSpPr>
          <p:cNvPr id="318" name="Номер слайда 3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5A1B2-FE48-48FB-B3DF-84CDCCAFDCD9}" type="slidenum">
              <a:rPr b="0" lang="ru-RU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Заголовок 1" descr=""/>
          <p:cNvPicPr/>
          <p:nvPr/>
        </p:nvPicPr>
        <p:blipFill>
          <a:blip r:embed="rId1"/>
          <a:stretch/>
        </p:blipFill>
        <p:spPr>
          <a:xfrm>
            <a:off x="219240" y="152280"/>
            <a:ext cx="8474040" cy="126216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72020"/>
                </a:solidFill>
                <a:latin typeface="Corbel"/>
              </a:rPr>
              <a:t>Вычисли и узнай слово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72020"/>
                </a:solidFill>
                <a:latin typeface="Corbel"/>
              </a:rPr>
              <a:t>1) 2,5 + 1,3;                     5) 7,5: 3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72020"/>
                </a:solidFill>
                <a:latin typeface="Corbel"/>
              </a:rPr>
              <a:t>2) 1,4 - 0,7;                      6) 1 -0,3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72020"/>
                </a:solidFill>
                <a:latin typeface="Corbel"/>
              </a:rPr>
              <a:t>3) 0,3 *6;                          7) 0,4 +2,6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72020"/>
                </a:solidFill>
                <a:latin typeface="Corbel"/>
              </a:rPr>
              <a:t>4)3,5 *2;                          8) 4,2 : 0,7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1" name="Номер слайда 3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1FDAF-0425-4912-B50F-AB5CCC679797}" type="slidenum">
              <a:rPr b="0" lang="ru-RU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Заголовок 1" descr=""/>
          <p:cNvPicPr/>
          <p:nvPr/>
        </p:nvPicPr>
        <p:blipFill>
          <a:blip r:embed="rId1"/>
          <a:stretch/>
        </p:blipFill>
        <p:spPr>
          <a:xfrm>
            <a:off x="23760" y="512640"/>
            <a:ext cx="8871120" cy="1419480"/>
          </a:xfrm>
          <a:prstGeom prst="rect">
            <a:avLst/>
          </a:prstGeom>
          <a:ln w="0">
            <a:noFill/>
          </a:ln>
        </p:spPr>
      </p:pic>
      <p:pic>
        <p:nvPicPr>
          <p:cNvPr id="323" name="Содержимое 6" descr=""/>
          <p:cNvPicPr/>
          <p:nvPr/>
        </p:nvPicPr>
        <p:blipFill>
          <a:blip r:embed="rId2"/>
          <a:stretch/>
        </p:blipFill>
        <p:spPr>
          <a:xfrm>
            <a:off x="853920" y="2852640"/>
            <a:ext cx="7436160" cy="2809800"/>
          </a:xfrm>
          <a:prstGeom prst="rect">
            <a:avLst/>
          </a:prstGeom>
          <a:ln w="0">
            <a:noFill/>
          </a:ln>
        </p:spPr>
      </p:pic>
      <p:sp>
        <p:nvSpPr>
          <p:cNvPr id="324" name="Номер слайда 7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0ED2D-0F61-4882-9DB4-13CE56CD1F74}" type="slidenum">
              <a:rPr b="0" lang="ru-RU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5" name="Rectangle 2"/>
          <p:cNvSpPr/>
          <p:nvPr/>
        </p:nvSpPr>
        <p:spPr>
          <a:xfrm>
            <a:off x="4465440" y="657000"/>
            <a:ext cx="212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Заголовок 1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242560" cy="143352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rbel"/>
              </a:rPr>
              <a:t>№</a:t>
            </a:r>
            <a:r>
              <a:rPr b="0" lang="ru-RU" sz="4800" spc="-1" strike="noStrike">
                <a:solidFill>
                  <a:srgbClr val="000000"/>
                </a:solidFill>
                <a:latin typeface="Corbel"/>
              </a:rPr>
              <a:t>1. Известно, что в среднем 80% курящих страдают заболеванием легких. Найдите количество больных, если курят 500 человек.</a:t>
            </a:r>
            <a:endParaRPr b="0" lang="en-US" sz="4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8" name="Номер слайда 4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C8A10-3593-461D-A51E-CD00213AD336}" type="slidenum">
              <a:rPr b="0" lang="ru-RU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9" name="Rectangle 1"/>
          <p:cNvSpPr/>
          <p:nvPr/>
        </p:nvSpPr>
        <p:spPr>
          <a:xfrm>
            <a:off x="-130680" y="-209880"/>
            <a:ext cx="936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00000"/>
                </a:solidFill>
                <a:latin typeface="Cambria"/>
                <a:ea typeface="Times New Roman"/>
              </a:rPr>
              <a:t>ЗАДАЧИ</a:t>
            </a:r>
            <a:r>
              <a:rPr b="0" lang="ru-RU" sz="7200" spc="-1" strike="noStrike">
                <a:solidFill>
                  <a:srgbClr val="c00000"/>
                </a:solidFill>
                <a:latin typeface="Cambria"/>
                <a:ea typeface="Times New Roman"/>
              </a:rPr>
              <a:t>  </a:t>
            </a:r>
            <a:r>
              <a:rPr b="0" lang="ru-RU" sz="4800" spc="-1" strike="noStrike">
                <a:solidFill>
                  <a:srgbClr val="c00000"/>
                </a:solidFill>
                <a:latin typeface="Cambria"/>
                <a:ea typeface="Times New Roman"/>
              </a:rPr>
              <a:t>ОТ  ВИТАМИНА   «А»</a:t>
            </a:r>
            <a:endParaRPr b="0" lang="en-US" sz="4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Заголовок 1" descr=""/>
          <p:cNvPicPr/>
          <p:nvPr/>
        </p:nvPicPr>
        <p:blipFill>
          <a:blip r:embed="rId1"/>
          <a:stretch/>
        </p:blipFill>
        <p:spPr>
          <a:xfrm>
            <a:off x="133200" y="66600"/>
            <a:ext cx="8529840" cy="1865520"/>
          </a:xfrm>
          <a:prstGeom prst="rect">
            <a:avLst/>
          </a:prstGeom>
          <a:ln w="0">
            <a:noFill/>
          </a:ln>
        </p:spPr>
      </p:pic>
      <p:sp>
        <p:nvSpPr>
          <p:cNvPr id="331" name=""/>
          <p:cNvSpPr txBox="1"/>
          <p:nvPr/>
        </p:nvSpPr>
        <p:spPr>
          <a:xfrm>
            <a:off x="571680" y="214920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 fontScale="97000"/>
          </a:bodyPr>
          <a:p>
            <a:pPr marL="424800" indent="-30924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rbel"/>
              </a:rPr>
              <a:t>№</a:t>
            </a:r>
            <a:r>
              <a:rPr b="0" lang="ru-RU" sz="4400" spc="-1" strike="noStrike">
                <a:solidFill>
                  <a:srgbClr val="000000"/>
                </a:solidFill>
                <a:latin typeface="Corbel"/>
              </a:rPr>
              <a:t>2. После курения происходит уменьшение диаметра мельчайших артерий на 30%. На сколько микрон уменьшился диаметр артерий, если он был равен 20 микронам?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2" name="Номер слайда 3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938AD-005F-4E45-891A-86099333F7FF}" type="slidenum">
              <a:rPr b="0" lang="ru-RU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Заголовок 1" descr=""/>
          <p:cNvPicPr/>
          <p:nvPr/>
        </p:nvPicPr>
        <p:blipFill>
          <a:blip r:embed="rId1"/>
          <a:stretch/>
        </p:blipFill>
        <p:spPr>
          <a:xfrm>
            <a:off x="281160" y="66600"/>
            <a:ext cx="8528040" cy="1865520"/>
          </a:xfrm>
          <a:prstGeom prst="rect">
            <a:avLst/>
          </a:prstGeom>
          <a:ln w="0">
            <a:noFill/>
          </a:ln>
        </p:spPr>
      </p:pic>
      <p:sp>
        <p:nvSpPr>
          <p:cNvPr id="334" name=""/>
          <p:cNvSpPr txBox="1"/>
          <p:nvPr/>
        </p:nvSpPr>
        <p:spPr>
          <a:xfrm>
            <a:off x="500040" y="242856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 fontScale="96000"/>
          </a:bodyPr>
          <a:p>
            <a:pPr marL="420480" indent="-30600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000000"/>
                </a:solidFill>
                <a:latin typeface="Corbel"/>
              </a:rPr>
              <a:t>№</a:t>
            </a:r>
            <a:r>
              <a:rPr b="0" lang="ru-RU" sz="4300" spc="-1" strike="noStrike">
                <a:solidFill>
                  <a:srgbClr val="000000"/>
                </a:solidFill>
                <a:latin typeface="Corbel"/>
              </a:rPr>
              <a:t>3. Одна сигарета разрушает 25 мг витамина С. Дневная норма приема витамина С 500 мг. Сколько витамина ворует у себя тот, кто выкуривает 14 сигарет в день? Сколько витамина С у него останется?</a:t>
            </a:r>
            <a:endParaRPr b="0" lang="en-US" sz="4300" spc="-1" strike="noStrike">
              <a:solidFill>
                <a:srgbClr val="000000"/>
              </a:solidFill>
              <a:latin typeface="Corbel"/>
            </a:endParaRPr>
          </a:p>
          <a:p>
            <a:pPr marL="420480" indent="-3060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000000"/>
                </a:solidFill>
                <a:latin typeface="Corbel"/>
              </a:rPr>
              <a:t> </a:t>
            </a:r>
            <a:endParaRPr b="0" lang="en-US" sz="4300" spc="-1" strike="noStrike">
              <a:solidFill>
                <a:srgbClr val="000000"/>
              </a:solidFill>
              <a:latin typeface="Corbel"/>
            </a:endParaRPr>
          </a:p>
          <a:p>
            <a:pPr marL="420480" indent="-30600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5" name="Номер слайда 3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8CC87-BA09-4FBA-81B3-6F642FC78E0E}" type="slidenum">
              <a:rPr b="0" lang="ru-RU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Заголовок 1" descr=""/>
          <p:cNvPicPr/>
          <p:nvPr/>
        </p:nvPicPr>
        <p:blipFill>
          <a:blip r:embed="rId1"/>
          <a:stretch/>
        </p:blipFill>
        <p:spPr>
          <a:xfrm>
            <a:off x="378000" y="171360"/>
            <a:ext cx="8497800" cy="1833480"/>
          </a:xfrm>
          <a:prstGeom prst="rect">
            <a:avLst/>
          </a:prstGeom>
          <a:ln w="0">
            <a:noFill/>
          </a:ln>
        </p:spPr>
      </p:pic>
      <p:sp>
        <p:nvSpPr>
          <p:cNvPr id="337" name=""/>
          <p:cNvSpPr txBox="1"/>
          <p:nvPr/>
        </p:nvSpPr>
        <p:spPr>
          <a:xfrm>
            <a:off x="500040" y="257148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 fontScale="96000"/>
          </a:bodyPr>
          <a:p>
            <a:pPr marL="420480" indent="-30600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rbel"/>
              </a:rPr>
              <a:t>№</a:t>
            </a:r>
            <a:r>
              <a:rPr b="0" lang="ru-RU" sz="4400" spc="-1" strike="noStrike">
                <a:solidFill>
                  <a:srgbClr val="000000"/>
                </a:solidFill>
                <a:latin typeface="Corbel"/>
              </a:rPr>
              <a:t>5. В отделении 20 человек с диагнозом рак легких. 18 человек из них курильщики. Сколько % всех больных могли избежать этого заболевания?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  <a:p>
            <a:pPr marL="420480" indent="-3060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  <a:p>
            <a:pPr marL="420480" indent="-3060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 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20480" indent="-30600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8" name="Номер слайда 3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09473-DDEA-44E6-9A37-B81BE5B651D4}" type="slidenum">
              <a:rPr b="0" lang="ru-RU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6T11:45:41Z</dcterms:created>
  <dc:creator>Зинаида</dc:creator>
  <dc:description/>
  <dc:language>en-US</dc:language>
  <cp:lastModifiedBy>Кристиночка</cp:lastModifiedBy>
  <dcterms:modified xsi:type="dcterms:W3CDTF">2011-07-21T05:50:43Z</dcterms:modified>
  <cp:revision>44</cp:revision>
  <dc:subject/>
  <dc:title>ПРОГНШЛО</dc:title>
</cp:coreProperties>
</file>