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009-64C4-46CF-8DD8-511F7E3D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831-6EF6-4C42-9254-BF52F0D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401-1102-443F-A231-24D3E673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CB4-5C21-4F53-B3B1-D7BC230A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F81A-3A5A-4A82-8B45-566C85B2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44AB-2298-41F1-8CD8-94C6FC9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205C-8281-43FC-9F47-C99B32F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E4B5-A949-4362-9452-6D80EC8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2EF7-2934-4D1E-8021-2B4756B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E098-23A2-44E5-9F4D-BA3A5D9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49A-E065-4F9E-A855-E707AA7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EF5-1B70-487E-9463-4893E3A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1410-713E-46BC-A47D-4E00491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BC9-7D38-4F1A-851E-FB5EB5F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8E3E-090C-467A-B465-CF674A7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6F8-30F3-4730-AB0E-D8771B7A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0734-A49C-4FE0-937C-D2486329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A4F-B004-40F5-88E3-A9FEACE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4F9-C6E1-4B1E-953E-04297233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A14-3C2B-440F-BA5F-2AA7D4A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EC7-620B-4A5E-8F92-8E92892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F61-676D-4D02-AA5B-3F6DD13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169-6A78-42A2-9ABA-B818494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DA0-8F94-4B51-99EA-3EE81F3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554-466C-400A-9415-CD206F7EA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0D9A-FFB0-4807-A4E2-CE3CF30B0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акали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дежд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митриев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«СОШ п.Молодёжный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любского  муниципальног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йон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ль системного взаимодействия с родителями в организации сопровождения развивающихся способностей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Admin\Рабочий стол\Новая папка\mirfam.gif"/>
          <p:cNvPicPr/>
          <p:nvPr/>
        </p:nvPicPr>
        <p:blipFill>
          <a:blip r:embed="rId1"/>
          <a:stretch/>
        </p:blipFill>
        <p:spPr>
          <a:xfrm>
            <a:off x="533520" y="4876920"/>
            <a:ext cx="25714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изация семей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активного взаимодействия взрослых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повышению педагогической культуры родителей через организацию интерактивных форм сотрудничества в триаде « учитель – ученик – родитель» во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распространение положительного опыта семейных взаимо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для каждо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в детях чувства уважения к взрослым, самостоятельности и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празд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914400"/>
          <a:ext cx="8001000" cy="53085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ленд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нь Знаний», «День пожилого человека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нь Матери», Новый Год, День семьи, День защитника Отечества, Марта – женский де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к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Посвящение в первоклассники», «Прощание с начальной школой»,«Прощай, Букварь!»,  «Последний звон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мей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 В кругу семьи», « О родных и близких с любовью», « Папа, мама, я – спортив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здники на свежем возду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 Всей семьёй в лес», «Наши экскурсии», « В походе вмест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1119240"/>
          <a:ext cx="8458200" cy="504972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Мотивацион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ой приём рабо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из личного опы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настроить детей на предстоя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ая форма работы: консуль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настроить родителей на праздник. Показать их роль на этом празд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Организационная педагогическ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ганизация выставок, оформление приглашений, изготовление сувениров, подготовка концертной программы, распределение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кетирование род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помочь определить для них вид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ьные беседы с каждой семьё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определить идею и содержание выступ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762120"/>
          <a:ext cx="8153280" cy="4952880"/>
        </p:xfrm>
        <a:graphic>
          <a:graphicData uri="http://schemas.openxmlformats.org/drawingml/2006/table">
            <a:tbl>
              <a:tblPr/>
              <a:tblGrid>
                <a:gridCol w="2359080"/>
                <a:gridCol w="2359080"/>
                <a:gridCol w="3435120"/>
              </a:tblGrid>
              <a:tr h="247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Коррекция и контроль достижения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ём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свенного напоминания,    подчёркнутого дове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создать условия для разных моделей взаимодействия взрослого с ребён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 выполнения обязанностей по организации празд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определить, что хорошо получилось; выявить отрицательные момен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ём: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добиться, чтобы родители стали единомышленниками в вопросах воспита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Активное участие в праздниках помогает родителям по-новому взглянуть и на своего ребенка, и на сам процесс  образования в цел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Участие помогает и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реодолеть авторитаризм и взглянуть на мир с позиции ребенк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тноситься к ребенку как к равном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онять, что недопустимо сравнивать ребенка с другими детьми: если он что-то сделал сегодня лучше, чем вчера, нужно радоваться его личному рост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знать сильные и слабые стороны ребенка и учитывать и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роявлять искреннюю заинтересованность в его действиях и быть готовым к эмоциональной поддержке, совместному переживанию его радостей и горест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установить хорошие, доверительные отнош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развивать способности своего ребе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Админ\Мои документы\2011_04_26\IMG.jpg"/>
          <p:cNvPicPr/>
          <p:nvPr/>
        </p:nvPicPr>
        <p:blipFill>
          <a:blip r:embed="rId1"/>
          <a:stretch/>
        </p:blipFill>
        <p:spPr>
          <a:xfrm>
            <a:off x="502920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Documents and Settings\Админ\Мои документы\2011_04_26\IMG_0002.jpg"/>
          <p:cNvPicPr/>
          <p:nvPr/>
        </p:nvPicPr>
        <p:blipFill>
          <a:blip r:embed="rId3"/>
          <a:stretch/>
        </p:blipFill>
        <p:spPr>
          <a:xfrm>
            <a:off x="6172200" y="12193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Админ\Мои документы\2011_04_26\IMG_0003.jpg"/>
          <p:cNvPicPr/>
          <p:nvPr/>
        </p:nvPicPr>
        <p:blipFill>
          <a:blip r:embed="rId4"/>
          <a:stretch/>
        </p:blipFill>
        <p:spPr>
          <a:xfrm>
            <a:off x="2362320" y="4267080"/>
            <a:ext cx="190476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5"/>
          <a:stretch/>
        </p:blipFill>
        <p:spPr>
          <a:xfrm>
            <a:off x="1371600" y="121932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ш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3810240" cy="28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Копия DSC01238"/>
          <p:cNvPicPr/>
          <p:nvPr/>
        </p:nvPicPr>
        <p:blipFill>
          <a:blip r:embed="rId4"/>
          <a:stretch/>
        </p:blipFill>
        <p:spPr>
          <a:xfrm>
            <a:off x="4572000" y="106668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0" y="152280"/>
            <a:ext cx="861696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609480" y="42670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:\МОИ\SDC10251.JPG"/>
          <p:cNvPicPr/>
          <p:nvPr/>
        </p:nvPicPr>
        <p:blipFill>
          <a:blip r:embed="rId5"/>
          <a:stretch/>
        </p:blipFill>
        <p:spPr>
          <a:xfrm>
            <a:off x="3429000" y="434340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:\МОИ\SDC10252.JPG"/>
          <p:cNvPicPr/>
          <p:nvPr/>
        </p:nvPicPr>
        <p:blipFill>
          <a:blip r:embed="rId6"/>
          <a:stretch/>
        </p:blipFill>
        <p:spPr>
          <a:xfrm>
            <a:off x="6172200" y="4343400"/>
            <a:ext cx="175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ный 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27636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2209680" cy="316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:\МОИ\SDC11546.JPG"/>
          <p:cNvPicPr/>
          <p:nvPr/>
        </p:nvPicPr>
        <p:blipFill>
          <a:blip r:embed="rId5"/>
          <a:stretch/>
        </p:blipFill>
        <p:spPr>
          <a:xfrm>
            <a:off x="6019920" y="4038480"/>
            <a:ext cx="2819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D:\2011_04_24\IMG_0002.jpg"/>
          <p:cNvPicPr/>
          <p:nvPr/>
        </p:nvPicPr>
        <p:blipFill>
          <a:blip r:embed="rId3"/>
          <a:stretch/>
        </p:blipFill>
        <p:spPr>
          <a:xfrm>
            <a:off x="457200" y="41148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:\2011_04_24\getImageCAS08N8B.jpg"/>
          <p:cNvPicPr/>
          <p:nvPr/>
        </p:nvPicPr>
        <p:blipFill>
          <a:blip r:embed="rId4"/>
          <a:stretch/>
        </p:blipFill>
        <p:spPr>
          <a:xfrm>
            <a:off x="3733920" y="42670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ши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5"/>
          <a:stretch/>
        </p:blipFill>
        <p:spPr>
          <a:xfrm>
            <a:off x="6781680" y="16002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3124080" y="1523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514600" y="533520"/>
            <a:ext cx="3962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52280" y="2743200"/>
            <a:ext cx="21337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553080" y="2743200"/>
            <a:ext cx="23623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2590920" y="1905120"/>
            <a:ext cx="3809880" cy="2590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ие 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ворчество Содру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 rot="10800000">
            <a:off x="1066680" y="2819160"/>
            <a:ext cx="5943600" cy="3504960"/>
          </a:xfrm>
          <a:prstGeom prst="pie">
            <a:avLst/>
          </a:prstGeom>
          <a:solidFill>
            <a:srgbClr val="bbe0e3"/>
          </a:solidFill>
          <a:ln w="9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flipH="1" rot="10800000">
            <a:off x="1828800" y="2819520"/>
            <a:ext cx="5867280" cy="3581280"/>
          </a:xfrm>
          <a:prstGeom prst="pie">
            <a:avLst/>
          </a:prstGeom>
          <a:solidFill>
            <a:srgbClr val="bbe0e3"/>
          </a:solidFill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18435600">
            <a:off x="815400" y="1565280"/>
            <a:ext cx="1749600" cy="295200"/>
          </a:xfrm>
          <a:prstGeom prst="leftRightArrow">
            <a:avLst>
              <a:gd name="adj1" fmla="val 50000"/>
              <a:gd name="adj2" fmla="val 117988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13707000">
            <a:off x="6511680" y="1564560"/>
            <a:ext cx="1749600" cy="295560"/>
          </a:xfrm>
          <a:prstGeom prst="leftRightArrow">
            <a:avLst>
              <a:gd name="adj1" fmla="val 50000"/>
              <a:gd name="adj2" fmla="val 117844"/>
            </a:avLst>
          </a:prstGeom>
          <a:solidFill>
            <a:srgbClr val="bbe0e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-6480" y="0"/>
            <a:ext cx="8175600" cy="99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\Рабочий стол\к докладу\getImageCA2G6WIB.jpg"/>
          <p:cNvPicPr/>
          <p:nvPr/>
        </p:nvPicPr>
        <p:blipFill>
          <a:blip r:embed="rId2"/>
          <a:stretch/>
        </p:blipFill>
        <p:spPr>
          <a:xfrm>
            <a:off x="1981080" y="37339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Documents and Settings\Админ\Рабочий стол\к докладу\getImageCA59YJ26.jpg"/>
          <p:cNvPicPr/>
          <p:nvPr/>
        </p:nvPicPr>
        <p:blipFill>
          <a:blip r:embed="rId3"/>
          <a:stretch/>
        </p:blipFill>
        <p:spPr>
          <a:xfrm>
            <a:off x="3505320" y="15238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6324480" y="15238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910560" cy="12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Админ\Рабочий стол\к докладу\SDC10717.JPG"/>
          <p:cNvPicPr/>
          <p:nvPr/>
        </p:nvPicPr>
        <p:blipFill>
          <a:blip r:embed="rId2"/>
          <a:stretch/>
        </p:blipFill>
        <p:spPr>
          <a:xfrm>
            <a:off x="457200" y="16765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Админ\Рабочий стол\к докладу\SDC10719.JPG"/>
          <p:cNvPicPr/>
          <p:nvPr/>
        </p:nvPicPr>
        <p:blipFill>
          <a:blip r:embed="rId3"/>
          <a:stretch/>
        </p:blipFill>
        <p:spPr>
          <a:xfrm>
            <a:off x="4876920" y="4191120"/>
            <a:ext cx="3733560" cy="236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>
            <a:off x="457200" y="411480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3"/>
          <p:cNvSpPr txBox="1"/>
          <p:nvPr/>
        </p:nvSpPr>
        <p:spPr>
          <a:xfrm>
            <a:off x="2057400" y="38088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вмес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Picture 3" descr="D:\фото 1 класс\SDC10821.JPG"/>
          <p:cNvPicPr/>
          <p:nvPr/>
        </p:nvPicPr>
        <p:blipFill>
          <a:blip r:embed="rId1"/>
          <a:stretch/>
        </p:blipFill>
        <p:spPr>
          <a:xfrm>
            <a:off x="990720" y="13716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люди сами не умеют летать, пусть научат летать своих детей. Притом летать высоко, стремительно, далеко, красиво. И настанет срок, когда дети раскроют крылья и взлетят. Пусть взрослые просто последуют за детьми, чтобы уберечь их от падения. И тогда обнаружат, что, оказывается, они тоже летят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ва Амонашв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йко В.В. Общение и взаимодействие в процессе воспитания // Советская педагогика. – 1988 -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евко Г.К. Воспит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данова О.С. Методика воспитательной работы в начальной школе М.Просвещение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о – педагогическое просвещение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рени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овлечение родителей в учебно – воспитательный процес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ни творчества детей 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неклассные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мощь в организации и проведении внеклассных 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астие родителей в учебно – воспитательном процес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родителей класса в работе совета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родителей в работе родительского комит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в работе общественного совета содействия семье и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качества человека для теб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иболее знач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440" y="1270080"/>
          <a:ext cx="901728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70080"/>
                    <a:ext cx="90172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комплексного под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гум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целост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сотруднич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нципы воспита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с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ность – первое условие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ет мировоз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взрос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 отношение к культурным ценност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 культуру дос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развитию способностей, новой культур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ёт возможность проявляться инициатив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бобщённый портрет современного родите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сотрудник, партн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оценщик (оценивает все, начиная от методики и заканчивая цветом стен в коридорах школы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избиратель (находится постоянно в ситуации выбора: школы, учителя, программ,  вида деятельности и т.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проводник  идей в реализации успешности  ребён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лективные творческие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фотоархива кл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лассно – семейные 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х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одготовка к утренни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азд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аздн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здание условий для сотрудничества детей и их родителей через формирование семейных ценностей, здорового образа жизни, развитие и реализация разносторонних способностей и интересов детей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1-06-09T17:19:1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