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7E8-3D94-48F7-BD36-F9EF2397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D23-2EC2-4EA1-A6B3-585BA189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2DE8-1439-4859-803B-3463A9E4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C75-EE70-4760-87C0-B86018D6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71B8-BA0B-4AEE-956E-9219079B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4A13-56CB-4C99-8CB9-47DC1A94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62DD-2035-46B1-9B4A-68954877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294-DF2E-4F69-AD1A-295AC515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1774-BBDB-4FE9-836D-859EF2A9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B18A-7BAD-4C31-996D-CA6D2D97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0680-3F8F-4AED-956B-FD880029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D73-6825-44B6-8658-3D6FDCAA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188B-5837-4DE7-BFC0-FD9521FF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AC4A-C55D-4800-AD44-5B44FB0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8CF2-D997-4438-9BE8-1F99CB21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855-6BF3-4850-AEB3-7D956573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26FF-7DCC-40B1-A1A4-03F98F283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674-89F8-4590-B36C-A6100470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408-3E30-493D-8290-ECAC3B11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09A6-C872-48D3-B137-8765AC72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D7C-D882-40AC-A437-B9F933EE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5DE-B2B0-4713-9DEE-FAB4CBDA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3FA-EBFB-4B33-8BD1-41EF861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F6F-8C5F-4373-8BCB-FDF7112F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8156-B787-4F27-838D-3B9DB1CF6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4DB1-8332-4FDF-9F64-6E5FB765A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какали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дежд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митриев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У «СОШ п.Молодёжный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любского  муниципального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йон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оль системного взаимодействия с родителями в организации сопровождения развивающихся способностей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Admin\Рабочий стол\Новая папка\mirfam.gif"/>
          <p:cNvPicPr/>
          <p:nvPr/>
        </p:nvPicPr>
        <p:blipFill>
          <a:blip r:embed="rId1"/>
          <a:stretch/>
        </p:blipFill>
        <p:spPr>
          <a:xfrm>
            <a:off x="533520" y="4876920"/>
            <a:ext cx="257148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изация семейных цен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условий для активного взаимодействия взрослых и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йствие повышению педагогической культуры родителей через организацию интерактивных форм сотрудничества в триаде « учитель – ученик – родитель» во внеуроч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ение и распространение положительного опыта семейных взаимоотно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ситуации успеха для каждого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в детях чувства уважения к взрослым, самостоятельности и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и праздни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914400"/>
          <a:ext cx="8001000" cy="530856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ленда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День Знаний», «День пожилого человека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День Матери», Новый Год, День семьи, День защитника Отечества, Марта – женский ден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ко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Посвящение в первоклассники», «Прощание с начальной школой»,«Прощай, Букварь!»,  «Последний звонок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мей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 В кругу семьи», « О родных и близких с любовью», « Папа, мама, я – спортивн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аздники на свежем воздух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 Всей семьёй в лес», «Наши экскурсии», « В походе вместе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57200" y="1119240"/>
          <a:ext cx="8458200" cy="504972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Мотивационный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ой приём работ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сказ из личного опы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настроить детей на предстоящий празд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ая форма работы: консульт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настроить родителей на праздник. Показать их роль на этом праздни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Организационная педагогическая раб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рганизация выставок, оформление приглашений, изготовление сувениров, подготовка концертной программы, распределение обязан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нкетирование род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помочь определить для них вид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дивидуальные беседы с каждой семьё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определить идею и содержание выступ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762120"/>
          <a:ext cx="8153280" cy="4952880"/>
        </p:xfrm>
        <a:graphic>
          <a:graphicData uri="http://schemas.openxmlformats.org/drawingml/2006/table">
            <a:tbl>
              <a:tblPr/>
              <a:tblGrid>
                <a:gridCol w="2359080"/>
                <a:gridCol w="2359080"/>
                <a:gridCol w="3435120"/>
              </a:tblGrid>
              <a:tr h="247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Коррекция и контроль достижения результ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ёмы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свенного напоминания,    подчёркнутого дове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создать условия для разных моделей взаимодействия взрослого с ребёнк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Анализ выполнения обязанностей по организации празд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определить, что хорошо получилось; выявить отрицательные момен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ём: бесе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: добиться, чтобы родители стали единомышленниками в вопросах воспитания де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Активное участие в праздниках помогает родителям по-новому взглянуть и на своего ребенка, и на сам процесс  образования в целом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Участие помогает им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преодолеть авторитаризм и взглянуть на мир с позиции ребенк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тноситься к ребенку как к равном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понять, что недопустимо сравнивать ребенка с другими детьми: если он что-то сделал сегодня лучше, чем вчера, нужно радоваться его личному росту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знать сильные и слабые стороны ребенка и учитывать их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проявлять искреннюю заинтересованность в его действиях и быть готовым к эмоциональной поддержке, совместному переживанию его радостей и горестей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установить хорошие, доверительные отношения с ребенк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развивать способности своего ребенк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етные собы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Админ\Мои документы\2011_04_26\IMG.jpg"/>
          <p:cNvPicPr/>
          <p:nvPr/>
        </p:nvPicPr>
        <p:blipFill>
          <a:blip r:embed="rId1"/>
          <a:stretch/>
        </p:blipFill>
        <p:spPr>
          <a:xfrm>
            <a:off x="5029200" y="4267080"/>
            <a:ext cx="175248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886200" y="12193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C:\Documents and Settings\Админ\Мои документы\2011_04_26\IMG_0002.jpg"/>
          <p:cNvPicPr/>
          <p:nvPr/>
        </p:nvPicPr>
        <p:blipFill>
          <a:blip r:embed="rId3"/>
          <a:stretch/>
        </p:blipFill>
        <p:spPr>
          <a:xfrm>
            <a:off x="6172200" y="1219320"/>
            <a:ext cx="1752480" cy="2666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Documents and Settings\Админ\Мои документы\2011_04_26\IMG_0003.jpg"/>
          <p:cNvPicPr/>
          <p:nvPr/>
        </p:nvPicPr>
        <p:blipFill>
          <a:blip r:embed="rId4"/>
          <a:stretch/>
        </p:blipFill>
        <p:spPr>
          <a:xfrm>
            <a:off x="2362320" y="4267080"/>
            <a:ext cx="190476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5"/>
          <a:stretch/>
        </p:blipFill>
        <p:spPr>
          <a:xfrm>
            <a:off x="1371600" y="1219320"/>
            <a:ext cx="1828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Наши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648320" y="388620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380880" y="3733920"/>
            <a:ext cx="3810240" cy="28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Копия DSC01238"/>
          <p:cNvPicPr/>
          <p:nvPr/>
        </p:nvPicPr>
        <p:blipFill>
          <a:blip r:embed="rId4"/>
          <a:stretch/>
        </p:blipFill>
        <p:spPr>
          <a:xfrm>
            <a:off x="4572000" y="106668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0" y="152280"/>
            <a:ext cx="8616960" cy="106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657600" cy="26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5257800" y="1371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4"/>
          <a:stretch/>
        </p:blipFill>
        <p:spPr>
          <a:xfrm>
            <a:off x="609480" y="4267080"/>
            <a:ext cx="160020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:\МОИ\SDC10251.JPG"/>
          <p:cNvPicPr/>
          <p:nvPr/>
        </p:nvPicPr>
        <p:blipFill>
          <a:blip r:embed="rId5"/>
          <a:stretch/>
        </p:blipFill>
        <p:spPr>
          <a:xfrm>
            <a:off x="3429000" y="4343400"/>
            <a:ext cx="1676520" cy="213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:\МОИ\SDC10252.JPG"/>
          <p:cNvPicPr/>
          <p:nvPr/>
        </p:nvPicPr>
        <p:blipFill>
          <a:blip r:embed="rId6"/>
          <a:stretch/>
        </p:blipFill>
        <p:spPr>
          <a:xfrm>
            <a:off x="6172200" y="4343400"/>
            <a:ext cx="1752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мейный празд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276360" cy="2209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2209680" cy="316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D:\МОИ\SDC11546.JPG"/>
          <p:cNvPicPr/>
          <p:nvPr/>
        </p:nvPicPr>
        <p:blipFill>
          <a:blip r:embed="rId5"/>
          <a:stretch/>
        </p:blipFill>
        <p:spPr>
          <a:xfrm>
            <a:off x="6019920" y="4038480"/>
            <a:ext cx="2819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6553080" y="426708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D:\2011_04_24\IMG_0002.jpg"/>
          <p:cNvPicPr/>
          <p:nvPr/>
        </p:nvPicPr>
        <p:blipFill>
          <a:blip r:embed="rId3"/>
          <a:stretch/>
        </p:blipFill>
        <p:spPr>
          <a:xfrm>
            <a:off x="457200" y="41148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D:\2011_04_24\getImageCAS08N8B.jpg"/>
          <p:cNvPicPr/>
          <p:nvPr/>
        </p:nvPicPr>
        <p:blipFill>
          <a:blip r:embed="rId4"/>
          <a:stretch/>
        </p:blipFill>
        <p:spPr>
          <a:xfrm>
            <a:off x="3733920" y="42670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ши празд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5"/>
          <a:stretch/>
        </p:blipFill>
        <p:spPr>
          <a:xfrm>
            <a:off x="6781680" y="160020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6"/>
          <a:stretch/>
        </p:blipFill>
        <p:spPr>
          <a:xfrm>
            <a:off x="3124080" y="1523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2514600" y="533520"/>
            <a:ext cx="396252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52280" y="2743200"/>
            <a:ext cx="21337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553080" y="2743200"/>
            <a:ext cx="23623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2590920" y="1905120"/>
            <a:ext cx="3809880" cy="2590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аимная ответ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верие 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творчество Содруж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переж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 rot="10800000">
            <a:off x="1066680" y="2819160"/>
            <a:ext cx="5943600" cy="3504960"/>
          </a:xfrm>
          <a:prstGeom prst="pie">
            <a:avLst/>
          </a:prstGeom>
          <a:solidFill>
            <a:srgbClr val="bbe0e3"/>
          </a:solidFill>
          <a:ln w="95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flipH="1" rot="10800000">
            <a:off x="1828800" y="2819520"/>
            <a:ext cx="5867280" cy="3581280"/>
          </a:xfrm>
          <a:prstGeom prst="pie">
            <a:avLst/>
          </a:prstGeom>
          <a:solidFill>
            <a:srgbClr val="bbe0e3"/>
          </a:solidFill>
          <a:ln w="120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18435600">
            <a:off x="815400" y="1565280"/>
            <a:ext cx="1749600" cy="295200"/>
          </a:xfrm>
          <a:prstGeom prst="leftRightArrow">
            <a:avLst>
              <a:gd name="adj1" fmla="val 50000"/>
              <a:gd name="adj2" fmla="val 117988"/>
            </a:avLst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13707000">
            <a:off x="6511680" y="1564560"/>
            <a:ext cx="1749600" cy="295560"/>
          </a:xfrm>
          <a:prstGeom prst="leftRightArrow">
            <a:avLst>
              <a:gd name="adj1" fmla="val 50000"/>
              <a:gd name="adj2" fmla="val 117844"/>
            </a:avLst>
          </a:prstGeom>
          <a:solidFill>
            <a:srgbClr val="bbe0e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-6480" y="0"/>
            <a:ext cx="8175600" cy="993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Админ\Рабочий стол\к докладу\getImageCA2G6WIB.jpg"/>
          <p:cNvPicPr/>
          <p:nvPr/>
        </p:nvPicPr>
        <p:blipFill>
          <a:blip r:embed="rId2"/>
          <a:stretch/>
        </p:blipFill>
        <p:spPr>
          <a:xfrm>
            <a:off x="1981080" y="3733920"/>
            <a:ext cx="3810240" cy="2590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Documents and Settings\Админ\Рабочий стол\к докладу\getImageCA59YJ26.jpg"/>
          <p:cNvPicPr/>
          <p:nvPr/>
        </p:nvPicPr>
        <p:blipFill>
          <a:blip r:embed="rId3"/>
          <a:stretch/>
        </p:blipFill>
        <p:spPr>
          <a:xfrm>
            <a:off x="3505320" y="1523880"/>
            <a:ext cx="1904760" cy="1600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609480" y="1523880"/>
            <a:ext cx="2210040" cy="1524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5"/>
          <a:stretch/>
        </p:blipFill>
        <p:spPr>
          <a:xfrm>
            <a:off x="6324480" y="152388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6910560" cy="12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Админ\Рабочий стол\к докладу\SDC10717.JPG"/>
          <p:cNvPicPr/>
          <p:nvPr/>
        </p:nvPicPr>
        <p:blipFill>
          <a:blip r:embed="rId2"/>
          <a:stretch/>
        </p:blipFill>
        <p:spPr>
          <a:xfrm>
            <a:off x="457200" y="167652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Админ\Рабочий стол\к докладу\SDC10719.JPG"/>
          <p:cNvPicPr/>
          <p:nvPr/>
        </p:nvPicPr>
        <p:blipFill>
          <a:blip r:embed="rId3"/>
          <a:stretch/>
        </p:blipFill>
        <p:spPr>
          <a:xfrm>
            <a:off x="4876920" y="4191120"/>
            <a:ext cx="3733560" cy="2361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4876920" y="1676520"/>
            <a:ext cx="3733560" cy="220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5"/>
          <a:stretch/>
        </p:blipFill>
        <p:spPr>
          <a:xfrm>
            <a:off x="457200" y="411480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3"/>
          <p:cNvSpPr txBox="1"/>
          <p:nvPr/>
        </p:nvSpPr>
        <p:spPr>
          <a:xfrm>
            <a:off x="2057400" y="380880"/>
            <a:ext cx="480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вмес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Picture 3" descr="D:\фото 1 класс\SDC10821.JPG"/>
          <p:cNvPicPr/>
          <p:nvPr/>
        </p:nvPicPr>
        <p:blipFill>
          <a:blip r:embed="rId1"/>
          <a:stretch/>
        </p:blipFill>
        <p:spPr>
          <a:xfrm>
            <a:off x="990720" y="13716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0" y="533160"/>
            <a:ext cx="8610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Если люди сами не умеют летать, пусть научат летать своих детей. Притом летать высоко, стремительно, далеко, красиво. И настанет срок, когда дети раскроют крылья и взлетят. Пусть взрослые просто последуют за детьми, чтобы уберечь их от падения. И тогда обнаружат, что, оказывается, они тоже летят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лва Амонашв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йко В.В. Общение и взаимодействие в процессе воспитания // Советская педагогика. – 1988 -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евко Г.К. Воспит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гданова О.С. Методика воспитательной работы в начальной школе М.Просвещение 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о – педагогическое просвещение родит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фере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уль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одительские собр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тренин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овлечение родителей в учебно – воспитательный процес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ни творчества детей и родит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неклассные меропри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мощь в организации и проведении внеклассных д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Участие родителей в учебно – воспитательном процес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астие родителей класса в работе совета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астие родителей в работе родительского комит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частие в работе общественного совета содействия семье и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качества человека для теб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иболее знач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440" y="1270080"/>
          <a:ext cx="9017280" cy="56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270080"/>
                    <a:ext cx="90172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нцип комплексного под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нцип гуман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нцип целост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ринцип сотруднич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инципы воспитательн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ист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ность – первое условие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ет мировозз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 взрос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 отношение к культурным ценност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ует культуру дос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ует развитию способностей, новой культур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ёт возможность проявляться инициатив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бобщённый портрет современного родите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28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 – сотрудник, партн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 – оценщик (оценивает все, начиная от методики и заканчивая цветом стен в коридорах школы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 – избиратель (находится постоянно в ситуации выбора: школы, учителя, программ,  вида деятельности и т.д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 – проводник  идей в реализации успешности  ребён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лективные творческие 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фотоархива кла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лассно – семейные 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хо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одготовка к утренника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азд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праздн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здание условий для сотрудничества детей и их родителей через формирование семейных ценностей, здорового образа жизни, развитие и реализация разносторонних способностей и интересов детей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1-06-09T17:19:13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