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29.jpeg" ContentType="image/jpeg"/>
  <Override PartName="/ppt/media/image9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wmf" ContentType="image/x-wmf"/>
  <Override PartName="/ppt/media/image27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3.jpeg" ContentType="image/jpeg"/>
  <Override PartName="/ppt/media/image23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21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43D-2398-4F31-827D-FE9A9CF2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9C1B-65A2-4C16-8872-2111D60E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996E7B-7C43-4E90-B7F2-CFC04C3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175E0-D8EE-4F9C-99BB-AC2AA66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41748-286B-4D9D-9F60-8ADA709F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55A847-3624-41B5-902F-58A79F9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DFC3C4-7D7B-4B7B-B6EB-FB01939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A1EDD0-CFA9-4B3B-B5F9-6EE4B5F6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DD1FB-0580-4432-8EC9-845B92D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0D2618-E1C0-4766-9D13-D2DF61E8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CE3060-C3A7-4E15-B7F9-539413C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F6D561-0B5E-4052-AC90-AC9DF303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4C0-8DE0-4ED4-A101-23570AE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66976-2A69-4222-ABF9-9148B48D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EEA5-7F92-43E7-BDDE-C2DEDAFB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250C7-789C-453A-B86A-82E034E7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C963B-5B82-4E76-85EB-6FA0CEDA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8C70B-7D0A-49D6-86AB-5A143CF1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68900-79C6-43F1-802A-C306E3B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3D987-686C-481A-80B1-554B4D4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D5BE8-7191-44BE-92D6-EA9608E2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0E2EE-B7C0-4E77-9318-3D349E3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1D963-470D-4B13-B71E-95494E36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7A8-43CC-40F3-8F6A-0A3AD79B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2F530-D0E0-49EF-AE25-107B60BC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9D2DD-7EBC-4FDF-9877-BE3EAD05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C8628-AD0A-41AC-B0CF-61A078EA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D1726-8445-4B97-8EA8-6951B87C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92505-0BEB-4F4B-8CC2-4A9FC76D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44F5-2885-4110-B75B-0C1A791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F1869-55AE-4666-A725-B94682E1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FEA72-C292-4C8F-948B-48BCA3C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8381B-5B9C-4B59-BD63-B862A15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7DD9-9719-4AF6-9FED-1423F6F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1604-762F-4EF1-A1C9-B011370F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5235D-3F3E-4EB3-9902-F7C2527A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12B5B-78FF-4895-AAF4-B0B398A0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C6BDA-0859-4BDB-A6D7-5E1818C2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99BFA-2D03-46B0-AEFE-D8F60D87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8C0AC-B627-4545-94F8-43191BEF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F4C96-EE36-41A0-BF7F-52B27250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7335E-3A45-4C69-AF0F-9162CD01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79BDB-3729-4E3E-A7BE-B569E343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454D2-60D4-4720-982E-446D3884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2813E-E6C5-4E07-AA59-4FD9D8B5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67FD-AAB7-4A3B-9749-2FE5825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462AF-7363-4C69-9B2A-3561382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9B16F-2D52-46BB-AB10-5F9747D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CB86-E0CD-4318-A470-B9BE1FC9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4CCAC-9BCF-4841-8D55-FC285B62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A62B5-F404-43E7-A127-702E5203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8A42ED-36FB-49D7-9F13-4854FF7D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32A5FF-53F2-4947-B9FE-05B5168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A5B275-510F-41B9-9225-4FD2F422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FC876D-8F21-4197-B52A-7834E149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F3CD26-B40F-4E8E-B140-A1EAB4EF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A94C-D3E1-4A0A-A747-5A0D7D96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78B736-9E97-4961-A4F6-112647F7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7115EF-E0F3-4460-8631-8A652770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A3258-94F7-442F-8CB5-6EC45F9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C6AD5-5B20-45C0-AF2D-0E0F1F94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DBDDD-0A7D-42C7-A2DC-F1B0EF44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BEA73D-867A-42D0-992D-9CB918F7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6FAF3-0CBE-423D-BD9C-734C5E2C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FCA-3F3C-4347-875C-2FC1C8A5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4C9E-DA96-4D78-A1BD-DF38600B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58C4-79F0-470E-BCCC-529218B5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8067-7D0D-4F6B-9DCF-F058B29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E66-7D4A-43E3-982E-49DA00D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2A62-5A9F-46DE-A6E8-07F2BC6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AA9E-D890-4F41-95CA-875D441C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5727-6982-43A3-B94C-B7D4B19B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5724-A186-4211-84AD-EC9BF5C9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32A1-4FB2-445A-85CD-772041C6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16D58-65AD-4E6C-AC3B-CE2025AC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95DC0-AEF6-49E3-A9B8-9852A923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6D075-1089-409E-AF31-FB79D92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CE85-49AF-4417-8219-3CC36199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33AA-96BF-417C-B5C6-93BFC8AD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7D4E-3639-4D73-9BB1-76F0F00D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4D04-AE76-4D1C-B313-BFF50031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F2C0-D2A0-48BE-AAA3-CE37FC16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85CC3-7FA5-4493-A827-8485C9A2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5C12-D807-444E-9668-5380A31E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CA07-4509-4278-BCC8-AEEC425A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5C90-5F9E-495C-963B-04353950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EC33D-910F-4200-815F-D556BEB8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342C-3BD1-447E-9FE1-66A79726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DBF52-2FAA-409D-9EEE-08524CB6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F2ACE-1EA9-45A8-B8B1-B4395582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C7C-6543-46BB-B709-EAA423C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18E17-C680-40DD-AF58-9B416D1A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B168-4AC6-4503-94BF-3E9438DC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ADCC-DD5E-4217-B79D-19D1995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D9298-F2BC-4D9C-9483-52B7F32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33E8-53C2-4D05-8655-A17F0D63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4B6EC-2F8E-49F1-993F-0866BE8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1BB9-7468-4D42-8DCD-912AFBA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96F79-59FE-4D3A-AF52-125CC7CB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AC786-2374-4450-A888-ABBDB00C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C1F6A-BD23-4F67-9FA3-8CABCB1B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425-7069-4935-8667-99068AD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5442-0625-42E3-ACBF-B032EE1B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6D3C4-BC61-4A6E-86D1-17B54929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4795-05F4-4BCB-9F8E-E3C06151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4465-0DC1-4D46-9735-38005C2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5E6A5-D0C8-4F2E-B2B7-934C089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9EB1-4081-4A6F-A8A9-4C769F6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201B-996C-407B-BF4D-CD54C1BE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9088-FC2D-4F84-B1EE-C1A58A94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50DC4-F224-418A-A304-1F81F38B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BF2F-88B7-49F7-B90F-F1BDDF23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87D-BFD2-489F-BB6B-9F464BF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F593-C455-4E0C-BB86-6404906C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4C85-2201-4F1B-83A2-002DF4CF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8AAE-BD4B-453F-AD09-D7511FC5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6464-2496-4A97-B8FB-C8FFA58B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463BE-2A9A-474B-928F-9F6C0A11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1AC9A-9462-42B2-AADD-E49CCE53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74BAC-620E-4E7D-BBC2-E30A26B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A4D68-B788-4E35-BA40-BD2E75A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8F8F-C322-43C2-BCB8-E0C3170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47815-764A-494A-A4EA-8D0AAE51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032-CA33-4451-9DC2-0D4B9195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F9BC-BA4E-4371-B117-AD7A798E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B3B95-E4DA-4E14-B3CB-B7189471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D102-8FDA-4526-AA90-C6C65D77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E7615-DD90-4DB7-ABCE-440A72BE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17068-3D6C-42B3-B09C-EF04F47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03C91-5669-478F-AAD0-C37DE5C5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83A2-2969-4EAD-9CA3-0DCB9FF1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C5A59-CFCF-408E-895B-3EB0AE0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C95E-26AF-4BB9-86F5-16A8E27F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E825-BC33-4008-9BFB-3E776E4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08B-A926-47C1-BEAB-C62A699B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0C22-1E9C-42D7-B296-B8F31E65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3A50-5F44-4609-97CF-970EF69C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A669-D4B5-4C50-8CDF-5EDA62E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9959-5FD2-4360-96AC-1CE96C12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3FDD2-83AB-43F5-B639-CC6F2058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E94B0-967B-485F-92D0-062DA50A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83A1-540A-47BD-BD31-AE981E5C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90DDF-5103-47BD-BD50-6DD2F566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774F7-EED3-492E-8E88-50A02A42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DD41-C9DB-4C3A-A9E4-0044B7B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219-D003-47FB-A394-B136BA1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DE437-5BD7-4DEE-856B-6591D349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E9378-719B-4509-B6D4-31919EFA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EFFB-61BD-4601-A52D-7C4D2618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C1B1B-DBC9-472C-AF40-544CBF6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D6BB-221D-40A9-ADE7-B1C7499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04755-165F-4DA4-8E5F-AFDE46F3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C79F-BF49-4AAD-8D70-E3394E06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1A5CF-9BE0-43BB-8B62-CEAEA82A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B9621-2E0B-410A-9936-33F6742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51756-AA59-4C58-A2C4-DB0D10E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F09-724E-4A34-8947-7729744819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3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32F0-CFA0-45C5-BC28-0ED746E04A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8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cc66ff"/>
            </a:solidFill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D6E-B6E0-4F2D-A638-510E06A8C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B070-0A68-417B-B10E-0DA25D6B2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FC0-9115-44BF-8045-F4A2B8CEE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9D3F-487B-4A11-BEA7-073CC1C13E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4820-E321-4CCF-81AF-3C64CF2A4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7E7B-67C5-45C9-87AA-7B1890076B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99D4-F692-4518-8891-3A6F265445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0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3308-21A6-47B7-AD27-8FD32DA5E7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770-547D-461D-9F04-9D61C44E65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1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2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F4C2-0DA9-4B94-A4A9-107C03435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7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0C7F-C22A-4D3B-8DA1-7AA82D5CF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ndce.edu.ru/katalog_img/cd/5002571jpg.jpg&amp;pageurl=http://www.capa.ru%2Fother%2Fprint%3Apage%2C1%2C9566-dal-v-i-tolkovyy-slovar-jivogo-velikorusskogo-yazyka.html&amp;id=34414497&amp;iid=0&amp;imgwidth=414&amp;imgheight=414&amp;imgsize=72976&amp;images_links=b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611280" y="1484280"/>
            <a:ext cx="77770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накомые незнакомц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Богатыр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– необычный силач, храбрый воин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316320" cy="48592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4067280" y="1844640"/>
            <a:ext cx="4321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огаты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итяз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Ра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ерестали употребляться в современном язык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1476360" y="1557360"/>
            <a:ext cx="6481800" cy="25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979640" y="2205000"/>
            <a:ext cx="5715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аревшие слов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енявшие своё знач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71640" y="316080"/>
            <a:ext cx="7200720" cy="622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Устаревшие слова,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поменявшие своё значени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11280" y="1628640"/>
          <a:ext cx="7924680" cy="4668840"/>
        </p:xfrm>
        <a:graphic>
          <a:graphicData uri="http://schemas.openxmlformats.org/drawingml/2006/table">
            <a:tbl>
              <a:tblPr/>
              <a:tblGrid>
                <a:gridCol w="2641680"/>
                <a:gridCol w="2641320"/>
                <a:gridCol w="2641680"/>
              </a:tblGrid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"/>
          <p:cNvSpPr txBox="1"/>
          <p:nvPr/>
        </p:nvSpPr>
        <p:spPr>
          <a:xfrm>
            <a:off x="1258920" y="1844640"/>
            <a:ext cx="11905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419640" y="1700280"/>
            <a:ext cx="23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жне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084720" y="1700280"/>
            <a:ext cx="2374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временн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наче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187280" y="3500280"/>
            <a:ext cx="1352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ал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900000" y="26370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трен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58920" y="4365720"/>
            <a:ext cx="123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е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826920" y="5373720"/>
            <a:ext cx="22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уббот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419640" y="2637000"/>
            <a:ext cx="228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мороз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492360" y="3573360"/>
            <a:ext cx="204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уби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635280" y="4365720"/>
            <a:ext cx="181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Комн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492360" y="5445000"/>
            <a:ext cx="2324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сиде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6227640" y="2637000"/>
            <a:ext cx="2038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Праздни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6516720" y="357336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ур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516720" y="4365720"/>
            <a:ext cx="145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443640" y="5373720"/>
            <a:ext cx="1533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Убор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763640" y="2276640"/>
            <a:ext cx="5905440" cy="1800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2195640" y="2852640"/>
            <a:ext cx="47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имствованны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6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632720" cy="54450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1341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ahoma"/>
              </a:rPr>
              <a:t>Корабль, стул, свёкла, брюква, кровать, икона, флейта, тетрадь, огурцы, картофель, академия, атлеты, гимнасты, комики, аскеты, хор, музыканты, таланты, лавры, гиацинты, нарциссы, левкои, герои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05080" cy="13050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 txBox="1"/>
          <p:nvPr/>
        </p:nvSpPr>
        <p:spPr>
          <a:xfrm>
            <a:off x="3203640" y="260280"/>
            <a:ext cx="3940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ре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256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Арка, рельефы, цирк, арена, акведук, фонтаны, юристы, капитаны, студенты, ветераны, форум, купол, мозаика, фреска, колонны, триумф, фестиваль, фантазии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635280" y="476280"/>
            <a:ext cx="338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2773440" cy="18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Караван, канаты, сафьян, астролябия, шары, шахматы, бакалейны, базары, сундук, имбирь, мускат, фундук, диван, талисман, адмирал, сабли, арсенал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132000" y="549360"/>
            <a:ext cx="5132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абские стр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665440" cy="175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ahoma"/>
              </a:rPr>
              <a:t>Фортификация, навигация, цейхгауз, табели, рапорт, гауптвахта, циркуль, инженерия, солдат, бухгалтерия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627280" y="549360"/>
            <a:ext cx="5499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мания и Голланд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549520" cy="170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ahoma"/>
              </a:rPr>
              <a:t>Мадам, месье, ателье, корсаж, манжеты, колье, салон, фасон, парфюмерия, мода, маникюр, кашпо, жалюзи, абажур, кафе, бульон, фрикасе, пломбир, бланманже, элеры, безе, магазин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995640" y="549360"/>
            <a:ext cx="4060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р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704880" y="189000"/>
            <a:ext cx="14400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ahoma"/>
              </a:rPr>
              <a:t>Фортепьяно, пианино, концертино, рондо, сонатина, бельканто, сопрано, бас, ариетта, куплеты, соло, токкато, скерцо, баркарол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0" y="620640"/>
            <a:ext cx="3517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та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48000" cy="16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ahoma"/>
              </a:rPr>
              <a:t>Банк, кредит, маклер, чек, бизнес, корт, теннис, ринг, боксёр, тайм, футбол, гол, рефери, матч, фол, пенальти, 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1928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1" name=""/>
          <p:cNvSpPr txBox="1"/>
          <p:nvPr/>
        </p:nvSpPr>
        <p:spPr>
          <a:xfrm>
            <a:off x="3708360" y="549360"/>
            <a:ext cx="3406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нг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Аква-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619280" y="2276640"/>
            <a:ext cx="6048360" cy="34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риу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пар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то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квар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Теле-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268360" y="1844640"/>
            <a:ext cx="5472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ф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гра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виз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гра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6516720" y="4762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687060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Прибор для ориентирования на местност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449440" cy="21812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122800">
            <a:off x="611280" y="1125360"/>
            <a:ext cx="167616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2" name="" descr=""/>
          <p:cNvPicPr/>
          <p:nvPr/>
        </p:nvPicPr>
        <p:blipFill>
          <a:blip r:embed="rId3"/>
          <a:stretch/>
        </p:blipFill>
        <p:spPr>
          <a:xfrm>
            <a:off x="3564000" y="549360"/>
            <a:ext cx="1582560" cy="230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3" name="" descr=""/>
          <p:cNvPicPr/>
          <p:nvPr/>
        </p:nvPicPr>
        <p:blipFill>
          <a:blip r:embed="rId4"/>
          <a:stretch/>
        </p:blipFill>
        <p:spPr>
          <a:xfrm rot="1406400">
            <a:off x="6443640" y="981000"/>
            <a:ext cx="171936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4" name="" descr=""/>
          <p:cNvPicPr/>
          <p:nvPr/>
        </p:nvPicPr>
        <p:blipFill>
          <a:blip r:embed="rId5"/>
          <a:stretch/>
        </p:blipFill>
        <p:spPr>
          <a:xfrm>
            <a:off x="3419640" y="3789360"/>
            <a:ext cx="1942920" cy="21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1547640" y="69840"/>
            <a:ext cx="6409080" cy="632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Знакомые незнакомц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слушайся! Вникни! Не позабуд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 слова – свой норов. Своё нутр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 если ты в эти проникнешь суть –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лово тебе сотворит добр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25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25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500"/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 rot="21089400">
            <a:off x="321840" y="1031400"/>
            <a:ext cx="75596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тимолог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0" name=""/>
          <p:cNvSpPr/>
          <p:nvPr/>
        </p:nvSpPr>
        <p:spPr>
          <a:xfrm>
            <a:off x="1476360" y="3068640"/>
            <a:ext cx="634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отдел языкознания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изучающий происхождение сл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3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2506320" cy="33033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4211640" y="2781360"/>
            <a:ext cx="698400" cy="7700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995640" y="476280"/>
            <a:ext cx="1152720" cy="2332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476360" y="2708280"/>
            <a:ext cx="278604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859280" y="2637000"/>
            <a:ext cx="2952720" cy="10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755640" y="1916280"/>
            <a:ext cx="5400720" cy="136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1619280" y="2276640"/>
            <a:ext cx="3705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таревши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9" name=""/>
          <p:cNvSpPr txBox="1"/>
          <p:nvPr/>
        </p:nvSpPr>
        <p:spPr>
          <a:xfrm>
            <a:off x="6588000" y="692280"/>
            <a:ext cx="20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е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580000" y="2492280"/>
            <a:ext cx="27352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шегрей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580000" y="177336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492360" y="4581360"/>
            <a:ext cx="187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тн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95280" y="692280"/>
            <a:ext cx="165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пру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435640" y="765000"/>
            <a:ext cx="976320" cy="341640"/>
          </a:xfrm>
          <a:prstGeom prst="leftArrow">
            <a:avLst>
              <a:gd name="adj1" fmla="val 50000"/>
              <a:gd name="adj2" fmla="val 71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56000" y="2708280"/>
            <a:ext cx="976320" cy="360360"/>
          </a:xfrm>
          <a:prstGeom prst="left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4720" y="1844640"/>
            <a:ext cx="976320" cy="287280"/>
          </a:xfrm>
          <a:prstGeom prst="leftArrow">
            <a:avLst>
              <a:gd name="adj1" fmla="val 50000"/>
              <a:gd name="adj2" fmla="val 84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211640" y="3284640"/>
            <a:ext cx="360360" cy="976320"/>
          </a:xfrm>
          <a:prstGeom prst="upArrow">
            <a:avLst>
              <a:gd name="adj1" fmla="val 50000"/>
              <a:gd name="adj2" fmla="val 67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76360" y="126828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таревшие слов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ушегрей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телогрейка, короткая женская одеж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рч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шёлковая тка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ич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ий головной уб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аков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акушка голо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грузи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пови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ст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драгоценные коль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упру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лоб, хох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7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8064360" cy="554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2" name=""/>
          <p:cNvSpPr txBox="1"/>
          <p:nvPr/>
        </p:nvSpPr>
        <p:spPr>
          <a:xfrm>
            <a:off x="2124000" y="260280"/>
            <a:ext cx="49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.М. Васнецов. Богатыр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6:51:14Z</dcterms:created>
  <dc:creator> Наташа</dc:creator>
  <dc:description/>
  <dc:language>en-US</dc:language>
  <cp:lastModifiedBy>Наталья</cp:lastModifiedBy>
  <dcterms:modified xsi:type="dcterms:W3CDTF">2005-12-31T21:31:58Z</dcterms:modified>
  <cp:revision>7</cp:revision>
  <dc:subject/>
  <dc:title>Слайд 1</dc:title>
</cp:coreProperties>
</file>