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29.jpeg" ContentType="image/jpeg"/>
  <Override PartName="/ppt/media/image9.wmf" ContentType="image/x-wmf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wmf" ContentType="image/x-wmf"/>
  <Override PartName="/ppt/media/image27.jpeg" ContentType="image/jpeg"/>
  <Override PartName="/ppt/media/image4.png" ContentType="image/png"/>
  <Override PartName="/ppt/media/image24.gif" ContentType="image/gif"/>
  <Override PartName="/ppt/media/image26.jpeg" ContentType="image/jpeg"/>
  <Override PartName="/ppt/media/image3.jpeg" ContentType="image/jpeg"/>
  <Override PartName="/ppt/media/image23.jpeg" ContentType="image/jpeg"/>
  <Override PartName="/ppt/media/image20.jpeg" ContentType="image/jpeg"/>
  <Override PartName="/ppt/media/image17.wmf" ContentType="image/x-wmf"/>
  <Override PartName="/ppt/media/image18.jpeg" ContentType="image/jpeg"/>
  <Override PartName="/ppt/media/image21.wmf" ContentType="image/x-wmf"/>
  <Override PartName="/ppt/media/image16.wmf" ContentType="image/x-wmf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F4B6-D5BB-48C6-9EF3-A79F88B8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B7C0-553C-4651-8913-457EE661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213FC2-2058-40E2-AC0E-736CAF8C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6A0422-BAA6-4A8C-BF01-2BFC433F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A03299-5785-4126-9A06-A7E33F3F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21C4BB-4D65-4CD4-8701-66666DDD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F19E42-DF51-4648-9A91-3342FCFB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E55D6F-A81F-4CE3-B4AD-853435C1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219877-4E05-4204-9C7D-0B1FC365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D5207E-1F61-48D7-AA47-E2B9E4DC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CFC5E4-DF1C-49A2-ADDD-A6DC8723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26FD2-3437-4DDD-9CAE-618D84A0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F66D-E52D-415D-A083-006291B0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14160-3F85-493A-AE31-90FFE69F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11786-CB14-4777-826D-FC179C58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1720B-E56F-492A-8CB2-D24FCAC6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8D69A-DBCA-44FF-90E4-9355E247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05AB1-11C9-4388-8A92-5552D4BE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1B77F-E2F9-40EB-8C6F-6CDFE387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56842-35A7-4281-9D9A-958D8F9F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26A8D-3525-4ED0-A81A-C3D392C3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F43A6-25E7-4728-B1E2-868DFC83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A97CA-9926-42A3-A2DE-749E7B26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E39F-6823-4785-A57A-EE63B8C2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A3397-76AC-47BF-ACF7-D3DB8FA8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52771-4F01-4203-9259-E7B442A8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E8222-90EC-4CA1-9D93-B81F3E46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0A940-B86B-412C-B71E-878F51BC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566AD-0237-4CA0-83A2-CD22E235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5D238-EFA1-4260-8B52-56EEA16C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D4CAA-A7DA-4FFC-AECD-C029D23C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C7123-410E-4A05-B83C-C9A9A8DD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EB595-6D53-49BD-9E6A-5DB42FE4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37839-C309-420F-A196-36C6953A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A934-C724-40D6-81C8-3F798741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2C8E0-7B56-4FF1-9C9F-64C82AFA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4306C-A595-4BB1-933E-1B4614DD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B69D4-1DD1-424C-86C4-FE2A8743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E1614-9887-4253-B1D6-5F63D79C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698AA-F664-427A-A2DA-EBBAE444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235E2-5599-4F31-AEB5-97B3C70E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D6B88-1D18-42A4-86B9-D83FAB9D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36F5A-9AE5-4B72-B613-39F1E106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8B8A7-CF53-4C90-8589-A360BFD7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3C55E-48FC-4E4F-A9CC-634F8F29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7359-6355-4C31-A185-30F52C94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A5FA1-22A4-43AE-8632-AC2827D0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771B0-433D-4829-BE95-A9C03FCB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1D861-B9CD-453F-8FA2-B7134518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89DB4-785D-4CE5-9DA9-E2E81010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6D24F-4E42-42A5-8A1E-82D4AFD2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E42F81-7084-45EA-AE3E-784C933F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75A41E-E1C4-411A-8032-8583BF4B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324784-C8B9-4075-9BC4-595A7E3B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8591A4-478C-4903-8FBB-5110CE6E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A0C4AC-009E-49F1-9D37-DBDDDCF6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0229-4A4B-4387-A1A8-994CAE0C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26EF41-3174-459B-8D38-ABA267F9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5B23C6-95B6-4AAA-AD3D-73EAA823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6FB22C-0977-4721-AE63-60E7C8D9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E2A35A-8F64-4230-B102-F6EA2CBA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BBBD19-82A2-4646-8127-C29D7DFF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22D15E-018F-4673-A113-3994CD0C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5BE8E8-22EF-44FD-96C3-D5BCF99B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6EAE-4114-477F-ABAA-70F201BD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5D05-8C11-480C-9EF4-09F47012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49CD-11BC-4807-9A3B-52FBAF4F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D1A6-8175-4B18-8D7E-B173DA43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DB4C-1804-4A5D-AFC1-002A92BB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0B4C-176F-460E-9C8E-D90A434B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91C9-A891-46AF-8FF6-CA2C528A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75A7-F814-4C3F-A009-34926EE8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B144-6E3D-42FB-803F-B58A9096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906E-32D0-4B82-B055-60706A59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4A0FC-BAF0-4FB9-A09A-6C83175D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BD030-023B-4F91-9E6E-BD380AEE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7A511-5686-490E-A352-0FAE72BE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965C2-0B58-4242-8C00-997C1E97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E6D20-6AFE-4F42-9302-D1B9462F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8862-CF4D-467B-A2A3-149C8449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B6FF1-7E43-488E-B81E-3862F572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BDCD0-2839-475C-A08B-C1EDA776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1B45C-4FBF-4B33-B517-68A8D1F7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00105-4AE2-4F71-9015-1EFBFEA0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78E02-3F6C-4072-9AFC-76D6C535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9F243-ACF1-40C6-A5D9-FCC772FB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92BBA-DB08-43CC-A23C-32D4413C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686DE-F877-4E8C-89D5-461AFF86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F50C4-31F5-4B32-B0B0-F8F49135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8C1AA-BFE3-495A-B794-BFF66724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3DAE-5638-4F5F-8567-A5D58321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A9D17-CFEB-458C-A165-C0AED7D6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56721-C5AE-4236-88BF-2A776A6F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31A80-F25B-4C75-B538-DE7E0408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B5D27-6001-4413-9186-59F65F8C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FAFC9-D565-4CF2-B756-F66FA1B2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3550A-35DE-4AD4-A39B-B76362AA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60630-E079-4EA8-9C36-2BCAFD10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1E143-B9D6-4032-87E4-A6821A1E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0D783-C4F0-4C19-A8AE-C7292E07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524D9-36C1-47A0-953C-03EF29B5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D106-117F-4ED3-A8EC-C0C242DD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DCB48-4127-4642-A6E9-CAD36BFD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FE9B2-4738-41B5-A531-F5149B6F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1C820-E5B5-418C-A8F6-4F523BE7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B440B-7A6D-49D1-87E9-2B2AC335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4986A-FC05-4251-88F1-9C22FF05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76018-B128-42BC-86D4-291B1FAE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0D3F9-D215-49BF-81A6-AE7E70B7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2488C-28B2-4D43-882A-D7A0D371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43887-070B-49AA-884C-BF32B07A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F3445-6744-4C2F-9083-347B5D52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9F1-B59F-485B-ABAB-933D009E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78496-8380-482C-A502-EB6569CF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1ADD9-A8A5-4739-8703-ED900EEA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BE414-9B40-48E7-9E95-842F113A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B8A37-5DDF-4083-B798-5EDB3692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1AE4C-7A34-4194-BDA8-2965C8B2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0F03B-DED4-476A-A423-13E87683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6F4B9-F10A-477D-AA6D-E96323A1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6D4BC-83E5-4AA2-A2E3-461F6F1A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D2657-2050-40EE-A1BC-02F7B833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BD1DE-79BF-4FBA-AF32-E96F61DB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BF17-A61A-4610-A2BF-7C6111F3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34A68-B27A-44AD-9398-F7ED37C1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1B536-E4F7-48FA-A4D2-F0A96E3B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85170-B4C7-4277-8D02-3CC5800C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6BD81-2C7E-4FDA-91C9-34B459DA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75E94-827B-4F61-A6E7-9668D987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FB85C-5153-4ED1-A8C9-FEEB6BA2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9F751-81E0-4953-A24F-5FFFBAA7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2D23B-5156-4C1E-80F4-BD378584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233FA-00C1-4334-BC35-217DE954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008CD-82CA-4FCC-A9A1-19D81710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DE0C-720B-44E9-AE26-9BCE5B17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F5625-6FBD-478B-A9EB-E1771AEF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9F9B9-C9CB-48DC-8DCC-12CA75F8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F25EF-DF55-48F6-91B6-1B4470F1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A3483-6390-4552-AC07-51DAF4B7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07440-0B1B-437C-A4E6-5D2A214C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6F747-934B-4284-B4F0-2CE4B076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D6688-7FB1-4293-AA15-BFCAF807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941A6-885D-4A3A-86E6-3EF8CF55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1C9F5-284D-455D-BB88-75E7BA51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1F805-75F0-4E09-90FA-B706DF16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D80D-6ED2-4DAF-B2A7-F39E9185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6D43A-6E3C-40B8-903F-DAED6E53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2F347-73D9-4F0C-9E8F-C07523D6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5E1E1-FC75-415C-965F-BF302074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3104C-860F-44DD-8A27-7C9809FD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0F1F4-BE4E-4695-8941-B2EA57DE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B20B9-75DB-4D99-ABC4-8BCCEBC8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BCD66-F1CD-4163-AF3D-DB946695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5568B0-DC78-40EC-B4D6-5BEC30A7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56EBDA-1D2F-4BCE-955F-69242D03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E95269-95E2-4181-8A85-0B24B926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A6A3-18CE-47E9-A6B0-E1F8E7A999B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35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9D31-B64B-4887-B42B-E57D8B912C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580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cc66ff"/>
            </a:solidFill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3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3794-CD23-434B-AE51-36C5E242C7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1896-7202-403F-B6DC-C869F1700E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E7BF-0E9F-40B7-9BB5-D7B0726CD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B235-F423-466A-BB6C-F83BAA27168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57B5-4C05-47B1-8F0B-F1088E92E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52BE-3D91-4FF3-9ECC-2230F217AA1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1269-98E9-467B-849F-8626B83D655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4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5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0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6A77-8110-4218-8D0D-2354257DB5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9CB0-23EA-48C0-AD73-10A052370D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14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18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20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2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2FC3-9827-41B1-967C-6A120447E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7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79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81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8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3914-CF41-4A48-950E-BA8A76FF9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3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ndce.edu.ru/katalog_img/cd/5002571jpg.jpg&amp;pageurl=http://www.capa.ru%2Fother%2Fprint%3Apage%2C1%2C9566-dal-v-i-tolkovyy-slovar-jivogo-velikorusskogo-yazyka.html&amp;id=34414497&amp;iid=0&amp;imgwidth=414&amp;imgheight=414&amp;imgsize=72976&amp;images_links=b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611280" y="1484280"/>
            <a:ext cx="7777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накомые незнакомц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старевшие сло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Богатыр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– необычный силач, храбрый воин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старевшие сло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316320" cy="485928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 txBox="1"/>
          <p:nvPr/>
        </p:nvSpPr>
        <p:spPr>
          <a:xfrm>
            <a:off x="4067280" y="1844640"/>
            <a:ext cx="4321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Богатыр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Витяз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Рат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старевшие сло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ерестали употребляться в современном язык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1476360" y="1557360"/>
            <a:ext cx="6481800" cy="25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1979640" y="2205000"/>
            <a:ext cx="5715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таревшие слов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менявшие своё значе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971640" y="316080"/>
            <a:ext cx="7200720" cy="622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Устаревшие слова,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   поменявшие своё значени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11280" y="1628640"/>
          <a:ext cx="7924680" cy="4668840"/>
        </p:xfrm>
        <a:graphic>
          <a:graphicData uri="http://schemas.openxmlformats.org/drawingml/2006/table">
            <a:tbl>
              <a:tblPr/>
              <a:tblGrid>
                <a:gridCol w="2641680"/>
                <a:gridCol w="2641320"/>
                <a:gridCol w="2641680"/>
              </a:tblGrid>
              <a:tr h="86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1" name=""/>
          <p:cNvSpPr txBox="1"/>
          <p:nvPr/>
        </p:nvSpPr>
        <p:spPr>
          <a:xfrm>
            <a:off x="1258920" y="1844640"/>
            <a:ext cx="11905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419640" y="1700280"/>
            <a:ext cx="23716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жнее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ч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6084720" y="1700280"/>
            <a:ext cx="23749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временное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ч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187280" y="3500280"/>
            <a:ext cx="1352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л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900000" y="2637000"/>
            <a:ext cx="1990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трен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1258920" y="4365720"/>
            <a:ext cx="1238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ле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826920" y="5373720"/>
            <a:ext cx="2267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уббот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419640" y="2637000"/>
            <a:ext cx="228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амороз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3492360" y="3573360"/>
            <a:ext cx="2048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уби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3635280" y="4365720"/>
            <a:ext cx="181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мна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492360" y="5445000"/>
            <a:ext cx="2324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сиде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6227640" y="2637000"/>
            <a:ext cx="2038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Празд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6516720" y="357336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Дура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6516720" y="4365720"/>
            <a:ext cx="145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Клет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6443640" y="5373720"/>
            <a:ext cx="1533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Убор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1763640" y="2276640"/>
            <a:ext cx="5905440" cy="1800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2195640" y="2852640"/>
            <a:ext cx="4771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имствованные сл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3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80360" cy="561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7632720" cy="544500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3"/>
          <a:stretch/>
        </p:blipFill>
        <p:spPr>
          <a:xfrm>
            <a:off x="6588000" y="3573360"/>
            <a:ext cx="13417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Корабль, стул, свёкла, брюква, кровать, икона, флейта, тетрадь, огурцы, картофель, академия, атлеты, гимнасты, комики, аскеты, хор, музыканты, таланты, лавры, гиацинты, нарциссы, левкои, герои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305080" cy="130500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 txBox="1"/>
          <p:nvPr/>
        </p:nvSpPr>
        <p:spPr>
          <a:xfrm>
            <a:off x="3203640" y="260280"/>
            <a:ext cx="3940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ре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256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Арка, рельефы, цирк, арена, акведук, фонтаны, юристы, капитаны, студенты, ветераны, форум, купол, мозаика, фреска, колонны, триумф, фестиваль, фантазии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3635280" y="476280"/>
            <a:ext cx="338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2773440" cy="18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Караван, канаты, сафьян, астролябия, шары, шахматы, бакалейны, базары, сундук, имбирь, мускат, фундук, диван, талисман, адмирал, сабли, арсенал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3132000" y="549360"/>
            <a:ext cx="51325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рабские стра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665440" cy="175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Фортификация, навигация, цейхгауз, табели, рапорт, гауптвахта, циркуль, инженерия, солдат, бухгалтерия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2627280" y="549360"/>
            <a:ext cx="5499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ермания и Голланд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549520" cy="170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Мадам, месье, ателье, корсаж, манжеты, колье, салон, фасон, парфюмерия, мода, маникюр, кашпо, жалюзи, абажур, кафе, бульон, фрикасе, пломбир, бланманже, элеры, безе, магазин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3995640" y="549360"/>
            <a:ext cx="40608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ран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704880" y="189000"/>
            <a:ext cx="14400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ahoma"/>
              </a:rPr>
              <a:t>Фортепьяно, пианино, концертино, рондо, сонатина, бельканто, сопрано, бас, ариетта, куплеты, соло, токкато, скерцо, баркарола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572000" y="620640"/>
            <a:ext cx="35179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тал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448000" cy="163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Банк, кредит, маклер, чек, бизнес, корт, теннис, ринг, боксёр, тайм, футбол, гол, рефери, матч, фол, пенальти, …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2519280" cy="15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1" name=""/>
          <p:cNvSpPr txBox="1"/>
          <p:nvPr/>
        </p:nvSpPr>
        <p:spPr>
          <a:xfrm>
            <a:off x="3708360" y="549360"/>
            <a:ext cx="3406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нгл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Аква-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1619280" y="2276640"/>
            <a:ext cx="6048360" cy="34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квариу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квапар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кватор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кварел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6588000" y="54936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Теле-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2268360" y="1844640"/>
            <a:ext cx="547236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лефо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леграф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левиз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леграм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6516720" y="476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6870600" cy="20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Прибор для ориентирования на местност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4140360" y="3429000"/>
            <a:ext cx="2449440" cy="218124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7380360" y="242100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122800">
            <a:off x="611280" y="1125360"/>
            <a:ext cx="1676160" cy="23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2" name="" descr=""/>
          <p:cNvPicPr/>
          <p:nvPr/>
        </p:nvPicPr>
        <p:blipFill>
          <a:blip r:embed="rId3"/>
          <a:stretch/>
        </p:blipFill>
        <p:spPr>
          <a:xfrm>
            <a:off x="3564000" y="549360"/>
            <a:ext cx="1582560" cy="230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3" name="" descr=""/>
          <p:cNvPicPr/>
          <p:nvPr/>
        </p:nvPicPr>
        <p:blipFill>
          <a:blip r:embed="rId4"/>
          <a:stretch/>
        </p:blipFill>
        <p:spPr>
          <a:xfrm rot="1406400">
            <a:off x="6443640" y="981000"/>
            <a:ext cx="171936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4" name="" descr=""/>
          <p:cNvPicPr/>
          <p:nvPr/>
        </p:nvPicPr>
        <p:blipFill>
          <a:blip r:embed="rId5"/>
          <a:stretch/>
        </p:blipFill>
        <p:spPr>
          <a:xfrm>
            <a:off x="3419640" y="3789360"/>
            <a:ext cx="1942920" cy="217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1547640" y="69840"/>
            <a:ext cx="6409080" cy="632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Знакомые незнакомцы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слушайся! Вникни! Не позабудь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У слова – свой норов. Своё нутро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И если ты в эти проникнешь суть –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лово тебе сотворит добро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725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500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500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500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4250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500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500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500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100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500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500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500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 txBox="1"/>
          <p:nvPr/>
        </p:nvSpPr>
        <p:spPr>
          <a:xfrm rot="21089400">
            <a:off x="321840" y="1031400"/>
            <a:ext cx="7559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тимоло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0" name=""/>
          <p:cNvSpPr/>
          <p:nvPr/>
        </p:nvSpPr>
        <p:spPr>
          <a:xfrm>
            <a:off x="1476360" y="3068640"/>
            <a:ext cx="6345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отдел языкознания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изучающий происхождение сл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3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3059280" y="3357720"/>
            <a:ext cx="2506320" cy="33033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4211640" y="2781360"/>
            <a:ext cx="698400" cy="7700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995640" y="476280"/>
            <a:ext cx="1152720" cy="2332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476360" y="2708280"/>
            <a:ext cx="2786040" cy="1008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859280" y="2637000"/>
            <a:ext cx="2952720" cy="1081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755640" y="1916280"/>
            <a:ext cx="5400720" cy="1368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1619280" y="227664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таревшие сл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626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9" name=""/>
          <p:cNvSpPr txBox="1"/>
          <p:nvPr/>
        </p:nvSpPr>
        <p:spPr>
          <a:xfrm>
            <a:off x="6588000" y="692280"/>
            <a:ext cx="208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е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5580000" y="2492280"/>
            <a:ext cx="27352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ушегрей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5580000" y="1773360"/>
            <a:ext cx="158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ич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3492360" y="4581360"/>
            <a:ext cx="1873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стн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395280" y="692280"/>
            <a:ext cx="16556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упру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435640" y="765000"/>
            <a:ext cx="976320" cy="341640"/>
          </a:xfrm>
          <a:prstGeom prst="leftArrow">
            <a:avLst>
              <a:gd name="adj1" fmla="val 50000"/>
              <a:gd name="adj2" fmla="val 71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356000" y="2708280"/>
            <a:ext cx="976320" cy="360360"/>
          </a:xfrm>
          <a:prstGeom prst="leftArrow">
            <a:avLst>
              <a:gd name="adj1" fmla="val 50000"/>
              <a:gd name="adj2" fmla="val 677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84720" y="1844640"/>
            <a:ext cx="976320" cy="287280"/>
          </a:xfrm>
          <a:prstGeom prst="leftArrow">
            <a:avLst>
              <a:gd name="adj1" fmla="val 50000"/>
              <a:gd name="adj2" fmla="val 84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211640" y="3284640"/>
            <a:ext cx="360360" cy="976320"/>
          </a:xfrm>
          <a:prstGeom prst="upArrow">
            <a:avLst>
              <a:gd name="adj1" fmla="val 50000"/>
              <a:gd name="adj2" fmla="val 677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476360" y="1268280"/>
            <a:ext cx="976320" cy="358920"/>
          </a:xfrm>
          <a:prstGeom prst="rightArrow">
            <a:avLst>
              <a:gd name="adj1" fmla="val 50000"/>
              <a:gd name="adj2" fmla="val 680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старевшие сло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ушегрей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телогрейка, короткая женская одеж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арч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шёлковая тка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ич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женский головной уб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аков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макушка голо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грузил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повис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ерстн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драгоценные коль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упру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лоб, хохо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7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7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8064360" cy="554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2" name=""/>
          <p:cNvSpPr txBox="1"/>
          <p:nvPr/>
        </p:nvSpPr>
        <p:spPr>
          <a:xfrm>
            <a:off x="2124000" y="260280"/>
            <a:ext cx="49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.М. Васнецов. Богатыр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6:51:14Z</dcterms:created>
  <dc:creator> Наташа</dc:creator>
  <dc:description/>
  <dc:language>en-US</dc:language>
  <cp:lastModifiedBy>Наталья</cp:lastModifiedBy>
  <dcterms:modified xsi:type="dcterms:W3CDTF">2005-12-31T21:31:58Z</dcterms:modified>
  <cp:revision>7</cp:revision>
  <dc:subject/>
  <dc:title>Слайд 1</dc:title>
</cp:coreProperties>
</file>