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gif" ContentType="image/gif"/>
  <Override PartName="/ppt/media/image4.jpeg" ContentType="image/jpeg"/>
  <Override PartName="/ppt/media/image13.gif" ContentType="image/gif"/>
  <Override PartName="/ppt/media/image16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AE7-1A8A-451E-8326-B70ADDD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FB9-B5FC-435D-A40F-37DBE0D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B41F8-5A1C-4196-BDFE-7FA1DF5A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A29C6-9D55-493E-801D-3300D327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792D6-5098-4A82-85E4-F9E34FB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B377-E11E-4ADB-AF0A-DE09EF9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EDD9F-A4B7-4D06-A8C3-3A7D0CC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F8F8A-D03D-4ACE-BF2E-C694E44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9023A-0970-48CA-8277-D880C81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143B3-94EB-4CBC-A64F-22522059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43163-41FF-49C1-BAF0-020D92DD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27539-D49E-4F88-8BBD-9C8917F8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2EC-E6D6-4588-8EFA-5C2A84A8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2C429-2376-4566-99A0-3149E2F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56C75-A35D-4CC3-8502-1F1D4F5F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48A1C-FE8E-44E3-9FD4-EDEF4B84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D2B01-6125-4E09-9C6B-C813954A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8C4B9-46D7-429B-9D54-30512BF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A9176-B653-47AD-9673-F009ABEA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D026D-1572-4BC6-9350-BF9176CD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950B5-7DC5-49FD-9B93-0E085C9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E0DFD-E3BE-47FF-9FA8-C4F983C5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38CCC-A722-4EAD-8A83-F93FCC33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C0B-E434-4CAB-8B5E-53CDB270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E3B0B-384D-4533-B7F6-4AFB9BDB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2963-127A-40B2-98F4-300DE16E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F595-960C-4526-B3D6-9FD1AFD5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2910-7C64-499C-967F-998F61C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6ED0-7C33-4845-B0C9-7B11EE9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466D-CCB4-443A-BC43-DCFF8FF8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09C4-9164-478B-B15D-F2D28AA0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123-065E-4914-8DBB-52ABC60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FDB-E0F2-4D31-9A1E-B8EE8381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938C-CA67-445F-80F8-4A685ADD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B8EE-ADFD-46D4-86F8-169B298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2429-E352-47F4-AF19-9FEE336E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BB06-9A1F-45A0-BF90-57D2B5F7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51E0-EF2C-429F-BE35-4B64A157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1EE5-651B-4507-ACC0-1BBBE0E6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3275-FAE1-459E-9BCF-2BEBC687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B8CE-FD9C-4ED4-A2FB-864BC0F4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4A07-6802-4600-8CA9-D89EC752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1B66-275D-46F4-8535-398FFB84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375-EACD-4575-96AC-432B3036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3216-E9AF-4A85-A6D5-06B20FE8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A164-E6ED-4045-B1C2-AB58939A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CC64-470D-401A-BACE-F71A57AC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7096-3588-4F38-887B-E0EF324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BABE-ECD5-4279-AC9D-A194F6F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C475-ECD1-431B-9310-B1FC2B04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5004-D742-4A86-9B3E-5C07F896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DC2F-70E5-44D7-B6D0-B3516C51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F526-AC08-4AF2-856F-F6A9E97E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B821-1C22-49D7-A0FA-73D58A96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5E6-8C3A-460E-8C33-C3B01E2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B877-8457-4EFC-B6AF-4D5B767A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AEAC-C30A-43BC-964C-21355436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2E71-BCA4-4344-B216-EE123D0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C6BBD-59B3-44FC-88C5-26E485F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9AEF-5E52-4FED-9BC3-CE3A88A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A9B2-4820-4C45-B62F-7D8B4BC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1C4D-D165-46A0-ADA9-98E1A74D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92E7-9341-46EC-AAF0-5A05E1D2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803F-1BCA-414A-8903-AA387E72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3F514-4D27-4985-BDEC-8278F046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42F-BF40-43FF-A6A4-01E0D9A5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F11C-B596-4799-8CCD-6E60C54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98D7-2BD9-4F96-A4D9-BECE7B86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B18D-3781-4128-9906-42CBA47E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DFEE6-8868-4BFC-8CB2-14439D5B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C3EA-D693-4074-8F79-3141085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11054-8D68-4074-B6F7-4C2D2128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1FDF-25D9-4D26-A6BC-9DD65791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A3FE9-146D-472E-9AA4-F885005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D9C76-F32D-4A27-98C6-7E78716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0BDC8-E9B1-44CB-B4C5-1FA3E12D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D15-AD08-465A-B109-0F44CE0C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39CBE-DCA7-44AD-9DAA-05E14AB6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4A6FF-9795-43B0-AC42-517167F3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593C9-DD7E-48EA-B1FF-F502FD6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081DB-BE5A-4BE1-A33A-AA3CB46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3EF0F-0808-4765-A6E7-EAFD8A5A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2E8B1-27B8-4323-A4F8-90DBE7A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6091C-A075-49CC-96EF-E49E854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448BA-EC50-4448-82FD-42390BD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0BD73-EA7D-48A5-874F-73385AE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CDF54-4703-4198-BAB7-6E7187B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522-5F1C-4B4B-A2B4-E4DCD53E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DE935-0BF3-4A90-9639-B26AC5AB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6755C-0E1E-436A-A1AA-CE1D10D5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658BC-28C3-496C-B860-65E996E3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09D4C-CCD6-49E6-BF5E-51197F60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A2500-E115-497B-868D-606EBD75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72B4-C9F4-4505-BF80-F445D81A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0231F-3856-4434-9BE2-949DAD74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B9D55-F31A-4ACE-BF25-8721931E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5847-0582-4E71-8877-68EABF83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984F-BAC2-4E35-973F-8B4C14A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5A3-D41D-433F-A48D-1819A6A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5E41-3A51-4A72-A838-16903A9A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1AF6E-3716-4739-B658-B7EDFCE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F180-9B6F-41AC-BEA2-84880B66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7C79A-EE19-4CC4-A38D-5BBBCF76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1597C-84F4-4CA5-AB60-4ECCCBD8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368CB-A68D-4D5C-A467-418BED63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C2DFD-A1EC-4096-A15E-721498A6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6A1C3-BC30-4007-B54B-3CE6E0F7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46507-8DDA-406B-BEFA-360567A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EFC1-7CD7-443A-A365-66907235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089-DE61-49EB-9A40-257292A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14F5F-579F-4885-B7CB-EAFA5EAC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4615C-79C5-4C12-B998-E46C3F2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7E028-281E-4350-BFA0-20C95C5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D6CAD-77B6-402C-B07D-7F35064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D642-8109-4168-9077-B1132469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66AA4-7009-42E3-8C87-5EE8F3C3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BB288-42A8-4146-A060-3A111E96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A4520-FB47-4560-AA1F-9B2CF43E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383B7-B6EC-4CA5-8B9F-2279893D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71886-0934-4779-9065-DA3B554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C65-AE96-470E-BDBD-81116125C5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3E4-E5A1-40EA-9878-B4CB310970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6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B25A-EDCB-4D3C-9066-AC4D7B47A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6DF-3B73-42F8-9623-1580B7F40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F6A2-45A2-466D-8450-16407E119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646-5359-425D-BC93-BBF59734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40C1-7F83-4FA6-856C-D147E983C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6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CF6A-4F71-455C-BC1F-AF3D78F7F9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A959-3FA8-45CB-A968-9CA8A2516B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F93-6F2E-485C-820E-241B65401F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22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68360" y="765000"/>
            <a:ext cx="835164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ы дети Галактики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71640" y="836640"/>
            <a:ext cx="675000" cy="5540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64360" y="5373720"/>
            <a:ext cx="961920" cy="914400"/>
          </a:xfrm>
          <a:prstGeom prst="star5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6920" y="58770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836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72360" y="47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7056360" cy="5949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016360" cy="20876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2987640" y="189000"/>
            <a:ext cx="19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истотель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728720" cy="1871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 flipH="1">
            <a:off x="2413080" y="476280"/>
            <a:ext cx="17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556000" y="404640"/>
            <a:ext cx="23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.Магелла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105440" cy="3600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4572000" y="2421000"/>
            <a:ext cx="4167360" cy="36003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H="1">
            <a:off x="3564000" y="3500280"/>
            <a:ext cx="1512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268360" y="5084640"/>
            <a:ext cx="1224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394920" y="4221000"/>
            <a:ext cx="180036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516720" y="3933720"/>
            <a:ext cx="2016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651640" y="508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788000" y="3933360"/>
            <a:ext cx="7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95280" y="573408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центрическая систем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03640" cy="26636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276720" y="62064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вдий Птолеме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2700360" y="404640"/>
            <a:ext cx="6048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лиоцентриче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089080" cy="2247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324000" y="2924280"/>
            <a:ext cx="21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перник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960720" cy="37324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36673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0" y="404640"/>
            <a:ext cx="37083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майл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788000" y="476280"/>
            <a:ext cx="3887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16000" y="277920"/>
            <a:ext cx="577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Телескоп Галилея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609 год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176720" cy="46148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243160" cy="22431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468360" y="2852640"/>
            <a:ext cx="23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лилео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лиле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00"/>
                </a:solidFill>
                <a:latin typeface="Times New Roman"/>
              </a:rPr>
              <a:t>Скорость движения плане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1. Меркурий: 88 суток (48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2. Венера: 225 суток (35 км/сек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3. Земля: 365 суток (30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4. Марс: 687 суток (24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5. Юпитер: 4333 суток (13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6. Сатурн: 10759 суток (10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7. Уран: 30687 суток (7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8. Нептун: 60184 суток (5,5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9. Плутон: 90700 суток (5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8" dur="3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2" dur="3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0" dur="3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4" dur="3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86" dur="3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6084720" cy="4680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1042920" y="404640"/>
            <a:ext cx="65232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гант - Юпитер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479520" cy="431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547640" y="2133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19280" y="191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объему Земля меньше Юпитера в 1310 раз, а по массе в 318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8:34:09Z</dcterms:created>
  <dc:creator>ученик</dc:creator>
  <dc:description/>
  <dc:language>en-US</dc:language>
  <cp:lastModifiedBy>Наталья</cp:lastModifiedBy>
  <dcterms:modified xsi:type="dcterms:W3CDTF">2005-12-31T21:48:08Z</dcterms:modified>
  <cp:revision>10</cp:revision>
  <dc:subject/>
  <dc:title>Слайд 1</dc:title>
</cp:coreProperties>
</file>