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gif" ContentType="image/gif"/>
  <Override PartName="/ppt/media/image2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gif" ContentType="image/gif"/>
  <Override PartName="/ppt/media/image4.jpeg" ContentType="image/jpeg"/>
  <Override PartName="/ppt/media/image13.gif" ContentType="image/gif"/>
  <Override PartName="/ppt/media/image16.png" ContentType="image/pn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5CB-E7FD-49D1-B36C-F0E8EB07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0A7-F662-429C-8A4F-82FE1C94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86B54-FE48-4F13-8EC5-DE1E6E9C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3C5A4-9DEA-49EB-BE15-CB2D0919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09033-BDE3-4B7F-B49C-D3EECE0E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B9F0B-9B99-4B48-B825-60DF1C94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F8DD5-5972-41B6-B09D-50E0FA37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45479-75BA-4B5C-B5C6-111809DC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30D17-57D4-4553-8E59-3182374F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3EAA1-2C35-4B35-8CAE-20B97E50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C5886-80A9-4E86-8CFD-77A5FB68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8D14F-2A1E-434B-9C47-57B36F40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5B1-1EAC-4CE1-A356-29F5F405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FE0B2-454F-4EB8-A2CE-D4E92A0E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A63D3-EF1A-41CD-8164-BA82891F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08D4E-635E-4990-9132-A1F124E4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03556-6442-4537-881D-E973436D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23435-9FF5-4B6F-A872-5FB6A95E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0DD2A-286A-4C5C-90C0-8E4EFD59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2B2D4-0727-47BA-8CFD-D7194DB5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49DC1-26C4-4585-AD0C-FA2090FB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FEFA2-8D26-440B-80CF-C25244A4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352E1-3A7F-4F13-A6B6-6D2AB4B7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6AD-D817-43DF-A1E2-0C1AADDA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E9157-8CEA-4C03-B01C-DFC98A9F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B4F8-3941-407C-89A3-387F538A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9652-C80C-4651-8006-ABA8BB96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EAA1-9D71-4412-BE1E-5AF6AF49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9BB8-3E08-4C2A-A40E-FAACF8D3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749C-1BE2-4167-AC4B-068E7B36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5D59-1C52-43ED-B648-B70939EE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CB68-01F8-4BEC-8E6E-326D6763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A98-62E3-4D91-88E3-F6276DA0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4692-9B10-477C-B197-0D49AC64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8D26-24E0-462F-B462-7D21420B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7763-1E56-4D20-84D7-CB33CF60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BDFC-BA1D-4A10-BC08-AFB201F5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6390-B7BE-4C10-98D8-675AE3DE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354DF-7450-4A79-93FB-943C0E98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EE017-6AAD-43F5-BA0D-3F834409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82843-0C20-45BC-8446-57415C21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AB85-D09C-4639-ADC5-5F05FDA6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D69DB-4AF1-44DE-83B6-5580E7F2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ACE-379D-4779-95AD-D668C128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3540-E5F2-4E72-AC82-2F5B2806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F7F82-E758-4578-AD11-DEA25FE2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F4DE-87F0-4495-8635-F89DE198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A605-7512-4CF3-B4C9-979A28D1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CA91-CBC1-45DF-81EA-075B6C7C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81AC6-7CC3-42CD-8BD4-A3E8FD4E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00E07-2DD2-42EB-8419-796D10A7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E3F97-63F3-414A-9F8B-4928D81F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5C448-C2B7-4CFE-980A-DAD56A2A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711CD-D5F4-4944-95D8-B90C485D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6E6-E2CE-40C3-A13A-DEB60F61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0865B-9E38-49F9-BBE9-CC512693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B80D3-0AF5-4427-8F0D-36991401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7C7DD-E238-427B-A3F7-7A4623BB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B143B-C00E-459A-B1C3-6CB257E5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2C8F9-8B52-402E-8E9C-D86D83DD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4FA6F-994C-4CFF-907C-E1C3B9B2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38478-7CDD-43C9-AA92-24F83BDB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1FDD6-D527-45AA-98D8-8D2BDE15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5FB7A-3D4C-4EF9-90D8-599283C1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15BE7-536A-4C6B-99CD-DF3A1282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314-B583-4F75-BEBF-F1BC637C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65612-C7F5-492B-8C04-51073BCE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34AC8-96A6-4F60-932D-64D229B1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82473-3D02-4A41-9C11-0C46559F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C044A-8D88-4FEF-B0E3-BBE7834F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DEEB0-40F1-45DD-BD9D-2B4EF046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51052-8A34-4B4D-A74B-9BA1622C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A620D-8331-4CA9-8C14-D0CA79A1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25F12-D06B-4043-9E5F-24F668AF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47ADE-F253-4A01-8656-1A8E098C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0C317-EAE6-4910-BC8A-E1D1862C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FD9-D41F-4DAB-ACF2-41C4DAE6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4F2FF-66B2-4DCF-81AF-697BDBBE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81AD36-18F4-49A1-BEBF-07C25F53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008CE-C1D5-47B3-A3A4-1B7E23F4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928CC1-08A1-4F4F-9369-33FA9AC2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343E6-6D4A-4BA8-AE0A-311AE9BF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492F74-DA2B-49CC-99EB-FFA6E01E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A880A-167B-46E9-8615-4D617AE2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AAB81-BBC8-47EE-89A3-3FF7BCFF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134C0-AB73-4AC3-88FE-EAB4131F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BADFE-B634-4E83-8CEC-1C419DEE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A43-57E3-4C3B-98B0-B2EA76E2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855743-3947-4E35-A528-ACE98552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CD919-F331-4F3C-B036-2FD545EC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3E8CF2-3916-4977-9ACD-EB5D7841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D5F79-176C-41D9-9E26-70C72785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ACA24-0BAB-4A91-BC50-BEAF4147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2DC4A-1062-46EA-BC64-C4402112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B694A-2125-409D-B3CF-DC64A40D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19DC8-2419-4AB5-B654-B4449452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85FDD-9B39-4988-B326-D5C1754D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C0C72-5094-46ED-A3F1-DA904E7E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BCF-5687-4C0D-9920-FE1C83FB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FD141-A4CC-4F19-A594-69A9154D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0A354-A087-45B4-A5C8-E8037976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EB7E8-108C-4989-BD7E-76C3E826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52F3E-D876-4C78-AFDD-27C973F1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2D368-B8B1-45CE-AF1E-49D9A4A1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CAFD8-8EC6-4D71-BC21-BE1CE6EA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36DD1-519E-464E-824F-934731FF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B3A41-2CEC-4B75-B09E-652106DB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D2951-40EF-4574-B070-2C09B0AC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0CE7C-E129-4F1F-92E9-98A90F8E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E879-7160-429C-83FB-07E5B086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CB93D-7BA0-41CA-9AE8-35D06D3E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BFBE2-7DCB-440E-80F6-ED7A05AC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EFDC9-2B93-463B-976D-641C6B67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BD45F-8E2C-414B-B395-4FB5F3F5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4E7A3-4C89-4DD6-BCD3-B668145E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7747A-EC9F-42B6-A37E-4CE88DE2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2187A-F850-4F92-B519-1F7EBAB7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93C0F-427A-4E37-A5F8-CFF89236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ACB1A-351B-4D74-A5BC-3F2AC1BB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BA897-AE83-44C3-93F7-EEA68789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0CE5-31BD-41A6-98F5-33FF150C8F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6029-A1BC-4D33-9ABC-BF97EB6CF0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69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A4C9-9EED-4576-AAE4-430C53EBB6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165F-B387-43F7-9E3D-DDF3CCD9E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A45C-4C6E-4798-86BB-F782EDD3B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EB4D-1D5A-4E11-8715-647745395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7922-5985-471B-8BAF-74DF0A44C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6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6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9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9065-364D-41A5-B3D3-9488F41BF1C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4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7433-D1C0-46B9-97DE-FED7A696ECC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A39B-D782-49A1-81B4-A414987D2B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22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9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68360" y="765000"/>
            <a:ext cx="835164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ы дети Галактики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771640" y="836640"/>
            <a:ext cx="675000" cy="554040"/>
          </a:xfrm>
          <a:prstGeom prst="star5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164360" y="5373720"/>
            <a:ext cx="961920" cy="914400"/>
          </a:xfrm>
          <a:prstGeom prst="star5">
            <a:avLst/>
          </a:pr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26920" y="5877000"/>
            <a:ext cx="96228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148360" y="5445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372360" y="47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7056360" cy="59497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016360" cy="208764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2987640" y="189000"/>
            <a:ext cx="194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истотель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728720" cy="18716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 flipH="1">
            <a:off x="2413080" y="476280"/>
            <a:ext cx="179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556000" y="404640"/>
            <a:ext cx="237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.Магеллан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179280" y="2421000"/>
            <a:ext cx="4105440" cy="3600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tretch/>
        </p:blipFill>
        <p:spPr>
          <a:xfrm>
            <a:off x="4572000" y="2421000"/>
            <a:ext cx="4167360" cy="36003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 flipH="1">
            <a:off x="3564000" y="3500280"/>
            <a:ext cx="151272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2268360" y="5084640"/>
            <a:ext cx="1224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394920" y="4221000"/>
            <a:ext cx="180036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6516720" y="3933720"/>
            <a:ext cx="2016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5651640" y="508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788000" y="3933360"/>
            <a:ext cx="7207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95280" y="5734080"/>
            <a:ext cx="835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центрическая систем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303640" cy="26636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3276720" y="620640"/>
            <a:ext cx="381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авдий Птолемей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3851280" y="1773360"/>
            <a:ext cx="460836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2700360" y="404640"/>
            <a:ext cx="6048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лиоцентрическ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сте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089080" cy="2247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324000" y="2924280"/>
            <a:ext cx="216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колай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перник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2987640" y="1700280"/>
            <a:ext cx="5400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5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960720" cy="37324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366732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0" y="404640"/>
            <a:ext cx="370836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майл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788000" y="476280"/>
            <a:ext cx="388764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916000" y="277920"/>
            <a:ext cx="577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Телескоп Галилея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609 год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176720" cy="46148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243160" cy="22431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468360" y="2852640"/>
            <a:ext cx="23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лилео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лилей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00"/>
                </a:solidFill>
                <a:latin typeface="Times New Roman"/>
              </a:rPr>
              <a:t>Скорость движения планет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1. Меркурий: 88 суток (48 км/се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2. Венера: 225 суток (35 км/сек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3. Земля: 365 суток (30 км/се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4. Марс: 687 суток (24 км/се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5. Юпитер: 4333 суток (13 км/се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6. Сатурн: 10759 суток (10 км/се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7. Уран: 30687 суток (7 км/се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8. Нептун: 60184 суток (5,5 км/се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9. Плутон: 90700 суток (5 км/се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54" dur="3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58" dur="3000" fill="hold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2" dur="3000" fill="hold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66" dur="3000" fill="hold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70" dur="3000" fill="hold"/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74" dur="3000" fill="hold"/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78" dur="3000" fill="hold"/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82" dur="3000" fill="hold"/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86" dur="3000" fill="hold"/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059280" y="1844640"/>
            <a:ext cx="6084720" cy="46800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 txBox="1"/>
          <p:nvPr/>
        </p:nvSpPr>
        <p:spPr>
          <a:xfrm>
            <a:off x="1042920" y="404640"/>
            <a:ext cx="65232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гант - Юпитер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826920" y="2421000"/>
            <a:ext cx="479520" cy="431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547640" y="2133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19280" y="1916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 объему Земля меньше Юпитера в 1310 раз, а по массе в 318 р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08:34:09Z</dcterms:created>
  <dc:creator>ученик</dc:creator>
  <dc:description/>
  <dc:language>en-US</dc:language>
  <cp:lastModifiedBy>Наталья</cp:lastModifiedBy>
  <dcterms:modified xsi:type="dcterms:W3CDTF">2005-12-31T21:48:08Z</dcterms:modified>
  <cp:revision>10</cp:revision>
  <dc:subject/>
  <dc:title>Слайд 1</dc:title>
</cp:coreProperties>
</file>