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24DA-6A9F-4974-8E01-98CB9F0B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5359-87CA-4851-BAF2-D0D00662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4859-95EE-4B66-BF9F-EB8A6265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EA2F-5D53-4AAD-B839-50A674EA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A6BD-A342-4773-8516-98BE283F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5E1D-1BE1-40DD-9960-718BEDB9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DF56-4673-4E4C-BEC1-D9A76AFA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7F06-97D4-4583-ADEF-FA638E52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97E4-4D01-4898-B807-C134F7B8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DF10-FE6A-4F93-8ADE-B0C4579D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BC7E-D47F-4BD1-8D39-93F4D5F4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0D50-8A1C-41E5-9F0E-4FF21D2A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8841-E2D4-4450-BE9F-11279013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5EB4-5457-4521-AD72-634CBA4E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9463-3615-441A-9392-A495B476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CD0F-6DFC-4AF8-B299-B2D9AA54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DD12-ED13-42B0-B081-D5F9F113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C514F-06F7-4BFF-9905-103CE448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2500A-2022-4564-AD17-03BEFF30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9DB07-4DE6-4F4E-A163-491F4DCF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8B0C6-7E83-4303-947F-B4367DA2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8E1DF-C4D2-4124-9488-03EF95EB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EE25-6382-44E0-9DC0-69921286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F63FE-121F-43DE-B9C5-2EE2C825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DA0AA-2A17-4E8F-8D99-81B4E445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0761D-3F22-48D8-9F9A-32169897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D1267-BE82-4487-868A-45EBDF47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BE630-D634-4862-8DCA-669B3537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1D502-2AF6-4656-A720-5151C038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FA3AA-8BC8-477E-BC74-7178F2C5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6FF08-1E79-4CAB-A07F-4C634BBF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57CEE-68CF-43E6-8A3A-D6B750CB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8B5F0-A022-4AC0-BBE6-51AD9288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8809-0358-4362-8BB7-7EE30AB3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A09C9-E100-4B8D-853B-65F85FA8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733D7-DFF3-4631-9BCF-C48E0C5A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CD767-069C-4486-BABB-430B159F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0EED7-354D-4A7C-9680-8F70F13E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6DD49-7732-41F9-9B16-E8455014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F8466-2478-46AD-BA3F-55828D8C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E8C07-4AF0-4AE1-9016-7D4D01EF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F5223-F253-4CF9-BD52-B4F48192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EC314-4299-43FB-9335-F14A32AF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943A2-2C13-47E0-8EEE-3141497D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AAB-4CE0-437C-8E56-D916EA3A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7F4A6-EA31-4AE7-B7DC-2FE08067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AD862-0258-4441-9CBF-ABB59B8E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3E003-F382-40A0-B5F7-6B6C3C65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F1522-481A-4AAD-91A0-9BD375D8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3C37C-9625-484E-A8CF-5480CBDD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855A4-A20C-42BD-BCC7-C09BF53B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A176D-3440-44C5-8C4D-255C6B5C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6D77F-7B00-400D-BD1E-E01CF7AF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86E86-9CBE-4385-B977-5ADCB384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24AAB-1D0B-4A07-929A-D5F44051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82DA-7406-4063-B422-76D8CE78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16C52-FD52-47B9-BABC-E04C9BA6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F0B11-D390-49C9-BCF1-D39F307A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F8654-9F6E-4C9E-AC9B-9BDA1A8C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5C768-5E2E-4B8B-A9C4-693B6622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5491E-C92E-40B7-A32E-3B7E39A6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9EBDF-1EAB-4282-9ED8-B3488E43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763D4-612F-4180-9BEA-205D0105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EBF61-94A1-426E-B373-2B1BA64A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2AEED-AD39-4FF2-B389-EBD7D90B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19065-B3FD-47FE-BA85-521B9278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D03E-D01C-4FB7-A488-F985DFF2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C92ED-1276-42BF-AC7C-D7EB86AE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54A28-AD29-4CD7-8AA8-2D0C12BB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4C3D3-5D67-4322-A9D1-316B7D09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D95A5-D4CE-4CA4-8196-832EA782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C4A1F-65EE-457C-871C-60B3828A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68681-8823-4F72-AA1B-C1BD3701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F662B-77CE-49B8-862E-F8C8BCCC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E872D-29D9-4DDF-812D-65FBA258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E37B4-15AE-4086-B24B-E48EDF04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85F21-E9F5-4549-A590-239F2BAE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30B-5F2B-45B5-B535-3BFCE553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28739-4D6C-4F10-8FCC-58743F4E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EFCFF-686A-431B-9777-F244496A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6AB8F-1777-48FE-8EAF-37638D87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FE776-E9FB-44D0-920C-27BE7041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DAC5C-94C1-4600-84E1-DF5E3CA8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BE4C-6C09-43C4-B0FF-BB618EEA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62D4-2700-4D6C-90BD-2EC7BBF766B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2A05-A7A7-4D42-BD31-5AE08B9139D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4955-2986-4EA4-9214-4F033EF7362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D6EC-7D3C-4B8E-AED7-3A39A5B8FB1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858D-1D5E-4DAB-B6EC-C0C77D45D49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6C64-CD8B-4586-B0F9-9BE8E16B05B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BF66-2FB8-4B4C-A0AC-6B77BB08A7C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ятельность – способ существования человека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озн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сущая человеку способность воспроизводить действительность в идеальных образа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ятельность-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рма активности, направленная на преобразование окружающего мир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труктура деятельност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2" name="Содержимое 5" descr=""/>
          <p:cNvPicPr/>
          <p:nvPr/>
        </p:nvPicPr>
        <p:blipFill>
          <a:blip r:embed="rId1"/>
          <a:stretch/>
        </p:blipFill>
        <p:spPr>
          <a:xfrm>
            <a:off x="1414440" y="1444680"/>
            <a:ext cx="754056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ерты деятельности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4" name="Содержимое 3" descr=""/>
          <p:cNvPicPr/>
          <p:nvPr/>
        </p:nvPicPr>
        <p:blipFill>
          <a:blip r:embed="rId1"/>
          <a:stretch/>
        </p:blipFill>
        <p:spPr>
          <a:xfrm>
            <a:off x="1414440" y="1378080"/>
            <a:ext cx="759636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требности-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то переживаемая и осознаваемая человеком нужда в том, что необходимо для поддержания его организма и развития личнос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лассификация потребносте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Содержимое 4" descr=""/>
          <p:cNvPicPr/>
          <p:nvPr/>
        </p:nvPicPr>
        <p:blipFill>
          <a:blip r:embed="rId1"/>
          <a:stretch/>
        </p:blipFill>
        <p:spPr>
          <a:xfrm>
            <a:off x="1427040" y="1090440"/>
            <a:ext cx="751536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казываю влияние на деятельность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требн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терес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Ценн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бщение-</a:t>
            </a: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оцесс обмена информацией между равноправными субъектами деятельности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щение между реальными субъектам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щение реального человека с воображаемым партнером(человек и внутренний голос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щение реального человека с иллюзорным партнером(человек и животное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Трудовая деятельность. Структура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Содержимое 3" descr=""/>
          <p:cNvPicPr/>
          <p:nvPr/>
        </p:nvPicPr>
        <p:blipFill>
          <a:blip r:embed="rId1"/>
          <a:stretch/>
        </p:blipFill>
        <p:spPr>
          <a:xfrm>
            <a:off x="1427040" y="1432080"/>
            <a:ext cx="751536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3:11:17Z</dcterms:created>
  <dc:creator>Admin</dc:creator>
  <dc:description/>
  <dc:language>en-US</dc:language>
  <cp:lastModifiedBy>Оксана</cp:lastModifiedBy>
  <dcterms:modified xsi:type="dcterms:W3CDTF">2011-07-24T06:44:42Z</dcterms:modified>
  <cp:revision>3</cp:revision>
  <dc:subject/>
  <dc:title>Деятельность – способ существования человека.</dc:title>
</cp:coreProperties>
</file>