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9AD-778B-4161-BB7E-704AF2EF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D19-05DF-4523-878D-C38CE666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CFD-A253-494B-8B3B-2E8112C11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9EE-63D3-41A3-848A-FEE42974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3387-88A2-4855-8874-6DF2CDD5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C57F-FEDB-4D8C-A221-B3E6BD60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B289-95C3-41D0-A168-6EC99F26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0ED4-CAF2-4BFF-9FFF-D666E5D8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31B0-298E-4528-AEB7-8B19AEB8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31BE-3997-47F7-83CA-9E31F6B5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19D9-57F7-42CE-AEDA-720253C6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F3B-CE28-4D54-BE59-4DEAD847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CF10-296C-4D97-8910-8C7BB5AC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1577-DE43-45F3-AFE6-B71E50D9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7763-8034-4BF8-8183-E3A78A01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5DAA-153D-43E1-A11D-CDE8967F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350A-2F9B-49BB-ADD1-4C0D7431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6E90-1633-4707-840D-6EB3D656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3173-6480-4F00-B1C2-5B61D9E0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07D9-B189-4E38-849A-5EE6D8A9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5B493-FE99-4CD8-AA89-242A50E9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093AA-693A-4811-B8F2-C254A2AD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5EC-1AC7-4168-B29D-40FE3677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C5934-1E75-45A8-A55D-6B129E22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5A88-34CB-444C-BDDE-9A62985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348F-8529-4777-99AB-7F75E339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6B88-9253-4B69-9C49-2E4C4328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7E45B-8635-4D99-BBEE-B23E0E22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2CFA-CB64-45B4-83F6-B6A65232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8E37-08A2-4D3E-9259-893867C6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FB489-C5DC-4392-8CDB-24177BB1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BAC0-0E35-4562-9864-5D4A2B86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C326F-6951-4F02-AE51-503AED79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6CE-744D-49CC-AD4A-84A38DBF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7FDD-1AE1-4032-AE39-7AA5A701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D40B-FB9D-450F-B649-3D3760CC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80606-0210-4F35-A767-3685515C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AEB2-79DB-49C7-84D4-6B616A66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B41D4-9039-439E-B893-1B0921FA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C087-CBFA-4E35-A72E-F6329C99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60CC8-1D80-4CC4-A600-E481CDAB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F9B45-E4CE-4E1F-9633-CA23B9E9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3E1C0-D312-4BC0-9054-F055440C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A0D16-E93F-4796-B7A3-B3D68A6B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A16-9845-497D-A3C2-A5A6CABC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AF0D-75A4-43E5-8CCD-A7237F79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BD629-6769-4BCE-BDA3-C1208C2B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2F772-BB7E-42BB-9AEA-A3412403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8AE19-7727-44D5-98BA-465D7B6C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E25C9-FD11-4D3C-A10B-D315FF2A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A6EF8-6F52-46D5-A784-230905FD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E4C14-7F67-4AB2-8398-700B37A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0D30C-EB3B-4E3D-94D4-7204DFFC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34AFF-148C-4D52-B197-1FD52A95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A520F-A006-49CB-ABAD-8DFE3519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77A-CD47-48EA-87CD-B0DF0C12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C63B2-8899-4371-91F9-13FDE743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8CCCC-CE6E-44A1-83A1-42AF0F18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211A6-776F-4F7E-9810-2B609866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3EB58-3F01-4C5C-8F84-52D690A5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0AADF-5AAF-4C39-AB59-B0A952C4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ECC2F-A028-4433-BE34-7F385300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8C04C-45CF-471A-B0A0-A3547CAE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66AC9-883E-4E9E-806E-3931CF73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38F39-CE4C-449A-9CB4-7AA84F7A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3D802-8B71-48AD-834C-C514AD44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C41-4125-4828-8B4E-4DADF861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405A-9A53-4809-A040-F909D50E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6D369-D215-488A-A0B9-30ABBDDF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DC544-98BC-4206-B0F6-35109FFF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41C0-28ED-45C4-BB79-82F4DA7F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0608E-67BB-46D1-8BB0-48ACF082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0ADAA-E235-46E8-95F9-B23CCC9D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7F627-555B-4C95-999B-F6E5D083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56061-CFB0-4D69-977A-86DEF321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4B264-4312-49C0-949E-5FCD2D39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DB779-41FE-4A0D-9B58-0F677662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BF1-4046-490F-A483-4430B978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D36FE-313A-44C1-B118-F479405A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6224F-9BD4-49DF-9082-A249250D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6F0D5-D17E-499A-BB7E-B6BCA701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A8342-70C5-45D8-872C-EFD461FD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3CBD2-B6E2-495D-A1FD-BAB7113C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8D1-7CAE-4E27-9687-094EB3CF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5566-CB42-49D6-AE12-C04285C61C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953D-AAEF-45F8-AF65-8D943E961B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8306-BA01-4422-A8FA-D00214E173E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D97E-42A4-405F-9CCE-C59014096AD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DAF4-E950-44DE-ADC7-F2A606474A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33E6-6C31-4E86-B375-8983DC4E35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0590-B87D-417B-B568-6B9EBB3657B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 – способ существования человек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озн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сущая человеку способность воспроизводить действительность в идеальных образ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еятельность-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а активности, направленная на преобразование окружающего мир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труктура деятельност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5" descr=""/>
          <p:cNvPicPr/>
          <p:nvPr/>
        </p:nvPicPr>
        <p:blipFill>
          <a:blip r:embed="rId1"/>
          <a:stretch/>
        </p:blipFill>
        <p:spPr>
          <a:xfrm>
            <a:off x="1414440" y="1444680"/>
            <a:ext cx="75405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ты деятельности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Содержимое 3" descr=""/>
          <p:cNvPicPr/>
          <p:nvPr/>
        </p:nvPicPr>
        <p:blipFill>
          <a:blip r:embed="rId1"/>
          <a:stretch/>
        </p:blipFill>
        <p:spPr>
          <a:xfrm>
            <a:off x="1414440" y="1378080"/>
            <a:ext cx="75963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требности-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переживаемая и осознаваемая человеком нужда в том, что необходимо для поддержания его организма и развития лич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лассификация потребносте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Содержимое 4" descr=""/>
          <p:cNvPicPr/>
          <p:nvPr/>
        </p:nvPicPr>
        <p:blipFill>
          <a:blip r:embed="rId1"/>
          <a:stretch/>
        </p:blipFill>
        <p:spPr>
          <a:xfrm>
            <a:off x="1427040" y="1090440"/>
            <a:ext cx="75153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казываю влияние на деятельность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треб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рес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нн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щение-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оцесс обмена информацией между равноправными субъектами деятельност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щение между реальными субъектам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щение реального человека с воображаемым партнером(человек и внутренний голос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щение реального человека с иллюзорным партнером(человек и животное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рудовая деятельность. Структура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"/>
          <p:cNvPicPr/>
          <p:nvPr/>
        </p:nvPicPr>
        <p:blipFill>
          <a:blip r:embed="rId1"/>
          <a:stretch/>
        </p:blipFill>
        <p:spPr>
          <a:xfrm>
            <a:off x="1427040" y="1432080"/>
            <a:ext cx="75153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3:11:17Z</dcterms:created>
  <dc:creator>Admin</dc:creator>
  <dc:description/>
  <dc:language>en-US</dc:language>
  <cp:lastModifiedBy>Оксана</cp:lastModifiedBy>
  <dcterms:modified xsi:type="dcterms:W3CDTF">2011-07-24T06:44:42Z</dcterms:modified>
  <cp:revision>3</cp:revision>
  <dc:subject/>
  <dc:title>Деятельность – способ существования человека.</dc:title>
</cp:coreProperties>
</file>