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9D1-CB95-4024-9F87-5CBCEE3D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1B5-D9D1-47D7-A2DB-C6541BFA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8D8F5-E6CE-445F-96A6-43846890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D84B4-3ED5-4E61-8FA9-14E55F53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C8C6E-27B4-4EE3-A095-88ADC479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85106-C2C8-43CB-A546-52FCF73A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49EF7-3D5C-425D-920B-CA9102A7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77CDE-14E1-4C03-92FE-369FE30E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3AB75-AF75-447F-80F3-ACB518FC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2B4D6-F35F-4963-B745-5BE8D66D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750C4-A0A3-41C1-BE70-4AE93529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38858-EDE9-464F-AF2D-78C7F96F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2E8-BCB0-4AD7-8EAD-84A946D8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356A5-B90A-4D07-9020-584D684C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FA1E2-1A67-4307-906C-5754BED2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9AF90-F3C3-4EFC-B0BA-81D7FBE3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08267-A2D0-409D-AB0B-6FC94C99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D3554-1FF7-46F0-9563-DD3D8B6A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1EF8E-06DF-4CF7-9FF9-63FCDF84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54D10-26CA-4BD9-879B-5CD4820E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82821-1589-44C7-9648-82FC29A1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274C5-728F-47D8-A9CB-9896911C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9E758-19AF-47AE-BB07-03F77693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0CE-FDBE-4C0D-8D9B-BB67D692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15ACD-6635-40A0-A897-28B67760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AB351-80C0-4632-B202-1F60348A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A9175-4027-4546-B426-D79302B3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AE2DD-B6C1-402C-85EE-F26097D5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50772-8F1D-46BE-BD4F-FC312097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82FE7-E0E6-491F-8F3D-6F111099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6BDC5-622F-41ED-8D96-85DBD021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18933-7182-4B70-9855-82597C8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FAFB3-5BCD-4B74-8096-9C5AE2BD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0C14C-1ECD-4D77-94C2-A768FBE6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60C0-BED3-4D05-8E49-CB5ADEBC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637F8-084D-4CE6-B61D-15A99840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C9A0B-65FB-4E3C-B50B-C9724375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BCF2D-8C8B-4D13-B912-CC306508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0F1D9-C849-47F6-BA65-2FA14B1E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86C61-2E33-494A-B226-4A145B90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B6310-6361-416F-8EBB-21312975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BD5A5-0CD6-4557-A504-15654ACF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75D22-0F66-4BA5-B19F-3D8BD500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491EA-8890-487F-8F3C-F8521746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6CDE8-DA51-46ED-A3AC-6880F146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B3F6-E5CB-4E3A-9FD3-9220CAC6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A15A8-7846-4EF4-866F-06FAB069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4704D-F2C7-4B7E-AD3F-6891B3B2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851F9-E850-44BA-8AAC-0A855D31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B5A52-8317-4FE8-A731-5F0CA295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F9B41-8A88-4C2A-8FCB-584AFA72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75CD-4F4B-4402-9F63-5B6650B9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C765-CF78-48D1-8D82-17E5A7DC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5F9C-56D3-470F-A868-2E7FCD69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3F05-0DBB-40AE-AA5D-1B65979F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ACB2-36B1-414E-9A43-7AAA90C1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983-5ECB-4D48-8848-8DC339E0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3250-880D-4976-8E75-BAA5849A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9094-2D4D-4513-A997-2C3E9812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09E4-3BF6-4083-9A5F-72FEC8A8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5652-3C84-4CD4-BB45-D04C1E74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186A-CDF7-4CC6-B366-D7C183EF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9CDBF-D9F6-4BF7-84BF-5177ABEC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BBA7-B682-46FD-BB37-34D431E3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1828-A41F-447E-9241-E6C9CAAF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7AF4-05E8-43D1-96C7-8778284D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59C99-8E57-47EA-99DF-3E367A19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384-EC45-4CD3-8E9F-809C9B20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09C9-50EE-45F1-917B-30F22A07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F0495-A940-43F0-ACC1-16FCE4B2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C1A48-961C-4AAE-9E8F-E7406D78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3FEC1-38BF-4E33-A464-2D3D059A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1029-835C-4BCE-A5C2-5B130D7C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2D24E-0A41-4E50-B1B5-7DB3BD35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825D-4658-48BE-B193-DF426092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7800-963D-46E3-9F98-23554C9B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35120-74C8-4070-91A5-DCCD6A95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56C87-0086-4DC4-AF98-BE85E964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E5A-9326-4640-881D-60DA4E66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622A5-D112-4B4A-9AA3-F14708A9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29A1C-D027-42D8-9B10-B1F37E76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82296-1A06-4C49-840E-7B7D5889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46A50-3FE6-4270-B5A2-5D4675E5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0C995-0177-4AAA-AD08-A5E07500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14884-E3AF-4A17-8A0A-7D19435E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180C-1E3E-4C38-B5AA-7A8969E4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88E81-FBB2-4E7B-846F-3384774E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8DC46-5D24-4DBE-A33A-0A49A5EE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49E63-A544-4C68-B86A-4922B615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20C-CE74-4A00-8C33-7182E9DE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B5AEE-BBEE-4FF9-88E0-38B86CBC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B54B-D67A-4BD4-BCA4-190F2749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B18BD-CF84-431F-AB9C-323E5BB2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94E9E-A77F-4A68-B236-77EE1A24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7C72B-C5E7-4E3A-837E-D4064895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C07B6-0309-4372-A37C-B2265A0D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036FF-C9E5-4E06-8E73-AF094CF6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C2CF0-B3E5-48FB-9A6D-BA3967E1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6D1C0-9597-4D0A-B1C5-37971D96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4B4D2-66D4-4A36-9222-9FF85532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A35-A187-42FD-B922-716DD5AC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1328C-EEB7-4E5A-B508-C36B8A0B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0D04C-6BAC-4C56-8FA4-6D75DFE6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BA53C-8B6B-4F5F-A21A-CEFC3D63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01FD4-2D4E-48A4-8869-A81C9BB3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49AF2-69AC-4C47-9C8C-FDE2667C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828B2-C070-4F5F-9C52-03CA2552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660C9-101F-42ED-A48B-71F094E7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586D0-CE20-473C-B744-EB529AA7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EBE09-CAE4-4C47-AB13-C409F8C4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0AAC8-0B92-4193-A2F5-45DA99CE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EBC-8A42-411E-9622-74D8E35E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C74A8-E1E4-4034-B5C8-41478946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5EF53-F875-493E-B92B-080A6954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47CA1-5004-4050-B6B5-C21D0B0F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9A3B6-DD12-4807-9A92-6FF78A62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A437D-9229-4C7E-BE0C-44526247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FC920-20AE-4BD6-A982-F9B7DC49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A48E9-146C-404A-AEAB-8CA130C5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B40EA-2D8B-49EA-9115-4F77780F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B5A69-4C2A-4C4D-B519-89CC47A2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59F5B-64F6-4598-B0B3-515BD1F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AE0-A426-456E-BDF6-243F2159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B781F-D25E-4A57-B78B-69054987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81C6A-DDD2-45EF-8FE4-5117F1EA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CA497-44D5-441A-A4BA-75DCD920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0A179-4168-4252-8A7D-A1E36B01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C4D94-CB96-492C-9581-942995D4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DBFB5-828B-41F4-A006-ED0E341B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B6684-B0C0-45FE-BF73-3AF0E7C7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63D58-9E12-4467-9F96-4C7F9A21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C2B1B-F217-493D-ABD6-26EEB4AD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5BD33-50EB-4224-AE29-2993BFD5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842-7601-4789-BA73-822041F8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87ECC-5C11-4A2B-8078-7E82488F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494D5-EBB0-486D-B77F-DDB46CD8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A3E5F-DE66-4B4A-88DA-6B7D74E7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7AC97-61A9-4A49-ACBA-D03BD3EA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4CAD2-4D30-4A6D-8614-D9A93840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4B781-94DF-4151-A13C-93B7A7D6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9F3E2-AE76-4487-B630-09218B41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AE21F-B9FB-4DF5-AA3A-3676FAF1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5ED5D-ECAC-47B3-AEF4-E5A24AF4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9BE7A-CB91-4577-BA84-1000253B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5580-BBFB-4AF8-98C5-385CD92A184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3E5F-3CB5-4110-8CEB-823E887FE66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A0E1-2E1E-462E-AF5C-FD9819E5D0F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C3EB-35D3-411E-A6E7-F9D0F7C8AC5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261E-1804-4079-B28B-5F246383ED9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8A90-1377-408A-A53A-6975D081558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0653-9E25-403C-8F91-BDCCB5D4DAD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30E3-2B57-428D-AF5E-5A8E2AD589C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FF7A-CA89-4973-970B-EAE15DCFDD2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9605-A8A8-4798-AFF5-2E881E4A8C2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A53A-9115-488B-91B4-2293E15BBC75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B0F7-BB35-469C-A0EE-12039734917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«Холодная» война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286240" y="274680"/>
            <a:ext cx="340056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Фидель Кастро и Н.С.Хруще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Содержимое 3" descr="Никита Хрущев и Фидель Кастро"/>
          <p:cNvPicPr/>
          <p:nvPr/>
        </p:nvPicPr>
        <p:blipFill>
          <a:blip r:embed="rId1"/>
          <a:stretch/>
        </p:blipFill>
        <p:spPr>
          <a:xfrm>
            <a:off x="0" y="0"/>
            <a:ext cx="52149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785840" y="2286000"/>
            <a:ext cx="43578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Советские ракеты на острове Свободы. Аэрофотосъемка ВВС США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Содержимое 3" descr="Советские ракеты на Кубе - аэрофотосъемка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4143240" cy="29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ротивостояние в космос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Picture 2" descr="G:\Дополнительные материалы\холодная война\Новая папка\188.jpg"/>
          <p:cNvPicPr/>
          <p:nvPr/>
        </p:nvPicPr>
        <p:blipFill>
          <a:blip r:embed="rId1"/>
          <a:stretch/>
        </p:blipFill>
        <p:spPr>
          <a:xfrm>
            <a:off x="285840" y="285840"/>
            <a:ext cx="464328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Первый космонавт Земли Юрий Гагарин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Содержимое 3" descr="Юрий Гагарин"/>
          <p:cNvPicPr/>
          <p:nvPr/>
        </p:nvPicPr>
        <p:blipFill>
          <a:blip r:embed="rId1"/>
          <a:stretch/>
        </p:blipFill>
        <p:spPr>
          <a:xfrm>
            <a:off x="2649600" y="2104920"/>
            <a:ext cx="38098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Американцы на Лун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Содержимое 3" descr="Американцы на Луне"/>
          <p:cNvPicPr/>
          <p:nvPr/>
        </p:nvPicPr>
        <p:blipFill>
          <a:blip r:embed="rId1"/>
          <a:stretch/>
        </p:blipFill>
        <p:spPr>
          <a:xfrm>
            <a:off x="2967120" y="2441520"/>
            <a:ext cx="3174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C:\Documents and Settings\Admin\Мои документы\Мои результаты сканировани\2009-10 (окт)\сканирование0002.jpg"/>
          <p:cNvPicPr/>
          <p:nvPr/>
        </p:nvPicPr>
        <p:blipFill>
          <a:blip r:embed="rId1"/>
          <a:stretch/>
        </p:blipFill>
        <p:spPr>
          <a:xfrm>
            <a:off x="0" y="0"/>
            <a:ext cx="7429680" cy="47656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G:\Дополнительные материалы\холодная война\Новая папка\123.jpg"/>
          <p:cNvPicPr/>
          <p:nvPr/>
        </p:nvPicPr>
        <p:blipFill>
          <a:blip r:embed="rId2"/>
          <a:stretch/>
        </p:blipFill>
        <p:spPr>
          <a:xfrm>
            <a:off x="5800680" y="4610160"/>
            <a:ext cx="33433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лан уро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чины холодной вой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аны капиталистического и социалистического лагер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апы холодной вой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тоги холодной вой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ричин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85840" y="135684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опрос о судьбах стран Восточной Европы(Болгария, Венгрия, Польша, Румыния, Чехословакия, Югославия). В этих странах росло влияние СССР, что крайне негативно воспринималось СШ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ША и Великобритания оценивали политику СССР на Ближнем и Среднем Востоке как резко агрессивную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Март 194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г – речь Черчилля в Фултоне – обвинение СССР в захвате Восточной Европы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зногласия по поводу Турции и гражданской войной в Гре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Март 1947 г – послание президента США Трумэна к Конгрессу – «доктрина сдерживания коммунизма»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143680" y="274320"/>
            <a:ext cx="400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Гарри Трумэ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2" name="Содержимое 3" descr="Гарри Трумэн"/>
          <p:cNvPicPr/>
          <p:nvPr/>
        </p:nvPicPr>
        <p:blipFill>
          <a:blip r:embed="rId1"/>
          <a:stretch/>
        </p:blipFill>
        <p:spPr>
          <a:xfrm>
            <a:off x="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1285920" y="285840"/>
            <a:ext cx="61437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Раскол ми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214200" y="1571760"/>
          <a:ext cx="8929800" cy="3714480"/>
        </p:xfrm>
        <a:graphic>
          <a:graphicData uri="http://schemas.openxmlformats.org/drawingml/2006/table">
            <a:tbl>
              <a:tblPr/>
              <a:tblGrid>
                <a:gridCol w="4465800"/>
                <a:gridCol w="4464000"/>
              </a:tblGrid>
              <a:tr h="18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апиталистический лагер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, Канада, Великобритания, Франция, Италия, Бельгия, Нидерланды, Дания, Португалия, Греция, Турция, Испания, ФР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8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истический лаге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ССР, Болгария, Венгрия, Польша, Чехословакия, Румыния, Албания, ГДР, КН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оздание военно-политических бло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949г – создание Североатлантического блока НАТ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956г. -  Организация Варшавского договора (ОВД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6320" y="274320"/>
            <a:ext cx="285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Этапы «холодной» войны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2" descr="C:\Documents and Settings\Admin\Мои документы\Мои результаты сканировани\2009-10 (окт)\сканирование0001.jpg"/>
          <p:cNvPicPr/>
          <p:nvPr/>
        </p:nvPicPr>
        <p:blipFill>
          <a:blip r:embed="rId1"/>
          <a:stretch/>
        </p:blipFill>
        <p:spPr>
          <a:xfrm>
            <a:off x="0" y="0"/>
            <a:ext cx="66438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2876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арибский кризис -1962г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3:49:54Z</dcterms:created>
  <dc:creator>Admin</dc:creator>
  <dc:description/>
  <dc:language>en-US</dc:language>
  <cp:lastModifiedBy>Оксана</cp:lastModifiedBy>
  <dcterms:modified xsi:type="dcterms:W3CDTF">2011-06-27T18:10:06Z</dcterms:modified>
  <cp:revision>5</cp:revision>
  <dc:subject/>
  <dc:title>«Холодная» война</dc:title>
</cp:coreProperties>
</file>