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73CA-6A93-484C-A11E-642B51817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22AF-CB58-484F-915C-539A960E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23F0D2-1B5E-4D94-AECD-12C3E467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21A9E4-B8D7-4803-97D3-9E12636B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84391F-7C90-49AF-9CA1-D11A77B5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64ED06-7C39-4F3B-B71A-F5C416F6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B69262-9906-4824-8DDA-2B7A443A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A31B5A-D801-40F1-925E-9FFFBD5C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304827-3754-40A2-83AF-C888F88B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45BEC0-927F-4DFE-9E69-B54A709EC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F14FCD-2FAC-4B8F-85E9-C7A99E3F1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811E36-23AF-42AE-92D9-027645D34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317A-85B8-4B86-95A7-30B98052C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C9D714-8151-47D3-ACFD-E27E6064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B4E88D-97A3-411A-9411-090DF570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A84860-1A4F-430E-A142-AB684357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D47CA5-6BE0-447A-9E6E-AC1004E0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1328EB-A150-48E1-ADBE-2A0CD34D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4F7DFC-EC00-44DC-A739-38B6561A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C518A0-2489-4E0D-A183-1A77E193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C3F49B-59B9-481B-BB10-833186C3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CE7C13-730A-4EE2-BCE0-EEC46300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6ECD31-E6B2-4C2B-AF4E-62E888104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4911-FB7E-40EC-9F62-1E3159122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88FE67-1D4C-4BE5-9F09-77455F856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82FD5-DDB1-4E19-A8A9-D5614A9BD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D85A0-F1CD-4441-A7A0-33541D9A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AC184-4FA6-4F4F-9627-28714DF8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367B1-5E3F-4B82-8BA9-EDF2688F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4CF3A-8606-43FF-8255-EA972FB3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2D591-C5DE-4C0C-9C4A-E5BD368D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CA742-8364-4C29-B9A8-156CA671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3F2CF-BA8F-4D18-B36F-FBF4C841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976DF-3B6B-4B3D-8E90-3617EA92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9028-8AAE-4015-900A-E5C9F574B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57314-3FF1-4935-ABB1-7DDB6D2F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45840-763B-4B8F-8AC0-13A8A5F8D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DFAE4-0C47-45A8-A715-0F75D3F9B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0DDCBA-F2C6-4E6E-9384-5F3EFECCD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BE2FC1-22A3-4FCE-9E08-DBD2E29D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22E839-4C79-4A0D-9E24-AAF5533F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8C34E0-A3F5-45BD-A2EB-27FBAFCE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A6C8F1-B195-4535-A955-C29C91A3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5D110D-B4F5-49D7-91CD-046BE122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2F4B4E-3046-4D76-A69E-49651D76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F9E0-4448-46CE-A189-480FD970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302E3E-CE53-4F7E-8E73-D11191CD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66F377-7BB3-45A3-82F8-E3D24918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3A7B3F-C417-4317-9698-6639B333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EF68BC-C9F4-44D0-ABFA-B0CF9368D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A5392E-6C8B-4E4F-A173-EE09C4EE7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B737-B3C4-4FD8-8AF4-E032BA28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F5DE-711C-4BE8-9D5F-A3D7150F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9021-5799-4357-B300-A3CC3EFB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79A3-EF76-44E4-9A27-20C797ED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3EC0-A8A9-49B0-98BC-7CBF9499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4991-D17B-49D0-8759-3F46B3EC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2BEC-9FD5-4466-908F-AF779884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D3CF-D685-49AE-BAD1-6FD73419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C033-179C-452E-AC38-BF361B57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3305-CAA3-44F0-82C9-9D7716C15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3E46-5082-4A1A-B05C-329745EC7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FECFC-39F3-429C-8BBD-779A7A0A8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82D35-33D9-4351-8855-801DE1E1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C5DF0-4A42-42B5-B7BB-D7A3C9DE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81656-CD17-43A0-99FF-8716D25E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4F752-9E15-4518-BE62-4B44ECDA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E91E-4FC5-4090-8DEF-CDD26B53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16711-4B79-4E49-AFC6-5D72A656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BE883-0E26-4772-8FB9-13CCE25C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3A318-48DD-4550-BBB6-3F69826B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A017E-4926-4C56-95E7-2E0AEA4F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73DB1-5596-43D2-BF3E-49DAE1F4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1BABE-1C52-444C-9E08-EF9C31E4F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7EEB7-BEB9-40D2-AC33-13BA1DB13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ED9B4-BE89-488F-A455-8EDE891D6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E750A-576A-4ACB-9F00-6EA52A48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E5E18-9AF2-440B-A16D-137570B1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6C77-7C5A-487C-AE14-B695D60B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D7561-F724-4738-B0B3-EEC80A41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AC92A-C3CE-4518-BD49-0B2900EB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59F1B-5EBD-4F55-9266-5A3EFDF2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DBA81-1E67-4DCF-9BDF-6D59590E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9979F-04ED-4159-B2E5-3EEAE9D6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BA465-610F-422E-A112-10A1DF05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12B9C-86A3-49DD-A1AE-C26F20CC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1A39D-DABB-47DF-ADF0-1A51B47D5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33BAE-6A1B-4CD7-9A3E-DA2144EAA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5EDDB-F53F-4AF9-B696-780014E0D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2C6E-ED80-40DD-93FC-ACF096F5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B8047-48DB-426B-B9F0-75E31B6B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D558D-BC57-4F7D-987C-E0357AE9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6EF8D-B4ED-41F5-AFBB-2B6C9179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76231-8D57-4656-92D4-0FDC3E73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67198-6C4E-4FD0-96CC-50ACA321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4D50F-9259-419D-8203-98D9732C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D8E2F-41ED-4AF0-AC27-E6F1C118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F2D63-3347-4E54-9BE1-DEE85B02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E27AF-FA84-4873-A153-C1412080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B536E-6606-458F-9626-C3A12D1AF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924C-6D54-4972-8135-DC638CD4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72FBD-71A2-46FB-BCB6-CD6EF7D0C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11C86-8051-448C-8617-C529CDBAE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3856E-1B09-4481-81B5-B657E12C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37417-7BF9-4556-8378-C780F58F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6C854-D008-4011-A506-EA49A21C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A907E-5057-433A-BA56-9A9CFF06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0138F-1CD7-46A2-BC8D-B71611E3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A71F5-F23F-457C-8CEC-BA905E37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EE5E5-4393-4EFB-9953-B2474DEF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DE334-7956-4450-B338-21BDCEC3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BC5C-0F34-4ADA-B308-422C406E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696EE-E310-49A3-B280-383DDEC1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1BA39-0F5F-497D-BFA5-C1083053D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C4CCF-DBDF-47E3-8715-2052AD127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3CCA8-35AE-4F5C-916D-D585EC1EA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9D38A-4FFA-45BA-99AE-8C8A2D0E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6A7C4-F0D6-4CF4-93F4-7F9D41FA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6D3FD-6BAD-495D-B221-95C96C21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B2F5B-9966-492D-A507-93F60FD8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D2A06-18E9-41D5-B399-F0DBB375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9F93A-55D3-48BC-A0E4-ACD6A190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8833-AC3A-4B4B-B396-AB4189CF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0564F-5DB8-44B6-8B30-233D8AD3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6DECD-2A78-4321-AABE-B35C7C1D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B1FFE-B82D-4D0F-BBFD-E0BD8AF1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E7BB1-5A53-43A4-80A9-5081792DD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C7C9A-0AD2-4287-BC94-5CF02C122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E6DCC-1F39-4F04-AE5F-1FE538A6B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57042-9E81-41C8-A944-52D493FC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1EF26-F20A-4BF3-AFF6-78F768E8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6C000-BF24-4BF5-B90D-78D7759A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4B4DC-F576-4CAA-AD22-8D460566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ADA6-A7C8-47E7-8EA1-C1C1A6FE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753A2-A0E3-4B68-BEDE-BFF5019A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5E491-E9EC-4068-A3C8-13555C07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9B744-8781-4B9F-8D7A-62BC0BA0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DCDDA-CA0D-4892-A5C8-62028ED6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B91FA-836D-4D91-8D6D-52A2871E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E2F6D-7CAD-43A3-A57F-E91893E3D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06D71-C53E-4565-AB1D-050725F87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08F7E4-0691-4BAA-A977-DC2623969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52AA5C-8A2C-4725-8F20-22EAFB99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7238DE-9543-42A5-89D4-04D04358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36E2-E909-4778-BFD7-4630B9ACA6B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50A4-EFD6-4363-8793-5E7348AFC07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1B5D-99B6-44D1-8585-CB56B2713B4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9F0D-70BF-4D35-80DE-434206FEFFE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F616-1FCB-4342-A918-806A39BA8D7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6840-42B0-4738-ABF1-D86CF849C0B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0812-54ED-4AFC-ABC3-65EA5F7ACFE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3D45-C314-4DDA-AB7F-5516E8E8378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3243-3487-46E1-9626-8159DC25D8A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72C1-204A-41F7-A863-06E1E61CC38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EF85-1B2B-417B-B577-7D96A9632C8E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2B06-C31B-47FA-9B2F-360732D2808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«Холодная» война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286240" y="274680"/>
            <a:ext cx="3400560" cy="17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Фидель Кастро и Н.С.Хрущев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2" name="Содержимое 3" descr="Никита Хрущев и Фидель Кастро"/>
          <p:cNvPicPr/>
          <p:nvPr/>
        </p:nvPicPr>
        <p:blipFill>
          <a:blip r:embed="rId1"/>
          <a:stretch/>
        </p:blipFill>
        <p:spPr>
          <a:xfrm>
            <a:off x="0" y="0"/>
            <a:ext cx="521496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785840" y="2286000"/>
            <a:ext cx="4357800" cy="20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b9899"/>
                </a:solidFill>
                <a:latin typeface="Georgia"/>
              </a:rPr>
              <a:t>Советские ракеты на острове Свободы. Аэрофотосъемка ВВС США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4" name="Содержимое 3" descr="Советские ракеты на Кубе - аэрофотосъемка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00400" y="274320"/>
            <a:ext cx="4143240" cy="29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ротивостояние в космос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6" name="Picture 2" descr="G:\Дополнительные материалы\холодная война\Новая папка\188.jpg"/>
          <p:cNvPicPr/>
          <p:nvPr/>
        </p:nvPicPr>
        <p:blipFill>
          <a:blip r:embed="rId1"/>
          <a:stretch/>
        </p:blipFill>
        <p:spPr>
          <a:xfrm>
            <a:off x="285840" y="285840"/>
            <a:ext cx="464328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b9899"/>
                </a:solidFill>
                <a:latin typeface="Georgia"/>
              </a:rPr>
              <a:t>Первый космонавт Земли Юрий Гагарин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8" name="Содержимое 3" descr="Юрий Гагарин"/>
          <p:cNvPicPr/>
          <p:nvPr/>
        </p:nvPicPr>
        <p:blipFill>
          <a:blip r:embed="rId1"/>
          <a:stretch/>
        </p:blipFill>
        <p:spPr>
          <a:xfrm>
            <a:off x="2649600" y="2104920"/>
            <a:ext cx="380988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Американцы на Лун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0" name="Содержимое 3" descr="Американцы на Луне"/>
          <p:cNvPicPr/>
          <p:nvPr/>
        </p:nvPicPr>
        <p:blipFill>
          <a:blip r:embed="rId1"/>
          <a:stretch/>
        </p:blipFill>
        <p:spPr>
          <a:xfrm>
            <a:off x="2967120" y="2441520"/>
            <a:ext cx="31748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2" descr="C:\Documents and Settings\Admin\Мои документы\Мои результаты сканировани\2009-10 (окт)\сканирование0002.jpg"/>
          <p:cNvPicPr/>
          <p:nvPr/>
        </p:nvPicPr>
        <p:blipFill>
          <a:blip r:embed="rId1"/>
          <a:stretch/>
        </p:blipFill>
        <p:spPr>
          <a:xfrm>
            <a:off x="0" y="0"/>
            <a:ext cx="7429680" cy="476568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2" descr="G:\Дополнительные материалы\холодная война\Новая папка\123.jpg"/>
          <p:cNvPicPr/>
          <p:nvPr/>
        </p:nvPicPr>
        <p:blipFill>
          <a:blip r:embed="rId2"/>
          <a:stretch/>
        </p:blipFill>
        <p:spPr>
          <a:xfrm>
            <a:off x="5800680" y="4610160"/>
            <a:ext cx="33433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лан урок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ричины холодной войны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траны капиталистического и социалистического лагер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Этапы холодной войны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Итоги холодной войны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ричин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285840" y="135684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Вопрос о судьбах стран Восточной Европы(Болгария, Венгрия, Польша, Румыния, Чехословакия, Югославия). В этих странах росло влияние СССР, что крайне негативно воспринималось США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ША и Великобритания оценивали политику СССР на Ближнем и Среднем Востоке как резко агрессивную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Март 194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г – речь Черчилля в Фултоне – обвинение СССР в захвате Восточной Европы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Разногласия по поводу Турции и гражданской войной в Греции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Март 1947 г – послание президента США Трумэна к Конгрессу – «доктрина сдерживания коммунизма»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143680" y="274320"/>
            <a:ext cx="4000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Гарри Трумэн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2" name="Содержимое 3" descr="Гарри Трумэн"/>
          <p:cNvPicPr/>
          <p:nvPr/>
        </p:nvPicPr>
        <p:blipFill>
          <a:blip r:embed="rId1"/>
          <a:stretch/>
        </p:blipFill>
        <p:spPr>
          <a:xfrm>
            <a:off x="0" y="0"/>
            <a:ext cx="5429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2" descr=""/>
          <p:cNvPicPr/>
          <p:nvPr/>
        </p:nvPicPr>
        <p:blipFill>
          <a:blip r:embed="rId1"/>
          <a:stretch/>
        </p:blipFill>
        <p:spPr>
          <a:xfrm>
            <a:off x="1285920" y="285840"/>
            <a:ext cx="6143760" cy="62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Раскол мир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214200" y="1571760"/>
          <a:ext cx="8929800" cy="3714480"/>
        </p:xfrm>
        <a:graphic>
          <a:graphicData uri="http://schemas.openxmlformats.org/drawingml/2006/table">
            <a:tbl>
              <a:tblPr/>
              <a:tblGrid>
                <a:gridCol w="4465800"/>
                <a:gridCol w="4464000"/>
              </a:tblGrid>
              <a:tr h="188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Капиталистический лагер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ША, Канада, Великобритания, Франция, Италия, Бельгия, Нидерланды, Дания, Португалия, Греция, Турция, Испания, ФР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18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оциалистический лаге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ССР, Болгария, Венгрия, Польша, Чехословакия, Румыния, Албания, ГДР, КН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Создание военно-политических блоков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949г – создание Североатлантического блока НАТО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956г. -  Организация Варшавского договора (ОВД)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6320" y="274320"/>
            <a:ext cx="2857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b9899"/>
                </a:solidFill>
                <a:latin typeface="Georgia"/>
              </a:rPr>
              <a:t>Этапы «холодной» войны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9" name="Picture 2" descr="C:\Documents and Settings\Admin\Мои документы\Мои результаты сканировани\2009-10 (окт)\сканирование0001.jpg"/>
          <p:cNvPicPr/>
          <p:nvPr/>
        </p:nvPicPr>
        <p:blipFill>
          <a:blip r:embed="rId1"/>
          <a:stretch/>
        </p:blipFill>
        <p:spPr>
          <a:xfrm>
            <a:off x="0" y="0"/>
            <a:ext cx="664380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2876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Карибский кризис -1962г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13:49:54Z</dcterms:created>
  <dc:creator>Admin</dc:creator>
  <dc:description/>
  <dc:language>en-US</dc:language>
  <cp:lastModifiedBy>Оксана</cp:lastModifiedBy>
  <dcterms:modified xsi:type="dcterms:W3CDTF">2011-06-27T18:10:06Z</dcterms:modified>
  <cp:revision>5</cp:revision>
  <dc:subject/>
  <dc:title>«Холодная» война</dc:title>
</cp:coreProperties>
</file>