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AD78-9997-4346-B80C-CB641B965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DD01-8893-4D6C-A8B2-D6224F0F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B5E3-EAA0-457A-9732-AA172FA59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A17D-BB07-47F4-AD79-8CACB7CE8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7E82-FF0A-497B-8A10-0BFCB3DE1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0784-C558-46FB-89D0-3686CCE7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71F5-0461-4554-B3DA-75CEA8FF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A03E-84A2-437D-8D69-5AE4065E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E1221-74CC-4B25-88C6-BBA26D27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F34B-3901-45B7-BA8C-5C802492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75EB-004A-4DB5-B191-9595229A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2E49-BF58-424E-810C-76CB7ADA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32327-0F14-49B4-BAE3-16E8ED7F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B136-BA46-4B3C-BFF1-BED6DD52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D5576-0EDA-42C1-A9B9-974A4768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CD87-ACC4-41AD-A6AC-0EA85E68E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B2A64-11D7-442C-AB5F-98A006452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2A98-FCE4-4943-AD82-5D00F0F4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429D-E4F1-48CB-8057-247C9BFC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F965-5EFE-482D-89DB-C78B1850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9942-6098-4946-BD0D-ACD48C1E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2A36-660A-434D-B26C-CF5979DC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7501-4C28-462C-9253-BB4F616B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B92D-5C6E-4CEC-A7BA-FBDBF563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7C8C-311B-4001-BCF5-5B8CFD22BC9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00A2-185F-4103-9AE8-3792AAFB55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andart.edu.ru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692280"/>
            <a:ext cx="77724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Муниципальное автономное общеобразовательное учреждение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Маслянская средняя общеобразовательная школа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2133360"/>
            <a:ext cx="77724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рганизация внеучебной деятельности в начальной школе в рамках ФГ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из опыта рабо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япунова Н.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010-2011 уч.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3" descr="stand_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7960" y="0"/>
            <a:ext cx="3056040" cy="797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i?id=151443451-09"/>
          <p:cNvPicPr/>
          <p:nvPr/>
        </p:nvPicPr>
        <p:blipFill>
          <a:blip r:embed="rId3"/>
          <a:stretch/>
        </p:blipFill>
        <p:spPr>
          <a:xfrm>
            <a:off x="826920" y="4149720"/>
            <a:ext cx="1301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Программа кружка для учащихся  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      начальной школы </a:t>
            </a: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«Театральный»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амма разработана на основе методического пособия «Театральная деятельность дошкольников и младших школьников» под редакцией Чуриловой Э.Г.: Программа и репертуар.- М.: Гуманит. Изд. Центр ВЛАДОС, 2003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Научно –познавательное направление – 2часа</a:t>
            </a:r>
            <a:br>
              <a:rPr sz="24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Клуб знатоков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98864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нный систематический курс создает условия для развития у детей познавательных интересов, формирует стремление ребенка к размышлению и поиску, вызывает у него чувство уверенности в своих силах, в возможностях своего интеллек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059280" y="3645000"/>
            <a:ext cx="1199880" cy="172728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219640" y="3645000"/>
            <a:ext cx="1285920" cy="1728720"/>
          </a:xfrm>
          <a:prstGeom prst="rect">
            <a:avLst/>
          </a:prstGeom>
          <a:ln w="25560">
            <a:solidFill>
              <a:srgbClr val="3399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Программа кружка для учащихся  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     начальной школы </a:t>
            </a: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«Клуб знатоков»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амма разработана на основе методического пособия «Юным умникам и умницам» и программы курс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ПС» под редакцией Холодовой О.А., -3-е изд, перераб.- М.: Росткнига, 200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54524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Военно-патриотическое направление – 2 часа</a:t>
            </a:r>
            <a:br>
              <a:rPr sz="3800"/>
            </a:b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«Мы –россияне»</a:t>
            </a:r>
            <a:br>
              <a:rPr sz="3800"/>
            </a:br>
            <a:r>
              <a:rPr b="1" lang="ru-RU" sz="1800" spc="-1" strike="noStrike">
                <a:solidFill>
                  <a:srgbClr val="330033"/>
                </a:solidFill>
                <a:latin typeface="Times New Roman"/>
              </a:rPr>
              <a:t>(историко- патриотический клуб)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77240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нная программа активизирует мыслительную деятельность младших школьников, способствует формированию образного мышления, учит эмоциональному восприятию окружающего мира, пробуждает эмоционально-ценностное отношение к культурному и природному наследию родного края, гордость за своих соотечественников, создавших и оберегающих это наслед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124000" y="3860640"/>
            <a:ext cx="1800360" cy="1351080"/>
          </a:xfrm>
          <a:prstGeom prst="rect">
            <a:avLst/>
          </a:prstGeom>
          <a:ln w="22320">
            <a:solidFill>
              <a:srgbClr val="ffcc00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932360" y="3933720"/>
            <a:ext cx="1612800" cy="1209960"/>
          </a:xfrm>
          <a:prstGeom prst="rect">
            <a:avLst/>
          </a:prstGeom>
          <a:ln w="22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Программа кружка для учащихся  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     начальной школы </a:t>
            </a: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«МЫ - россияне»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дифицированная программа на основе программы Е.А. Коршиковой «Наша малая родин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Кружок</a:t>
            </a: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 «Мир моей души»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220500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новная цель программы - обогащение духовного опыта школьника ценностями региональной культуры, осознание элементарного взаимодействия в системе «человек- природа - культур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211640" y="4005360"/>
            <a:ext cx="1235160" cy="1700280"/>
          </a:xfrm>
          <a:prstGeom prst="rect">
            <a:avLst/>
          </a:prstGeom>
          <a:ln w="2556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Программа кружка для учащихся  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     начальной школы </a:t>
            </a: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«Мир моей души»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ы-составители: Теплова З.И., к.п.н., завкафедрой  художественного образования ТОГИРРО (программа дл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3 классов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иманова Л.А.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.П.Н.. доцент кафедры исторического образования и права ТОГИРРО (программа для 4 класс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Проектная деятельность – 1 час</a:t>
            </a:r>
            <a:br>
              <a:rPr sz="2400"/>
            </a:b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«Малое проектное бюро»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звитие познавательных способностей младших школьник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и развитие у детей младшего школьного возраста умений и навыков исследовательского пои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87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                </a:t>
            </a: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Программа кружка для учащихся  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     начальной школы 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«Малое проектное бюро»</a:t>
            </a:r>
            <a:br>
              <a:rPr sz="32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тавлена на основе авторской программы исследовательского обучения младших школьников  А. И. Савенков.- Самара: Корпорация «Фёдоров», Издательский дом «Фёдоров»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181440" y="27756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Общественно – полезная деятельность -1час </a:t>
            </a: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Инициатива</a:t>
            </a:r>
            <a:br>
              <a:rPr sz="3800"/>
            </a:b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(Малый волонтёрский отряд)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3961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формирование в ходе деятельности более ответственной, адаптированной, здоровой лич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ладение знаниями о ЗОЖ и умение аргументировано отстаивать свою позицию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формирование здоровых установок и навыков ответственного поведения, снижающих вероятность приобщения к курению, алкоголизм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величение количества детей и подростков, вовлеченных в волонтерские отряды и проведение    альтернативных мероприяти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влечение детей к общественно значимой деятельност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мение общаться с учащимися и взрослыми, владеть нормами и правилами уважительного отношения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580000" y="2938320"/>
            <a:ext cx="2014560" cy="1690920"/>
          </a:xfrm>
          <a:prstGeom prst="rect">
            <a:avLst/>
          </a:prstGeom>
          <a:ln w="22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Направления внеурочной деятельност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ртивно- оздоровительное – 2 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ружок «Безопасный мир» -1 ч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жок «Сибирячок» - 1ч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удожественно - эстетическое – 2 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тудия «Театральная» - 1ч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кое объединение «Мозаика» -1 ч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но – познавательное – 2 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«Клуб знатоков» - 2ч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енно – патриотическое – 2 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ружок «Мир моей души» -1 ч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рико – патриотический клуб «Мы –россияне»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ственно – полезная деятельность – 1 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лый волонтёрский отряд «Инициатива» - 1 ч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ектная деятельность – 1 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«Малое проектное бюро» - 1 ч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Программа кружка для учащихся  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     начальной школы 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«</a:t>
            </a: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Инициатива»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амма кружка для учащихся начальной школы «Инициатива» разработана  на основе программы «Вместе мы сила!» С.С. Гуровой, МОУ “ Устино-Копьевской СОШ 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000" y="2775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Спортивно-оздоровительное направление - 2часа</a:t>
            </a:r>
            <a:br>
              <a:rPr sz="2400"/>
            </a:b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ибирячок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2276280"/>
            <a:ext cx="777744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рамма кружка ориентирована на формирование у ребенка позиции признания ценности здоровья, чувства ответственности за сохранение и укрепление своего здоровья, расширение знаний и навыков по гигиенической культу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708360" y="3789360"/>
            <a:ext cx="2038320" cy="1444680"/>
          </a:xfrm>
          <a:prstGeom prst="rect">
            <a:avLst/>
          </a:prstGeom>
          <a:ln w="2556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              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                   </a:t>
            </a: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Программа кружка </a:t>
            </a:r>
            <a:br>
              <a:rPr sz="3200"/>
            </a:b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 для учащихся начальной школы</a:t>
            </a:r>
            <a:r>
              <a:rPr b="0" i="1" lang="ru-RU" sz="3200" spc="-1" strike="noStrike">
                <a:solidFill>
                  <a:srgbClr val="330033"/>
                </a:solidFill>
                <a:latin typeface="Times New Roman"/>
              </a:rPr>
              <a:t> «Сибирячок»</a:t>
            </a:r>
            <a:br>
              <a:rPr sz="32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амма кружка разработана на основе программы «Школа докторов Природы или 135 уроков здоровья» Л.А. Обухова, Н.А. Лемяскина  МОСКВА   «ВАКО»   20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Кружок «Безопасный мир»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227628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урс предназначен для ознакомления учащихся с общими характеристиками различных чрезвычайных ситуаций, их последствиями, а также для приобретения  ими знаний и умений по защите жизни и здоровья в условиях опасных и чрезвычайных ситуац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51280" y="3716280"/>
            <a:ext cx="1673280" cy="2232000"/>
          </a:xfrm>
          <a:prstGeom prst="rect">
            <a:avLst/>
          </a:prstGeom>
          <a:ln w="25560">
            <a:solidFill>
              <a:srgbClr val="ffcc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5280" y="27756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Программа кружка для учащихся начальной             школы </a:t>
            </a: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«Безопасный мир»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амма разработана на основе программы  Якупова А.М., Загребина Б.А. «Основы безопасности движения пешеходов», Магнитогорск, 1995г., допущена МО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Художественно- эстетическое направление – 2 часа</a:t>
            </a:r>
            <a:br>
              <a:rPr sz="2000"/>
            </a:b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Творческое объединение</a:t>
            </a:r>
            <a:r>
              <a:rPr b="0" lang="en-US" sz="1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«Мозаика»</a:t>
            </a:r>
            <a:br>
              <a:rPr sz="36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916280"/>
            <a:ext cx="77724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урс направлен на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звитие творческих способностей младших школьников, детского сплоченного коллектива через воспитание трудолюбия, усидчивости, терпеливости, взаимопомощи, взаимовыруч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спитание любви и уважения к своему труду и труду взрослых, любви к родному краю и себ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635280" y="3645000"/>
            <a:ext cx="1766880" cy="2232000"/>
          </a:xfrm>
          <a:prstGeom prst="rect">
            <a:avLst/>
          </a:prstGeom>
          <a:ln w="2556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Программа кружка для учащихся  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        начальной школы </a:t>
            </a: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«Мозаика»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/Куревина О.А., Лутцева Е.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Эстетическое мышление и художественный труд»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борник программ.- М.: Баласс, 2003.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Студия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«Театральная»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витие эстетических способносте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витие сферы чувств, соучастия, сопережива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тивизация мыслительного процесса и познавательного интерес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владение навыками общения и коллективного творче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379680" y="3716280"/>
            <a:ext cx="2106720" cy="2808360"/>
          </a:xfrm>
          <a:prstGeom prst="rect">
            <a:avLst/>
          </a:prstGeom>
          <a:ln w="2556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13:19:11Z</dcterms:created>
  <dc:creator>UserXP</dc:creator>
  <dc:description/>
  <dc:language>en-US</dc:language>
  <cp:lastModifiedBy>UserXP</cp:lastModifiedBy>
  <dcterms:modified xsi:type="dcterms:W3CDTF">2011-07-24T08:42:29Z</dcterms:modified>
  <cp:revision>19</cp:revision>
  <dc:subject/>
  <dc:title>Сибирячок</dc:title>
</cp:coreProperties>
</file>