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875-7B33-4558-BA66-D2B827F4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FAA-524E-403F-B85A-C65CEA15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677-AD5E-410E-A5B0-02A23C4D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578-63AD-4A23-88EA-4DFD5C0F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945D-3611-4758-8259-797F6E9B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DE88-16C8-4789-B208-72A92B45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C6F3-0A21-462E-88B0-627F19C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CD4-2D74-4AA9-B766-11B45D2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8BD4-D0F4-4F28-8F4B-1FE22F91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7E6-B2E0-424F-82C4-3A03AFD0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F62-5878-40D7-8DB4-309556B5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180-73F5-461E-AD29-40C3A05A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69DD-80A0-4C93-95DA-46F81086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9282-6422-4E0A-ABB9-F38C369A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42B8-3BC4-46C3-8560-8847DAB7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4A0-0275-4358-B2EB-0CD046B38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2E1D-B2E4-4068-AB23-D461BAB1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C8A-44B0-4B02-8A50-42D2C2A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CFF-53A1-4116-83FD-1995D81D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760-ED63-41DC-A14B-7C381ECD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CF5-13DA-4F13-B5D0-2BE74DCF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A95-E241-425D-A15B-37019071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B3E-D738-403D-8CC1-89514FCC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CFA-0E40-439E-A9EF-ABE4068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6FB-9D49-4DA9-8D01-739C158D08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4400-F085-4A6C-AEED-5DB92B555F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ndart.edu.r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униципальное автоном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аслянская средняя общеобразовательная школ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7724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внеучебной деятельности в начальной школе в рамках ФГ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з опыта раб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япунова Н.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010-2011 уч.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stand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7960" y="0"/>
            <a:ext cx="3056040" cy="79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i?id=151443451-09"/>
          <p:cNvPicPr/>
          <p:nvPr/>
        </p:nvPicPr>
        <p:blipFill>
          <a:blip r:embed="rId3"/>
          <a:stretch/>
        </p:blipFill>
        <p:spPr>
          <a:xfrm>
            <a:off x="826920" y="4149720"/>
            <a:ext cx="1301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Театральный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методического пособия «Театральная деятельность дошкольников и младших школьников» под редакцией Чуриловой Э.Г.: Программа и репертуар.- М.: Гуманит. Изд. Центр ВЛАДОС, 200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Научно –познавательное направление – 2часа</a:t>
            </a:r>
            <a:br>
              <a:rPr sz="24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луб знато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ый систематический курс создает условия для развития у детей познавательных интересов, формирует стремление ребенка к размышлению и поиску, вызывает у него чувство уверенности в своих силах, в возможностях своего интелл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1199880" cy="17272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1285920" cy="172872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Клуб знатоков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методического пособия «Юным умникам и умницам» и программы курс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ПС» под редакцией Холодовой О.А., -3-е изд, перераб.- М.: Росткнига,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75452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енно-патриотическое направление – 2 часа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Мы –россияне»</a:t>
            </a:r>
            <a:br>
              <a:rPr sz="3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(историко- патриотический клуб)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ная программа активизирует мыслительную деятельность младших школьников, способствует формированию образного мышления, учит эмоциональному восприятию окружающего мира, пробуждает эмоционально-ценностное отношение к культурному и природному наследию родного края, гордость за своих соотечественников, создавших и оберегающих это наслед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1800360" cy="135108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3933720"/>
            <a:ext cx="1612800" cy="1209960"/>
          </a:xfrm>
          <a:prstGeom prst="rect">
            <a:avLst/>
          </a:prstGeom>
          <a:ln w="22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Ы - россияне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ифицированная программа на основе программы Е.А. Коршиковой «Наша малая роди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Кружок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 «Мир моей души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2205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цель программы - обогащение духовного опыта школьника ценностями региональной культуры, осознание элементарного взаимодействия в системе «человек- природа - куль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1235160" cy="17002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ир моей души»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ы-составители: Теплова З.И., к.п.н., завкафедрой  художественного образования ТОГИРРО (программа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3 классов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манова Л.А.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П.Н.. доцент кафедры исторического образования и права ТОГИРРО (программа для 4 кл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Проектная деятельность – 1 час</a:t>
            </a:r>
            <a:br>
              <a:rPr sz="24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«Малое проектное бюро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звитие познавательных способностей младших 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 развитие у детей младшего школьного возраста умений и навыков исследовательского по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Малое проектное бюро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а на основе авторской программы исследовательского обучения младших школьников  А. И. Савенков.- Самара: Корпорация «Фёдоров», Издательский дом «Фёдоров»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81440" y="2775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Общественно – полезная деятельность -1час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Инициатива</a:t>
            </a:r>
            <a:br>
              <a:rPr sz="38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(Малый волонтёрский отряд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3961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рмирование в ходе деятельности более ответственной, адаптированной, здоровой лич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адение знаниями о ЗОЖ и умение аргументировано отстаивать свою пози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рмирование здоровых установок и навыков ответственного поведения, снижающих вероятность приобщения к курению, алкоголиз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величение количества детей и подростков, вовлеченных в волонтерские отряды и проведение    альтернативных мероприят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влечение детей к общественно значимой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мение общаться с учащимися и взрослыми, владеть нормами и правилами уважительного отношен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80000" y="2938320"/>
            <a:ext cx="2014560" cy="1690920"/>
          </a:xfrm>
          <a:prstGeom prst="rect">
            <a:avLst/>
          </a:prstGeom>
          <a:ln w="22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Направления внеуроч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тивно- оздоровительн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жок «Безопасный мир» -1 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жок «Сибирячок» - 1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ественно - эстетическ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удия «Театральная» - 1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ое объединение «Мозаика» -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о – познавательн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Клуб знатоков» - 2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енно – патриотическое – 2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ужок «Мир моей души» -1 ч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ко – патриотический клуб «Мы –россияне»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енно – полезная деятельность – 1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ый волонтёрский отряд «Инициатива» - 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ая деятельность – 1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Малое проектное бюро» - 1 ч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начальной школы </a:t>
            </a: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Инициатива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кружка для учащихся начальной школы «Инициатива» разработана  на основе программы «Вместе мы сила!» С.С. Гуровой, МОУ “ Устино-Копьевской СОШ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Спортивно-оздоровительное направление - 2часа</a:t>
            </a:r>
            <a:br>
              <a:rPr sz="2400"/>
            </a:b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биряч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2276280"/>
            <a:ext cx="77774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а кружка ориентирована на формирование у ребенка позиции признания ценности здоровья, чувства ответственности за сохранение и укрепление своего здоровья, расширение знаний и навыков по гигиенической культу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038320" cy="14446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рограмма кружка </a:t>
            </a:r>
            <a:br>
              <a:rPr sz="3200"/>
            </a:b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для учащихся начальной школы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 «Сибирячок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кружка разработана на основе программы «Школа докторов Природы или 135 уроков здоровья» Л.А. Обухова, Н.А. Лемяскина  МОСКВА   «ВАКО»  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Кружок «Безопасный мир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27628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урс предназначен для ознакомления учащихся с общими характеристиками различных чрезвычайных ситуаций, их последствиями, а также для приобретения  ими знаний и умений по защите жизни и здоровья в условиях опасных и чрезвычай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51280" y="3716280"/>
            <a:ext cx="1673280" cy="2232000"/>
          </a:xfrm>
          <a:prstGeom prst="rect">
            <a:avLst/>
          </a:prstGeom>
          <a:ln w="2556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начальной            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Безопасный мир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разработана на основе программы  Якупова А.М., Загребина Б.А. «Основы безопасности движения пешеходов», Магнитогорск, 1995г., допущена МО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Художественно- эстетическое направление – 2 часа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Творческое объединение</a:t>
            </a:r>
            <a:r>
              <a:rPr b="0" lang="en-US" sz="1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«Мозаик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с направлен 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 младших школьников, детского сплоченного коллектива через воспитание трудолюбия, усидчивости, терпеливости, взаимопомощи, взаимовыруч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питание любви и уважения к своему труду и труду взрослых, любви к родному краю и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1766880" cy="22320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рограмма кружка для учащихся  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        начальной школы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«Мозаика»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/Куревина О.А., Лутцева Е.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Эстетическое мышление и художественный труд»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ник программ.- М.: Баласс, 2003.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Студия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 «Театральная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эстетических способност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е сферы чувств, соучастия, сопережив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изация мыслительного процесса и познавательного интерес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ладение навыками общения и коллективного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379680" y="3716280"/>
            <a:ext cx="2106720" cy="280836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19:11Z</dcterms:created>
  <dc:creator>UserXP</dc:creator>
  <dc:description/>
  <dc:language>en-US</dc:language>
  <cp:lastModifiedBy>UserXP</cp:lastModifiedBy>
  <dcterms:modified xsi:type="dcterms:W3CDTF">2011-07-24T08:42:29Z</dcterms:modified>
  <cp:revision>19</cp:revision>
  <dc:subject/>
  <dc:title>Сибирячок</dc:title>
</cp:coreProperties>
</file>