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EBDE-F634-4079-BE73-6EB136101A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8AF6-CE92-472C-9C24-92F9CA9ED1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E7EC-EF79-4052-9FC5-9D3664E2B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B33B-AACE-4A43-BB6B-C249FC72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7919-B7E3-4B59-A91C-16A26F07A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6738-71B7-4818-9B58-EC26C34C3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6A2D-633B-43E1-B6BE-5BCE99A2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65FF-705F-47D3-9C13-37F904AE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C701-C07A-4E89-A5DB-2FB97365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40E6-5294-4F70-B2C1-CABC206C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B6F5-0472-4756-A440-49EA5F44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F13F-BAA9-4BB3-AC9E-8BCF90D4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6B31-0B4C-4548-8CF3-DB1CAA47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63EE-779F-4656-98E4-997DA766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CAB7-C2C5-429A-AAA3-24263830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3BB5-CD4B-45FE-AF46-2D65A793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F254-8AF2-426B-84E1-F9822285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4761-9C7B-433B-B403-8E69591B4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9EA6-33AA-42C7-8DA0-661A21803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F4DD-8BF0-4841-971E-2EE33DFC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EBDB-6989-497C-B063-7D221575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7E56-3468-4303-9D31-6973371E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6E98-CC90-4637-A2A8-0C019AA9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076F-AF56-4096-927D-75D0CF2A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7C7E-2AC4-417A-B327-A16A134B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CE3F-D753-489C-8BB6-24319DD0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4DF6-AB39-4B23-8CE4-42F0CF0F99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0" descr="strtegic1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2A67-A811-48D0-B0BE-F9A1E53E3EF3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ormotuhi.net/" TargetMode="External"/><Relationship Id="rId2" Type="http://schemas.openxmlformats.org/officeDocument/2006/relationships/hyperlink" Target="http://www.cccp.k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14760" y="213840"/>
            <a:ext cx="621504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86950"/>
                </a:solidFill>
                <a:latin typeface="Times New Roman"/>
                <a:ea typeface="Times New Roman"/>
              </a:rPr>
              <a:t>Гордость твоя, Балаково – знаменитые земляки</a:t>
            </a:r>
            <a:endParaRPr b="0" lang="en-US" sz="5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214880" y="5286240"/>
            <a:ext cx="400032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8695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3857760" y="3643200"/>
            <a:ext cx="507204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34d00"/>
                </a:solidFill>
                <a:latin typeface="Times New Roman"/>
                <a:ea typeface="Times New Roman"/>
              </a:rPr>
              <a:t>Автор: Курышина Елиза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34d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734d00"/>
                </a:solidFill>
                <a:latin typeface="Times New Roman"/>
                <a:ea typeface="Times New Roman"/>
              </a:rPr>
              <a:t>7 класс, МОУ «СОШ №5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34d00"/>
                </a:solidFill>
                <a:latin typeface="Times New Roman"/>
                <a:ea typeface="Times New Roman"/>
              </a:rPr>
              <a:t>Руководитель: Теплых Ритта   Александр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34d00"/>
                </a:solidFill>
                <a:latin typeface="Times New Roman"/>
                <a:ea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34d00"/>
                </a:solidFill>
                <a:latin typeface="Times New Roman"/>
                <a:ea typeface="Times New Roman"/>
              </a:rPr>
              <a:t>Город Балаково 2011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285480"/>
            <a:ext cx="7543800" cy="21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«Пусть мужество ваше нам будет примером. </a:t>
            </a:r>
            <a:br>
              <a:rPr sz="2800"/>
            </a:br>
            <a:r>
              <a:rPr b="0" lang="ru-RU" sz="2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Да станет победа нам вечным огнём.</a:t>
            </a:r>
            <a:br>
              <a:rPr sz="2800"/>
            </a:br>
            <a:r>
              <a:rPr b="0" lang="ru-RU" sz="2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Вы были далёких времён пионером,</a:t>
            </a:r>
            <a:br>
              <a:rPr sz="2800"/>
            </a:br>
            <a:r>
              <a:rPr b="0" lang="ru-RU" sz="2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    Мы вашу отвагу, как флаг, пронесём.» </a:t>
            </a:r>
            <a:br>
              <a:rPr sz="2400"/>
            </a:br>
            <a:r>
              <a:rPr b="0" lang="ru-RU" sz="24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r>
              <a:rPr b="0" lang="ru-RU" sz="2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П. Давыдов</a:t>
            </a:r>
            <a:endParaRPr b="0" lang="en-US" sz="20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24" name="Picture 2" descr="C:\Documents and Settings\Ritta\Рабочий стол\Исследовательский проект Лиза 2\картинки\22652451.original.jpg"/>
          <p:cNvPicPr/>
          <p:nvPr/>
        </p:nvPicPr>
        <p:blipFill>
          <a:blip r:embed="rId1"/>
          <a:stretch/>
        </p:blipFill>
        <p:spPr>
          <a:xfrm>
            <a:off x="1428840" y="2357280"/>
            <a:ext cx="7500960" cy="43578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писок источников: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371240" y="1000080"/>
            <a:ext cx="76201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алаковская книга памяти Т.2 Балаково: Возрождени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итературный центр, 2000. -164с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алаковская народная энциклопед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Сост. Ю. Каргин. –  Саратов: Приволжское издательство, 2007. – 536с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льф А. Я. И встал солдат убитый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Шесть строк из дневника разведчика.-103-165с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Саратов : Приволжское издательство, 1975.- 232с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ревнин А.А. Человек героического боевого и трудового подвига. – Балаково :Балаковская писательская организация Союза писателей России, 2004.- 36с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умянцев Н.М. Люди легендарного подвига.- Саратов : Приволжское книжное издательство,1968.- 592с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000034704-orig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66002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2652451.orig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gvhad.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oshkin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-14-2010-09-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00"/>
                </a:solidFill>
                <a:uFillTx/>
                <a:latin typeface="Times New Roman"/>
                <a:hlinkClick r:id="rId1"/>
              </a:rPr>
              <a:t>www.bormotuhi.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00"/>
                </a:solidFill>
                <a:uFillTx/>
                <a:latin typeface="Times New Roman"/>
                <a:hlinkClick r:id="rId2"/>
              </a:rPr>
              <a:t>www.cccp.k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F:\ФОТО\2009-2010\Открытие  мемориальной доски Ерошкина 27.04.10\PICT0065.JPG"/>
          <p:cNvPicPr/>
          <p:nvPr/>
        </p:nvPicPr>
        <p:blipFill>
          <a:blip r:embed="rId1"/>
          <a:stretch/>
        </p:blipFill>
        <p:spPr>
          <a:xfrm>
            <a:off x="4071960" y="2286000"/>
            <a:ext cx="4857840" cy="42861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213920" y="214200"/>
            <a:ext cx="76201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Цель исследования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ми героями гордится наша школ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наша школа носит имя Геро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ошки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енти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иллович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371600" y="404640"/>
            <a:ext cx="741528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ипотез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что Валентину Кирилловичу Ерошкину было присужден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ание Героя Советского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" descr="F:\ФОТО\2009-2010\Открытие  мемориальной доски Ерошкина 27.04.10\PICT0099.JPG"/>
          <p:cNvPicPr/>
          <p:nvPr/>
        </p:nvPicPr>
        <p:blipFill>
          <a:blip r:embed="rId1"/>
          <a:stretch/>
        </p:blipFill>
        <p:spPr>
          <a:xfrm>
            <a:off x="3857760" y="2590920"/>
            <a:ext cx="3286080" cy="39621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3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C:\Documents and Settings\Ritta\Рабочий стол\Исследовательский проект Лиза 2\картинки\0000034704-original.jpg"/>
          <p:cNvPicPr/>
          <p:nvPr/>
        </p:nvPicPr>
        <p:blipFill>
          <a:blip r:embed="rId1"/>
          <a:stretch/>
        </p:blipFill>
        <p:spPr>
          <a:xfrm>
            <a:off x="5214960" y="1262160"/>
            <a:ext cx="3786120" cy="5238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285480"/>
            <a:ext cx="420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н исследования: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28680" y="2356920"/>
            <a:ext cx="506268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 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1428840" y="1428840"/>
            <a:ext cx="4000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энциклопедию г.Балако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информацию в библиотеке  о     Героях войны – земляках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тить музей школ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, какими земляками мы можем гордиться и какие подвиги они соверши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5"/>
          <p:cNvSpPr/>
          <p:nvPr/>
        </p:nvSpPr>
        <p:spPr>
          <a:xfrm>
            <a:off x="4081320" y="2509920"/>
            <a:ext cx="506268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  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85560" y="142560"/>
            <a:ext cx="75438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астники Великой отечественной войны.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1285920" y="714240"/>
            <a:ext cx="764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учителей Рязанцевых Виктора Петровича и Александры Васильев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1285920" y="1714680"/>
            <a:ext cx="7715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тор Петрович в 1942 году поступил во Второе Ульяновское Краснознаменное танковое училище, и в звании младшего лейтенанта был направлен на Брянский фронт. Он принимал участие в боях на территории Белоруссии, Польши в качестве командира танка, был ранен. Победу встретил на Эльб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войны Александра Васильевна участвовала в оборонительных работах в г. Ленинграде. Когда в январе 1942 года кольцо блокады разорвали, через «дорогу жизни» она уехала в Тверскую область, где закончила курсы связистов , после чего ее перевели в 4-ую Оршанскую Гвардейскую авиационную истребительную дивизию. Вместе с дивизией дошла до г.Берлина, где и встретила Победу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59 году семья Рязанцевых переехала в г. Балаково. Виктор Петрович работал преподавателем начальной военной подготовки в средней школе № 4, затем в клубе «ДОСААФ». Александра Васильевна в течение 15 лет была учителем технологии в средней школе № 5. В настоящее время является ветераном педагогического труда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1714680" y="214200"/>
            <a:ext cx="43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грады Герое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1285920" y="928800"/>
            <a:ext cx="51433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тор Петрович Рязанцев награждён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рденами Боевого красного знамени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Красной звезды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течественной войны 1 степени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медалью «За боевые заслуги»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тмечен благодарственным письмом Верховного главнокомандующего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Юбилейной медалью «65 лет Победы в Великой Отечественной войне»,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а Васильевна Рязанцева награждена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рденом Великой Отечественной войны 2 степени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медалями «За оборону Ленинграда»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«За Победу над Германией в Великой Отечественной войне»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тмечена благодарственным письмом Верховного главнокомандующе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Юбилейной медалью «65 лет Победы в Великой Отечественной войне»,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" descr="C:\Documents and Settings\Ritta\Рабочий стол\Исследовательский проект Лиза 2\картинки\166002_t.jpg"/>
          <p:cNvPicPr/>
          <p:nvPr/>
        </p:nvPicPr>
        <p:blipFill>
          <a:blip r:embed="rId1"/>
          <a:srcRect l="0" t="0" r="51066" b="49570"/>
          <a:stretch/>
        </p:blipFill>
        <p:spPr>
          <a:xfrm>
            <a:off x="6786720" y="4643280"/>
            <a:ext cx="2071440" cy="2000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C:\Documents and Settings\Ritta\Мои документы\Мои рисунки\www.bormotuhi.net.jpeg"/>
          <p:cNvPicPr/>
          <p:nvPr/>
        </p:nvPicPr>
        <p:blipFill>
          <a:blip r:embed="rId2"/>
          <a:stretch/>
        </p:blipFill>
        <p:spPr>
          <a:xfrm>
            <a:off x="6786720" y="214200"/>
            <a:ext cx="2143080" cy="2214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Documents and Settings\Ritta\Мои документы\Мои рисунки\www.cccp.kg.jpeg"/>
          <p:cNvPicPr/>
          <p:nvPr/>
        </p:nvPicPr>
        <p:blipFill>
          <a:blip r:embed="rId3"/>
          <a:stretch/>
        </p:blipFill>
        <p:spPr>
          <a:xfrm>
            <a:off x="6858000" y="2571840"/>
            <a:ext cx="2071800" cy="18572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4"/>
          <p:cNvSpPr/>
          <p:nvPr/>
        </p:nvSpPr>
        <p:spPr>
          <a:xfrm>
            <a:off x="1285920" y="214200"/>
            <a:ext cx="500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алентин Кириллович     Ерошкин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C:\Documents and Settings\Ritta\Рабочий стол\Исследовательский проект Лиза 2\картинки\Eroshkin_VK.jpg"/>
          <p:cNvPicPr/>
          <p:nvPr/>
        </p:nvPicPr>
        <p:blipFill>
          <a:blip r:embed="rId1"/>
          <a:stretch/>
        </p:blipFill>
        <p:spPr>
          <a:xfrm>
            <a:off x="6429240" y="428760"/>
            <a:ext cx="2428920" cy="300024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6"/>
          <p:cNvSpPr/>
          <p:nvPr/>
        </p:nvSpPr>
        <p:spPr>
          <a:xfrm>
            <a:off x="1214280" y="1571760"/>
            <a:ext cx="471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ошкин Валентин Кириллович - сапёр-разведчик 100-го гвардейского стрелкового полка (35-я гвардейская стрелковая Лозовская Краснознаменная орденов Суворова и Богдана Хмельницкого дивизия, 8-я гвардейская армия, 1-й Белорусский фронт), гвардии старший сержан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оугольник 7"/>
          <p:cNvSpPr/>
          <p:nvPr/>
        </p:nvSpPr>
        <p:spPr>
          <a:xfrm>
            <a:off x="1214280" y="3500280"/>
            <a:ext cx="77155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13 февраля 1925 года в селе Озинки Духовницкого района Саратовской области. Русский. После окончания 8 классов Солянской средней школы работал трактористом в зерносовхоз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Прямоугольник 8"/>
          <p:cNvSpPr/>
          <p:nvPr/>
        </p:nvSpPr>
        <p:spPr>
          <a:xfrm>
            <a:off x="1214280" y="4572000"/>
            <a:ext cx="771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юле 1941 года добровольцем ушёл в Красную Армию. Сражался на Западном, Сталинградском, Юго-Западном, 3-м Украинском и 1-м Белорусском фронтах. Принимал участие в оборонительных боях под Смоленском, в Сталинградской битве, освобождении Украины, Польши, разгроме врага на территории Германии. Трижды ранен, дважды контуже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2"/>
          <p:cNvSpPr/>
          <p:nvPr/>
        </p:nvSpPr>
        <p:spPr>
          <a:xfrm>
            <a:off x="1285920" y="214200"/>
            <a:ext cx="69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виги и награды Геро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3"/>
          <p:cNvSpPr/>
          <p:nvPr/>
        </p:nvSpPr>
        <p:spPr>
          <a:xfrm>
            <a:off x="1214280" y="571680"/>
            <a:ext cx="5000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ание Героя Советского Союза гвардии старшему сержанту Ерошкину Валентину Кирилловичу присвоено Указом Президиума Верховного Совета СССР от 24 марта 1945 г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6"/>
          <p:cNvSpPr/>
          <p:nvPr/>
        </p:nvSpPr>
        <p:spPr>
          <a:xfrm>
            <a:off x="1214280" y="4714920"/>
            <a:ext cx="7643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граждён орденом Ленина (1945), орденами Красной Звезды (1956), Славы 3-й степени (1944), 2 медалями "За отвагу" (1942, 1943), медалями "За боевые заслуги" (1951), "За оборону Сталинграда", "За взятие Берлина", "За освобождение Варшавы" и другими медалями. Почётный гражданин города Балаков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5"/>
          <p:cNvSpPr/>
          <p:nvPr/>
        </p:nvSpPr>
        <p:spPr>
          <a:xfrm>
            <a:off x="1214280" y="2214720"/>
            <a:ext cx="7643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июня 1945 года В.К. Ерошкин участвовал в историческом Параде Победы в Москве н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асной площади. До 1961 года служил в Советской Армии. Майор в отставке, жил и работал городе Балаково Саратовской области, был редактором газеты «Вечерний Балаково». После ухода на пенсию заслуженный ветеран возглавлял балаковский комитет ДОСААФ, был организатором и руководителем городского Совета ветеранов, а также командующим военно-спортивными играми. Умер 12 мая 1997 год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" descr="C:\Documents and Settings\Ritta\Рабочий стол\Исследовательский проект Лиза 2\картинки\new-14-2010-09-17.jpg"/>
          <p:cNvPicPr/>
          <p:nvPr/>
        </p:nvPicPr>
        <p:blipFill>
          <a:blip r:embed="rId1"/>
          <a:stretch/>
        </p:blipFill>
        <p:spPr>
          <a:xfrm>
            <a:off x="6643800" y="357120"/>
            <a:ext cx="2286000" cy="2214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2"/>
          <p:cNvSpPr/>
          <p:nvPr/>
        </p:nvSpPr>
        <p:spPr>
          <a:xfrm>
            <a:off x="1428840" y="28584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вод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1214280" y="785880"/>
            <a:ext cx="3643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ание Героя Советского Союза с вручением ордена Ленина и медали "Золотая Звезда" (№ 6662) гвардии старшему сержанту Ерошкину Валентину Кирилловичу присвоено за отвагу и мужество, проявленные при форсировании Вислы, захвате и удержании плацдарма на западном берегу ре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3" descr="C:\Documents and Settings\Ritta\Мои документы\Мои рисунки\2gvhad.ru.jpeg"/>
          <p:cNvPicPr/>
          <p:nvPr/>
        </p:nvPicPr>
        <p:blipFill>
          <a:blip r:embed="rId1"/>
          <a:stretch/>
        </p:blipFill>
        <p:spPr>
          <a:xfrm>
            <a:off x="5000760" y="1071720"/>
            <a:ext cx="3786120" cy="4357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2:07:33Z</dcterms:created>
  <dc:creator>work</dc:creator>
  <dc:description/>
  <dc:language>en-US</dc:language>
  <cp:lastModifiedBy>Ritta</cp:lastModifiedBy>
  <dcterms:modified xsi:type="dcterms:W3CDTF">2011-04-08T21:20:44Z</dcterms:modified>
  <cp:revision>96</cp:revision>
  <dc:subject/>
  <dc:title>История великой Победы</dc:title>
</cp:coreProperties>
</file>