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241-FB9A-4765-8772-3264E077A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984-1170-4CC6-A2A8-23402C1727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45C-944B-49CD-9DEE-CFF53E78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E17-38C9-4D01-9A05-71FC057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A3F-FF17-407C-A22A-DA6CF365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9F9-C37F-4764-93AC-928885A3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AA9-88D0-49ED-85CA-F5585851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745-FC87-4028-B61D-A9CCE59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716-8983-49AD-B2A9-23A531BE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FF0-4CBB-4429-A455-AF4DEE5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EFD7-66E4-4E2A-90DD-023C25C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BDC8-102F-41D2-A951-4AA2BA5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DC4-9997-4D63-B355-3B17BC9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951-2B19-4562-8ABC-5196B05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0FC-7417-4069-A70A-946FB17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F7A4-ABE3-4F7B-9C2A-0CFDF81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346B-61FD-4F86-ADB1-CC6BE1A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020-68D2-4393-B0AF-2417E49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2F16-D068-43A2-AAAE-6EE80AAA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706-B642-40BD-8408-52D61A0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74E-CEBF-4256-B97D-CE6AF43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D3B-62EB-42BA-8FF1-7E258DC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AC8-3CC6-4A03-8076-18A0ABA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3A2-A2ED-4C49-8285-40BCEE8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2B2-4099-464D-A98C-20BD8A45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125-B511-40E9-9ABF-AE9BA19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83D6-EB4A-4BDB-9292-5B616729C1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57A7-C75C-4E49-ADC5-5BB9E22155A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ormotuhi.net/" TargetMode="External"/><Relationship Id="rId2" Type="http://schemas.openxmlformats.org/officeDocument/2006/relationships/hyperlink" Target="http://www.cccp.k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760" y="213840"/>
            <a:ext cx="6215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Гордость твоя, Балаково – знаменитые земляки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14880" y="528624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857760" y="3643200"/>
            <a:ext cx="5072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Автор: Курышина Елиза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7 класс, МОУ «СОШ №5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Руководитель: Теплых Ритта  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Город Балаково 201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85480"/>
            <a:ext cx="7543800" cy="21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Пусть мужество ваше нам будет примером. 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Да станет победа нам вечным огнём.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Вы были далёких времён пионером,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Мы вашу отвагу, как флаг, пронесём.» 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П. Давыдов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4" name="Picture 2" descr="C:\Documents and Settings\Ritta\Рабочий стол\Исследовательский проект Лиза 2\картинки\22652451.original.jpg"/>
          <p:cNvPicPr/>
          <p:nvPr/>
        </p:nvPicPr>
        <p:blipFill>
          <a:blip r:embed="rId1"/>
          <a:stretch/>
        </p:blipFill>
        <p:spPr>
          <a:xfrm>
            <a:off x="1428840" y="2357280"/>
            <a:ext cx="750096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исок источников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240" y="1000080"/>
            <a:ext cx="762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ковская книга памяти Т.2 Балаково: Возрожд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тературный центр, 2000. -164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ковская народная энциклопед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. Ю. Каргин. –  Саратов: Приволжское издательство, 2007. – 536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льф А. Я. И встал солдат убитый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Шесть строк из дневника разведчика.-103-165с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аратов : Приволжское издательство, 1975.- 23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ревнин А.А. Человек героического боевого и трудового подвига. – Балаково :Балаковская писательская организация Союза писателей России, 2004.- 36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мянцев Н.М. Люди легендарного подвига.- Саратов : Приволжское книжное издательство,1968.- 59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034704-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6002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52451.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gvhad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oshki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-14-2010-09-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www.bormotuhi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www.cccp.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ФОТО\2009-2010\Открытие  мемориальной доски Ерошкина 27.04.10\PICT0065.JPG"/>
          <p:cNvPicPr/>
          <p:nvPr/>
        </p:nvPicPr>
        <p:blipFill>
          <a:blip r:embed="rId1"/>
          <a:stretch/>
        </p:blipFill>
        <p:spPr>
          <a:xfrm>
            <a:off x="4071960" y="2286000"/>
            <a:ext cx="4857840" cy="428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13920" y="214200"/>
            <a:ext cx="7620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героями гордится наша шко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ша школа носит имя Геро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шк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лович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71600" y="404640"/>
            <a:ext cx="74152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то Валентину Кирилловичу Ерошкину было присужде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F:\ФОТО\2009-2010\Открытие  мемориальной доски Ерошкина 27.04.10\PICT0099.JPG"/>
          <p:cNvPicPr/>
          <p:nvPr/>
        </p:nvPicPr>
        <p:blipFill>
          <a:blip r:embed="rId1"/>
          <a:stretch/>
        </p:blipFill>
        <p:spPr>
          <a:xfrm>
            <a:off x="3857760" y="2590920"/>
            <a:ext cx="328608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Ritta\Рабочий стол\Исследовательский проект Лиза 2\картинки\0000034704-original.jpg"/>
          <p:cNvPicPr/>
          <p:nvPr/>
        </p:nvPicPr>
        <p:blipFill>
          <a:blip r:embed="rId1"/>
          <a:stretch/>
        </p:blipFill>
        <p:spPr>
          <a:xfrm>
            <a:off x="5214960" y="1262160"/>
            <a:ext cx="3786120" cy="5238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85480"/>
            <a:ext cx="420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 исследования: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28680" y="2356920"/>
            <a:ext cx="506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428840" y="1428840"/>
            <a:ext cx="400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энциклопедию г.Бал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информацию в библиотеке  о     Героях войны – земляка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музей школ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ми земляками мы можем гордиться и какие подвиги они соверш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5"/>
          <p:cNvSpPr/>
          <p:nvPr/>
        </p:nvSpPr>
        <p:spPr>
          <a:xfrm>
            <a:off x="4081320" y="2509920"/>
            <a:ext cx="50626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Великой отечественной войны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285920" y="71424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учителей Рязанцевых Виктора Петровича и Александры Васильев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285920" y="171468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Петрович в 1942 году поступил во Второе Ульяновское Краснознаменное танковое училище, и в звании младшего лейтенанта был направлен на Брянский фронт. Он принимал участие в боях на территории Белоруссии, Польши в качестве командира танка, был ранен. Победу встретил на Эльб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Александра Васильевна участвовала в оборонительных работах в г. Ленинграде. Когда в январе 1942 года кольцо блокады разорвали, через «дорогу жизни» она уехала в Тверскую область, где закончила курсы связистов , после чего ее перевели в 4-ую Оршанскую Гвардейскую авиационную истребительную дивизию. Вместе с дивизией дошла до г.Берлина, где и встретила Побед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9 году семья Рязанцевых переехала в г. Балаково. Виктор Петрович работал преподавателем начальной военной подготовки в средней школе № 4, затем в клубе «ДОСААФ». Александра Васильевна в течение 15 лет была учителем технологии в средней школе № 5. В настоящее время является ветераном педагогического труд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714680" y="21420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грады Геро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285920" y="928800"/>
            <a:ext cx="5143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Петрович Рязанцев награждён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рденами Боевого красного знам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расной звезд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ечественной войны 1 степ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алью «За боевые заслуги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мечен благодарственным письмом Верховного главнокомандующег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Юбилейной медалью «65 лет Победы в Великой Отечественной войне»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Васильевна Рязанцева награжде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рденом Великой Отечественной войны 2 степ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алями «За оборону Ленинграда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За Победу над Германией в Великой Отечественной войне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мечена благодарственным письмом Верховного главнокомандующ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Юбилейной медалью «65 лет Победы в Великой Отечественной войне»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" descr="C:\Documents and Settings\Ritta\Рабочий стол\Исследовательский проект Лиза 2\картинки\166002_t.jpg"/>
          <p:cNvPicPr/>
          <p:nvPr/>
        </p:nvPicPr>
        <p:blipFill>
          <a:blip r:embed="rId1"/>
          <a:srcRect l="0" t="0" r="51066" b="49570"/>
          <a:stretch/>
        </p:blipFill>
        <p:spPr>
          <a:xfrm>
            <a:off x="6786720" y="464328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Ritta\Мои документы\Мои рисунки\www.bormotuhi.net.jpeg"/>
          <p:cNvPicPr/>
          <p:nvPr/>
        </p:nvPicPr>
        <p:blipFill>
          <a:blip r:embed="rId2"/>
          <a:stretch/>
        </p:blipFill>
        <p:spPr>
          <a:xfrm>
            <a:off x="6786720" y="21420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Ritta\Мои документы\Мои рисунки\www.cccp.kg.jpeg"/>
          <p:cNvPicPr/>
          <p:nvPr/>
        </p:nvPicPr>
        <p:blipFill>
          <a:blip r:embed="rId3"/>
          <a:stretch/>
        </p:blipFill>
        <p:spPr>
          <a:xfrm>
            <a:off x="6858000" y="2571840"/>
            <a:ext cx="2071800" cy="1857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1285920" y="2142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ин Кириллович     Ерошк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C:\Documents and Settings\Ritta\Рабочий стол\Исследовательский проект Лиза 2\картинки\Eroshkin_VK.jpg"/>
          <p:cNvPicPr/>
          <p:nvPr/>
        </p:nvPicPr>
        <p:blipFill>
          <a:blip r:embed="rId1"/>
          <a:stretch/>
        </p:blipFill>
        <p:spPr>
          <a:xfrm>
            <a:off x="6429240" y="4287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6"/>
          <p:cNvSpPr/>
          <p:nvPr/>
        </p:nvSpPr>
        <p:spPr>
          <a:xfrm>
            <a:off x="1214280" y="157176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шкин Валентин Кириллович - сапёр-разведчик 100-го гвардейского стрелкового полка (35-я гвардейская стрелковая Лозовская Краснознаменная орденов Суворова и Богдана Хмельницкого дивизия, 8-я гвардейская армия, 1-й Белорусский фронт), гвардии старший сержа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214280" y="3500280"/>
            <a:ext cx="7715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13 февраля 1925 года в селе Озинки Духовницкого района Саратовской области. Русский. После окончания 8 классов Солянской средней школы работал трактористом в зерносовхоз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1214280" y="457200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ле 1941 года добровольцем ушёл в Красную Армию. Сражался на Западном, Сталинградском, Юго-Западном, 3-м Украинском и 1-м Белорусском фронтах. Принимал участие в оборонительных боях под Смоленском, в Сталинградской битве, освобождении Украины, Польши, разгроме врага на территории Германии. Трижды ранен, дважды контуж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1285920" y="21420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иги и награды Гер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1214280" y="571680"/>
            <a:ext cx="500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 Союза гвардии старшему сержанту Ерошкину Валентину Кирилловичу присвоено Указом Президиума Верховного Совета СССР от 24 марта 194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214280" y="4714920"/>
            <a:ext cx="7643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ён орденом Ленина (1945), орденами Красной Звезды (1956), Славы 3-й степени (1944), 2 медалями "За отвагу" (1942, 1943), медалями "За боевые заслуги" (1951), "За оборону Сталинграда", "За взятие Берлина", "За освобождение Варшавы" и другими медалями. Почётный гражданин города Балако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214280" y="221472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июня 1945 года В.К. Ерошкин участвовал в историческом Параде Победы в Москве 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ной площади. До 1961 года служил в Советской Армии. Майор в отставке, жил и работал городе Балаково Саратовской области, был редактором газеты «Вечерний Балаково». После ухода на пенсию заслуженный ветеран возглавлял балаковский комитет ДОСААФ, был организатором и руководителем городского Совета ветеранов, а также командующим военно-спортивными играми. Умер 12 мая 1997 го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C:\Documents and Settings\Ritta\Рабочий стол\Исследовательский проект Лиза 2\картинки\new-14-2010-09-17.jpg"/>
          <p:cNvPicPr/>
          <p:nvPr/>
        </p:nvPicPr>
        <p:blipFill>
          <a:blip r:embed="rId1"/>
          <a:stretch/>
        </p:blipFill>
        <p:spPr>
          <a:xfrm>
            <a:off x="6643800" y="35712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1428840" y="285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214280" y="785880"/>
            <a:ext cx="36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 Союза с вручением ордена Ленина и медали "Золотая Звезда" (№ 6662) гвардии старшему сержанту Ерошкину Валентину Кирилловичу присвоено за отвагу и мужество, проявленные при форсировании Вислы, захвате и удержании плацдарма на западном берегу р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C:\Documents and Settings\Ritta\Мои документы\Мои рисунки\2gvhad.ru.jpeg"/>
          <p:cNvPicPr/>
          <p:nvPr/>
        </p:nvPicPr>
        <p:blipFill>
          <a:blip r:embed="rId1"/>
          <a:stretch/>
        </p:blipFill>
        <p:spPr>
          <a:xfrm>
            <a:off x="5000760" y="1071720"/>
            <a:ext cx="3786120" cy="4357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2:07:33Z</dcterms:created>
  <dc:creator>work</dc:creator>
  <dc:description/>
  <dc:language>en-US</dc:language>
  <cp:lastModifiedBy>Ritta</cp:lastModifiedBy>
  <dcterms:modified xsi:type="dcterms:W3CDTF">2011-04-08T21:20:44Z</dcterms:modified>
  <cp:revision>96</cp:revision>
  <dc:subject/>
  <dc:title>История великой Победы</dc:title>
</cp:coreProperties>
</file>