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152-2405-4E4A-BB85-6D441FC7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F46-46EF-4098-A54A-0BDEB0F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B3E-F48B-4E45-A43F-425DADD0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78F-C4C9-4002-BA2C-FE1DDA89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0C9-16BA-45A1-9FC7-D4987039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986-1EA7-4296-AAC5-6E7AB1BF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3CD-6F6E-472F-AD50-611F234D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B0B-1AA2-4A81-BC75-24F7633A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21D-AA9D-4010-8470-648554B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94D-E077-4591-A93E-9166844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AFE-6DFB-4922-99A9-9E5854C1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EC7-0089-40D1-A923-D8CC2BA0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5EA8-CA0A-4FDE-963F-FFDB9C3D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5600" y="3885120"/>
            <a:ext cx="564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Если будем мы трудиться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е, конечно уродится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любой плохой погод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нашем славном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" y="114300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6"/>
          <p:cNvSpPr/>
          <p:nvPr/>
        </p:nvSpPr>
        <p:spPr>
          <a:xfrm flipH="1">
            <a:off x="4419360" y="609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жека\Рабочий стол\Безымянный.bmp"/>
          <p:cNvPicPr/>
          <p:nvPr/>
        </p:nvPicPr>
        <p:blipFill>
          <a:blip r:embed="rId2"/>
          <a:stretch/>
        </p:blipFill>
        <p:spPr>
          <a:xfrm>
            <a:off x="2209680" y="380880"/>
            <a:ext cx="403884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" descr=""/>
          <p:cNvPicPr/>
          <p:nvPr/>
        </p:nvPicPr>
        <p:blipFill>
          <a:blip r:embed="rId3"/>
          <a:stretch/>
        </p:blipFill>
        <p:spPr>
          <a:xfrm>
            <a:off x="2438280" y="3657600"/>
            <a:ext cx="4754520" cy="1663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ая соединительная линия 6"/>
          <p:cNvSpPr/>
          <p:nvPr/>
        </p:nvSpPr>
        <p:spPr>
          <a:xfrm flipH="1">
            <a:off x="5562360" y="32767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жека\Рабочий стол\Безымянный.bmp"/>
          <p:cNvPicPr/>
          <p:nvPr/>
        </p:nvPicPr>
        <p:blipFill>
          <a:blip r:embed="rId2"/>
          <a:stretch/>
        </p:blipFill>
        <p:spPr>
          <a:xfrm>
            <a:off x="0" y="0"/>
            <a:ext cx="4038480" cy="285768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5" descr=""/>
          <p:cNvPicPr/>
          <p:nvPr/>
        </p:nvPicPr>
        <p:blipFill>
          <a:blip r:embed="rId3"/>
          <a:stretch/>
        </p:blipFill>
        <p:spPr>
          <a:xfrm>
            <a:off x="4065480" y="139680"/>
            <a:ext cx="4754520" cy="1665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ахчевое растение семейства тыквенных с большими шарообразными сладкими плод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4267080" y="58672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жека\Рабочий стол\Безымянный.bmp"/>
          <p:cNvPicPr/>
          <p:nvPr/>
        </p:nvPicPr>
        <p:blipFill>
          <a:blip r:embed="rId2"/>
          <a:stretch/>
        </p:blipFill>
        <p:spPr>
          <a:xfrm>
            <a:off x="0" y="0"/>
            <a:ext cx="403848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4" descr=""/>
          <p:cNvPicPr/>
          <p:nvPr/>
        </p:nvPicPr>
        <p:blipFill>
          <a:blip r:embed="rId3"/>
          <a:stretch/>
        </p:blipFill>
        <p:spPr>
          <a:xfrm>
            <a:off x="4065480" y="139680"/>
            <a:ext cx="4754520" cy="1665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5"/>
          <p:cNvSpPr/>
          <p:nvPr/>
        </p:nvSpPr>
        <p:spPr>
          <a:xfrm>
            <a:off x="0" y="28288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имствовано в XVI в. из татарского языка, в котором 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рбуз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рбуз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восходит к персидскому </a:t>
            </a: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арбуза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«дыня» (буквально — «ослиный огурец»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0552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971800" y="388620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дилась я на слав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а бела, кудря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любит щи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я в них ищ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2286000" y="380880"/>
            <a:ext cx="5257800" cy="372456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3"/>
          <a:stretch/>
        </p:blipFill>
        <p:spPr>
          <a:xfrm>
            <a:off x="1905120" y="3962520"/>
            <a:ext cx="5424480" cy="1500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 flipH="1">
            <a:off x="4648320" y="3733920"/>
            <a:ext cx="357120" cy="5000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0" y="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4" descr=""/>
          <p:cNvPicPr/>
          <p:nvPr/>
        </p:nvPicPr>
        <p:blipFill>
          <a:blip r:embed="rId3"/>
          <a:stretch/>
        </p:blipFill>
        <p:spPr>
          <a:xfrm>
            <a:off x="3724200" y="-42840"/>
            <a:ext cx="5426280" cy="15001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0" y="3571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городное растение семейства крестоцветных, растущее обычно коча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6765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Лекс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0" y="0"/>
            <a:ext cx="3929040" cy="3000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4" descr=""/>
          <p:cNvPicPr/>
          <p:nvPr/>
        </p:nvPicPr>
        <p:blipFill>
          <a:blip r:embed="rId3"/>
          <a:stretch/>
        </p:blipFill>
        <p:spPr>
          <a:xfrm>
            <a:off x="3724200" y="-42840"/>
            <a:ext cx="5426280" cy="15001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0" y="307188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славянское. Этимология не установлена. Считается заимствованием, восходящим к контаминации лат. капут «голова» и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os(i)ta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составленная».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putium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кочан капуст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5257800" y="1676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4" descr="Картинка 31 из 11745"/>
          <p:cNvPicPr/>
          <p:nvPr/>
        </p:nvPicPr>
        <p:blipFill>
          <a:blip r:embed="rId2"/>
          <a:stretch/>
        </p:blipFill>
        <p:spPr>
          <a:xfrm>
            <a:off x="0" y="0"/>
            <a:ext cx="3929040" cy="30002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0" y="314316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ЯЧЬЯ КАПУСТА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оголетнее травянистое растение сем. толстянковых с мясистыми листьями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доль оград пробивались запылённые ростки заячьей капусты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5334120" y="9144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1371600" y="3886200"/>
            <a:ext cx="764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кудрявый хох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у из норки повол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ощупь – очень гладка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кус – как сахар сладк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1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2990880" cy="364356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4" descr=""/>
          <p:cNvPicPr/>
          <p:nvPr/>
        </p:nvPicPr>
        <p:blipFill>
          <a:blip r:embed="rId3"/>
          <a:stretch/>
        </p:blipFill>
        <p:spPr>
          <a:xfrm>
            <a:off x="1752480" y="4495680"/>
            <a:ext cx="5900760" cy="15004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 flipH="1">
            <a:off x="5486040" y="4343400"/>
            <a:ext cx="428760" cy="5000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06040" y="99072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 flipH="1">
            <a:off x="7619760" y="5335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004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). Участок земли, обычно вблизи дома, для выращивания ово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). Изгоро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4267080" y="58672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1" descr=""/>
          <p:cNvPicPr/>
          <p:nvPr/>
        </p:nvPicPr>
        <p:blipFill>
          <a:blip r:embed="rId2"/>
          <a:stretch/>
        </p:blipFill>
        <p:spPr>
          <a:xfrm>
            <a:off x="0" y="0"/>
            <a:ext cx="2990880" cy="3643200"/>
          </a:xfrm>
          <a:prstGeom prst="rect">
            <a:avLst/>
          </a:prstGeom>
          <a:ln w="0">
            <a:noFill/>
          </a:ln>
        </p:spPr>
      </p:pic>
      <p:pic>
        <p:nvPicPr>
          <p:cNvPr id="109" name="Прямоугольник 4" descr=""/>
          <p:cNvPicPr/>
          <p:nvPr/>
        </p:nvPicPr>
        <p:blipFill>
          <a:blip r:embed="rId3"/>
          <a:stretch/>
        </p:blipFill>
        <p:spPr>
          <a:xfrm>
            <a:off x="2971800" y="228600"/>
            <a:ext cx="5900760" cy="1500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5840" y="39290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городное растение, корнеплод с оранжевым сладковатым утолщённым корн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4114800" y="205740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1" descr=""/>
          <p:cNvPicPr/>
          <p:nvPr/>
        </p:nvPicPr>
        <p:blipFill>
          <a:blip r:embed="rId2"/>
          <a:stretch/>
        </p:blipFill>
        <p:spPr>
          <a:xfrm>
            <a:off x="0" y="0"/>
            <a:ext cx="2990880" cy="364320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4" descr=""/>
          <p:cNvPicPr/>
          <p:nvPr/>
        </p:nvPicPr>
        <p:blipFill>
          <a:blip r:embed="rId3"/>
          <a:stretch/>
        </p:blipFill>
        <p:spPr>
          <a:xfrm>
            <a:off x="3139920" y="23760"/>
            <a:ext cx="5900760" cy="15001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0" y="38577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Общеславянское. Современная форма — из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ъркы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, род. п. </a:t>
            </a:r>
            <a:r>
              <a:rPr b="1" i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мъркъве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5143680" y="1714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21" descr=""/>
          <p:cNvPicPr/>
          <p:nvPr/>
        </p:nvPicPr>
        <p:blipFill>
          <a:blip r:embed="rId2"/>
          <a:stretch/>
        </p:blipFill>
        <p:spPr>
          <a:xfrm>
            <a:off x="0" y="0"/>
            <a:ext cx="2990880" cy="36432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0" y="37148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РЖИ ХВОСТ МОРКОВКОЙ!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Просторечный. Шутливый. Бодрись, не роб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3"/>
          <p:cNvSpPr/>
          <p:nvPr/>
        </p:nvSpPr>
        <p:spPr>
          <a:xfrm>
            <a:off x="5410080" y="53352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06040" y="99072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 flipH="1">
            <a:off x="7619760" y="5335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9718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Общеславянское слово. Исходное значение -«огороженное чем-либо мест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10552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6040" y="990720"/>
            <a:ext cx="53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Г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РО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6"/>
          <p:cNvSpPr/>
          <p:nvPr/>
        </p:nvSpPr>
        <p:spPr>
          <a:xfrm flipH="1">
            <a:off x="7619760" y="533520"/>
            <a:ext cx="500040" cy="71424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00" y="2925720"/>
            <a:ext cx="84895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Фразеолог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Бросать (кидать) камешки (камень) в огород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намекать на кого-либо в разгов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в письме, отзываясь о нём неодобритель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насмешливо, ирон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82360" y="45720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6"/>
          <p:cNvSpPr/>
          <p:nvPr/>
        </p:nvSpPr>
        <p:spPr>
          <a:xfrm flipH="1">
            <a:off x="4266720" y="4038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800" y="2514600"/>
            <a:ext cx="84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Чтоб сварить нам вкусно щ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Пригодят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4572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Овощи – огородные плоды, зелень, употребляемые в пи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4267080" y="586728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ексическое зн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33240" y="11430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 flipH="1">
            <a:off x="4917600" y="609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657600" cy="275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4572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Овощи – огородные плоды, зелень, употребляемые в пищ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233240" y="11430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6"/>
          <p:cNvSpPr/>
          <p:nvPr/>
        </p:nvSpPr>
        <p:spPr>
          <a:xfrm flipH="1">
            <a:off x="4917600" y="6094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3200400" cy="2282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2"/>
          <p:cNvSpPr/>
          <p:nvPr/>
        </p:nvSpPr>
        <p:spPr>
          <a:xfrm>
            <a:off x="5105520" y="5791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ИМ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520" y="3124080"/>
            <a:ext cx="86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Заимствовано из старославянского языка; слово того же корня, что немецкое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vachsen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,  литовское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ugu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«расту»; первоначальное значение  - «то, что растё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743200" cy="2067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5486400" y="25146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2360" y="685800"/>
            <a:ext cx="49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ОВ</a:t>
            </a:r>
            <a:r>
              <a:rPr b="0" lang="en-US" sz="9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0" lang="en-US" sz="9600" spc="-1" strike="noStrike">
                <a:solidFill>
                  <a:srgbClr val="3333ff"/>
                </a:solidFill>
                <a:latin typeface="Arial"/>
              </a:rPr>
              <a:t>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6"/>
          <p:cNvSpPr/>
          <p:nvPr/>
        </p:nvSpPr>
        <p:spPr>
          <a:xfrm flipH="1">
            <a:off x="4266720" y="152280"/>
            <a:ext cx="500040" cy="71460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3124080"/>
            <a:ext cx="860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Пословицы, погов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Всяк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Без спорта нет силы, без овощей –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Овощи хороши во 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209680" y="3886200"/>
            <a:ext cx="693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фтан на мне зелё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ердце как кума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кус как сахар сладо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сам похож на мя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gorita</cp:lastModifiedBy>
  <dcterms:modified xsi:type="dcterms:W3CDTF">2010-10-06T16:18:5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