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A098-F83C-4B9D-88DC-76B7BD96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2B6C-8774-45C2-94EB-2B8C4DD8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9603-3306-4D43-B728-C506473B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378F-4AFE-414A-8C7D-E4FF1812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3669-A54A-43E6-974A-D1C8D3D7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FDC1-5C38-4254-8047-83405508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6C8C-7615-4154-8B2C-E313525E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509D-4A51-4B4F-8956-D9155B69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8093-891E-429B-8FDB-69FE9ADA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96F7-7C4E-426F-AB7F-9C3A5C14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573-4096-4D7B-8A9E-8F4A6C6E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77F0-6F8B-4F4C-930B-A07F7505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4908-6DD3-42F5-909C-422F998E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199A-8650-4BE0-8001-EAB53C52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D62A-3F6E-4761-A4D2-0820DE53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44A4-9D74-45B9-A6D8-1C3D2327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339E-A878-4113-898F-375DA9EC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C2D1-41CE-4181-851B-5792D161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55BA-D2AC-4382-873D-38D6DAF3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490F-A783-4021-B72A-11D45588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C4E7-BEC1-4E6C-85F4-E220F6AA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CC74A-4799-49CA-A147-F28FD094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36CC-6932-4FAB-8517-66C359F7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E84B9-8A51-4D4F-8CB3-4E71BF2C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41AD-988F-4FA4-A9AE-82692635AE7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2E89-2B38-4FB8-98B9-12468EA0578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692280"/>
            <a:ext cx="8208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Monotype Corsiva"/>
              </a:rPr>
              <a:t>Hollywood.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Monotype Corsiva"/>
              </a:rPr>
              <a:t>The history of cinema production.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etro-Goldwyn-Maye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(MGM) — a film company based in Hollywood, which has made many famous films and animated cartoons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911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Paramount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a film company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354492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5651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20th Century-Fox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— an American film company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93892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United Artists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— a film company (studio)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5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Universal 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— n film company (studio)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16400" cy="2343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259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Warner Bros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(Brothers) — an American film company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9609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Film industry (1995–2010)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ll values in billions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-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4360" y="1008000"/>
          <a:ext cx="6983280" cy="58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8000"/>
                    <a:ext cx="698328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ffcc"/>
                </a:solidFill>
                <a:uFillTx/>
                <a:latin typeface="Tahoma"/>
              </a:rPr>
              <a:t>The end.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I have chosen this work because I’m a cinema goer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re are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ed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ve stor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cience fiction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rror film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tective stor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storical film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he Classical era is generally held to begin in 1927 with the release of The Jazz Singer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77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Golden Age of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In the late 1920s to the early 1960s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450px-Golden_Age_of_Hollywood" descr=""/>
          <p:cNvPicPr/>
          <p:nvPr/>
        </p:nvPicPr>
        <p:blipFill>
          <a:blip r:embed="rId1"/>
          <a:stretch/>
        </p:blipFill>
        <p:spPr>
          <a:xfrm>
            <a:off x="611280" y="1135080"/>
            <a:ext cx="761688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42920" y="2781360"/>
            <a:ext cx="4186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Tahoma"/>
              </a:rPr>
              <a:t>The style of Classical Hollywood cinema, as elaborated by David Bordwell ,has been heavily influenced by the ideas of the Renaissance and its resurgence of mankind as the focal point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6021000"/>
            <a:ext cx="33224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David Bordw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2069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Hollywood story begins at the end of the last century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 1887 a man called Harvey Wilcox bought a large ranch in a district north-west of Los Angeles in California. His wife called the land ‘Hollywood’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913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In 1912</a:t>
            </a: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the Hollywood industry was bor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Columbia Picture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(also Columbia)-American film company, which produces films for cinema and television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612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ev</cp:lastModifiedBy>
  <dcterms:modified xsi:type="dcterms:W3CDTF">2010-11-19T08:35:00Z</dcterms:modified>
  <cp:revision>5</cp:revision>
  <dc:subject/>
  <dc:title>PowerPoint Presentation</dc:title>
</cp:coreProperties>
</file>