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5E5C-8C80-40E0-A442-B0054B8E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4FCA0-1581-4E6F-BF11-9427E920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11146-6750-4388-8FAB-48F4CFB3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23E7-7E59-4C9E-B09F-05606F43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E064-B692-4270-98FD-16523A60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E99A-5E78-4636-8C8A-4C8C7AA9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ACDD-7DDB-4C7C-9C19-278DE800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BA4E-2381-4D4F-BEC6-CBA56912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254A-399E-4242-8474-4C7F152B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C820-504E-4E12-8539-C6182A5F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AB0E-E8FB-402D-9E12-89E2C26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3F39-0A52-453B-9011-54F318AE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0715-11BC-4015-A101-EBF785A2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EA99-890C-4ED5-8634-F54945C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E5BD-5920-4F2C-A5A8-2160C8B1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7D1D-ADDE-4E69-9B7A-A516C22C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8808-F66A-4FC6-8116-1E3C0527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D3BB-D464-406E-862E-E20F4843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EDD7D-A992-4599-AF88-A0178157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9DA00-84AC-4C02-BFCA-DE282C8F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2AC5F-6452-49B3-9765-35ABDC8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EDCA1-5FB1-4FC1-876B-9967608E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31B3-BF9D-4330-B160-6E579EE3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F792-4137-476C-9BF0-38E42930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BACD-C9D8-458F-815C-2EAE82D32BF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909D-643C-4565-B355-83DEB5AE57F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692280"/>
            <a:ext cx="8208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Monotype Corsiva"/>
              </a:rPr>
              <a:t>Hollywood.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Monotype Corsiva"/>
              </a:rPr>
              <a:t>The history of cinema production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etro-Goldwyn-Maye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(MGM) — a film company based in Hollywood, which has made many famous films and animated cartoons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911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Paramount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a film company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354492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5651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20th Century-Fox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— an American film company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93892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nited Artists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— a film company (studio)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5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niversal 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— n film company (studio)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16400" cy="2343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259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Warner Bros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(Brothers) — an American film company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9609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Film industry (1995–2010)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ll values in billions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-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4360" y="1008000"/>
          <a:ext cx="6983280" cy="58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8000"/>
                    <a:ext cx="698328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ffcc"/>
                </a:solidFill>
                <a:uFillTx/>
                <a:latin typeface="Tahoma"/>
              </a:rPr>
              <a:t>The end.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I have chosen this work because I’m a cinema goer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re are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ed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 stor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ience fictio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rror film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tective stor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storical film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he Classical era is generally held to begin in 1927 with the release of The Jazz Singer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77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Golden Age of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In the late 1920s to the early 1960s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450px-Golden_Age_of_Hollywood" descr=""/>
          <p:cNvPicPr/>
          <p:nvPr/>
        </p:nvPicPr>
        <p:blipFill>
          <a:blip r:embed="rId1"/>
          <a:stretch/>
        </p:blipFill>
        <p:spPr>
          <a:xfrm>
            <a:off x="611280" y="1135080"/>
            <a:ext cx="761688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42920" y="2781360"/>
            <a:ext cx="4186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Tahoma"/>
              </a:rPr>
              <a:t>The style of Classical Hollywood cinema, as elaborated by David Bordwell ,has been heavily influenced by the ideas of the Renaissance and its resurgence of mankind as the focal point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6021000"/>
            <a:ext cx="33224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David Bord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2069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Hollywood story begins at the end of the last century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 1887 a man called Harvey Wilcox bought a large ranch in a district north-west of Los Angeles in California. His wife called the land ‘Hollywood’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913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In 1912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the Hollywood industry was bor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Columbia Picture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also Columbia)-American film company, which produces films for cinema and televisio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61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ev</cp:lastModifiedBy>
  <dcterms:modified xsi:type="dcterms:W3CDTF">2010-11-19T08:35:00Z</dcterms:modified>
  <cp:revision>5</cp:revision>
  <dc:subject/>
  <dc:title>PowerPoint Presentation</dc:title>
</cp:coreProperties>
</file>