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96212-26FF-4B94-A9E3-F00ADD7C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DE81B-2D71-4BEB-959E-8AB2A29E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50D60-88DF-4C3A-80B5-4ABE52D5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B2F1B-201C-4F17-A5EB-FF332FCC7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AC7A-C0E8-4B79-B1C1-7F132CCB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5EA5-43B1-409E-ACCE-C3E546AC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4509-FCF3-419E-9277-BC74F530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6D8F-9C87-4475-BD80-10B64891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BAF3-723D-4521-92F1-683BB459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6B38-B9D4-40E8-B241-90BAE702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5A45-C317-4C0F-B380-E67E9755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580A2-C461-4F7D-BF9F-162A20B8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ECCE-BEAD-44C3-A903-EA983F33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FFFB-A5B7-40A2-A66C-6C78B1F8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7BC5-CAB9-4C2B-9449-57EA1670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2A04-B830-4DFD-9DCC-23D719FEA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F8BD-37CB-4573-9A55-971BBE1E6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5DD77-100C-4D39-9F1C-26DC6307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07CFE-D251-4A2B-B60F-72DA4088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80828-8320-4D94-A7D2-1140BE86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B07F7-F405-407E-9D33-872E6052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A13F2-5E0B-486A-BC46-065AD69B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20431-8201-4ADD-B4F3-67D1166F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85E0B-790A-4E6B-A4EE-E22F70E3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C2B2-FD7E-4F98-B472-69F3862A53B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A622-F6D6-420D-9D1C-CCB62FB0D35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24000" y="692280"/>
            <a:ext cx="8208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Monotype Corsiva"/>
              </a:rPr>
              <a:t>Hollywood. 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Monotype Corsiva"/>
              </a:rPr>
              <a:t>The history of cinema production.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Monotype Corsiva"/>
              <a:ea typeface="Monotype Corsiv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Metro-Goldwyn-Mayer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(MGM) — a film company based in Hollywood, which has made many famous films and animated cartoons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700360" y="1413000"/>
            <a:ext cx="3911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Paramount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- a film company in Hollywood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79280" y="3544920"/>
            <a:ext cx="3313080" cy="3313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203640" y="1268280"/>
            <a:ext cx="565128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20th Century-Fox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— an American film company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93892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United Artists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— a film company (studio) in Hollywood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6359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Universal 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— n film company (studio) in Hollywood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4316400" cy="23432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0" y="3357720"/>
            <a:ext cx="42591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Warner Bros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(Brothers) — an American film company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96096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Film industry (1995–2010)</a:t>
            </a:r>
            <a:br>
              <a:rPr sz="3800"/>
            </a:b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All values in billions.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-9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81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84360" y="1008000"/>
          <a:ext cx="6983280" cy="585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008000"/>
                    <a:ext cx="6983280" cy="58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ffffcc"/>
                </a:solidFill>
                <a:uFillTx/>
                <a:latin typeface="Tahoma"/>
              </a:rPr>
              <a:t>The end.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I have chosen this work because I’m a cinema goer.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49780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re are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85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medies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00f85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ve stories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00f85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cience fiction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00f85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rror films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00f85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etective stories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f85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istorical films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T</a:t>
            </a:r>
            <a:r>
              <a:rPr b="0" lang="en" sz="3800" spc="-1" strike="noStrike">
                <a:solidFill>
                  <a:srgbClr val="ffffcc"/>
                </a:solidFill>
                <a:latin typeface="Tahoma"/>
              </a:rPr>
              <a:t>he Classical era is generally held to begin in 1927 with the release of The Jazz Singer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777708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1844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800" spc="-1" strike="noStrike">
                <a:solidFill>
                  <a:srgbClr val="ffffcc"/>
                </a:solidFill>
                <a:latin typeface="Tahoma"/>
              </a:rPr>
              <a:t>Golden Age of Hollywood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r>
              <a:rPr b="0" lang="en" sz="3800" spc="-1" strike="noStrike">
                <a:solidFill>
                  <a:srgbClr val="ffffcc"/>
                </a:solidFill>
                <a:latin typeface="Tahoma"/>
              </a:rPr>
              <a:t>In the late 1920s to the early 1960s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3" name="450px-Golden_Age_of_Hollywood" descr=""/>
          <p:cNvPicPr/>
          <p:nvPr/>
        </p:nvPicPr>
        <p:blipFill>
          <a:blip r:embed="rId1"/>
          <a:stretch/>
        </p:blipFill>
        <p:spPr>
          <a:xfrm>
            <a:off x="611280" y="1135080"/>
            <a:ext cx="7616880" cy="57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42920" y="2781360"/>
            <a:ext cx="4186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600" spc="-1" strike="noStrike">
                <a:solidFill>
                  <a:srgbClr val="ffffcc"/>
                </a:solidFill>
                <a:latin typeface="Tahoma"/>
              </a:rPr>
              <a:t>The style of Classical Hollywood cinema, as elaborated by David Bordwell ,has been heavily influenced by the ideas of the Renaissance and its resurgence of mankind as the focal point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6021000"/>
            <a:ext cx="33224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Tahoma"/>
              </a:rPr>
              <a:t>David Bordwe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420696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he Hollywood story begins at the end of the last century.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In 1887 a man called Harvey Wilcox bought a large ranch in a district north-west of Los Angeles in California. His wife called the land ‘Hollywood’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69132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In 1912</a:t>
            </a:r>
            <a:br>
              <a:rPr sz="6000"/>
            </a:b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 the Hollywood industry was bor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.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Columbia Pictures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(also Columbia)-American film company, which produces films for cinema and television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36120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ev</cp:lastModifiedBy>
  <dcterms:modified xsi:type="dcterms:W3CDTF">2010-11-19T08:35:00Z</dcterms:modified>
  <cp:revision>5</cp:revision>
  <dc:subject/>
  <dc:title>PowerPoint Presentation</dc:title>
</cp:coreProperties>
</file>