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EB3D-9509-491F-8227-62F12166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0F33-C66C-42ED-B998-6B66B25E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4153-F8DF-43B2-A019-1DEB0C94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9055-6B3B-436D-8529-DED2E977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4733-337F-4557-AF20-737B44DF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6082-B40D-4E2E-9567-BFBD55D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A3CC-80A8-4CB0-B963-7CFAB162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562-8599-4104-A755-7D8D532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AA7-71F5-43D7-BEB8-12EDF337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A61B-1612-40B6-9F59-D7A23D9D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8A60-E10E-4194-893E-8A2FF15B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678C-E7CD-4C14-B46D-29DCDF79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6A54-A68F-4750-A794-BF8C540F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FB1E-A0CB-4AE7-A29A-56AC8D7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8B45-4ED9-4FF4-B8B3-5F08B7E4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3B01-8BA3-479C-B26F-AF2B5595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EDA1-5C5A-473A-8C43-2800E2A3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8C00-5F4C-404E-A1ED-DFE3D96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9CED-BD2F-49EC-9288-4D53EE91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12F2-C337-4E27-9C1D-747DF50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BA62-4589-41A4-85D4-BE7D2125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7C82-15EF-446F-9D3F-1FA5C3F7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62544-FD37-476F-8310-BC649D3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C7FE-DBF3-43AD-80F0-19AA0B2A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F9E-D98C-4E18-8DA2-DD3CD05BC63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00E-4458-4D32-8BC3-482F95D7C29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692280"/>
            <a:ext cx="8208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Hollywood.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Monotype Corsiva"/>
              </a:rPr>
              <a:t>The history of cinema production.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etro-Goldwyn-Mayer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(MGM) — a film company based in Hollywood, which has made many famous films and animated cartoons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3911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Paramount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 a film company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9280" y="354492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5651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20th Century-Fox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93892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ted Artist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— a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635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Universal 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— n film company (studio) in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16400" cy="2343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259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Warner Bros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(Brothers) — an American film company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Film industry (1995–2010)</a:t>
            </a: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ll values in billions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9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4360" y="1008000"/>
          <a:ext cx="6983280" cy="58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8000"/>
                    <a:ext cx="698328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ffffcc"/>
                </a:solidFill>
                <a:uFillTx/>
                <a:latin typeface="Tahoma"/>
              </a:rPr>
              <a:t>The end.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I have chosen this work because I’m a cinema goer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re are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ed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cience fiction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rror film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tective stories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f85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ical film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</a:t>
            </a: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he Classical era is generally held to begin in 1927 with the release of The Jazz Singer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777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Golden Age of Hollywood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0" lang="en" sz="3800" spc="-1" strike="noStrike">
                <a:solidFill>
                  <a:srgbClr val="ffffcc"/>
                </a:solidFill>
                <a:latin typeface="Tahoma"/>
              </a:rPr>
              <a:t>In the late 1920s to the early 1960s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3" name="450px-Golden_Age_of_Hollywood" descr=""/>
          <p:cNvPicPr/>
          <p:nvPr/>
        </p:nvPicPr>
        <p:blipFill>
          <a:blip r:embed="rId1"/>
          <a:stretch/>
        </p:blipFill>
        <p:spPr>
          <a:xfrm>
            <a:off x="611280" y="1135080"/>
            <a:ext cx="761688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42920" y="2781360"/>
            <a:ext cx="4186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Tahoma"/>
              </a:rPr>
              <a:t>The style of Classical Hollywood cinema, as elaborated by David Bordwell ,has been heavily influenced by the ideas of the Renaissance and its resurgence of mankind as the focal point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6021000"/>
            <a:ext cx="33224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David Bord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2069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e Hollywood story begins at the end of the last century.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In 1887 a man called Harvey Wilcox bought a large ranch in a district north-west of Los Angeles in California. His wife called the land ‘Hollywood’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1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In 1912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 the Hollywood industry was bor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Columbia Picture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(also Columbia)-American film company, which produces films for cinema and televis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3612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ev</cp:lastModifiedBy>
  <dcterms:modified xsi:type="dcterms:W3CDTF">2010-11-19T08:35:00Z</dcterms:modified>
  <cp:revision>5</cp:revision>
  <dc:subject/>
  <dc:title>PowerPoint Presentation</dc:title>
</cp:coreProperties>
</file>