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651-AC42-4973-8534-FBE071A4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040-252D-4C3F-A69B-E94FA417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3FE-73CA-45B7-BD75-5B695526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3CE-115F-41CA-B25E-F8F56C07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60C1-A47B-4583-A576-A76D1BFA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B923-54BC-43AE-9CA7-AF12FB8E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AEA0-82D8-46DB-92F4-3BC6B697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6DD6-5027-4CAB-895C-FB1F4ACC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3457-7FFF-4E43-8DC9-89BA70F7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45FD-F322-4852-8652-2B7D1459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3109-F1C9-4F29-9E2B-2C422FB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547C-1522-4703-A440-38994DB6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5BA3-65E1-424F-817E-BCCDDF57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D905-D85F-4618-ADB1-E076ED73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29C5-12C3-4A4F-8BFD-80A671C5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3A67-73B1-481C-BD66-B72885C0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0861-D322-4D06-945A-C0D4369A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8CBC-F5CF-4081-85E3-872B7EC3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FD3-77E1-421D-9CDB-C1A7A089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D89-3C21-4F7D-ACAE-A0E49640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40C-7E1D-46EA-819E-0EE61592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B44-BEA5-4A01-9B06-F6E81383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D30-40EE-466A-8059-E9B04541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7FA-E6D6-47E7-B544-24836D7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15E3-3BF9-4F2C-B433-4EA17B09E8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E75A-5F2C-4C05-9FC2-B645EB701A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aramorojova@rambler.ru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8e73"/>
                </a:solidFill>
                <a:latin typeface="Times New Roman"/>
              </a:rPr>
              <a:t>Летопись</a:t>
            </a:r>
            <a:br>
              <a:rPr sz="3200"/>
            </a:br>
            <a:r>
              <a:rPr b="1" lang="ru-RU" sz="3600" spc="-1" strike="noStrike">
                <a:solidFill>
                  <a:srgbClr val="8f8e73"/>
                </a:solidFill>
                <a:latin typeface="Times New Roman"/>
              </a:rPr>
              <a:t>«100 лет учительской династии»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5280" y="2133360"/>
            <a:ext cx="83534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рохова Лариса Александровн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ого общеобразовательного учреждения средней общеобразовательной школы № 50 г. Воронеж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рес:   394052, г. Воронеж, переулок Туркменский, 14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лефон: 76-72-08, 76-72-09, 36-53-7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лектронная почта: </a:t>
            </a:r>
            <a:r>
              <a:rPr b="0" lang="en-US" sz="2000" spc="-1" strike="noStrike" u="sng">
                <a:solidFill>
                  <a:srgbClr val="a46032"/>
                </a:solidFill>
                <a:uFillTx/>
                <a:latin typeface="Times New Roman"/>
                <a:hlinkClick r:id="rId1"/>
              </a:rPr>
              <a:t>laramorojova@rambler.ru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6156360" y="260280"/>
            <a:ext cx="2808360" cy="83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А на этой фотографии Александра Сергеевна через двадцать лет. Годы тяжёлого труда сделали своё дело, но она, как всегда, с детьми. Среди этих бедно одетых сельских детей будущие инженеры и учителя, известные учёные и военные. Один из них станет директором Московского станкостроительного завода, другой - конструктором ракетных двигателей -   будет работать с Сергеем Королёвым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Picture 11" descr="бабушка-село-обр"/>
          <p:cNvPicPr/>
          <p:nvPr/>
        </p:nvPicPr>
        <p:blipFill>
          <a:blip r:embed="rId1"/>
          <a:stretch/>
        </p:blipFill>
        <p:spPr>
          <a:xfrm>
            <a:off x="324000" y="549360"/>
            <a:ext cx="5688000" cy="54896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5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История моей семьи, как и многих семей России, стала отражением тех политических событий, которые происходили в нашем государстве. В 1917 году в стране произошли революции, которые привели к серьёзным изменениям. Провозглашённый Советской властью курс на ликвидацию безграмотности дал возможность за короткий срок повысить образовательный уровень рабочих и крестьян. Александра Сергеевна вспоминала, как в школу с утра приходили дети, а затем взрослые, стесняясь, трудовыми, заскорузлыми руками выводили буквы и складывали слоги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71640" y="18900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68360" y="1159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Ликвидация безграмотност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Заслуженная награда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Государство отметило самоотверженный учительский труд Александры Сергеевны высокой наградой – ей был вручён орден Ленина. К сожалению, Егор Иванович рано ушёл из жизни.  Но и Егор Иванович и Александра Сергеевна внесены в Книгу Почётных Граждан города  Егорьевска,  где они работали учителями с 1930 года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2" descr="тётя-обр"/>
          <p:cNvPicPr/>
          <p:nvPr/>
        </p:nvPicPr>
        <p:blipFill>
          <a:blip r:embed="rId1"/>
          <a:stretch/>
        </p:blipFill>
        <p:spPr>
          <a:xfrm>
            <a:off x="1332000" y="620640"/>
            <a:ext cx="6553080" cy="3876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Garamond"/>
              </a:rPr>
              <a:t>Дети Егора Ивановича и Александры Сергеевны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16000" y="4437000"/>
            <a:ext cx="889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воих детей они воспитали образованными, талантливыми людьми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aramond"/>
              </a:rPr>
              <a:t>Старшая дочь Анна Егоровна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пойдёт по стопам родителей и всю жизнь будет работать учительницей русского языка и литературы. На фотографии она после окончания учительского института. Посмотрите, её взгляд устремлён в будущее, она уже видит себя среди ученик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2411280" y="1557360"/>
            <a:ext cx="720720" cy="865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4788000" y="189000"/>
            <a:ext cx="41050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ын Александры Сергеевны и Егора Ивановича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Николай Георгиевич Шишков -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генерал-майор, заместитель главнокомандующего ВВС  СССР, участник Великой Отечественной войны, Герой Советского Союза - тоже не остался в стороне от семейной традиции –  преподавал  в военной академи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8" name="Picture 9" descr="дядя"/>
          <p:cNvPicPr/>
          <p:nvPr/>
        </p:nvPicPr>
        <p:blipFill>
          <a:blip r:embed="rId1"/>
          <a:stretch/>
        </p:blipFill>
        <p:spPr>
          <a:xfrm>
            <a:off x="250920" y="476280"/>
            <a:ext cx="4101840" cy="53290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7"/>
          <p:cNvSpPr/>
          <p:nvPr/>
        </p:nvSpPr>
        <p:spPr>
          <a:xfrm>
            <a:off x="3708360" y="260280"/>
            <a:ext cx="525636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, наконец, младшая дочь - моя мам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aramond"/>
              </a:rPr>
              <a:t>Мария Георгиевна,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закончив в 1945 году Московский технологический институт, поехала возрождать  пищевую промышленность в разорённой гитлеровцами Украине. Она прошла трудовой путь от технолога хлебозавода до Генерального директора управления хлебопекарной промышленности города Львова и Львовской области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0" name="Picture 11" descr="мама"/>
          <p:cNvPicPr/>
          <p:nvPr/>
        </p:nvPicPr>
        <p:blipFill>
          <a:blip r:embed="rId1"/>
          <a:stretch/>
        </p:blipFill>
        <p:spPr>
          <a:xfrm>
            <a:off x="179280" y="620640"/>
            <a:ext cx="3425760" cy="4969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6"/>
          <p:cNvSpPr/>
          <p:nvPr/>
        </p:nvSpPr>
        <p:spPr>
          <a:xfrm>
            <a:off x="179280" y="4365720"/>
            <a:ext cx="878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50920" y="401472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ботая Генеральным директором,  Мария Георгиевна передавала свой опыт учащимся Львовского техникума пищевой промышленности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реди её учеников – директора и главные инженеры  хлебозаводов, заместитель министра пищевой промышленности Украины. За доблестный труд Мария Георгиевна награждена орденом «Знак почёта»,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3" name="Picture 12" descr="мама-хлеб-обр"/>
          <p:cNvPicPr/>
          <p:nvPr/>
        </p:nvPicPr>
        <p:blipFill>
          <a:blip r:embed="rId1"/>
          <a:stretch/>
        </p:blipFill>
        <p:spPr>
          <a:xfrm>
            <a:off x="1403280" y="189000"/>
            <a:ext cx="6264360" cy="36748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Семейный альбом опять возвращает нас в прошлое. Моя бабушка Александра Сергеевна уехала из Москвы в глухую провинцию учить детей, и мама Мария Георгиевна,  воспитанная её примером, из столицы уехала в далёкий западный город Львов, где по ночам в послевоенном  1945 году ещё хозяйничали  бандеровцы. Уехала одна и всю дорогу плакала в поезде. Но судьба знала, что делает. Уже через полгода бабушка на новогоднем вечере случайно познакомилась с демобилизованным после войны старшим лейтенантом  Скотниковым  Александром Васильевичем, к удивлению оказавшимся её земляком из города Егорьевска. И снова история страны создала историю моей семьи. Мария Георгиевна и Александр Васильевич полюбили друг друга, вскоре поженились и остались жить во Львове.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Мой отец Александр Васильевич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79280" y="458136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Окончив школу, а  потом рабфак, мой отец Александр Васильевич поступил в военное лётное училище, откуда был призван на фронт в начале Великой Отечественной войны. Всю войну прошёл в действующей армии, был награждён медалями «За оборону Москвы» и «За оборону Кавказа»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7" name="Picture 13" descr="папа-самолёт-обр"/>
          <p:cNvPicPr/>
          <p:nvPr/>
        </p:nvPicPr>
        <p:blipFill>
          <a:blip r:embed="rId1"/>
          <a:stretch/>
        </p:blipFill>
        <p:spPr>
          <a:xfrm>
            <a:off x="1763640" y="692280"/>
            <a:ext cx="5616720" cy="38638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"/>
          <p:cNvSpPr/>
          <p:nvPr/>
        </p:nvSpPr>
        <p:spPr>
          <a:xfrm>
            <a:off x="3492360" y="333360"/>
            <a:ext cx="5400720" cy="83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aramond"/>
              </a:rPr>
              <a:t>Демобилизовавшись, работал военным синоптиком во Львовском аэропорту. Встреча с моей бабушкой, которая выросла в семье с благородными учительскими традициями, изменила его судьбу. Он поступил на географический факультет Львовского государственного университета и 35 лет работал учителем географии и физики в школе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9" descr="папа"/>
          <p:cNvPicPr/>
          <p:nvPr/>
        </p:nvPicPr>
        <p:blipFill>
          <a:blip r:embed="rId1"/>
          <a:stretch/>
        </p:blipFill>
        <p:spPr>
          <a:xfrm>
            <a:off x="179280" y="692280"/>
            <a:ext cx="3092400" cy="4537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44280"/>
            <a:ext cx="81378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Times New Roman"/>
              </a:rPr>
              <a:t>100 лет учительской династии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7" name="Picture 8" descr="бабушка"/>
          <p:cNvPicPr/>
          <p:nvPr/>
        </p:nvPicPr>
        <p:blipFill>
          <a:blip r:embed="rId1"/>
          <a:stretch/>
        </p:blipFill>
        <p:spPr>
          <a:xfrm>
            <a:off x="2843280" y="907920"/>
            <a:ext cx="1636560" cy="1702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18" name="Picture 9" descr="д"/>
          <p:cNvPicPr/>
          <p:nvPr/>
        </p:nvPicPr>
        <p:blipFill>
          <a:blip r:embed="rId2"/>
          <a:stretch/>
        </p:blipFill>
        <p:spPr>
          <a:xfrm>
            <a:off x="4932360" y="907920"/>
            <a:ext cx="1549440" cy="1729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19" name="Picture 10" descr="т"/>
          <p:cNvPicPr/>
          <p:nvPr/>
        </p:nvPicPr>
        <p:blipFill>
          <a:blip r:embed="rId3"/>
          <a:srcRect l="0" t="6636" r="0" b="0"/>
          <a:stretch/>
        </p:blipFill>
        <p:spPr>
          <a:xfrm>
            <a:off x="1547640" y="2781360"/>
            <a:ext cx="124956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0" name="Picture 11" descr="дя"/>
          <p:cNvPicPr/>
          <p:nvPr/>
        </p:nvPicPr>
        <p:blipFill>
          <a:blip r:embed="rId4"/>
          <a:srcRect l="4526" t="0" r="1509" b="0"/>
          <a:stretch/>
        </p:blipFill>
        <p:spPr>
          <a:xfrm>
            <a:off x="3276720" y="2781360"/>
            <a:ext cx="135396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1" name="Picture 12" descr="м"/>
          <p:cNvPicPr/>
          <p:nvPr/>
        </p:nvPicPr>
        <p:blipFill>
          <a:blip r:embed="rId5"/>
          <a:stretch/>
        </p:blipFill>
        <p:spPr>
          <a:xfrm>
            <a:off x="4859280" y="2781360"/>
            <a:ext cx="129060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2" name="Picture 13" descr="п"/>
          <p:cNvPicPr/>
          <p:nvPr/>
        </p:nvPicPr>
        <p:blipFill>
          <a:blip r:embed="rId6"/>
          <a:srcRect l="0" t="0" r="0" b="2238"/>
          <a:stretch/>
        </p:blipFill>
        <p:spPr>
          <a:xfrm>
            <a:off x="6588000" y="2781360"/>
            <a:ext cx="130500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3" name="Picture 14" descr="л"/>
          <p:cNvPicPr/>
          <p:nvPr/>
        </p:nvPicPr>
        <p:blipFill>
          <a:blip r:embed="rId7"/>
          <a:stretch/>
        </p:blipFill>
        <p:spPr>
          <a:xfrm>
            <a:off x="3276720" y="4797360"/>
            <a:ext cx="129204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24" name="Picture 15" descr="в"/>
          <p:cNvPicPr/>
          <p:nvPr/>
        </p:nvPicPr>
        <p:blipFill>
          <a:blip r:embed="rId8"/>
          <a:stretch/>
        </p:blipFill>
        <p:spPr>
          <a:xfrm>
            <a:off x="4932360" y="4797360"/>
            <a:ext cx="1212840" cy="1871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Морохова Лариса Александровна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716360" y="981000"/>
            <a:ext cx="42483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казывается, </a:t>
            </a: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 наследству могут передаваться не только болезни, но и профессии.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Когда меня спросили в шесть лет, кем я хочу бы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когда вырасту, я ответила: «Окончу «урниверситет» и буду учительницей»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2" name="Picture 11" descr="я1-обр"/>
          <p:cNvPicPr/>
          <p:nvPr/>
        </p:nvPicPr>
        <p:blipFill>
          <a:blip r:embed="rId1"/>
          <a:stretch/>
        </p:blipFill>
        <p:spPr>
          <a:xfrm>
            <a:off x="395280" y="981000"/>
            <a:ext cx="3809880" cy="48387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3708360" y="115920"/>
            <a:ext cx="51116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Как задумала,  так и вышло. Вот уже 35 лет я учу детей математике.   Работала в вечерней школе рабочей молодёжи, во Львовском техникуме пищевой промышленности, а после переезда в Воронеж - в МОУСОШ № 50.          Учитель высшей категории.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8" descr="я"/>
          <p:cNvPicPr/>
          <p:nvPr/>
        </p:nvPicPr>
        <p:blipFill>
          <a:blip r:embed="rId1"/>
          <a:stretch/>
        </p:blipFill>
        <p:spPr>
          <a:xfrm>
            <a:off x="539640" y="260280"/>
            <a:ext cx="2833920" cy="41036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165" name="Picture 9" descr="Почётн-обработ"/>
          <p:cNvPicPr/>
          <p:nvPr/>
        </p:nvPicPr>
        <p:blipFill>
          <a:blip r:embed="rId2"/>
          <a:stretch/>
        </p:blipFill>
        <p:spPr>
          <a:xfrm>
            <a:off x="4361040" y="4465800"/>
            <a:ext cx="3306600" cy="2347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6"/>
          <p:cNvSpPr/>
          <p:nvPr/>
        </p:nvSpPr>
        <p:spPr>
          <a:xfrm>
            <a:off x="179280" y="4508640"/>
            <a:ext cx="864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24000" y="260280"/>
            <a:ext cx="8424720" cy="77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Мастерство учителя не случайная удача, не счастливые находки, а систематический, кропотливый поиск и труд, часто черновой, будничный, наполненный тревожными раздумьями, открытиями и неудачами.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Условия, в которых формировался мой педагогический опыт,  поставили меня перед проблемой поиска и внедрения новых продуктивных технологий обучения. С 1985 года при появлении в школах первых персональных компьютеров стремлюсь реализовать огромные возможности компьютерных технологий при обучении математи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ришлось постигать азы информатики, а затем конструировать методику урока с применением компьютера. Принимала участие в создании первого методического пособия для учителей по информати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о сих пор являюсь участником многих конкурсов для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T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-активных учителей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специалист-офис_1"/>
          <p:cNvPicPr/>
          <p:nvPr/>
        </p:nvPicPr>
        <p:blipFill>
          <a:blip r:embed="rId1"/>
          <a:stretch/>
        </p:blipFill>
        <p:spPr>
          <a:xfrm>
            <a:off x="324000" y="1981080"/>
            <a:ext cx="2597040" cy="195264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169" name="Picture 7" descr="сертификат-участия-в-интел_"/>
          <p:cNvPicPr/>
          <p:nvPr/>
        </p:nvPicPr>
        <p:blipFill>
          <a:blip r:embed="rId2"/>
          <a:stretch/>
        </p:blipFill>
        <p:spPr>
          <a:xfrm>
            <a:off x="3059280" y="1127160"/>
            <a:ext cx="2881080" cy="1941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сертификат-конференция_1"/>
          <p:cNvPicPr/>
          <p:nvPr/>
        </p:nvPicPr>
        <p:blipFill>
          <a:blip r:embed="rId3"/>
          <a:stretch/>
        </p:blipFill>
        <p:spPr>
          <a:xfrm>
            <a:off x="6084720" y="260280"/>
            <a:ext cx="2772000" cy="192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свидетельство-интел_1"/>
          <p:cNvPicPr/>
          <p:nvPr/>
        </p:nvPicPr>
        <p:blipFill>
          <a:blip r:embed="rId4"/>
          <a:stretch/>
        </p:blipFill>
        <p:spPr>
          <a:xfrm>
            <a:off x="3059280" y="3870360"/>
            <a:ext cx="2950920" cy="200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сертификат-академии_1"/>
          <p:cNvPicPr/>
          <p:nvPr/>
        </p:nvPicPr>
        <p:blipFill>
          <a:blip r:embed="rId5"/>
          <a:stretch/>
        </p:blipFill>
        <p:spPr>
          <a:xfrm>
            <a:off x="144360" y="4532400"/>
            <a:ext cx="2843280" cy="19209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  <p:pic>
        <p:nvPicPr>
          <p:cNvPr id="173" name="Picture 12" descr="свидетельство-интел-1_1"/>
          <p:cNvPicPr/>
          <p:nvPr/>
        </p:nvPicPr>
        <p:blipFill>
          <a:blip r:embed="rId6"/>
          <a:stretch/>
        </p:blipFill>
        <p:spPr>
          <a:xfrm>
            <a:off x="6084720" y="3400560"/>
            <a:ext cx="2843280" cy="1973160"/>
          </a:xfrm>
          <a:prstGeom prst="rect">
            <a:avLst/>
          </a:prstGeom>
          <a:ln w="28440">
            <a:solidFill>
              <a:srgbClr val="99ccff"/>
            </a:solidFill>
            <a:miter/>
          </a:ln>
        </p:spPr>
      </p:pic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Мой муж Морохов Владимир Александрович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08360" y="1339920"/>
            <a:ext cx="52624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ой муж  закончил Ленинградское морское училище им. Макарова Начальником радиостанции он ходил на многих судах: китобойцах, сухогрузах, пассажирских. Побывал почти во всех странах мир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6" name="Picture 8" descr="Володя"/>
          <p:cNvPicPr/>
          <p:nvPr/>
        </p:nvPicPr>
        <p:blipFill>
          <a:blip r:embed="rId1"/>
          <a:stretch/>
        </p:blipFill>
        <p:spPr>
          <a:xfrm>
            <a:off x="395280" y="1197000"/>
            <a:ext cx="3171960" cy="489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Сойдя на берег, «морской волк» решил приобрести  сухопутную специальность и окончил с отличием Львовский полиграфический институт по специальности инженер-механик. Работал на одном из самых больших и известных телевизорных заводов страны - «Электрон».  Уже тогда я уговаривала его перейти на преподавательскую работу, чувствуя в нём большие педагогические способности. Он сопротивлялся вплоть до переезда в Воронеж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24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Но магнетизм учительской профессии победил, и с 1995 года мой муж работает в профессиональном лицее № 7 города Воронежа. Начинал преподавателем, а теперь он заместитель директора. Педагогические способности помогли ему освоить профессию педагога и достичь высоких результатов в воспитании и образовании молодого поколения.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За плодотворный труд в деле воспитания и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Владимир Александрович награждён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грамотой Министерства образования РФ. Его портрет находится  на доске почёта в ВОИПКРО г. Воронеж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579640" y="404640"/>
            <a:ext cx="331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О значительном вкладе Владимира Александровича в  успешное внедрение  инновационных проектов в профессиональном лицее № 7 писала «Учительская газета» в № 21 от 20 мая 2008 г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0" name="Picture 3" descr="Морохов-ст-обраб"/>
          <p:cNvPicPr/>
          <p:nvPr/>
        </p:nvPicPr>
        <p:blipFill>
          <a:blip r:embed="rId1"/>
          <a:stretch/>
        </p:blipFill>
        <p:spPr>
          <a:xfrm>
            <a:off x="250920" y="476280"/>
            <a:ext cx="5184720" cy="50943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63280" y="1341360"/>
            <a:ext cx="6923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«С детства меня окружало маленькое государство, придя в которое один раз, очень трудно уйти. Этим государством для меня была школа, в которой работала моя мама – Морохова Лариса Александровна. Впервые она привела меня в школу, когда мне исполнилось 3 года, и, пока она вела уроки, я тихо сидел за последней партой сначала у неё на уроках, а потом, осмелев, - у других учителей. Поэтому в первый класс я пришёл уже не новичком.  Тем более, что мой отец Морохов Владимир Александрович тоже учитель, и я успел побывать на уроках в его лице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2" name="Picture 4" descr="Саша"/>
          <p:cNvPicPr/>
          <p:nvPr/>
        </p:nvPicPr>
        <p:blipFill>
          <a:blip r:embed="rId1"/>
          <a:stretch/>
        </p:blipFill>
        <p:spPr>
          <a:xfrm>
            <a:off x="250920" y="189000"/>
            <a:ext cx="1384200" cy="18158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692360" y="189000"/>
            <a:ext cx="745164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Garamond"/>
              </a:rPr>
              <a:t>Наш сын Морохов Александр Владимирович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 одном из школьных сочинений сын написал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6"/>
          <p:cNvSpPr/>
          <p:nvPr/>
        </p:nvSpPr>
        <p:spPr>
          <a:xfrm>
            <a:off x="684360" y="620640"/>
            <a:ext cx="7848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Из поколения в поколение члены моей семьи как эстафету передавали гордое знамя учительской профессии. Они преподавали разные предметы, но их объединяли профессионализм,  стремление к творчеству,  строгая взыскательность к себе и желание отдавать сердце детям. Я в будущем  мечтаю стать экономистом. Думаю, что со временем, достигнув профессионализма в этой области, тоже смогу передавать свои знания молодёжи. Эти мечты мне предстоит воплотить в жизн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Я буду достоин своей семь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8f8e73"/>
                </a:solidFill>
                <a:latin typeface="Monotype Corsiva"/>
              </a:rPr>
              <a:t>«Аз букву ведаю, глаголю добро, добро есть жизнь...».</a:t>
            </a:r>
            <a:endParaRPr b="1" lang="en-US" sz="8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Дедушка Егор Иванович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Егор Иванович Шишков, сын зажиточного крестьянина из подмосковного села,  отличавшийся с малых лет сообразительностью и умом, несмотря на запрет отца, уехал учиться в Рязанскую гимназию, после окончания  которой вернулся учительствовать в родное село Шарапово и вскоре стал директором школы.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2560" y="115560"/>
            <a:ext cx="889308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Бабушка Александра Сергеевна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Горностаева Александра Сергеевна – моя бабушка - в 1910 году, окончив гимназию,  могла бы остаться работать в Москве,  но по велению души уехала в известное уже нам глухое село Шарапово учить крестьянских детей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Три её сестры, последовав её примеру, тоже учительствовал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Garamond"/>
              </a:rPr>
              <a:t>Учительская семья Шишковых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Конечно, они встретились – Горностаева Саша и Шишков Егор. Он  уже директор и учитель физики сельской школы, она  молоденькая учительница русской словесности. Уже через год они стали мужем и женой. Вдохновлённые общим стремлением  образовывать и воспитывать молодое поколение России, они всю жизнь прошли рука об руку,  не изменяя этой идее. У них родилось трое детей, о которых я расскажу далее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А жизнь сельского учителя в то время была очень тяжёлой. Зарплата маленькая, своего хозяйства не было. Жили они при школе во флигеле. Ни о каких магазинах и рынках в то время в деревне и не слыхивали. Всё приходилось покупать у односельчан втридорога. Крестьянки приносили в школу молоко, яйца, овощи и приговаривали: «С кого же денег содрать, как не с «уцытельницы».  Зажиточный отец Егора Ивановича так и не признал семью сына. Моя мама вспоминает, что когда они с сестрой и братом приходили в дом деда, он недовольно ворчал: «А зачем «уцытельские»  дети пришли? Опять побираться?»  А  её бабушка тайком уводила их в каморку и угощала чёрным  хлебом с растительным маслом.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24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Но все эти бытовые проблемы не заслоняли главного,  ради чего они работали в школе. Начало педагогической деятельности молодых Егора и Александры совпала с введением в России всеобщего начального образования. Этот проект был представлен 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 и 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I</a:t>
            </a: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 Государственным Думам, которые не успели его обсудить. И только </a:t>
            </a: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II</a:t>
            </a: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 Дума приступила к его обсуждению.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624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В 1-ой статье проекта провозглашалось: «Всем детям обоего пола должна быть предоставлена возможность обучения в правильно организованной школе». Правительство начало выделять средства на нужды народного образования. Егор Иванович и Александра Сергеевна из двухгодичной церковно-приходской школы  создали современную по тем меркам семилетку. Вдохновлённые их примером, в школу приехали  работать учителя младших классов, математики, географии и даже редкий по тем временам учитель немецкого языка.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4932360" y="936720"/>
            <a:ext cx="403236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Я смотрю семейный альбом. Вот эта красивая девушка в строгом гимназическом платье – моя бабушка Александра Сергеевна. Такой она приехала работать учительницей в деревню.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Picture 14" descr="бабушка"/>
          <p:cNvPicPr/>
          <p:nvPr/>
        </p:nvPicPr>
        <p:blipFill>
          <a:blip r:embed="rId1"/>
          <a:stretch/>
        </p:blipFill>
        <p:spPr>
          <a:xfrm>
            <a:off x="468360" y="549360"/>
            <a:ext cx="4222800" cy="43923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42:38Z</dcterms:created>
  <dc:creator>Секретарь</dc:creator>
  <dc:description/>
  <dc:language>en-US</dc:language>
  <cp:lastModifiedBy>Краснобородько Елена Юрьевна</cp:lastModifiedBy>
  <dcterms:modified xsi:type="dcterms:W3CDTF">2010-03-23T12:13:42Z</dcterms:modified>
  <cp:revision>109</cp:revision>
  <dc:subject/>
  <dc:title>История учительской династии моей семьи.</dc:title>
</cp:coreProperties>
</file>