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E3C-FF78-4840-84D4-5EAF91F7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12A-F6A7-4106-96A7-E1BD7854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E92-97C0-455F-A16B-AF88CF65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4AC-8DF5-4CCD-8D08-BA918548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A1C6-5B6F-4564-AA50-27A4A082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B0F7-72C0-4E0A-B203-84A94BF2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976C-6D31-433F-9473-51486C30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E950-959C-4A9F-A945-A64C0DC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F06D-7C5E-4212-A1C8-3F0142D5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51C-CFD3-4A37-9EB4-179E61D2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BF73-C7D6-4BA8-8454-862C13C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850-BBCE-407A-8F5E-6F43C49A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6A03-91B2-448A-9B8D-F25E3F6B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D0FE-B3B7-498C-B1DC-FC3093E3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D2BD-0DF5-408A-9ED8-A75E9EDA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075E-13FA-4978-ABDB-257F4BF1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6650-AB4F-4D22-9B9C-1A1575FD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C23-6027-4449-939C-4F16904C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097-EFC9-462E-AD6A-DA810F4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555-0133-4F9C-B562-B13E8A8E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B40-E996-459B-9CB0-449696A8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86F-56F2-4E14-A583-AEE48A5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4F6-498F-42B3-A7C4-8085A82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F5A-6249-4DAD-B787-9EBA4973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4EAD-DA5C-4459-AE98-29D4B3625C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216D-6C10-4CA8-8C26-3939943727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ramorojova@rambler.ru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8e73"/>
                </a:solidFill>
                <a:latin typeface="Times New Roman"/>
              </a:rPr>
              <a:t>Летопись</a:t>
            </a:r>
            <a:br>
              <a:rPr sz="3200"/>
            </a:br>
            <a:r>
              <a:rPr b="1" lang="ru-RU" sz="3600" spc="-1" strike="noStrike">
                <a:solidFill>
                  <a:srgbClr val="8f8e73"/>
                </a:solidFill>
                <a:latin typeface="Times New Roman"/>
              </a:rPr>
              <a:t>«100 лет учительской династии»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353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ох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го общеобразовательного учреждения средней общеобразовательной школы № 50 г. Воронеж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рес:   394052, г. Воронеж, переулок Туркменский, 14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лефон: 76-72-08, 76-72-09, 36-53-7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ктронная почта: </a:t>
            </a:r>
            <a:r>
              <a:rPr b="0" lang="en-US" sz="2000" spc="-1" strike="noStrike" u="sng">
                <a:solidFill>
                  <a:srgbClr val="a46032"/>
                </a:solidFill>
                <a:uFillTx/>
                <a:latin typeface="Times New Roman"/>
                <a:hlinkClick r:id="rId1"/>
              </a:rPr>
              <a:t>laramorojova@rambler.ru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6156360" y="260280"/>
            <a:ext cx="2808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 на этой фотографии Александра Сергеевна через двадцать лет. Годы тяжёлого труда сделали своё дело, но она, как всегда, с детьми. Среди этих бедно одетых сельских детей будущие инженеры и учителя, известные учёные и военные. Один из них станет директором Московского станкостроительного завода, другой - конструктором ракетных двигателей -   будет работать с Сергеем Королёвым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Picture 11" descr="бабушка-село-обр"/>
          <p:cNvPicPr/>
          <p:nvPr/>
        </p:nvPicPr>
        <p:blipFill>
          <a:blip r:embed="rId1"/>
          <a:stretch/>
        </p:blipFill>
        <p:spPr>
          <a:xfrm>
            <a:off x="324000" y="549360"/>
            <a:ext cx="5688000" cy="5489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5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История моей семьи, как и многих семей России, стала отражением тех политических событий, которые происходили в нашем государстве. В 1917 году в стране произошли революции, которые привели к серьёзным изменениям. Провозглашённый Советской властью курс на ликвидацию безграмотности дал возможность за короткий срок повысить образовательный уровень рабочих и крестьян. Александра Сергеевна вспоминала, как в школу с утра приходили дети, а затем взрослые, стесняясь, трудовыми, заскорузлыми руками выводили буквы и складывали слоги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71640" y="18900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1159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Ликвидация безграмот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Заслуженная награда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осударство отметило самоотверженный учительский труд Александры Сергеевны высокой наградой – ей был вручён орден Ленина. К сожалению, Егор Иванович рано ушёл из жизни.  Но и Егор Иванович и Александра Сергеевна внесены в Книгу Почётных Граждан города  Егорьевска,  где они работали учителями с 1930 года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2" descr="тётя-обр"/>
          <p:cNvPicPr/>
          <p:nvPr/>
        </p:nvPicPr>
        <p:blipFill>
          <a:blip r:embed="rId1"/>
          <a:stretch/>
        </p:blipFill>
        <p:spPr>
          <a:xfrm>
            <a:off x="1332000" y="620640"/>
            <a:ext cx="6553080" cy="3876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Garamond"/>
              </a:rPr>
              <a:t>Дети Егора Ивановича и Александры Сергеевны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16000" y="443700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воих детей они воспитали образованными, талантливыми людьми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Старшая дочь Анна Егоровна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пойдёт по стопам родителей и всю жизнь будет работать учительницей русского языка и литературы. На фотографии она после окончания учительского института. Посмотрите, её взгляд устремлён в будущее, она уже видит себя среди учен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2411280" y="1557360"/>
            <a:ext cx="720720" cy="865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4788000" y="189000"/>
            <a:ext cx="41050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ын Александры Сергеевны и Егора Ивановича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Николай Георгиевич Шишков -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генерал-майор, заместитель главнокомандующего ВВС  СССР, участник Великой Отечественной войны, Герой Советского Союза - тоже не остался в стороне от семейной традиции –  преподавал  в военной академи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8" name="Picture 9" descr="дядя"/>
          <p:cNvPicPr/>
          <p:nvPr/>
        </p:nvPicPr>
        <p:blipFill>
          <a:blip r:embed="rId1"/>
          <a:stretch/>
        </p:blipFill>
        <p:spPr>
          <a:xfrm>
            <a:off x="250920" y="476280"/>
            <a:ext cx="4101840" cy="5329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3708360" y="260280"/>
            <a:ext cx="525636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, наконец, младшая дочь - моя мам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Мария Георгиевна,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закончив в 1945 году Московский технологический институт, поехала возрождать  пищевую промышленность в разорённой гитлеровцами Украине. Она прошла трудовой путь от технолога хлебозавода до Генерального директора управления хлебопекарной промышленности города Львова и Львовской област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0" name="Picture 11" descr="мама"/>
          <p:cNvPicPr/>
          <p:nvPr/>
        </p:nvPicPr>
        <p:blipFill>
          <a:blip r:embed="rId1"/>
          <a:stretch/>
        </p:blipFill>
        <p:spPr>
          <a:xfrm>
            <a:off x="179280" y="620640"/>
            <a:ext cx="3425760" cy="4969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179280" y="4365720"/>
            <a:ext cx="878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50920" y="401472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ая Генеральным директором,  Мария Георгиевна передавала свой опыт учащимся Львовского техникума пищевой промышленности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реди её учеников – директора и главные инженеры  хлебозаводов, заместитель министра пищевой промышленности Украины. За доблестный труд Мария Георгиевна награждена орденом «Знак почёта»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3" name="Picture 12" descr="мама-хлеб-обр"/>
          <p:cNvPicPr/>
          <p:nvPr/>
        </p:nvPicPr>
        <p:blipFill>
          <a:blip r:embed="rId1"/>
          <a:stretch/>
        </p:blipFill>
        <p:spPr>
          <a:xfrm>
            <a:off x="1403280" y="189000"/>
            <a:ext cx="6264360" cy="36748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емейный альбом опять возвращает нас в прошлое. Моя бабушка Александра Сергеевна уехала из Москвы в глухую провинцию учить детей, и мама Мария Георгиевна,  воспитанная её примером, из столицы уехала в далёкий западный город Львов, где по ночам в послевоенном  1945 году ещё хозяйничали  бандеровцы. Уехала одна и всю дорогу плакала в поезде. Но судьба знала, что делает. Уже через полгода бабушка на новогоднем вечере случайно познакомилась с демобилизованным после войны старшим лейтенантом  Скотниковым  Александром Васильевичем, к удивлению оказавшимся её земляком из города Егорьевска. И снова история страны создала историю моей семьи. Мария Георгиевна и Александр Васильевич полюбили друг друга, вскоре поженились и остались жить во Львове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Мой отец Александр Васильевич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79280" y="458136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кончив школу, а  потом рабфак, мой отец Александр Васильевич поступил в военное лётное училище, откуда был призван на фронт в начале Великой Отечественной войны. Всю войну прошёл в действующей армии, был награждён медалями «За оборону Москвы» и «За оборону Кавказа»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7" name="Picture 13" descr="папа-самолёт-обр"/>
          <p:cNvPicPr/>
          <p:nvPr/>
        </p:nvPicPr>
        <p:blipFill>
          <a:blip r:embed="rId1"/>
          <a:stretch/>
        </p:blipFill>
        <p:spPr>
          <a:xfrm>
            <a:off x="1763640" y="692280"/>
            <a:ext cx="5616720" cy="38638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3492360" y="333360"/>
            <a:ext cx="5400720" cy="83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Демобилизовавшись, работал военным синоптиком во Львовском аэропорту. Встреча с моей бабушкой, которая выросла в семье с благородными учительскими традициями, изменила его судьбу. Он поступил на географический факультет Львовского государственного университета и 35 лет работал учителем географии и физики в школе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9" descr="папа"/>
          <p:cNvPicPr/>
          <p:nvPr/>
        </p:nvPicPr>
        <p:blipFill>
          <a:blip r:embed="rId1"/>
          <a:stretch/>
        </p:blipFill>
        <p:spPr>
          <a:xfrm>
            <a:off x="179280" y="692280"/>
            <a:ext cx="3092400" cy="4537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44280"/>
            <a:ext cx="81378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imes New Roman"/>
              </a:rPr>
              <a:t>100 лет учительской династи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Picture 8" descr="бабушка"/>
          <p:cNvPicPr/>
          <p:nvPr/>
        </p:nvPicPr>
        <p:blipFill>
          <a:blip r:embed="rId1"/>
          <a:stretch/>
        </p:blipFill>
        <p:spPr>
          <a:xfrm>
            <a:off x="2843280" y="907920"/>
            <a:ext cx="1636560" cy="1702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8" name="Picture 9" descr="д"/>
          <p:cNvPicPr/>
          <p:nvPr/>
        </p:nvPicPr>
        <p:blipFill>
          <a:blip r:embed="rId2"/>
          <a:stretch/>
        </p:blipFill>
        <p:spPr>
          <a:xfrm>
            <a:off x="4932360" y="907920"/>
            <a:ext cx="1549440" cy="1729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9" name="Picture 10" descr="т"/>
          <p:cNvPicPr/>
          <p:nvPr/>
        </p:nvPicPr>
        <p:blipFill>
          <a:blip r:embed="rId3"/>
          <a:srcRect l="0" t="6636" r="0" b="0"/>
          <a:stretch/>
        </p:blipFill>
        <p:spPr>
          <a:xfrm>
            <a:off x="1547640" y="2781360"/>
            <a:ext cx="124956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0" name="Picture 11" descr="дя"/>
          <p:cNvPicPr/>
          <p:nvPr/>
        </p:nvPicPr>
        <p:blipFill>
          <a:blip r:embed="rId4"/>
          <a:srcRect l="4526" t="0" r="1509" b="0"/>
          <a:stretch/>
        </p:blipFill>
        <p:spPr>
          <a:xfrm>
            <a:off x="3276720" y="2781360"/>
            <a:ext cx="135396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1" name="Picture 12" descr="м"/>
          <p:cNvPicPr/>
          <p:nvPr/>
        </p:nvPicPr>
        <p:blipFill>
          <a:blip r:embed="rId5"/>
          <a:stretch/>
        </p:blipFill>
        <p:spPr>
          <a:xfrm>
            <a:off x="4859280" y="2781360"/>
            <a:ext cx="129060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2" name="Picture 13" descr="п"/>
          <p:cNvPicPr/>
          <p:nvPr/>
        </p:nvPicPr>
        <p:blipFill>
          <a:blip r:embed="rId6"/>
          <a:srcRect l="0" t="0" r="0" b="2238"/>
          <a:stretch/>
        </p:blipFill>
        <p:spPr>
          <a:xfrm>
            <a:off x="6588000" y="2781360"/>
            <a:ext cx="130500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3" name="Picture 14" descr="л"/>
          <p:cNvPicPr/>
          <p:nvPr/>
        </p:nvPicPr>
        <p:blipFill>
          <a:blip r:embed="rId7"/>
          <a:stretch/>
        </p:blipFill>
        <p:spPr>
          <a:xfrm>
            <a:off x="3276720" y="4797360"/>
            <a:ext cx="129204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4" name="Picture 15" descr="в"/>
          <p:cNvPicPr/>
          <p:nvPr/>
        </p:nvPicPr>
        <p:blipFill>
          <a:blip r:embed="rId8"/>
          <a:stretch/>
        </p:blipFill>
        <p:spPr>
          <a:xfrm>
            <a:off x="4932360" y="4797360"/>
            <a:ext cx="121284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Морохова Лариса Александровн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716360" y="981000"/>
            <a:ext cx="42483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казывается, </a:t>
            </a: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 наследству могут передаваться не только болезни, но и профессии.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Когда меня спросили в шесть лет, кем я хочу бы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когда вырасту, я ответила: «Окончу «урниверситет» и буду учительницей»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2" name="Picture 11" descr="я1-обр"/>
          <p:cNvPicPr/>
          <p:nvPr/>
        </p:nvPicPr>
        <p:blipFill>
          <a:blip r:embed="rId1"/>
          <a:stretch/>
        </p:blipFill>
        <p:spPr>
          <a:xfrm>
            <a:off x="395280" y="981000"/>
            <a:ext cx="3809880" cy="48387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3708360" y="115920"/>
            <a:ext cx="5111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Как задумала,  так и вышло. Вот уже 35 лет я учу детей математике.   Работала в вечерней школе рабочей молодёжи, во Львовском техникуме пищевой промышленности, а после переезда в Воронеж - в МОУСОШ № 50.          Учитель высшей категории.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8" descr="я"/>
          <p:cNvPicPr/>
          <p:nvPr/>
        </p:nvPicPr>
        <p:blipFill>
          <a:blip r:embed="rId1"/>
          <a:stretch/>
        </p:blipFill>
        <p:spPr>
          <a:xfrm>
            <a:off x="539640" y="260280"/>
            <a:ext cx="2833920" cy="4103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65" name="Picture 9" descr="Почётн-обработ"/>
          <p:cNvPicPr/>
          <p:nvPr/>
        </p:nvPicPr>
        <p:blipFill>
          <a:blip r:embed="rId2"/>
          <a:stretch/>
        </p:blipFill>
        <p:spPr>
          <a:xfrm>
            <a:off x="4361040" y="4465800"/>
            <a:ext cx="330660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179280" y="450864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24000" y="260280"/>
            <a:ext cx="842472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астерство учителя не случайная удача, не счастливые находки, а систематический, кропотливый поиск и труд, часто черновой, будничный, наполненный тревожными раздумьями, открытиями и неудачами.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словия, в которых формировался мой педагогический опыт,  поставили меня перед проблемой поиска и внедрения новых продуктивных технологий обучения. С 1985 года при появлении в школах первых персональных компьютеров стремлюсь реализовать огромные возможности компьютерных технологий при обучении математи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ишлось постигать азы информатики, а затем конструировать методику урока с применением компьютера. Принимала участие в создании первого методического пособия для учителей по информати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о сих пор являюсь участником многих конкурсов для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T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-активных учителей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специалист-офис_1"/>
          <p:cNvPicPr/>
          <p:nvPr/>
        </p:nvPicPr>
        <p:blipFill>
          <a:blip r:embed="rId1"/>
          <a:stretch/>
        </p:blipFill>
        <p:spPr>
          <a:xfrm>
            <a:off x="324000" y="1981080"/>
            <a:ext cx="2597040" cy="195264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169" name="Picture 7" descr="сертификат-участия-в-интел_"/>
          <p:cNvPicPr/>
          <p:nvPr/>
        </p:nvPicPr>
        <p:blipFill>
          <a:blip r:embed="rId2"/>
          <a:stretch/>
        </p:blipFill>
        <p:spPr>
          <a:xfrm>
            <a:off x="3059280" y="1127160"/>
            <a:ext cx="2881080" cy="1941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сертификат-конференция_1"/>
          <p:cNvPicPr/>
          <p:nvPr/>
        </p:nvPicPr>
        <p:blipFill>
          <a:blip r:embed="rId3"/>
          <a:stretch/>
        </p:blipFill>
        <p:spPr>
          <a:xfrm>
            <a:off x="6084720" y="26028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свидетельство-интел_1"/>
          <p:cNvPicPr/>
          <p:nvPr/>
        </p:nvPicPr>
        <p:blipFill>
          <a:blip r:embed="rId4"/>
          <a:stretch/>
        </p:blipFill>
        <p:spPr>
          <a:xfrm>
            <a:off x="3059280" y="3870360"/>
            <a:ext cx="2950920" cy="200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сертификат-академии_1"/>
          <p:cNvPicPr/>
          <p:nvPr/>
        </p:nvPicPr>
        <p:blipFill>
          <a:blip r:embed="rId5"/>
          <a:stretch/>
        </p:blipFill>
        <p:spPr>
          <a:xfrm>
            <a:off x="144360" y="4532400"/>
            <a:ext cx="2843280" cy="19209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173" name="Picture 12" descr="свидетельство-интел-1_1"/>
          <p:cNvPicPr/>
          <p:nvPr/>
        </p:nvPicPr>
        <p:blipFill>
          <a:blip r:embed="rId6"/>
          <a:stretch/>
        </p:blipFill>
        <p:spPr>
          <a:xfrm>
            <a:off x="6084720" y="3400560"/>
            <a:ext cx="2843280" cy="19731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Мой муж Морохов Владимир Александрович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08360" y="1339920"/>
            <a:ext cx="52624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й муж  закончил Ленинградское морское училище им. Макарова Начальником радиостанции он ходил на многих судах: китобойцах, сухогрузах, пассажирских. Побывал почти во всех странах мир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6" name="Picture 8" descr="Володя"/>
          <p:cNvPicPr/>
          <p:nvPr/>
        </p:nvPicPr>
        <p:blipFill>
          <a:blip r:embed="rId1"/>
          <a:stretch/>
        </p:blipFill>
        <p:spPr>
          <a:xfrm>
            <a:off x="395280" y="1197000"/>
            <a:ext cx="3171960" cy="489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Сойдя на берег, «морской волк» решил приобрести  сухопутную специальность и окончил с отличием Львовский полиграфический институт по специальности инженер-механик. Работал на одном из самых больших и известных телевизорных заводов страны - «Электрон».  Уже тогда я уговаривала его перейти на преподавательскую работу, чувствуя в нём большие педагогические способности. Он сопротивлялся вплоть до переезда в Воронеж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о магнетизм учительской профессии победил, и с 1995 года мой муж работает в профессиональном лицее № 7 города Воронежа. Начинал преподавателем, а теперь он заместитель директора. Педагогические способности помогли ему освоить профессию педагога и достичь высоких результатов в воспитании и образовании молодого поколения.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 плодотворный труд в деле воспитания и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ладимир Александрович награждён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мотой Министерства образования РФ. Его портрет находится  на доске почёта в ВОИПКРО г. Воронеж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579640" y="404640"/>
            <a:ext cx="331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 значительном вкладе Владимира Александровича в  успешное внедрение  инновационных проектов в профессиональном лицее № 7 писала «Учительская газета» в № 21 от 20 мая 2008 г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0" name="Picture 3" descr="Морохов-ст-обраб"/>
          <p:cNvPicPr/>
          <p:nvPr/>
        </p:nvPicPr>
        <p:blipFill>
          <a:blip r:embed="rId1"/>
          <a:stretch/>
        </p:blipFill>
        <p:spPr>
          <a:xfrm>
            <a:off x="250920" y="476280"/>
            <a:ext cx="5184720" cy="50943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63280" y="1341360"/>
            <a:ext cx="6923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С детства меня окружало маленькое государство, придя в которое один раз, очень трудно уйти. Этим государством для меня была школа, в которой работала моя мама – Морохова Лариса Александровна. Впервые она привела меня в школу, когда мне исполнилось 3 года, и, пока она вела уроки, я тихо сидел за последней партой сначала у неё на уроках, а потом, осмелев, - у других учителей. Поэтому в первый класс я пришёл уже не новичком.  Тем более, что мой отец Морохов Владимир Александрович тоже учитель, и я успел побывать на уроках в его лице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2" name="Picture 4" descr="Саша"/>
          <p:cNvPicPr/>
          <p:nvPr/>
        </p:nvPicPr>
        <p:blipFill>
          <a:blip r:embed="rId1"/>
          <a:stretch/>
        </p:blipFill>
        <p:spPr>
          <a:xfrm>
            <a:off x="250920" y="189000"/>
            <a:ext cx="1384200" cy="1815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692360" y="189000"/>
            <a:ext cx="745164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Наш сын Морохов Александр Владимирович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 одном из школьных сочинений сын написал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684360" y="620640"/>
            <a:ext cx="7848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з поколения в поколение члены моей семьи как эстафету передавали гордое знамя учительской профессии. Они преподавали разные предметы, но их объединяли профессионализм,  стремление к творчеству,  строгая взыскательность к себе и желание отдавать сердце детям. Я в будущем  мечтаю стать экономистом. Думаю, что со временем, достигнув профессионализма в этой области, тоже смогу передавать свои знания молодёжи. Эти мечты мне предстоит воплотить в жизн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Я буду достоин своей семь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8f8e73"/>
                </a:solidFill>
                <a:latin typeface="Monotype Corsiva"/>
              </a:rPr>
              <a:t>«Аз букву ведаю, глаголю добро, добро есть жизнь...».</a:t>
            </a: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Дедушка Егор Иванович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Егор Иванович Шишков, сын зажиточного крестьянина из подмосковного села,  отличавшийся с малых лет сообразительностью и умом, несмотря на запрет отца, уехал учиться в Рязанскую гимназию, после окончания  которой вернулся учительствовать в родное село Шарапово и вскоре стал директором школы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560" y="115560"/>
            <a:ext cx="889308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Бабушка Александра Сергеевна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орностаева Александра Сергеевна – моя бабушка - в 1910 году, окончив гимназию,  могла бы остаться работать в Москве,  но по велению души уехала в известное уже нам глухое село Шарапово учить крестьянских детей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Три её сестры, последовав её примеру, тоже учительствовал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Учительская семья Шишковых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нечно, они встретились – Горностаева Саша и Шишков Егор. Он  уже директор и учитель физики сельской школы, она  молоденькая учительница русской словесности. Уже через год они стали мужем и женой. Вдохновлённые общим стремлением  образовывать и воспитывать молодое поколение России, они всю жизнь прошли рука об руку,  не изменяя этой идее. У них родилось трое детей, о которых я расскажу дале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 жизнь сельского учителя в то время была очень тяжёлой. Зарплата маленькая, своего хозяйства не было. Жили они при школе во флигеле. Ни о каких магазинах и рынках в то время в деревне и не слыхивали. Всё приходилось покупать у односельчан втридорога. Крестьянки приносили в школу молоко, яйца, овощи и приговаривали: «С кого же денег содрать, как не с «уцытельницы».  Зажиточный отец Егора Ивановича так и не признал семью сына. Моя мама вспоминает, что когда они с сестрой и братом приходили в дом деда, он недовольно ворчал: «А зачем «уцытельские»  дети пришли? Опять побираться?»  А  её бабушка тайком уводила их в каморку и угощала чёрным  хлебом с растительным маслом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24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Но все эти бытовые проблемы не заслоняли главного,  ради чего они работали в школе. Начало педагогической деятельности молодых Егора и Александры совпала с введением в России всеобщего начального образования. Этот проект был представлен 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I</a:t>
            </a: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 Государственным Думам, которые не успели его обсудить. И только 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II</a:t>
            </a: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 Дума приступила к его обсуждению.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24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В 1-ой статье проекта провозглашалось: «Всем детям обоего пола должна быть предоставлена возможность обучения в правильно организованной школе». Правительство начало выделять средства на нужды народного образования. Егор Иванович и Александра Сергеевна из двухгодичной церковно-приходской школы  создали современную по тем меркам семилетку. Вдохновлённые их примером, в школу приехали  работать учителя младших классов, математики, географии и даже редкий по тем временам учитель немецкого языка.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4932360" y="936720"/>
            <a:ext cx="403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Я смотрю семейный альбом. Вот эта красивая девушка в строгом гимназическом платье – моя бабушка Александра Сергеевна. Такой она приехала работать учительницей в деревню.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14" descr="бабушка"/>
          <p:cNvPicPr/>
          <p:nvPr/>
        </p:nvPicPr>
        <p:blipFill>
          <a:blip r:embed="rId1"/>
          <a:stretch/>
        </p:blipFill>
        <p:spPr>
          <a:xfrm>
            <a:off x="468360" y="549360"/>
            <a:ext cx="4222800" cy="4392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42:38Z</dcterms:created>
  <dc:creator>Секретарь</dc:creator>
  <dc:description/>
  <dc:language>en-US</dc:language>
  <cp:lastModifiedBy>Краснобородько Елена Юрьевна</cp:lastModifiedBy>
  <dcterms:modified xsi:type="dcterms:W3CDTF">2010-03-23T12:13:42Z</dcterms:modified>
  <cp:revision>109</cp:revision>
  <dc:subject/>
  <dc:title>История учительской династии моей семьи.</dc:title>
</cp:coreProperties>
</file>