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gif" ContentType="image/gif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005-2D97-4FFE-B9DF-C7D2F818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FAF-408D-485D-B298-C7CE1E6D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2D1-2CF2-40B5-99F0-ED2A0A6C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1D3-8160-4B14-8BA3-B95B95F9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B1D-AB8B-4ED2-A9F2-0560D29C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05B-FBD7-45D1-962C-F026A729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B33-0783-4B58-B97B-0E3FDAA1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460-6F64-4B7F-98F3-EA0A21E2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444-37ED-4487-A392-6A942315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110-8A9E-482D-A5C0-A34D09A6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345-4DCD-46CA-8F2A-8D92F05A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6F3-18A6-430D-AEE8-20C0CCAE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C92F-CE2F-4037-AB48-37E79EB2D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371600"/>
            <a:ext cx="8458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ж тает снег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гут ручьи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3880" y="4572000"/>
            <a:ext cx="628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заочная прогулка в природу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228600"/>
            <a:ext cx="682956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ОУОО "Ильинская средняя общеобразовательная школ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Шелаболихинского района Алтайского кр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190200">
            <a:off x="533160" y="5486040"/>
            <a:ext cx="7829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зентацию составила учитель начальных классов Чупина Т.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Ветреница        Хохла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img4"/>
          <p:cNvPicPr/>
          <p:nvPr/>
        </p:nvPicPr>
        <p:blipFill>
          <a:blip r:embed="rId1"/>
          <a:stretch/>
        </p:blipFill>
        <p:spPr>
          <a:xfrm>
            <a:off x="228600" y="1676520"/>
            <a:ext cx="4540320" cy="4952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108[1]"/>
          <p:cNvPicPr/>
          <p:nvPr/>
        </p:nvPicPr>
        <p:blipFill>
          <a:blip r:embed="rId2"/>
          <a:stretch/>
        </p:blipFill>
        <p:spPr>
          <a:xfrm>
            <a:off x="4952880" y="1676520"/>
            <a:ext cx="3714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Первоц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iimg2"/>
          <p:cNvPicPr/>
          <p:nvPr/>
        </p:nvPicPr>
        <p:blipFill>
          <a:blip r:embed="rId1"/>
          <a:stretch/>
        </p:blipFill>
        <p:spPr>
          <a:xfrm>
            <a:off x="380880" y="182880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Fig.1/Рис.1. P. algida в Бонсай-парке ЦСБС Фото: Н.Ковтонюк"/>
          <p:cNvPicPr/>
          <p:nvPr/>
        </p:nvPicPr>
        <p:blipFill>
          <a:blip r:embed="rId2"/>
          <a:stretch/>
        </p:blipFill>
        <p:spPr>
          <a:xfrm>
            <a:off x="4632480" y="1752480"/>
            <a:ext cx="350028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Охрана первоц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9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a00"/>
                </a:solidFill>
                <a:latin typeface="Arial"/>
              </a:rPr>
              <a:t>Не вырывайте первоцветы с корн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9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a00"/>
                </a:solidFill>
                <a:latin typeface="Arial"/>
              </a:rPr>
              <a:t>Не вытаптывайте первоцве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9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a00"/>
                </a:solidFill>
                <a:latin typeface="Arial"/>
              </a:rPr>
              <a:t>Посадите первоцветы в саду и ухаживайте за н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9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a00"/>
                </a:solidFill>
                <a:latin typeface="Arial"/>
              </a:rPr>
              <a:t>Расскажите близким об охране первоцвет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рнисаж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ЕВЦЫ ПРИР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0040" y="3995640"/>
            <a:ext cx="814392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Творчество художников-пейзажисто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26668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Глядя на ми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нельзя не удивляться!</a:t>
            </a:r>
            <a:br>
              <a:rPr sz="3200"/>
            </a:b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                   Козьма Пру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00160" y="785880"/>
            <a:ext cx="5486400" cy="411480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928880" y="5643360"/>
            <a:ext cx="5000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на. Большая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âåñíà "/>
          <p:cNvPicPr/>
          <p:nvPr/>
        </p:nvPicPr>
        <p:blipFill>
          <a:blip r:embed="rId2"/>
          <a:stretch/>
        </p:blipFill>
        <p:spPr>
          <a:xfrm>
            <a:off x="1285920" y="357120"/>
            <a:ext cx="6643800" cy="45957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6"/>
          <p:cNvSpPr/>
          <p:nvPr/>
        </p:nvSpPr>
        <p:spPr>
          <a:xfrm>
            <a:off x="685440" y="52149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И.Леви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Управляющая кнопка: возврат 8">
            <a:hlinkClick r:id="" action="ppaction://hlinkshowjump?jump=previousslide"/>
          </p:cNvPr>
          <p:cNvSpPr/>
          <p:nvPr/>
        </p:nvSpPr>
        <p:spPr>
          <a:xfrm>
            <a:off x="7858080" y="6286680"/>
            <a:ext cx="428760" cy="28548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7493"/>
                </a:moveTo>
                <a:lnTo>
                  <a:pt x="12715" y="7493"/>
                </a:lnTo>
                <a:lnTo>
                  <a:pt x="12715" y="12828"/>
                </a:lnTo>
                <a:cubicBezTo>
                  <a:pt x="12715" y="13751"/>
                  <a:pt x="13515" y="14482"/>
                  <a:pt x="14551" y="14482"/>
                </a:cubicBezTo>
                <a:lnTo>
                  <a:pt x="16214" y="14482"/>
                </a:lnTo>
                <a:cubicBezTo>
                  <a:pt x="17249" y="14482"/>
                  <a:pt x="18050" y="13751"/>
                  <a:pt x="18050" y="12828"/>
                </a:cubicBezTo>
                <a:lnTo>
                  <a:pt x="18050" y="7493"/>
                </a:lnTo>
                <a:lnTo>
                  <a:pt x="16214" y="7493"/>
                </a:lnTo>
                <a:lnTo>
                  <a:pt x="19721" y="3985"/>
                </a:lnTo>
                <a:lnTo>
                  <a:pt x="23394" y="7493"/>
                </a:lnTo>
                <a:lnTo>
                  <a:pt x="21558" y="7493"/>
                </a:lnTo>
                <a:lnTo>
                  <a:pt x="21558" y="12828"/>
                </a:lnTo>
                <a:cubicBezTo>
                  <a:pt x="21558" y="15596"/>
                  <a:pt x="18981" y="18155"/>
                  <a:pt x="16214" y="18155"/>
                </a:cubicBezTo>
                <a:lnTo>
                  <a:pt x="14551" y="18155"/>
                </a:lnTo>
                <a:cubicBezTo>
                  <a:pt x="11783" y="18155"/>
                  <a:pt x="9207" y="15596"/>
                  <a:pt x="9207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mart_Pic1"/>
          <p:cNvPicPr/>
          <p:nvPr/>
        </p:nvPicPr>
        <p:blipFill>
          <a:blip r:embed="rId1"/>
          <a:srcRect l="6893" t="0" r="6893" b="0"/>
          <a:stretch/>
        </p:blipFill>
        <p:spPr>
          <a:xfrm>
            <a:off x="3214800" y="928800"/>
            <a:ext cx="4627440" cy="439884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03280" y="1625400"/>
            <a:ext cx="3217680" cy="329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685440" y="50007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И.Леви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возврат 6">
            <a:hlinkClick r:id="" action="ppaction://hlinkshowjump?jump=previousslide"/>
          </p:cNvPr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7493"/>
                </a:moveTo>
                <a:lnTo>
                  <a:pt x="15384" y="7493"/>
                </a:lnTo>
                <a:lnTo>
                  <a:pt x="15384" y="12828"/>
                </a:lnTo>
                <a:cubicBezTo>
                  <a:pt x="15384" y="13751"/>
                  <a:pt x="16185" y="14482"/>
                  <a:pt x="17221" y="14482"/>
                </a:cubicBezTo>
                <a:lnTo>
                  <a:pt x="18883" y="14482"/>
                </a:lnTo>
                <a:cubicBezTo>
                  <a:pt x="19919" y="14482"/>
                  <a:pt x="20720" y="13751"/>
                  <a:pt x="20720" y="12828"/>
                </a:cubicBezTo>
                <a:lnTo>
                  <a:pt x="20720" y="7493"/>
                </a:lnTo>
                <a:lnTo>
                  <a:pt x="18883" y="7493"/>
                </a:lnTo>
                <a:lnTo>
                  <a:pt x="22391" y="3985"/>
                </a:lnTo>
                <a:lnTo>
                  <a:pt x="26064" y="7493"/>
                </a:lnTo>
                <a:lnTo>
                  <a:pt x="24227" y="7493"/>
                </a:lnTo>
                <a:lnTo>
                  <a:pt x="24227" y="12828"/>
                </a:lnTo>
                <a:cubicBezTo>
                  <a:pt x="24227" y="15596"/>
                  <a:pt x="21651" y="18155"/>
                  <a:pt x="18883" y="18155"/>
                </a:cubicBezTo>
                <a:lnTo>
                  <a:pt x="17221" y="18155"/>
                </a:lnTo>
                <a:cubicBezTo>
                  <a:pt x="14453" y="18155"/>
                  <a:pt x="11877" y="15596"/>
                  <a:pt x="11877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grachi-prileteli_Pic1"/>
          <p:cNvPicPr/>
          <p:nvPr/>
        </p:nvPicPr>
        <p:blipFill>
          <a:blip r:embed="rId1"/>
          <a:stretch/>
        </p:blipFill>
        <p:spPr>
          <a:xfrm>
            <a:off x="2357280" y="285840"/>
            <a:ext cx="4500720" cy="5072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14240" y="4928760"/>
            <a:ext cx="6569280" cy="15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.Сав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рачи приле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905120"/>
            <a:ext cx="9126360" cy="13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1371600" y="-345960"/>
            <a:ext cx="1158228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042920" y="549360"/>
            <a:ext cx="720108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а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едени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лесу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ж тает снег, бегут ручьи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окно повеяло весною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свищут скоро соловьи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 лес оденется листвою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.Н. Плеще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048560" y="128520"/>
            <a:ext cx="50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  <a:ea typeface="Arial"/>
              </a:rPr>
              <a:t>Не разоряйте птичьи гнёзд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60160" y="1066680"/>
            <a:ext cx="3562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Дети запомнить долж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И поня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Гнёзда у пти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Нельзя разоря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Если в тр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Увидали яй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Или услыш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Крики птенц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Не приближайте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Не лезьте т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И не тревожь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Ни птиц, ни гнез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451640" y="530064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958920" cy="64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88720" y="472428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 Black"/>
                <a:ea typeface="Arial"/>
              </a:rPr>
              <a:t>Не обижай лесных 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1520" y="5300640"/>
            <a:ext cx="426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В лесу летают мотыль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Ползут козявки и жу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Природа мать им жизнь д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У них у всех свои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10320" y="5300640"/>
            <a:ext cx="406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Ты их увидишь на пут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Не обижай, а отойди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Без насекомых лес, друг 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И одинокий, и пуст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56720" y="429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52560" cy="961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403280" y="235080"/>
            <a:ext cx="640872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90400" y="455616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 Black"/>
                <a:ea typeface="Arial"/>
              </a:rPr>
              <a:t>Не рвите редкие ц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00" y="5300640"/>
            <a:ext cx="372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Есть цветочки ред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Белые и неж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Вам кивнут приветл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Ландыши, подснежни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67000" y="5241960"/>
            <a:ext cx="400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Только рвать не надо их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С ними лес добрей, свет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Ведь теперь цветов та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Очень мало на земл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41120"/>
            <a:ext cx="6696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92840" y="3716280"/>
            <a:ext cx="70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 Black"/>
                <a:ea typeface="Arial"/>
              </a:rPr>
              <a:t>     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  <a:ea typeface="Arial"/>
              </a:rPr>
              <a:t>Не разжигай костёр в лесу без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36560" y="4149720"/>
            <a:ext cx="633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Без взрослых с огнём развлекаться опасно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Закончиться может забава уж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В лесу очень сухо бывает пор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Костёр обернётся серьёзной бед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Представьте, что пламя легко разгори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Начнёт полыхать, разбегаться искриться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Его потушить невозможно тогд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Пожары лесные – большая бе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95400"/>
            <a:ext cx="5473800" cy="36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3818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рево, трава, цветок и п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 всегда умеют защитит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сли будут уничтожены 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планете мы останемся од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.В. Берес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-main-pic" descr="Картинка 110 из 4398"/>
          <p:cNvPicPr/>
          <p:nvPr/>
        </p:nvPicPr>
        <p:blipFill>
          <a:blip r:embed="rId1"/>
          <a:stretch/>
        </p:blipFill>
        <p:spPr>
          <a:xfrm>
            <a:off x="0" y="0"/>
            <a:ext cx="10210680" cy="71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Первоцветы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a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9a00"/>
                </a:solidFill>
                <a:latin typeface="Arial"/>
              </a:rPr>
              <a:t>это первые растения, которые зацветают ранней весной</a:t>
            </a:r>
            <a:r>
              <a:rPr b="0" lang="en-US" sz="3200" spc="-1" strike="noStrike">
                <a:solidFill>
                  <a:srgbClr val="009a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Мать – и – мачеха    Меду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Мать-и-Мачеха (Tussilago farfara)"/>
          <p:cNvPicPr/>
          <p:nvPr/>
        </p:nvPicPr>
        <p:blipFill>
          <a:blip r:embed="rId1"/>
          <a:stretch/>
        </p:blipFill>
        <p:spPr>
          <a:xfrm>
            <a:off x="438120" y="1371600"/>
            <a:ext cx="3584520" cy="4800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img8"/>
          <p:cNvPicPr/>
          <p:nvPr/>
        </p:nvPicPr>
        <p:blipFill>
          <a:blip r:embed="rId2"/>
          <a:stretch/>
        </p:blipFill>
        <p:spPr>
          <a:xfrm>
            <a:off x="4348080" y="1371600"/>
            <a:ext cx="4592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прозвище недаром у красивого цве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пля сочного нектара и душиста, и слад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простуды излечиться вам поможет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mg8"/>
          <p:cNvPicPr/>
          <p:nvPr/>
        </p:nvPicPr>
        <p:blipFill>
          <a:blip r:embed="rId1"/>
          <a:stretch/>
        </p:blipFill>
        <p:spPr>
          <a:xfrm>
            <a:off x="4329000" y="1905120"/>
            <a:ext cx="4815000" cy="4952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19051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еду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м каждому весенняя природа дор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учьями распускаются холодные  сн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снега очищается и поле и валеж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первый появляется в проталинк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g7"/>
          <p:cNvPicPr/>
          <p:nvPr/>
        </p:nvPicPr>
        <p:blipFill>
          <a:blip r:embed="rId1"/>
          <a:stretch/>
        </p:blipFill>
        <p:spPr>
          <a:xfrm>
            <a:off x="4876920" y="2362320"/>
            <a:ext cx="3225600" cy="4495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3352680"/>
            <a:ext cx="3919680" cy="17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сне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Простре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(сон – тра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nknown</cp:lastModifiedBy>
  <dcterms:modified xsi:type="dcterms:W3CDTF">2011-07-29T11:15:4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