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091-22CA-4B91-A47D-27867481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4DA-FBA0-4F56-957A-DE2608B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749-490B-4FE8-B430-C34C4C41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AB65-A6E1-49F3-99AA-8FC9D36C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4A8F-DB6A-426D-A2DD-7A3C7F4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42A-D59E-48D0-9D15-07BDEC51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9AD-E45E-474F-8CE9-26282958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CB2-77B7-4A9B-853E-5A1EECC2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B1D-66EF-480F-B40A-AE05437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C02-5CD4-480A-A6B7-56E567AC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264-B59E-45E1-99A4-6D6C3368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4D9-E870-4471-B866-B36B7C6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CF4B-7568-47BE-B78D-CF32DD623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37160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ж тает снег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гут ручьи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4572000"/>
            <a:ext cx="628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очная прогулка в природу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28600"/>
            <a:ext cx="68295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ОУОО "Ильинская средняя общеобразовательная школ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Шелаболихинского района Алтайского кр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190200">
            <a:off x="533160" y="5486040"/>
            <a:ext cx="7829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зентацию составила учитель начальных классов Чупина Т.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Ветреница        Хохла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g4"/>
          <p:cNvPicPr/>
          <p:nvPr/>
        </p:nvPicPr>
        <p:blipFill>
          <a:blip r:embed="rId1"/>
          <a:stretch/>
        </p:blipFill>
        <p:spPr>
          <a:xfrm>
            <a:off x="228600" y="1676520"/>
            <a:ext cx="4540320" cy="4952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108[1]"/>
          <p:cNvPicPr/>
          <p:nvPr/>
        </p:nvPicPr>
        <p:blipFill>
          <a:blip r:embed="rId2"/>
          <a:stretch/>
        </p:blipFill>
        <p:spPr>
          <a:xfrm>
            <a:off x="4952880" y="1676520"/>
            <a:ext cx="3714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Первоц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iimg2"/>
          <p:cNvPicPr/>
          <p:nvPr/>
        </p:nvPicPr>
        <p:blipFill>
          <a:blip r:embed="rId1"/>
          <a:stretch/>
        </p:blipFill>
        <p:spPr>
          <a:xfrm>
            <a:off x="380880" y="18288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ig.1/Рис.1. P. algida в Бонсай-парке ЦСБС Фото: Н.Ковтонюк"/>
          <p:cNvPicPr/>
          <p:nvPr/>
        </p:nvPicPr>
        <p:blipFill>
          <a:blip r:embed="rId2"/>
          <a:stretch/>
        </p:blipFill>
        <p:spPr>
          <a:xfrm>
            <a:off x="4632480" y="1752480"/>
            <a:ext cx="350028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Охрана перво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Не вырывайте первоцветы с корн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Не вытаптывайте первоцвет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Посадите первоцветы в саду и ухаживайте за ни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9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a00"/>
                </a:solidFill>
                <a:latin typeface="Arial"/>
              </a:rPr>
              <a:t>Расскажите близким об охране первоцветов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нисаж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ЕВЦЫ ПРИР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00040" y="3995640"/>
            <a:ext cx="814392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Творчество художников-пейзажист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6668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Глядя на ми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нельзя не удивляться!</a:t>
            </a:r>
            <a:br>
              <a:rPr sz="3200"/>
            </a:br>
            <a:r>
              <a:rPr b="1" lang="en-US" sz="3200" spc="-1" strike="noStrike">
                <a:solidFill>
                  <a:srgbClr val="ff5050"/>
                </a:solidFill>
                <a:latin typeface="Arial"/>
              </a:rPr>
              <a:t>                   Козьма Пру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00160" y="785880"/>
            <a:ext cx="5486400" cy="411480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928880" y="5643360"/>
            <a:ext cx="5000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на. Больш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âåñíà "/>
          <p:cNvPicPr/>
          <p:nvPr/>
        </p:nvPicPr>
        <p:blipFill>
          <a:blip r:embed="rId2"/>
          <a:stretch/>
        </p:blipFill>
        <p:spPr>
          <a:xfrm>
            <a:off x="1285920" y="357120"/>
            <a:ext cx="6643800" cy="45957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685440" y="52149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Управляющая кнопка: возврат 8">
            <a:hlinkClick r:id="" action="ppaction://hlinkshowjump?jump=previousslide"/>
          </p:cNvPr>
          <p:cNvSpPr/>
          <p:nvPr/>
        </p:nvSpPr>
        <p:spPr>
          <a:xfrm>
            <a:off x="7858080" y="6286680"/>
            <a:ext cx="428760" cy="285480"/>
          </a:xfrm>
          <a:custGeom>
            <a:avLst/>
            <a:gdLst>
              <a:gd name="textAreaLeft" fmla="*/ 18360 w 428760"/>
              <a:gd name="textAreaRight" fmla="*/ 410400 w 42876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2427" h="21600">
                <a:moveTo>
                  <a:pt x="0" y="0"/>
                </a:moveTo>
                <a:lnTo>
                  <a:pt x="32427" y="0"/>
                </a:lnTo>
                <a:lnTo>
                  <a:pt x="32427" y="21600"/>
                </a:lnTo>
                <a:lnTo>
                  <a:pt x="0" y="21600"/>
                </a:lnTo>
                <a:close/>
              </a:path>
              <a:path fill="lightenLess" w="32427" h="21600">
                <a:moveTo>
                  <a:pt x="0" y="0"/>
                </a:moveTo>
                <a:lnTo>
                  <a:pt x="32427" y="0"/>
                </a:lnTo>
                <a:lnTo>
                  <a:pt x="31027" y="1400"/>
                </a:lnTo>
                <a:lnTo>
                  <a:pt x="1400" y="1400"/>
                </a:lnTo>
                <a:close/>
              </a:path>
              <a:path fill="darken" w="32427" h="21600">
                <a:moveTo>
                  <a:pt x="32427" y="0"/>
                </a:moveTo>
                <a:lnTo>
                  <a:pt x="32427" y="21600"/>
                </a:lnTo>
                <a:lnTo>
                  <a:pt x="31027" y="20200"/>
                </a:lnTo>
                <a:lnTo>
                  <a:pt x="31027" y="1400"/>
                </a:lnTo>
                <a:close/>
              </a:path>
              <a:path fill="darkenLess" w="32427" h="21600">
                <a:moveTo>
                  <a:pt x="32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27" y="20200"/>
                </a:lnTo>
                <a:close/>
              </a:path>
              <a:path fill="lighten" w="32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27" h="21600">
                <a:moveTo>
                  <a:pt x="9207" y="7493"/>
                </a:moveTo>
                <a:lnTo>
                  <a:pt x="12715" y="7493"/>
                </a:lnTo>
                <a:lnTo>
                  <a:pt x="12715" y="12828"/>
                </a:lnTo>
                <a:cubicBezTo>
                  <a:pt x="12715" y="13751"/>
                  <a:pt x="13515" y="14482"/>
                  <a:pt x="14551" y="14482"/>
                </a:cubicBezTo>
                <a:lnTo>
                  <a:pt x="16214" y="14482"/>
                </a:lnTo>
                <a:cubicBezTo>
                  <a:pt x="17249" y="14482"/>
                  <a:pt x="18050" y="13751"/>
                  <a:pt x="18050" y="12828"/>
                </a:cubicBezTo>
                <a:lnTo>
                  <a:pt x="18050" y="7493"/>
                </a:lnTo>
                <a:lnTo>
                  <a:pt x="16214" y="7493"/>
                </a:lnTo>
                <a:lnTo>
                  <a:pt x="19721" y="3985"/>
                </a:lnTo>
                <a:lnTo>
                  <a:pt x="23394" y="7493"/>
                </a:lnTo>
                <a:lnTo>
                  <a:pt x="21558" y="7493"/>
                </a:lnTo>
                <a:lnTo>
                  <a:pt x="21558" y="12828"/>
                </a:lnTo>
                <a:cubicBezTo>
                  <a:pt x="21558" y="15596"/>
                  <a:pt x="18981" y="18155"/>
                  <a:pt x="16214" y="18155"/>
                </a:cubicBezTo>
                <a:lnTo>
                  <a:pt x="14551" y="18155"/>
                </a:lnTo>
                <a:cubicBezTo>
                  <a:pt x="11783" y="18155"/>
                  <a:pt x="9207" y="15596"/>
                  <a:pt x="920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mart_Pic1"/>
          <p:cNvPicPr/>
          <p:nvPr/>
        </p:nvPicPr>
        <p:blipFill>
          <a:blip r:embed="rId1"/>
          <a:srcRect l="6893" t="0" r="6893" b="0"/>
          <a:stretch/>
        </p:blipFill>
        <p:spPr>
          <a:xfrm>
            <a:off x="3214800" y="928800"/>
            <a:ext cx="4627440" cy="43988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3280" y="1625400"/>
            <a:ext cx="3217680" cy="32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685440" y="5000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И.Лев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7500960" y="6072120"/>
            <a:ext cx="500040" cy="28584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66" h="21600">
                <a:moveTo>
                  <a:pt x="11877" y="7493"/>
                </a:moveTo>
                <a:lnTo>
                  <a:pt x="15384" y="7493"/>
                </a:lnTo>
                <a:lnTo>
                  <a:pt x="15384" y="12828"/>
                </a:lnTo>
                <a:cubicBezTo>
                  <a:pt x="15384" y="13751"/>
                  <a:pt x="16185" y="14482"/>
                  <a:pt x="17221" y="14482"/>
                </a:cubicBezTo>
                <a:lnTo>
                  <a:pt x="18883" y="14482"/>
                </a:lnTo>
                <a:cubicBezTo>
                  <a:pt x="19919" y="14482"/>
                  <a:pt x="20720" y="13751"/>
                  <a:pt x="20720" y="12828"/>
                </a:cubicBezTo>
                <a:lnTo>
                  <a:pt x="20720" y="7493"/>
                </a:lnTo>
                <a:lnTo>
                  <a:pt x="18883" y="7493"/>
                </a:lnTo>
                <a:lnTo>
                  <a:pt x="22391" y="3985"/>
                </a:lnTo>
                <a:lnTo>
                  <a:pt x="26064" y="7493"/>
                </a:lnTo>
                <a:lnTo>
                  <a:pt x="24227" y="7493"/>
                </a:lnTo>
                <a:lnTo>
                  <a:pt x="24227" y="12828"/>
                </a:lnTo>
                <a:cubicBezTo>
                  <a:pt x="24227" y="15596"/>
                  <a:pt x="21651" y="18155"/>
                  <a:pt x="18883" y="18155"/>
                </a:cubicBezTo>
                <a:lnTo>
                  <a:pt x="17221" y="18155"/>
                </a:lnTo>
                <a:cubicBezTo>
                  <a:pt x="14453" y="18155"/>
                  <a:pt x="11877" y="15596"/>
                  <a:pt x="1187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2a84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rachi-prileteli_Pic1"/>
          <p:cNvPicPr/>
          <p:nvPr/>
        </p:nvPicPr>
        <p:blipFill>
          <a:blip r:embed="rId1"/>
          <a:stretch/>
        </p:blipFill>
        <p:spPr>
          <a:xfrm>
            <a:off x="2357280" y="285840"/>
            <a:ext cx="4500720" cy="5072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14240" y="4928760"/>
            <a:ext cx="6569280" cy="15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.Сав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рачи приле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26360" cy="13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1371600" y="-345960"/>
            <a:ext cx="1158228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042920" y="549360"/>
            <a:ext cx="7201080" cy="48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едения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есу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окно повеяло весною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лес оденется листвою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.Н. Плещ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048560" y="12852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  <a:ea typeface="Arial"/>
              </a:rPr>
              <a:t>Не разоряйте птичьи гнёзд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60160" y="1066680"/>
            <a:ext cx="3562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Дети запомнить долж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 поня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Гнёзда у пти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льзя разорят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Если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Увидали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ли услыш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Крики птенц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 приближайте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е лезьте т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И не тревожь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Ни птиц, ни гнез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1204920" cy="12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958920" cy="647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88720" y="472428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обижай лесных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520" y="5300640"/>
            <a:ext cx="426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 лесу летают мотыль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олзут козявки и жу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рирода мать им жизнь 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У них у всех свои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10320" y="5300640"/>
            <a:ext cx="40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Ты их увидишь на пути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Не обижай, а отойди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з насекомых лес, друг 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И одинокий, и пуст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5672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403280" y="235080"/>
            <a:ext cx="6408720" cy="42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90400" y="455616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рвите редкие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00" y="5300640"/>
            <a:ext cx="372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Есть цветочки ред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лые и неж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ам кивнут приветл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Ландыши, подснежник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67000" y="5241960"/>
            <a:ext cx="4007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Только рвать не надо их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С ними лес добрей, свет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едь теперь цветов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Очень мало на земл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12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92840" y="371628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     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  <a:ea typeface="Arial"/>
              </a:rPr>
              <a:t>Не разжигай костёр в лесу без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6560" y="4149720"/>
            <a:ext cx="6333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Без взрослых с огнём развлекаться опасно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Закончиться может забава уж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В лесу очень сухо бывает по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Костёр обернётся серьёзной бед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редставьте, что пламя легко разгор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Начнёт полыхать, разбегаться искриться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Его потушить невозможно тогд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Пожары лесные – большая бе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19280" y="95400"/>
            <a:ext cx="5473800" cy="36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83818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ерево, трава, цветок и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всегда умеют защитить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сли будут уничтожены 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 планете мы останемся од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.В. Берес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110 из 4398"/>
          <p:cNvPicPr/>
          <p:nvPr/>
        </p:nvPicPr>
        <p:blipFill>
          <a:blip r:embed="rId1"/>
          <a:stretch/>
        </p:blipFill>
        <p:spPr>
          <a:xfrm>
            <a:off x="0" y="0"/>
            <a:ext cx="10210680" cy="71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</a:rPr>
              <a:t>Первоцветы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a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9a00"/>
                </a:solidFill>
                <a:latin typeface="Arial"/>
              </a:rPr>
              <a:t>это первые растения, которые зацветают ранней весной</a:t>
            </a:r>
            <a:r>
              <a:rPr b="0" lang="en-US" sz="3200" spc="-1" strike="noStrike">
                <a:solidFill>
                  <a:srgbClr val="009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Мать – и – мачеха    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Мать-и-Мачеха (Tussilago farfara)"/>
          <p:cNvPicPr/>
          <p:nvPr/>
        </p:nvPicPr>
        <p:blipFill>
          <a:blip r:embed="rId1"/>
          <a:stretch/>
        </p:blipFill>
        <p:spPr>
          <a:xfrm>
            <a:off x="438120" y="1371600"/>
            <a:ext cx="3584520" cy="480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img8"/>
          <p:cNvPicPr/>
          <p:nvPr/>
        </p:nvPicPr>
        <p:blipFill>
          <a:blip r:embed="rId2"/>
          <a:stretch/>
        </p:blipFill>
        <p:spPr>
          <a:xfrm>
            <a:off x="4348080" y="1371600"/>
            <a:ext cx="4592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то прозвище недаром у красивого цве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пля сочного нектара и душиста, и слад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простуды излечиться вам поможет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8"/>
          <p:cNvPicPr/>
          <p:nvPr/>
        </p:nvPicPr>
        <p:blipFill>
          <a:blip r:embed="rId1"/>
          <a:stretch/>
        </p:blipFill>
        <p:spPr>
          <a:xfrm>
            <a:off x="4329000" y="1905120"/>
            <a:ext cx="481500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1905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еду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м каждому весенняя природа дор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учьями распускаются холодные  сн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 снега очищается и поле и вале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 первый появляется в проталинке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7"/>
          <p:cNvPicPr/>
          <p:nvPr/>
        </p:nvPicPr>
        <p:blipFill>
          <a:blip r:embed="rId1"/>
          <a:stretch/>
        </p:blipFill>
        <p:spPr>
          <a:xfrm>
            <a:off x="4876920" y="2362320"/>
            <a:ext cx="3225600" cy="449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3352680"/>
            <a:ext cx="3919680" cy="17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Прос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(сон – тра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nknown</cp:lastModifiedBy>
  <dcterms:modified xsi:type="dcterms:W3CDTF">2011-07-29T11:15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