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EDC2-6FB2-4AB7-B866-D8428994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1E19-EFA7-4E34-9FA7-3F21CCBF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7C2A-8059-43EF-B60E-15AE726A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25E3-5660-4653-8398-3021936D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8157-F71F-4FB6-8CE8-87E93418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42B5-4710-4B31-9B93-4FB925A8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5E5C-EDC6-402C-A72B-003DED71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FD2C-CD25-4621-A6EE-7497CB7A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5940-04E3-41DB-80AE-90C0DC6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7E05-80B9-4D1E-82CB-5FFF103C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AA33-C655-422D-8686-122EB526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DF26-DF79-428C-89CA-E31BBDA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1FCA-AF89-41E6-BB14-D758F32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5496-5B39-45E3-B872-689D7D58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1E65-2EA8-4EBF-8FB3-546AC938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FF06-FC1D-4D1A-BB48-DED29BB2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D6BA-2A26-4B8C-9C94-D72F1C88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0260C-181A-4986-AD62-F3E59940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D7FE-924D-4C01-A89E-2560E54E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87EC9-D189-49FF-BB68-0994C67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E3DE-AF66-4F43-9A07-3371A21D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97B51-F9D5-4684-BB4D-8CEAD29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0120-4329-4470-8922-73F676AB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1CDA-F555-471F-9558-82D45EB4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EC30-00D2-4F1C-92C7-71167756EB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7BEA-71C9-48C0-88F3-3FAA32A661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16360" y="692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ить № 1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620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торой признак равенства тре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79640" y="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торой признак равенства тре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205000"/>
            <a:ext cx="2808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26920" y="620280"/>
            <a:ext cx="360072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63640" y="620640"/>
            <a:ext cx="86364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2205000"/>
            <a:ext cx="3456000" cy="165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2133720"/>
            <a:ext cx="792000" cy="172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1825560"/>
            <a:ext cx="452520" cy="382680"/>
          </a:xfrm>
          <a:custGeom>
            <a:avLst/>
            <a:gdLst/>
            <a:ahLst/>
            <a:rect l="l" t="t" r="r" b="b"/>
            <a:pathLst>
              <a:path w="285" h="241">
                <a:moveTo>
                  <a:pt x="285" y="64"/>
                </a:moveTo>
                <a:cubicBezTo>
                  <a:pt x="197" y="20"/>
                  <a:pt x="195" y="0"/>
                  <a:pt x="90" y="29"/>
                </a:cubicBezTo>
                <a:cubicBezTo>
                  <a:pt x="70" y="35"/>
                  <a:pt x="37" y="64"/>
                  <a:pt x="37" y="64"/>
                </a:cubicBezTo>
                <a:cubicBezTo>
                  <a:pt x="28" y="90"/>
                  <a:pt x="4" y="116"/>
                  <a:pt x="2" y="144"/>
                </a:cubicBezTo>
                <a:cubicBezTo>
                  <a:pt x="0" y="176"/>
                  <a:pt x="2" y="209"/>
                  <a:pt x="2" y="24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28840" y="2208240"/>
            <a:ext cx="513000" cy="503280"/>
          </a:xfrm>
          <a:custGeom>
            <a:avLst/>
            <a:gdLst/>
            <a:ahLst/>
            <a:rect l="l" t="t" r="r" b="b"/>
            <a:pathLst>
              <a:path w="323" h="317">
                <a:moveTo>
                  <a:pt x="31" y="0"/>
                </a:moveTo>
                <a:cubicBezTo>
                  <a:pt x="24" y="58"/>
                  <a:pt x="0" y="191"/>
                  <a:pt x="40" y="231"/>
                </a:cubicBezTo>
                <a:cubicBezTo>
                  <a:pt x="73" y="264"/>
                  <a:pt x="104" y="270"/>
                  <a:pt x="146" y="284"/>
                </a:cubicBezTo>
                <a:cubicBezTo>
                  <a:pt x="155" y="287"/>
                  <a:pt x="173" y="293"/>
                  <a:pt x="173" y="293"/>
                </a:cubicBezTo>
                <a:cubicBezTo>
                  <a:pt x="318" y="284"/>
                  <a:pt x="281" y="317"/>
                  <a:pt x="323" y="2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77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3500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0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19162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620640"/>
            <a:ext cx="360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В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Д, АС – биссектрис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=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40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22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116000" y="5013360"/>
            <a:ext cx="388764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4941720"/>
            <a:ext cx="2376720" cy="129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6000" y="4941720"/>
            <a:ext cx="792000" cy="129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284360" y="5013360"/>
            <a:ext cx="71892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40000" y="5157720"/>
            <a:ext cx="7128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63640" y="5805360"/>
            <a:ext cx="14436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73360" y="5064120"/>
            <a:ext cx="350640" cy="108000"/>
          </a:xfrm>
          <a:custGeom>
            <a:avLst/>
            <a:gdLst/>
            <a:ahLst/>
            <a:rect l="l" t="t" r="r" b="b"/>
            <a:pathLst>
              <a:path w="221" h="68">
                <a:moveTo>
                  <a:pt x="0" y="27"/>
                </a:moveTo>
                <a:cubicBezTo>
                  <a:pt x="65" y="38"/>
                  <a:pt x="187" y="68"/>
                  <a:pt x="221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7040" y="6026040"/>
            <a:ext cx="380880" cy="108000"/>
          </a:xfrm>
          <a:custGeom>
            <a:avLst/>
            <a:gdLst/>
            <a:ahLst/>
            <a:rect l="l" t="t" r="r" b="b"/>
            <a:pathLst>
              <a:path w="240" h="68">
                <a:moveTo>
                  <a:pt x="0" y="68"/>
                </a:moveTo>
                <a:cubicBezTo>
                  <a:pt x="3" y="59"/>
                  <a:pt x="1" y="47"/>
                  <a:pt x="9" y="41"/>
                </a:cubicBezTo>
                <a:cubicBezTo>
                  <a:pt x="66" y="0"/>
                  <a:pt x="182" y="14"/>
                  <a:pt x="240" y="1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44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16360" y="4653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61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4221000"/>
            <a:ext cx="38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МО = 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 =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К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13080" y="1535040"/>
            <a:ext cx="115920" cy="223920"/>
          </a:xfrm>
          <a:custGeom>
            <a:avLst/>
            <a:gdLst/>
            <a:ahLst/>
            <a:rect l="l" t="t" r="r" b="b"/>
            <a:pathLst>
              <a:path w="323" h="622">
                <a:moveTo>
                  <a:pt x="9203" y="4738"/>
                </a:moveTo>
                <a:cubicBezTo>
                  <a:pt x="9214" y="4704"/>
                  <a:pt x="9265" y="4675"/>
                  <a:pt x="9302" y="4638"/>
                </a:cubicBezTo>
                <a:cubicBezTo>
                  <a:pt x="9364" y="4576"/>
                  <a:pt x="9407" y="4517"/>
                  <a:pt x="9451" y="4440"/>
                </a:cubicBezTo>
                <a:cubicBezTo>
                  <a:pt x="9475" y="4397"/>
                  <a:pt x="9520" y="4336"/>
                  <a:pt x="9525" y="4291"/>
                </a:cubicBezTo>
                <a:cubicBezTo>
                  <a:pt x="9530" y="4242"/>
                  <a:pt x="9525" y="4340"/>
                  <a:pt x="9525" y="4390"/>
                </a:cubicBezTo>
                <a:cubicBezTo>
                  <a:pt x="9525" y="4556"/>
                  <a:pt x="9525" y="4721"/>
                  <a:pt x="9525" y="4887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7680" y="1839960"/>
            <a:ext cx="179280" cy="633240"/>
          </a:xfrm>
          <a:custGeom>
            <a:avLst/>
            <a:gdLst/>
            <a:ahLst/>
            <a:rect l="l" t="t" r="r" b="b"/>
            <a:pathLst>
              <a:path w="497" h="1762">
                <a:moveTo>
                  <a:pt x="4936" y="5283"/>
                </a:moveTo>
                <a:cubicBezTo>
                  <a:pt x="4969" y="5240"/>
                  <a:pt x="4971" y="5206"/>
                  <a:pt x="5035" y="5184"/>
                </a:cubicBezTo>
                <a:cubicBezTo>
                  <a:pt x="5060" y="5176"/>
                  <a:pt x="5146" y="5155"/>
                  <a:pt x="5159" y="5135"/>
                </a:cubicBezTo>
                <a:cubicBezTo>
                  <a:pt x="5159" y="5110"/>
                  <a:pt x="5159" y="5102"/>
                  <a:pt x="5184" y="5110"/>
                </a:cubicBezTo>
                <a:cubicBezTo>
                  <a:pt x="5178" y="5140"/>
                  <a:pt x="5173" y="5207"/>
                  <a:pt x="5159" y="5234"/>
                </a:cubicBezTo>
                <a:cubicBezTo>
                  <a:pt x="5142" y="5266"/>
                  <a:pt x="5108" y="5307"/>
                  <a:pt x="5085" y="5333"/>
                </a:cubicBezTo>
                <a:cubicBezTo>
                  <a:pt x="5057" y="5364"/>
                  <a:pt x="5010" y="5400"/>
                  <a:pt x="4986" y="5432"/>
                </a:cubicBezTo>
                <a:cubicBezTo>
                  <a:pt x="4969" y="5454"/>
                  <a:pt x="4971" y="5483"/>
                  <a:pt x="4936" y="5507"/>
                </a:cubicBezTo>
                <a:cubicBezTo>
                  <a:pt x="4896" y="5535"/>
                  <a:pt x="4867" y="5543"/>
                  <a:pt x="4862" y="5581"/>
                </a:cubicBezTo>
                <a:cubicBezTo>
                  <a:pt x="4862" y="5589"/>
                  <a:pt x="4862" y="5598"/>
                  <a:pt x="4862" y="5606"/>
                </a:cubicBezTo>
                <a:cubicBezTo>
                  <a:pt x="4913" y="5596"/>
                  <a:pt x="4929" y="5560"/>
                  <a:pt x="4961" y="5556"/>
                </a:cubicBezTo>
                <a:cubicBezTo>
                  <a:pt x="5007" y="5550"/>
                  <a:pt x="5030" y="5559"/>
                  <a:pt x="5035" y="5606"/>
                </a:cubicBezTo>
                <a:cubicBezTo>
                  <a:pt x="5040" y="5656"/>
                  <a:pt x="5040" y="5712"/>
                  <a:pt x="5011" y="5755"/>
                </a:cubicBezTo>
                <a:cubicBezTo>
                  <a:pt x="4992" y="5784"/>
                  <a:pt x="4973" y="5838"/>
                  <a:pt x="4936" y="5854"/>
                </a:cubicBezTo>
                <a:cubicBezTo>
                  <a:pt x="4901" y="5870"/>
                  <a:pt x="4827" y="5871"/>
                  <a:pt x="4787" y="5879"/>
                </a:cubicBezTo>
              </a:path>
              <a:path w="497" h="1762">
                <a:moveTo>
                  <a:pt x="4787" y="6325"/>
                </a:moveTo>
                <a:cubicBezTo>
                  <a:pt x="4777" y="6377"/>
                  <a:pt x="4746" y="6430"/>
                  <a:pt x="4713" y="6474"/>
                </a:cubicBezTo>
                <a:cubicBezTo>
                  <a:pt x="4680" y="6519"/>
                  <a:pt x="4679" y="6528"/>
                  <a:pt x="4713" y="6573"/>
                </a:cubicBezTo>
                <a:cubicBezTo>
                  <a:pt x="4722" y="6555"/>
                  <a:pt x="4775" y="6483"/>
                  <a:pt x="4812" y="6499"/>
                </a:cubicBezTo>
                <a:cubicBezTo>
                  <a:pt x="4839" y="6511"/>
                  <a:pt x="4897" y="6541"/>
                  <a:pt x="4911" y="6573"/>
                </a:cubicBezTo>
                <a:cubicBezTo>
                  <a:pt x="4911" y="6581"/>
                  <a:pt x="4911" y="6590"/>
                  <a:pt x="4911" y="6598"/>
                </a:cubicBezTo>
              </a:path>
              <a:path w="497" h="1762">
                <a:moveTo>
                  <a:pt x="4936" y="6276"/>
                </a:moveTo>
                <a:cubicBezTo>
                  <a:pt x="4936" y="6474"/>
                  <a:pt x="4936" y="6673"/>
                  <a:pt x="4936" y="6871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03240" y="5037120"/>
            <a:ext cx="339840" cy="98280"/>
          </a:xfrm>
          <a:custGeom>
            <a:avLst/>
            <a:gdLst/>
            <a:ahLst/>
            <a:rect l="l" t="t" r="r" b="b"/>
            <a:pathLst>
              <a:path w="943" h="274">
                <a:moveTo>
                  <a:pt x="5011" y="14263"/>
                </a:moveTo>
                <a:cubicBezTo>
                  <a:pt x="5118" y="14263"/>
                  <a:pt x="5338" y="14301"/>
                  <a:pt x="5432" y="14238"/>
                </a:cubicBezTo>
                <a:cubicBezTo>
                  <a:pt x="5480" y="14206"/>
                  <a:pt x="5495" y="14178"/>
                  <a:pt x="5556" y="14163"/>
                </a:cubicBezTo>
                <a:cubicBezTo>
                  <a:pt x="5597" y="14153"/>
                  <a:pt x="5596" y="14155"/>
                  <a:pt x="5606" y="14114"/>
                </a:cubicBezTo>
                <a:cubicBezTo>
                  <a:pt x="5656" y="14114"/>
                  <a:pt x="5664" y="14103"/>
                  <a:pt x="5705" y="14089"/>
                </a:cubicBezTo>
                <a:cubicBezTo>
                  <a:pt x="5741" y="14077"/>
                  <a:pt x="5770" y="14050"/>
                  <a:pt x="5804" y="14039"/>
                </a:cubicBezTo>
                <a:cubicBezTo>
                  <a:pt x="5851" y="14023"/>
                  <a:pt x="5904" y="14000"/>
                  <a:pt x="5953" y="13990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0800" y="34196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5280" y="9500"/>
                </a:moveTo>
                <a:lnTo>
                  <a:pt x="15280" y="9500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95800" y="2705040"/>
            <a:ext cx="204480" cy="277920"/>
          </a:xfrm>
          <a:custGeom>
            <a:avLst/>
            <a:gdLst/>
            <a:ahLst/>
            <a:rect l="l" t="t" r="r" b="b"/>
            <a:pathLst>
              <a:path w="571" h="770">
                <a:moveTo>
                  <a:pt x="9153" y="7764"/>
                </a:moveTo>
                <a:cubicBezTo>
                  <a:pt x="9153" y="7772"/>
                  <a:pt x="9153" y="7781"/>
                  <a:pt x="9153" y="7789"/>
                </a:cubicBezTo>
                <a:cubicBezTo>
                  <a:pt x="9214" y="7774"/>
                  <a:pt x="9215" y="7738"/>
                  <a:pt x="9252" y="7689"/>
                </a:cubicBezTo>
                <a:cubicBezTo>
                  <a:pt x="9274" y="7661"/>
                  <a:pt x="9313" y="7597"/>
                  <a:pt x="9327" y="7590"/>
                </a:cubicBezTo>
                <a:cubicBezTo>
                  <a:pt x="9356" y="7575"/>
                  <a:pt x="9455" y="7558"/>
                  <a:pt x="9475" y="7541"/>
                </a:cubicBezTo>
                <a:cubicBezTo>
                  <a:pt x="9475" y="7516"/>
                  <a:pt x="9475" y="7508"/>
                  <a:pt x="9500" y="7516"/>
                </a:cubicBezTo>
                <a:cubicBezTo>
                  <a:pt x="9558" y="7573"/>
                  <a:pt x="9550" y="7577"/>
                  <a:pt x="9550" y="7665"/>
                </a:cubicBezTo>
                <a:cubicBezTo>
                  <a:pt x="9550" y="7704"/>
                  <a:pt x="9575" y="7695"/>
                  <a:pt x="9575" y="7764"/>
                </a:cubicBezTo>
                <a:cubicBezTo>
                  <a:pt x="9575" y="7802"/>
                  <a:pt x="9525" y="7922"/>
                  <a:pt x="9500" y="7962"/>
                </a:cubicBezTo>
                <a:cubicBezTo>
                  <a:pt x="9475" y="8003"/>
                  <a:pt x="9457" y="8053"/>
                  <a:pt x="9426" y="8086"/>
                </a:cubicBezTo>
                <a:cubicBezTo>
                  <a:pt x="9393" y="8121"/>
                  <a:pt x="9321" y="8184"/>
                  <a:pt x="9302" y="8210"/>
                </a:cubicBezTo>
                <a:cubicBezTo>
                  <a:pt x="9280" y="8254"/>
                  <a:pt x="9277" y="8266"/>
                  <a:pt x="9252" y="8285"/>
                </a:cubicBezTo>
                <a:cubicBezTo>
                  <a:pt x="9264" y="8250"/>
                  <a:pt x="9325" y="8205"/>
                  <a:pt x="9376" y="8186"/>
                </a:cubicBezTo>
                <a:cubicBezTo>
                  <a:pt x="9412" y="8172"/>
                  <a:pt x="9398" y="8161"/>
                  <a:pt x="9451" y="8161"/>
                </a:cubicBezTo>
                <a:cubicBezTo>
                  <a:pt x="9506" y="8161"/>
                  <a:pt x="9550" y="8175"/>
                  <a:pt x="9575" y="8186"/>
                </a:cubicBezTo>
                <a:cubicBezTo>
                  <a:pt x="9609" y="8201"/>
                  <a:pt x="9685" y="8186"/>
                  <a:pt x="9723" y="818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27320" y="6027840"/>
            <a:ext cx="357480" cy="81000"/>
          </a:xfrm>
          <a:custGeom>
            <a:avLst/>
            <a:gdLst/>
            <a:ahLst/>
            <a:rect l="l" t="t" r="r" b="b"/>
            <a:pathLst>
              <a:path w="993" h="224">
                <a:moveTo>
                  <a:pt x="12179" y="16842"/>
                </a:moveTo>
                <a:cubicBezTo>
                  <a:pt x="12129" y="16842"/>
                  <a:pt x="12080" y="16842"/>
                  <a:pt x="12030" y="16842"/>
                </a:cubicBezTo>
                <a:cubicBezTo>
                  <a:pt x="12017" y="16806"/>
                  <a:pt x="12000" y="16818"/>
                  <a:pt x="11956" y="16818"/>
                </a:cubicBezTo>
                <a:cubicBezTo>
                  <a:pt x="11908" y="16818"/>
                  <a:pt x="11868" y="16817"/>
                  <a:pt x="11832" y="16793"/>
                </a:cubicBezTo>
                <a:cubicBezTo>
                  <a:pt x="11799" y="16771"/>
                  <a:pt x="11773" y="16747"/>
                  <a:pt x="11733" y="16743"/>
                </a:cubicBezTo>
                <a:cubicBezTo>
                  <a:pt x="11686" y="16738"/>
                  <a:pt x="11674" y="16763"/>
                  <a:pt x="11633" y="16768"/>
                </a:cubicBezTo>
                <a:cubicBezTo>
                  <a:pt x="11586" y="16773"/>
                  <a:pt x="11573" y="16780"/>
                  <a:pt x="11534" y="16793"/>
                </a:cubicBezTo>
                <a:cubicBezTo>
                  <a:pt x="11526" y="16793"/>
                  <a:pt x="11517" y="16793"/>
                  <a:pt x="11509" y="16793"/>
                </a:cubicBezTo>
                <a:cubicBezTo>
                  <a:pt x="11476" y="16860"/>
                  <a:pt x="11422" y="16839"/>
                  <a:pt x="11361" y="16867"/>
                </a:cubicBezTo>
                <a:cubicBezTo>
                  <a:pt x="11338" y="16890"/>
                  <a:pt x="11334" y="16898"/>
                  <a:pt x="11311" y="16892"/>
                </a:cubicBezTo>
                <a:cubicBezTo>
                  <a:pt x="11296" y="16953"/>
                  <a:pt x="11284" y="16926"/>
                  <a:pt x="11237" y="16942"/>
                </a:cubicBezTo>
                <a:cubicBezTo>
                  <a:pt x="11220" y="16950"/>
                  <a:pt x="11204" y="16958"/>
                  <a:pt x="11187" y="16966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4000" y="549360"/>
            <a:ext cx="0" cy="30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116000" y="549360"/>
            <a:ext cx="1008000" cy="208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2637000"/>
            <a:ext cx="1008000" cy="93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645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1253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24000" y="1557360"/>
            <a:ext cx="935280" cy="20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4000" y="549360"/>
            <a:ext cx="935280" cy="100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47628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FE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F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9242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76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83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27082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16000" y="4581360"/>
            <a:ext cx="1727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84000" y="4581360"/>
            <a:ext cx="431640" cy="20163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3280" y="4581360"/>
            <a:ext cx="504720" cy="2016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84360" y="4581000"/>
            <a:ext cx="2158920" cy="201636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581360"/>
            <a:ext cx="2232000" cy="201636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50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450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4797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623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40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400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6308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4149720"/>
            <a:ext cx="421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О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16000" y="4581360"/>
            <a:ext cx="17272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47840" y="6680160"/>
            <a:ext cx="54000" cy="79560"/>
          </a:xfrm>
          <a:custGeom>
            <a:avLst/>
            <a:gdLst/>
            <a:ahLst/>
            <a:rect l="l" t="t" r="r" b="b"/>
            <a:pathLst>
              <a:path w="149" h="224">
                <a:moveTo>
                  <a:pt x="3894" y="18628"/>
                </a:moveTo>
                <a:cubicBezTo>
                  <a:pt x="3894" y="18566"/>
                  <a:pt x="3894" y="18725"/>
                  <a:pt x="3894" y="18752"/>
                </a:cubicBezTo>
                <a:cubicBezTo>
                  <a:pt x="3894" y="18760"/>
                  <a:pt x="3894" y="18769"/>
                  <a:pt x="3894" y="18777"/>
                </a:cubicBezTo>
              </a:path>
              <a:path w="149" h="224">
                <a:moveTo>
                  <a:pt x="3770" y="18579"/>
                </a:moveTo>
                <a:cubicBezTo>
                  <a:pt x="3762" y="18571"/>
                  <a:pt x="3754" y="18562"/>
                  <a:pt x="3746" y="18554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84320" y="1812960"/>
            <a:ext cx="9720" cy="1440"/>
          </a:xfrm>
          <a:custGeom>
            <a:avLst/>
            <a:gdLst/>
            <a:ahLst/>
            <a:rect l="l" t="t" r="r" b="b"/>
            <a:pathLst>
              <a:path w="26" h="1">
                <a:moveTo>
                  <a:pt x="8012" y="5035"/>
                </a:moveTo>
                <a:cubicBezTo>
                  <a:pt x="8020" y="5035"/>
                  <a:pt x="8029" y="5035"/>
                  <a:pt x="8037" y="5035"/>
                </a:cubicBez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98880" y="21258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607" y="5904"/>
                </a:moveTo>
                <a:lnTo>
                  <a:pt x="8607" y="5904"/>
                </a:lnTo>
              </a:path>
            </a:pathLst>
          </a:custGeom>
          <a:noFill/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68360" y="14130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ить №:  121,  126,  1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3500280"/>
            <a:ext cx="64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/з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19, вопрос 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№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22 – 12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07:57:38Z</dcterms:created>
  <dc:creator>ёля</dc:creator>
  <dc:description/>
  <dc:language>en-US</dc:language>
  <cp:lastModifiedBy>Пользователь</cp:lastModifiedBy>
  <dcterms:modified xsi:type="dcterms:W3CDTF">2011-01-23T11:52:09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