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334F0-EC28-4BE4-A30A-DA6E318F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AFCC9-FCFF-4BDF-98DD-A5642D20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063E7-EED1-4EA7-A3AF-01A0CD0B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CA6EF-227E-4C6E-963A-1A1CC7C2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74FF-864A-4060-A69D-4127513E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791E-DC67-4EA0-A37F-F2679AB7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4CC7-FEC0-4718-B423-78404330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E7A1-A77F-42CF-8664-2CC72CA9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4FA2-EE59-498E-87AA-D03B8713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226F-774D-4A7E-A416-C9260180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F011-5754-43CE-A45D-6D56ED6A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F24AC-3F8C-484E-968C-7011F457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35B5-2E0E-4790-916E-C3AD55DD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9929-5422-4C76-A978-43FBEAB0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8838-1CE6-4015-B8E9-D01B4D18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10D1-D13E-4126-B5A1-D081A825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E452-361D-4ACF-AB28-1D3EF947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8E4F7-B226-4B94-BF10-4B178D35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9C520-EA1A-4DFA-B5C8-E03DC1EC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6970A-8F30-4511-9A40-FB3A697F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93E42-369B-4842-8019-BDAE71E2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1F7FB-21C9-4C10-B8A3-D2D9E3B5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A733D-6790-4856-ADC9-AC405781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A95BB-1CB7-41E6-B754-ADA9ABA3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34A6-268B-49AB-8034-247EA53E9F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9DC6-5990-4C10-A4BA-AE184B2777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627280" y="18900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Измерение отрез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052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. Какие основные единицы измерения отрезков вам известн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95640" y="177336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мм,  см,  дм,  м,  к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2482920"/>
            <a:ext cx="28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 дополнительные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249228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ветовой год,  морская миля( 1, 852 км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29242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ршин( 0,7112 м), сажень(2,1336 м), косая сажень(2,48 м), локоть (0,45 м), маховая сажень(1,76 м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789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. Как найти длину отрезка, если точка делит его на два отрезка, длины которых известн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47640" y="4653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ложить длины известных отрез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229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. Какими инструментами измеряют расстоя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580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Масштабная линейка, штангенциркуль, руле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32000" y="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Измерение угл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40464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иктор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1125360"/>
            <a:ext cx="896472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. Единица измерения углов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. Положительное число, которое показывает, сколько раз градус и его части укладываются в данном угл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3. 1/180 часть развернутого уг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4. 1/60 часть град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5. 1/60 часть мину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6. Градусная мера развернутого уг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7. Градусная мера прямого уг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8. Градусная мера неразвернутого уг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9. Угол, градусная мера которого меньше 9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0. Угол, градусная мера которого больше 9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но меньше 18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27640" y="1125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(Градус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164360" y="2060640"/>
            <a:ext cx="19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(градусная мер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16360" y="2637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(граду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03640" y="314172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(минут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3640" y="3716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(секунд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64000" y="4292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(180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3280" y="486900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(90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51640" y="537372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(меньше 180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43640" y="58770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(остры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44000" y="6381720"/>
            <a:ext cx="9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ост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71640" y="620640"/>
            <a:ext cx="7416720" cy="136836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вой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32000" y="98100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Garamond"/>
              </a:rPr>
              <a:t>1. Равные углы имеют равные градусные ме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4437000"/>
            <a:ext cx="7417080" cy="180036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0000" y="2421000"/>
            <a:ext cx="7417080" cy="136836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78136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Garamond"/>
              </a:rPr>
              <a:t>2. Меньший угол имеет меньшую градусную ме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472428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Garamond"/>
              </a:rPr>
              <a:t>3. Если луч делит угол на два угла, то градусная мера всего угла равна сумме градусных мер этих угл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95280" y="404640"/>
            <a:ext cx="87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. 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 =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В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А = 5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В =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 = 9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. Каким может являться угол 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333360"/>
            <a:ext cx="718920" cy="574560"/>
          </a:xfrm>
          <a:prstGeom prst="rect">
            <a:avLst/>
          </a:prstGeom>
          <a:solidFill>
            <a:srgbClr val="0033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404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812000" y="1484280"/>
            <a:ext cx="13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остр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11280" y="2349360"/>
            <a:ext cx="3168720" cy="122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11280" y="3357360"/>
            <a:ext cx="3673440" cy="21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3573360"/>
            <a:ext cx="1368360" cy="122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2421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321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342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50920" y="4581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220500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43280" y="2205000"/>
            <a:ext cx="45007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)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ОВ = 86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СОВ = 29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.      Найти угол А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Б)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АОС = 72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ОВ = 37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.      Найти угол А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16360" y="3141720"/>
            <a:ext cx="44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АОС =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АОВ +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СОВ =   =86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 + 29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 = 115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64000" y="5157720"/>
            <a:ext cx="55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АОВ =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АОС -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&lt;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СОВ = 72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 - 37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ffcc00"/>
                </a:solidFill>
                <a:latin typeface="Garamond"/>
              </a:rPr>
              <a:t> = 35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00000" y="26028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 классе : решить устно № 26, 46,  47(б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1413000"/>
            <a:ext cx="6912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/з.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§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4, 5, вопросы 12 – 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№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5, 29, 42, 46, 4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Если задачи не получаются, решить из рабочей тетради № 27, 28, 29, 35, 3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429264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Решить № 27,  3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09:22:10Z</dcterms:created>
  <dc:creator>Пользователь</dc:creator>
  <dc:description/>
  <dc:language>en-US</dc:language>
  <cp:lastModifiedBy>Пользователь</cp:lastModifiedBy>
  <dcterms:modified xsi:type="dcterms:W3CDTF">2010-11-14T10:25:17Z</dcterms:modified>
  <cp:revision>1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