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82DC7-E8AB-428B-90B7-16301457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C4EA3-3FAA-474E-AC42-C8DE2C55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5790F-C44C-495B-A61D-02B830BC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F3F11-458D-4CB0-8577-56C1420B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A84A-E215-4862-B1EF-C339B496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C62E-8796-4252-B3C6-15C34055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82C3-FC12-4289-A378-14D6D8B3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A4DC-C1AA-49C5-AE00-7F6391FB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3684-0A5D-436C-8411-5F3FAD9F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B8B4-BDCE-46EB-894E-C55F5A33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A642-4493-4221-B62A-C2D4A0CB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7BB6F-D5C1-4DAE-82A7-7A5C6AAC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FF58-4CB8-46D9-BFB9-FA5B102C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AFBB-0D20-4924-B4B5-42393AA7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0B30-804D-4A89-A377-64BFD20E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08AF-E8C2-4D29-9030-AC0CD97D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F377-F482-42DB-8D57-482A01DB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CD337-3DF0-4286-A9BE-C472431C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B932A-33CC-4FC6-B900-995097A7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53A51-18ED-49CA-873A-7DA7B514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35DC-762F-43DC-8715-75149D6E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AE347-263C-417B-82D6-0D25111D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60508-518C-474E-9385-2EA9C7E0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1FF04-7E08-4E22-BF83-E5856F02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3BB9-1F02-4688-A878-A4F7345687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CA6C-1A31-407E-8BE7-8E34C6CED4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27280" y="189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Измерение отрез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5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Какие основные единицы измерения отрезков вам извест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177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м,  см,  дм,  м,  к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482920"/>
            <a:ext cx="28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 дополнительны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249228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ветовой год,  морская миля( 1, 852 км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2924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ршин( 0,7112 м), сажень(2,1336 м), косая сажень(2,48 м), локоть (0,45 м), маховая сажень(1,76 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789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 Как найти длину отрезка, если точка делит его на два отрезка, длины которых извест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4653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ложить длины известных отрез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22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 Какими инструментами измеряют расстоя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580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асштабная линейка, штангенциркуль, руле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32000" y="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Измерение уг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04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иктор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125360"/>
            <a:ext cx="896472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. Единица измерения угло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. Положительное число, которое показывает, сколько раз градус и его части укладываются в данном уг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. 1/180 часть развернутого уг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4. 1/60 часть град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5. 1/60 часть мину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6. Градусная мера развернутого уг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7. Градусная мера прямого уг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8. Градусная мера неразвернутого уг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9. Угол, градусная мера которого меньше 9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0. Угол, градусная мера которого больше 9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но меньше 18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112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(Градус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64360" y="2060640"/>
            <a:ext cx="19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(градусная мер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263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(граду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3640" y="3141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(мину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371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(секун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64000" y="4292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180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4869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90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53737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меньше 180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43640" y="5877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(остры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44000" y="6381720"/>
            <a:ext cx="9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ос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71640" y="620640"/>
            <a:ext cx="7416720" cy="13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во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98100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1. Равные углы имеют равные градусные 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4437000"/>
            <a:ext cx="7417080" cy="1800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2421000"/>
            <a:ext cx="7417080" cy="13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781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2. Меньший угол имеет меньшую градусную ме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472428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3. Если луч делит угол на два угла, то градусная мера всего угла равна сумме градусных мер этих уг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404640"/>
            <a:ext cx="87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А = 5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 =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 = 9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. Каким может являться угол 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333360"/>
            <a:ext cx="718920" cy="57456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404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812000" y="1484280"/>
            <a:ext cx="13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остр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11280" y="2349360"/>
            <a:ext cx="316872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11280" y="3357360"/>
            <a:ext cx="367344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3573360"/>
            <a:ext cx="136836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2421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32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4581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2050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2205000"/>
            <a:ext cx="4500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)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ОВ = 86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СОВ = 29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     Найти угол А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Б)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ОС = 7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В = 37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     Найти угол А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3141720"/>
            <a:ext cx="44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АОС =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АОВ +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СОВ =   =86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+ 29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= 115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64000" y="515772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АОВ =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АОС -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СОВ = 72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- 37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= 35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00000" y="26028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 классе : решить устно № 26, 46,  47(б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1413000"/>
            <a:ext cx="6912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/з.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§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4, 5, вопросы 12 – 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5, 29, 42, 46, 4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сли задачи не получаются, решить из рабочей тетради № 27, 28, 29, 35, 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429264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ешить № 27,  3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9:22:10Z</dcterms:created>
  <dc:creator>Пользователь</dc:creator>
  <dc:description/>
  <dc:language>en-US</dc:language>
  <cp:lastModifiedBy>Пользователь</cp:lastModifiedBy>
  <dcterms:modified xsi:type="dcterms:W3CDTF">2010-11-14T10:25:17Z</dcterms:modified>
  <cp:revision>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