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70A4-F86E-443C-9D11-4B053605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DFC7-AD8E-487F-8436-3383F979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A93E-611E-49BB-8CE6-E39D5A1E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57AEB-D55B-45EE-9D7C-58D8483E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B5B1-41DA-469C-9A49-7557A06B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DCCD-9B83-4010-8FE3-017B7790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998C-0EF0-46AD-BC45-CFFE78FF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42E5-12F4-43E4-96C3-F928D97F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647A-A967-4FA8-8D8C-458409A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11AD-758E-4D72-A57C-A235BA37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63BE-2901-4D56-99D2-9270B2CA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4B30-AC12-493C-A067-7F963F4F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BAAA-0F0E-40AB-A8CE-34213402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75BC-CDDF-4BED-AEBE-F294A78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7907-6C14-494E-86A0-DE879489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07CA-C38D-44AF-B710-5E39A04F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4F51-99A9-4538-8E50-6A45A366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8A90-97CB-493D-AB20-9B89466C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994A-8C76-4FBE-8119-7FD0F5B4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F4FA-CBC8-4FAC-B531-47FC813D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CD40-8EA6-47B3-B42B-6E1A2619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7F81-D034-4643-8AE5-8AF2CA9C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11BD-E950-4473-98A6-CF143CB0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4E58-DB42-4D04-80C8-B390AF2B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4238-815C-43E5-B5E8-3E729E20EB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FD3E-EC7C-4D65-ADEF-C9018914C4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rot="931200">
            <a:off x="755280" y="907920"/>
            <a:ext cx="1943280" cy="1800360"/>
          </a:xfrm>
          <a:prstGeom prst="hexagon">
            <a:avLst>
              <a:gd name="adj" fmla="val 26985"/>
              <a:gd name="vf" fmla="val 11547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333360"/>
            <a:ext cx="2519640" cy="2305080"/>
          </a:xfrm>
          <a:prstGeom prst="pentagon">
            <a:avLst/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883800">
            <a:off x="2987280" y="2852640"/>
            <a:ext cx="1943280" cy="1800360"/>
          </a:xfrm>
          <a:prstGeom prst="hexagon">
            <a:avLst>
              <a:gd name="adj" fmla="val 26985"/>
              <a:gd name="vf" fmla="val 115470"/>
            </a:avLst>
          </a:prstGeom>
          <a:solidFill>
            <a:srgbClr val="f373d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931200">
            <a:off x="755280" y="907920"/>
            <a:ext cx="1943280" cy="1800360"/>
          </a:xfrm>
          <a:prstGeom prst="hexagon">
            <a:avLst>
              <a:gd name="adj" fmla="val 26985"/>
              <a:gd name="vf" fmla="val 115470"/>
            </a:avLst>
          </a:prstGeom>
          <a:solidFill>
            <a:srgbClr val="f373d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 -0.12048 L -0.24792 -0.27798 E">
                                      <p:cBhvr>
                                        <p:cTn id="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32000" y="2060640"/>
            <a:ext cx="367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198900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198900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933720"/>
            <a:ext cx="5111640" cy="0"/>
          </a:xfrm>
          <a:prstGeom prst="line">
            <a:avLst/>
          </a:prstGeom>
          <a:ln w="381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997360"/>
            <a:ext cx="367200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925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292572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4869000"/>
            <a:ext cx="143964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55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55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26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78136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1844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В = С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3860640"/>
            <a:ext cx="0" cy="73080"/>
          </a:xfrm>
          <a:prstGeom prst="line">
            <a:avLst/>
          </a:prstGeom>
          <a:ln w="93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3789360"/>
            <a:ext cx="0" cy="144360"/>
          </a:xfrm>
          <a:prstGeom prst="line">
            <a:avLst/>
          </a:prstGeom>
          <a:ln w="93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249228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5002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3645000"/>
            <a:ext cx="4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465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4797360"/>
            <a:ext cx="0" cy="71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797360"/>
            <a:ext cx="0" cy="7164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3141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74746E-006 L 0.02361 -0.12581 E">
                                      <p:cBhvr>
                                        <p:cTn id="20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51064E-007 L 0.02361 -0.13644 E"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532 L 0.02361 -0.14153 E">
                                      <p:cBhvr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 -0.13644 L 2.77778E-006 -2.74746E-006 E">
                                      <p:cBhvr>
                                        <p:cTn id="33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-0.2833 E">
                                      <p:cBhvr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-0.2833 E">
                                      <p:cBhvr>
                                        <p:cTn id="3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18316E-006 L 0.04722 -0.2833 E">
                                      <p:cBhvr>
                                        <p:cTn id="4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3 -0.27289 L -2.77778E-007 -4.81036E-007 E">
                                      <p:cBhvr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726 -0.40911 E">
                                      <p:cBhvr>
                                        <p:cTn id="5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726 -0.40911 E">
                                      <p:cBhvr>
                                        <p:cTn id="57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726 -0.40911 E">
                                      <p:cBhvr>
                                        <p:cTn id="59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08 -0.40911 L 2.77778E-007 3.05273E-006 E">
                                      <p:cBhvr>
                                        <p:cTn id="6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979640" y="2421000"/>
            <a:ext cx="532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2276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2349360"/>
            <a:ext cx="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349360"/>
            <a:ext cx="730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1989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2133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1844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068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К = К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3933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– середина отрезка 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7640" y="227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27664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484360" y="836280"/>
            <a:ext cx="3311640" cy="25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357720"/>
            <a:ext cx="3888000" cy="115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24360" y="189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3068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116000" y="3716280"/>
            <a:ext cx="2303640" cy="17287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445000"/>
            <a:ext cx="2448000" cy="72072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500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5516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587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119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С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Д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10920" y="404640"/>
            <a:ext cx="1081080" cy="936720"/>
          </a:xfrm>
          <a:prstGeom prst="line">
            <a:avLst/>
          </a:prstGeom>
          <a:ln w="381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280" y="781200"/>
            <a:ext cx="3240000" cy="560160"/>
          </a:xfrm>
          <a:prstGeom prst="line">
            <a:avLst/>
          </a:prstGeom>
          <a:ln w="38160">
            <a:solidFill>
              <a:srgbClr val="f373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836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3640" y="2133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РН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0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0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0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0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-0.30412 E">
                                      <p:cBhvr>
                                        <p:cTn id="11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0.29371 E">
                                      <p:cBhvr>
                                        <p:cTn id="12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0.29371 E">
                                      <p:cBhvr>
                                        <p:cTn id="12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-0.01249 L 0.20087 0.27082 E">
                                      <p:cBhvr>
                                        <p:cTn id="12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49 0.29371 E">
                                      <p:cBhvr>
                                        <p:cTn id="12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-0.0229 L 0.2224 0.31013 E">
                                      <p:cBhvr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27280" y="4149720"/>
            <a:ext cx="460872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076720" y="1557360"/>
            <a:ext cx="2159280" cy="345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95640" y="429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80360" y="47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105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572000" y="3212640"/>
            <a:ext cx="2664000" cy="18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2781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5013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ОС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5950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С – биссектриса угла МО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4:13:38Z</dcterms:created>
  <dc:creator>Пользователь</dc:creator>
  <dc:description/>
  <dc:language>en-US</dc:language>
  <cp:lastModifiedBy>Пользователь</cp:lastModifiedBy>
  <dcterms:modified xsi:type="dcterms:W3CDTF">2010-11-10T15:11:55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