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101C-D146-408A-B06A-900FAD58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063F-E3FB-4E18-B372-8FE6D84C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AA61-26CC-4463-901F-3EF997B8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7E9E-6210-4226-B0AB-DDD308D7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DDE2-C088-447B-A4A4-D036416D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15A2-4E8B-4377-9A11-E1A81F2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9A70-FDE8-4137-BDC3-2F99DE32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143F-72FF-483E-9170-E59E27A0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FB5-5D50-4D75-B9BB-28498B30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A244-156A-4B57-9533-5D525AAE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B806-6556-4708-A44C-F5F5188B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9121-5D23-465C-AFDA-117105C9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B512-7514-4F7D-83EF-AD52027D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592C-036E-48BF-9CCE-83E6A1A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3292-F683-4707-998F-8BA6497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9510-5680-43F3-84D7-7C4E5040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1E6-758E-4194-8CC6-E1BDE2DC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FD54-A606-4821-9B3D-632D4B5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9AFC-F830-4CFA-80E7-E8C4AE20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1A9B-9E85-4B48-A55C-ADBB92C0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3279-1D2D-4F7E-9FA8-8A2424C2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C986-C58B-4CA3-8124-55558A69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F346-EEC4-4646-B8A7-EA3A324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800B-6F87-47E4-8F1F-9ABC682F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8C4E-9451-4099-8818-1781481E5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15E-04A6-4F69-8C0C-250D6EA21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rot="931200">
            <a:off x="755280" y="907920"/>
            <a:ext cx="1943280" cy="1800360"/>
          </a:xfrm>
          <a:prstGeom prst="hexagon">
            <a:avLst>
              <a:gd name="adj" fmla="val 26985"/>
              <a:gd name="vf" fmla="val 11547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33360"/>
            <a:ext cx="2519640" cy="2305080"/>
          </a:xfrm>
          <a:prstGeom prst="pentagon">
            <a:avLst/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883800">
            <a:off x="2987280" y="2852640"/>
            <a:ext cx="1943280" cy="1800360"/>
          </a:xfrm>
          <a:prstGeom prst="hexagon">
            <a:avLst>
              <a:gd name="adj" fmla="val 26985"/>
              <a:gd name="vf" fmla="val 115470"/>
            </a:avLst>
          </a:prstGeom>
          <a:solidFill>
            <a:srgbClr val="f373d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931200">
            <a:off x="755280" y="907920"/>
            <a:ext cx="1943280" cy="1800360"/>
          </a:xfrm>
          <a:prstGeom prst="hexagon">
            <a:avLst>
              <a:gd name="adj" fmla="val 26985"/>
              <a:gd name="vf" fmla="val 115470"/>
            </a:avLst>
          </a:prstGeom>
          <a:solidFill>
            <a:srgbClr val="f373d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-0.12048 L -0.24792 -0.27798 E">
                                      <p:cBhvr>
                                        <p:cTn id="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32000" y="2060640"/>
            <a:ext cx="367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98900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198900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933720"/>
            <a:ext cx="5111640" cy="0"/>
          </a:xfrm>
          <a:prstGeom prst="line">
            <a:avLst/>
          </a:prstGeom>
          <a:ln w="381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997360"/>
            <a:ext cx="3672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925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2925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4869000"/>
            <a:ext cx="143964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6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78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1844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 = С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3860640"/>
            <a:ext cx="0" cy="73080"/>
          </a:xfrm>
          <a:prstGeom prst="line">
            <a:avLst/>
          </a:prstGeom>
          <a:ln w="93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3789360"/>
            <a:ext cx="0" cy="144360"/>
          </a:xfrm>
          <a:prstGeom prst="line">
            <a:avLst/>
          </a:prstGeom>
          <a:ln w="93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5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364500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465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4797360"/>
            <a:ext cx="0" cy="7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797360"/>
            <a:ext cx="0" cy="7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3141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4746E-006 L 0.02361 -0.12581 E">
                                      <p:cBhvr>
                                        <p:cTn id="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51064E-007 L 0.02361 -0.13644 E"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532 L 0.02361 -0.14153 E">
                                      <p:cBhvr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13644 L 2.77778E-006 -2.74746E-006 E">
                                      <p:cBhvr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-0.2833 E">
                                      <p:cBhvr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-0.2833 E">
                                      <p:cBhvr>
                                        <p:cTn id="3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18316E-006 L 0.04722 -0.2833 E">
                                      <p:cBhvr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3 -0.27289 L -2.77778E-007 -4.81036E-007 E">
                                      <p:cBhvr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26 -0.40911 E">
                                      <p:cBhvr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26 -0.40911 E">
                                      <p:cBhvr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26 -0.40911 E">
                                      <p:cBhvr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8 -0.40911 L 2.77778E-007 3.05273E-006 E">
                                      <p:cBhvr>
                                        <p:cTn id="6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79640" y="2421000"/>
            <a:ext cx="532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2276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234936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34936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198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1844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068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К = К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3933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– середина отрезка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484360" y="836280"/>
            <a:ext cx="3311640" cy="25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357720"/>
            <a:ext cx="3888000" cy="115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18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06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16000" y="3716280"/>
            <a:ext cx="2303640" cy="17287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445000"/>
            <a:ext cx="2448000" cy="7207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5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551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87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119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Д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10920" y="404640"/>
            <a:ext cx="1081080" cy="936720"/>
          </a:xfrm>
          <a:prstGeom prst="line">
            <a:avLst/>
          </a:prstGeom>
          <a:ln w="381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781200"/>
            <a:ext cx="3240000" cy="560160"/>
          </a:xfrm>
          <a:prstGeom prst="line">
            <a:avLst/>
          </a:prstGeom>
          <a:ln w="381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3640" y="2133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РН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1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0.29371 E">
                                      <p:cBhvr>
                                        <p:cTn id="12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0.29371 E">
                                      <p:cBhvr>
                                        <p:cTn id="12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1249 L 0.20087 0.27082 E">
                                      <p:cBhvr>
                                        <p:cTn id="12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0.29371 E">
                                      <p:cBhvr>
                                        <p:cTn id="12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0229 L 0.2224 0.31013 E">
                                      <p:cBhvr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27280" y="4149720"/>
            <a:ext cx="460872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076720" y="1557360"/>
            <a:ext cx="2159280" cy="345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429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80360" y="47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10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572000" y="3212640"/>
            <a:ext cx="2664000" cy="18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27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013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5950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 – биссектриса угла М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4:13:38Z</dcterms:created>
  <dc:creator>Пользователь</dc:creator>
  <dc:description/>
  <dc:language>en-US</dc:language>
  <cp:lastModifiedBy>Пользователь</cp:lastModifiedBy>
  <dcterms:modified xsi:type="dcterms:W3CDTF">2010-11-10T15:11:55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