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856C5-471D-43D7-9E7D-7A53F37D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6E14D-005F-4EC0-A69D-6833DB70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8B984-ADAC-4498-A2DC-13FF773F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89661-7111-4654-BA92-0650F83E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4164-334F-45DF-9092-A49F483B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5662-FAF2-4E9B-A019-6C3063B7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3FC6-5C51-4B6E-B5A4-1D8CACC0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D4C6-F7C4-4D45-A2B2-D3867FF7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95FA-85D9-4BC4-BC36-A0A22A26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91F0-2CF6-44E5-AE67-9AB36DE0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8319-3270-4747-84C1-283319C9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2E7D4-CB2F-4C70-8217-8200028B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1C99-8838-49BA-B37A-16DC96F6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8C57-4147-4345-B5B8-08396A0E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AEF6-CC43-47D6-AEC2-D9BC3585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DD03-F30A-45DA-9EAD-DBF8F746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454D-8B01-4740-BA71-1474D73E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68F6A-3EDB-4562-8941-25C25151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CA2D8-DF7D-4F54-B4BF-D3CE1698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5095D-1AB5-4C87-962A-9DFA132B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E0D10-EBDE-4391-BA54-C8899D73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C49D6-28D6-4A7D-AAAC-8748A883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4F825-B715-4027-B09F-939C7B9F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9AFF1-BD85-4CE2-9495-2F63AEED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B131-14D5-43D9-AD78-3442E94C7B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74C0-6A8A-4980-8A8A-E6C959E3FF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50920" y="0"/>
            <a:ext cx="60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ешение задач по готовым чертеж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76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916280"/>
            <a:ext cx="25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050920" y="765000"/>
            <a:ext cx="1800360" cy="115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1280" y="765000"/>
            <a:ext cx="792000" cy="115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0920" y="1916280"/>
            <a:ext cx="1873440" cy="10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924360" y="1915920"/>
            <a:ext cx="718920" cy="10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7640" y="14842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95640" y="47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17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2924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84360" y="1557360"/>
            <a:ext cx="252360" cy="358920"/>
          </a:xfrm>
          <a:custGeom>
            <a:avLst/>
            <a:gdLst/>
            <a:ahLst/>
            <a:rect l="l" t="t" r="r" b="b"/>
            <a:pathLst>
              <a:path w="159" h="226">
                <a:moveTo>
                  <a:pt x="0" y="0"/>
                </a:moveTo>
                <a:cubicBezTo>
                  <a:pt x="56" y="26"/>
                  <a:pt x="113" y="53"/>
                  <a:pt x="136" y="90"/>
                </a:cubicBezTo>
                <a:cubicBezTo>
                  <a:pt x="159" y="127"/>
                  <a:pt x="136" y="203"/>
                  <a:pt x="136" y="22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1916280"/>
            <a:ext cx="154080" cy="360360"/>
          </a:xfrm>
          <a:custGeom>
            <a:avLst/>
            <a:gdLst/>
            <a:ahLst/>
            <a:rect l="l" t="t" r="r" b="b"/>
            <a:pathLst>
              <a:path w="97" h="227">
                <a:moveTo>
                  <a:pt x="0" y="0"/>
                </a:moveTo>
                <a:cubicBezTo>
                  <a:pt x="41" y="49"/>
                  <a:pt x="83" y="99"/>
                  <a:pt x="90" y="137"/>
                </a:cubicBezTo>
                <a:cubicBezTo>
                  <a:pt x="97" y="175"/>
                  <a:pt x="52" y="212"/>
                  <a:pt x="45" y="22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1640" y="148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87640" y="2060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907920"/>
            <a:ext cx="3816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ано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, АД = АВ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СВ = 58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С = 102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ДС = 8 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йти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ДС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СД, В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3860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653000"/>
            <a:ext cx="2808360" cy="1152360"/>
          </a:xfrm>
          <a:prstGeom prst="parallelogram">
            <a:avLst>
              <a:gd name="adj" fmla="val 60926"/>
            </a:avLst>
          </a:prstGeom>
          <a:solidFill>
            <a:srgbClr val="00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187280" y="4652640"/>
            <a:ext cx="2808360" cy="115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458136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00360" y="458136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57340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573408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47640" y="422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58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764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537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4653000"/>
            <a:ext cx="72720" cy="216000"/>
          </a:xfrm>
          <a:custGeom>
            <a:avLst/>
            <a:gdLst/>
            <a:ahLst/>
            <a:rect l="l" t="t" r="r" b="b"/>
            <a:pathLst>
              <a:path w="46" h="136">
                <a:moveTo>
                  <a:pt x="0" y="0"/>
                </a:moveTo>
                <a:cubicBezTo>
                  <a:pt x="19" y="56"/>
                  <a:pt x="38" y="113"/>
                  <a:pt x="46" y="1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63640" y="5589720"/>
            <a:ext cx="71640" cy="215640"/>
          </a:xfrm>
          <a:custGeom>
            <a:avLst/>
            <a:gdLst/>
            <a:ahLst/>
            <a:rect l="l" t="t" r="r" b="b"/>
            <a:pathLst>
              <a:path w="45" h="136">
                <a:moveTo>
                  <a:pt x="0" y="0"/>
                </a:moveTo>
                <a:cubicBezTo>
                  <a:pt x="19" y="56"/>
                  <a:pt x="38" y="113"/>
                  <a:pt x="45" y="1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27640" y="4508640"/>
            <a:ext cx="468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ано: ВС = АД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СД= = 42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ДС = 108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СД = 6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йти: АВ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АВ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08000" y="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ервый признак равенства треуголь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1052640"/>
            <a:ext cx="0" cy="237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11280" y="1557360"/>
            <a:ext cx="100800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19280" y="1557360"/>
            <a:ext cx="93672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2060640"/>
            <a:ext cx="1008000" cy="1368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619280" y="1989000"/>
            <a:ext cx="936720" cy="1440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58920" y="112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1125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5892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177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56000" y="184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76360" y="3429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765000"/>
            <a:ext cx="4897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ано: АВ =ВС ,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казать: ДВ- биссектриса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Д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59280" y="4292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№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9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333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620640"/>
            <a:ext cx="1224000" cy="187164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549360"/>
            <a:ext cx="1079280" cy="19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68360" y="249228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84360" y="620640"/>
            <a:ext cx="1008000" cy="187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249228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24922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78920" y="249228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47640" y="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49228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56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2492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0920" y="2492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256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2133720"/>
            <a:ext cx="358560" cy="358560"/>
          </a:xfrm>
          <a:custGeom>
            <a:avLst/>
            <a:gdLst/>
            <a:ahLst/>
            <a:rect l="l" t="t" r="r" b="b"/>
            <a:pathLst>
              <a:path w="226" h="226">
                <a:moveTo>
                  <a:pt x="0" y="226"/>
                </a:moveTo>
                <a:cubicBezTo>
                  <a:pt x="3" y="154"/>
                  <a:pt x="7" y="83"/>
                  <a:pt x="45" y="45"/>
                </a:cubicBezTo>
                <a:cubicBezTo>
                  <a:pt x="83" y="7"/>
                  <a:pt x="196" y="7"/>
                  <a:pt x="226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27280" y="2205000"/>
            <a:ext cx="432000" cy="287280"/>
          </a:xfrm>
          <a:custGeom>
            <a:avLst/>
            <a:gdLst/>
            <a:ahLst/>
            <a:rect l="l" t="t" r="r" b="b"/>
            <a:pathLst>
              <a:path w="272" h="181">
                <a:moveTo>
                  <a:pt x="0" y="0"/>
                </a:moveTo>
                <a:cubicBezTo>
                  <a:pt x="68" y="7"/>
                  <a:pt x="137" y="15"/>
                  <a:pt x="182" y="45"/>
                </a:cubicBezTo>
                <a:cubicBezTo>
                  <a:pt x="227" y="75"/>
                  <a:pt x="257" y="158"/>
                  <a:pt x="272" y="18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476280"/>
            <a:ext cx="504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ано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М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СД, ВМ = СМ, ВК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КМ = 11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казать: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МК =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йти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казательство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429000"/>
            <a:ext cx="9396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М +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ВМ = 18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(смежные)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ВМ = 18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СМ +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М = 18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(смежные)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М = 18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СМ. А т.к.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М=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СМ( по усл.), то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ВМ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МК =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МК, т.к. ВК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( по усл.), ВМ = СМ(по усл.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ВМ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С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( 1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зн.)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КМ = 11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6360" y="3645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59280" y="414972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35280" y="551664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987640" y="1916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/з . № 97, 98, 9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95280" y="260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76360" y="2276640"/>
            <a:ext cx="86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476360" y="764640"/>
            <a:ext cx="503280" cy="151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1979280" y="764640"/>
            <a:ext cx="360360" cy="151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40000" y="227664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971640" y="2276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971640" y="765000"/>
            <a:ext cx="1008000" cy="151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765000"/>
            <a:ext cx="792000" cy="151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18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16360" y="20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3200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234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333360"/>
            <a:ext cx="4968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ано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ДС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ЕА, АД = ЕС, ВД = ВЕ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СЕ = 64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казать: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Д =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йти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А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1989000"/>
            <a:ext cx="216000" cy="28764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34" y="30"/>
                  <a:pt x="68" y="61"/>
                  <a:pt x="91" y="91"/>
                </a:cubicBezTo>
                <a:cubicBezTo>
                  <a:pt x="114" y="121"/>
                  <a:pt x="129" y="166"/>
                  <a:pt x="136" y="18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1916280"/>
            <a:ext cx="217440" cy="360360"/>
          </a:xfrm>
          <a:custGeom>
            <a:avLst/>
            <a:gdLst/>
            <a:ahLst/>
            <a:rect l="l" t="t" r="r" b="b"/>
            <a:pathLst>
              <a:path w="137" h="227">
                <a:moveTo>
                  <a:pt x="137" y="0"/>
                </a:moveTo>
                <a:cubicBezTo>
                  <a:pt x="103" y="26"/>
                  <a:pt x="69" y="53"/>
                  <a:pt x="46" y="91"/>
                </a:cubicBezTo>
                <a:cubicBezTo>
                  <a:pt x="23" y="129"/>
                  <a:pt x="8" y="204"/>
                  <a:pt x="0" y="22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42920" y="213372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0" y="0"/>
                </a:moveTo>
                <a:cubicBezTo>
                  <a:pt x="19" y="15"/>
                  <a:pt x="38" y="30"/>
                  <a:pt x="46" y="4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56000" y="2133720"/>
            <a:ext cx="144360" cy="71280"/>
          </a:xfrm>
          <a:custGeom>
            <a:avLst/>
            <a:gdLst/>
            <a:ahLst/>
            <a:rect l="l" t="t" r="r" b="b"/>
            <a:pathLst>
              <a:path w="91" h="45">
                <a:moveTo>
                  <a:pt x="91" y="0"/>
                </a:moveTo>
                <a:cubicBezTo>
                  <a:pt x="53" y="15"/>
                  <a:pt x="15" y="30"/>
                  <a:pt x="0" y="4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4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4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5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5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7000"/>
                            </p:stCondLst>
                            <p:childTnLst>
                              <p:par>
                                <p:cTn id="6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6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7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9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0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627280" y="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амостоятельная раб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54936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1268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вари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2060640"/>
            <a:ext cx="71280" cy="172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39280" y="2060640"/>
            <a:ext cx="576360" cy="57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2637000"/>
            <a:ext cx="718920" cy="115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187280" y="2636640"/>
            <a:ext cx="576360" cy="115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2060640"/>
            <a:ext cx="647640" cy="57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2276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20500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155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22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42920" y="3860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6920" y="2205000"/>
            <a:ext cx="730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332000" y="2133720"/>
            <a:ext cx="7128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2276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35280" y="1844640"/>
            <a:ext cx="237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к-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Д =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В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11640" y="126828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 вари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56000" y="2060640"/>
            <a:ext cx="1511280" cy="72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27640" y="3645000"/>
            <a:ext cx="1512720" cy="57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427280" y="2060640"/>
            <a:ext cx="1439640" cy="158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2781360"/>
            <a:ext cx="1584360" cy="1439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84720" y="220500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76720" y="2924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0000" y="162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5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6000" y="4076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940360" y="2133720"/>
            <a:ext cx="3203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О=СО, ВО= Д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к-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ОВ =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47640" y="429264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4581360"/>
            <a:ext cx="0" cy="1845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4581360"/>
            <a:ext cx="2448000" cy="57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68360" y="5733720"/>
            <a:ext cx="2448000" cy="69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5589720"/>
            <a:ext cx="244800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39640" y="5157720"/>
            <a:ext cx="244800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8360" y="414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6381720"/>
            <a:ext cx="0" cy="47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4076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530064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640080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43280" y="4869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00360" y="580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414972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645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4941720"/>
            <a:ext cx="550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 = СД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, Е – середина АС, ВЕ = 10 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йти: 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0:57:52Z</dcterms:created>
  <dc:creator>Ёля</dc:creator>
  <dc:description/>
  <dc:language>en-US</dc:language>
  <cp:lastModifiedBy>Пользователь</cp:lastModifiedBy>
  <dcterms:modified xsi:type="dcterms:W3CDTF">2010-12-17T14:13:29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