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94985-CB0F-49A2-B52E-76377FDF1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EE6BE-120A-4B13-A5A4-6A76FC80B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CAB32-9EB9-4DB7-8DD0-2FEE24FF0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53D2B-BEDB-457E-9ADE-F7D6B5543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BF5F9-0FC6-462E-B489-20A7AFBB2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D70C8-FC63-48D3-852E-1A5405308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9BEF6-0D20-464E-9861-4A50170C9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F205B-F530-45F2-A7E7-ED3DBDB22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B9189-3583-4979-A35F-ADA1D2F9D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5CF51-AA98-4736-B210-3F3852D0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0943B-51CC-4992-B454-A4D0119C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87B6F-EB7E-462A-9C42-1C177CC9F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05077-8BAD-4BDB-A7E4-A4D461EA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B7D8F-A18F-4881-BE3D-2B090FF6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7369D-10BA-404E-B789-E8CA3861A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65CAE-2F17-41A8-9F26-FC9958DD9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DCFE8-AB1E-4A31-B9EA-1A864BB25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004FE-9F18-4FDD-A56A-FFC5F443D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618FB-3BDF-49F8-B365-C9381ACE0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D6256-4C99-4642-A817-24CF17368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51879-967A-40BD-9C9B-2067A2484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38A08-4861-4A57-A902-51C9CA8B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44D18-90EB-4C10-B055-08D213B5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B5C6E-D2CE-433C-92C2-54E648DE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56C0C-2557-4269-9287-EDC54C7CFF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3083B-2E11-404E-B0A3-D046EFD400B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050920" y="0"/>
            <a:ext cx="605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Решение задач по готовым чертеж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00000" y="76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916280"/>
            <a:ext cx="2592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050920" y="765000"/>
            <a:ext cx="1800360" cy="1151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51280" y="765000"/>
            <a:ext cx="792000" cy="1151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0920" y="1916280"/>
            <a:ext cx="1873440" cy="1081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924360" y="1915920"/>
            <a:ext cx="718920" cy="1081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47640" y="148428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95640" y="476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16360" y="1700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95640" y="292428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484360" y="1557360"/>
            <a:ext cx="252360" cy="358920"/>
          </a:xfrm>
          <a:custGeom>
            <a:avLst/>
            <a:gdLst/>
            <a:ahLst/>
            <a:rect l="l" t="t" r="r" b="b"/>
            <a:pathLst>
              <a:path w="159" h="226">
                <a:moveTo>
                  <a:pt x="0" y="0"/>
                </a:moveTo>
                <a:cubicBezTo>
                  <a:pt x="56" y="26"/>
                  <a:pt x="113" y="53"/>
                  <a:pt x="136" y="90"/>
                </a:cubicBezTo>
                <a:cubicBezTo>
                  <a:pt x="159" y="127"/>
                  <a:pt x="136" y="203"/>
                  <a:pt x="136" y="22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00360" y="1916280"/>
            <a:ext cx="154080" cy="360360"/>
          </a:xfrm>
          <a:custGeom>
            <a:avLst/>
            <a:gdLst/>
            <a:ahLst/>
            <a:rect l="l" t="t" r="r" b="b"/>
            <a:pathLst>
              <a:path w="97" h="227">
                <a:moveTo>
                  <a:pt x="0" y="0"/>
                </a:moveTo>
                <a:cubicBezTo>
                  <a:pt x="41" y="49"/>
                  <a:pt x="83" y="99"/>
                  <a:pt x="90" y="137"/>
                </a:cubicBezTo>
                <a:cubicBezTo>
                  <a:pt x="97" y="175"/>
                  <a:pt x="52" y="212"/>
                  <a:pt x="45" y="227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71640" y="1484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987640" y="206064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92720" y="907920"/>
            <a:ext cx="38163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ано: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1 =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2, АД = АВ,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СВ = 58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°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ВС = 102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°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, ДС = 8 с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айти: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ДС,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СД, В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4360" y="386064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2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87280" y="4653000"/>
            <a:ext cx="2808360" cy="1152360"/>
          </a:xfrm>
          <a:prstGeom prst="parallelogram">
            <a:avLst>
              <a:gd name="adj" fmla="val 60926"/>
            </a:avLst>
          </a:prstGeom>
          <a:solidFill>
            <a:srgbClr val="003399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1187280" y="4652640"/>
            <a:ext cx="2808360" cy="1152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56000" y="458136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00360" y="458136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95640" y="573408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68360" y="573408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5516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47640" y="4221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51280" y="4221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76720" y="5805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987640" y="4581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08000" y="5373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19640" y="4653000"/>
            <a:ext cx="72720" cy="216000"/>
          </a:xfrm>
          <a:custGeom>
            <a:avLst/>
            <a:gdLst/>
            <a:ahLst/>
            <a:rect l="l" t="t" r="r" b="b"/>
            <a:pathLst>
              <a:path w="46" h="136">
                <a:moveTo>
                  <a:pt x="0" y="0"/>
                </a:moveTo>
                <a:cubicBezTo>
                  <a:pt x="19" y="56"/>
                  <a:pt x="38" y="113"/>
                  <a:pt x="46" y="13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63640" y="5589720"/>
            <a:ext cx="71640" cy="215640"/>
          </a:xfrm>
          <a:custGeom>
            <a:avLst/>
            <a:gdLst/>
            <a:ahLst/>
            <a:rect l="l" t="t" r="r" b="b"/>
            <a:pathLst>
              <a:path w="45" h="136">
                <a:moveTo>
                  <a:pt x="0" y="0"/>
                </a:moveTo>
                <a:cubicBezTo>
                  <a:pt x="19" y="56"/>
                  <a:pt x="38" y="113"/>
                  <a:pt x="45" y="13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427640" y="4508640"/>
            <a:ext cx="4681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ано: ВС = АД,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1 =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2,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СД= = 42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°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ДС = 108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°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, СД = 6с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айти: АВ,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АВ,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В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908000" y="0"/>
            <a:ext cx="69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Первый признак равенства треугольни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19280" y="1052640"/>
            <a:ext cx="0" cy="2376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611280" y="1557360"/>
            <a:ext cx="1008000" cy="503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19280" y="1557360"/>
            <a:ext cx="936720" cy="503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1280" y="2060640"/>
            <a:ext cx="1008000" cy="1368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1619280" y="1989000"/>
            <a:ext cx="936720" cy="1440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58920" y="1125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92360" y="112536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258920" y="1628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1773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56000" y="1844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76360" y="3429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19640" y="765000"/>
            <a:ext cx="4897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ано: АВ =ВС ,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1 =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оказать: ДВ- биссектриса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Д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59280" y="429264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№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9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68360" y="33336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16000" y="620640"/>
            <a:ext cx="1224000" cy="1871640"/>
          </a:xfrm>
          <a:prstGeom prst="triangle">
            <a:avLst>
              <a:gd name="adj" fmla="val 50000"/>
            </a:avLst>
          </a:prstGeom>
          <a:solidFill>
            <a:srgbClr val="003399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92360" y="549360"/>
            <a:ext cx="1079280" cy="1942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68360" y="2492280"/>
            <a:ext cx="50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684360" y="620640"/>
            <a:ext cx="1008000" cy="187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4360" y="249228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700360" y="249228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78920" y="2492280"/>
            <a:ext cx="505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47640" y="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2492280"/>
            <a:ext cx="3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565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71640" y="2492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050920" y="249228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56000" y="2565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2133720"/>
            <a:ext cx="358560" cy="358560"/>
          </a:xfrm>
          <a:custGeom>
            <a:avLst/>
            <a:gdLst/>
            <a:ahLst/>
            <a:rect l="l" t="t" r="r" b="b"/>
            <a:pathLst>
              <a:path w="226" h="226">
                <a:moveTo>
                  <a:pt x="0" y="226"/>
                </a:moveTo>
                <a:cubicBezTo>
                  <a:pt x="3" y="154"/>
                  <a:pt x="7" y="83"/>
                  <a:pt x="45" y="45"/>
                </a:cubicBezTo>
                <a:cubicBezTo>
                  <a:pt x="83" y="7"/>
                  <a:pt x="196" y="7"/>
                  <a:pt x="226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627280" y="2205000"/>
            <a:ext cx="432000" cy="287280"/>
          </a:xfrm>
          <a:custGeom>
            <a:avLst/>
            <a:gdLst/>
            <a:ahLst/>
            <a:rect l="l" t="t" r="r" b="b"/>
            <a:pathLst>
              <a:path w="272" h="181">
                <a:moveTo>
                  <a:pt x="0" y="0"/>
                </a:moveTo>
                <a:cubicBezTo>
                  <a:pt x="68" y="7"/>
                  <a:pt x="137" y="15"/>
                  <a:pt x="182" y="45"/>
                </a:cubicBezTo>
                <a:cubicBezTo>
                  <a:pt x="227" y="75"/>
                  <a:pt x="257" y="158"/>
                  <a:pt x="272" y="181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40360" y="476280"/>
            <a:ext cx="5040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ано: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ВМ =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МСД, ВМ = СМ, ВК =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,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КМ = 110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оказать: </a:t>
            </a:r>
            <a:r>
              <a:rPr b="1" lang="el-GR" sz="2400" spc="-1" strike="noStrike">
                <a:solidFill>
                  <a:srgbClr val="ffffff"/>
                </a:solidFill>
                <a:latin typeface="Garamond"/>
              </a:rPr>
              <a:t>Δ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МК = </a:t>
            </a:r>
            <a:r>
              <a:rPr b="1" lang="el-GR" sz="2400" spc="-1" strike="noStrike">
                <a:solidFill>
                  <a:srgbClr val="ffffff"/>
                </a:solidFill>
                <a:latin typeface="Garamond"/>
              </a:rPr>
              <a:t>Δ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М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айти: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М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оказательство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3429000"/>
            <a:ext cx="93963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ВМ +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КВМ = 180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°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,(смежные)   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КВМ = 180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°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В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СМ +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L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М = 180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°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(смежные)      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L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М = 180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°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СМ. А т.к.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ВМ=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СМ( по усл.), то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КВМ =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L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l-GR" sz="2400" spc="-1" strike="noStrike">
                <a:solidFill>
                  <a:srgbClr val="ffffff"/>
                </a:solidFill>
                <a:latin typeface="Garamond"/>
              </a:rPr>
              <a:t>Δ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МК = </a:t>
            </a:r>
            <a:r>
              <a:rPr b="1" lang="el-GR" sz="2400" spc="-1" strike="noStrike">
                <a:solidFill>
                  <a:srgbClr val="ffffff"/>
                </a:solidFill>
                <a:latin typeface="Garamond"/>
              </a:rPr>
              <a:t>Δ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МК, т.к. ВК =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( по усл.), ВМ = СМ(по усл.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КВМ=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МС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L( 1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ризн.)    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М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 =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КМ = 110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°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16360" y="364500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859280" y="414972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635280" y="5516640"/>
            <a:ext cx="360360" cy="288720"/>
          </a:xfrm>
          <a:prstGeom prst="rightArrow">
            <a:avLst>
              <a:gd name="adj1" fmla="val 50000"/>
              <a:gd name="adj2" fmla="val 31203"/>
            </a:avLst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987640" y="19162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Д/з . № 97, 98, 99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95280" y="260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476360" y="2276640"/>
            <a:ext cx="863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476360" y="764640"/>
            <a:ext cx="503280" cy="151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1979280" y="764640"/>
            <a:ext cx="360360" cy="151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340000" y="227664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971640" y="227664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971640" y="765000"/>
            <a:ext cx="1008000" cy="151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79640" y="765000"/>
            <a:ext cx="792000" cy="151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63640" y="189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9640" y="2060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16360" y="2060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332000" y="2276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95640" y="2349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24360" y="333360"/>
            <a:ext cx="49687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ано: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ДС =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ЕА, АД = ЕС, ВД = ВЕ,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СЕ = 64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°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оказать: </a:t>
            </a:r>
            <a:r>
              <a:rPr b="1" lang="el-GR" sz="2400" spc="-1" strike="noStrike">
                <a:solidFill>
                  <a:srgbClr val="ffffff"/>
                </a:solidFill>
                <a:latin typeface="Garamond"/>
              </a:rPr>
              <a:t>Δ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ВД = </a:t>
            </a:r>
            <a:r>
              <a:rPr b="1" lang="el-GR" sz="2400" spc="-1" strike="noStrike">
                <a:solidFill>
                  <a:srgbClr val="ffffff"/>
                </a:solidFill>
                <a:latin typeface="Garamond"/>
              </a:rPr>
              <a:t>Δ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В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айти: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А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47640" y="1989000"/>
            <a:ext cx="216000" cy="287640"/>
          </a:xfrm>
          <a:custGeom>
            <a:avLst/>
            <a:gdLst/>
            <a:ahLst/>
            <a:rect l="l" t="t" r="r" b="b"/>
            <a:pathLst>
              <a:path w="136" h="181">
                <a:moveTo>
                  <a:pt x="0" y="0"/>
                </a:moveTo>
                <a:cubicBezTo>
                  <a:pt x="34" y="30"/>
                  <a:pt x="68" y="61"/>
                  <a:pt x="91" y="91"/>
                </a:cubicBezTo>
                <a:cubicBezTo>
                  <a:pt x="114" y="121"/>
                  <a:pt x="129" y="166"/>
                  <a:pt x="136" y="181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050920" y="1916280"/>
            <a:ext cx="217440" cy="360360"/>
          </a:xfrm>
          <a:custGeom>
            <a:avLst/>
            <a:gdLst/>
            <a:ahLst/>
            <a:rect l="l" t="t" r="r" b="b"/>
            <a:pathLst>
              <a:path w="137" h="227">
                <a:moveTo>
                  <a:pt x="137" y="0"/>
                </a:moveTo>
                <a:cubicBezTo>
                  <a:pt x="103" y="26"/>
                  <a:pt x="69" y="53"/>
                  <a:pt x="46" y="91"/>
                </a:cubicBezTo>
                <a:cubicBezTo>
                  <a:pt x="23" y="129"/>
                  <a:pt x="8" y="204"/>
                  <a:pt x="0" y="227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42920" y="2133720"/>
            <a:ext cx="73080" cy="71280"/>
          </a:xfrm>
          <a:custGeom>
            <a:avLst/>
            <a:gdLst/>
            <a:ahLst/>
            <a:rect l="l" t="t" r="r" b="b"/>
            <a:pathLst>
              <a:path w="46" h="45">
                <a:moveTo>
                  <a:pt x="0" y="0"/>
                </a:moveTo>
                <a:cubicBezTo>
                  <a:pt x="19" y="15"/>
                  <a:pt x="38" y="30"/>
                  <a:pt x="46" y="45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56000" y="2133720"/>
            <a:ext cx="144360" cy="71280"/>
          </a:xfrm>
          <a:custGeom>
            <a:avLst/>
            <a:gdLst/>
            <a:ahLst/>
            <a:rect l="l" t="t" r="r" b="b"/>
            <a:pathLst>
              <a:path w="91" h="45">
                <a:moveTo>
                  <a:pt x="91" y="0"/>
                </a:moveTo>
                <a:cubicBezTo>
                  <a:pt x="53" y="15"/>
                  <a:pt x="15" y="30"/>
                  <a:pt x="0" y="45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39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6000"/>
                            </p:stCondLst>
                            <p:childTnLst>
                              <p:par>
                                <p:cTn id="41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43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8000"/>
                            </p:stCondLst>
                            <p:childTnLst>
                              <p:par>
                                <p:cTn id="45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47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51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4000"/>
                            </p:stCondLst>
                            <p:childTnLst>
                              <p:par>
                                <p:cTn id="56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58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6000"/>
                            </p:stCondLst>
                            <p:childTnLst>
                              <p:par>
                                <p:cTn id="6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7000"/>
                            </p:stCondLst>
                            <p:childTnLst>
                              <p:par>
                                <p:cTn id="6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8000"/>
                            </p:stCondLst>
                            <p:childTnLst>
                              <p:par>
                                <p:cTn id="66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6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7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7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7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90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03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143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627280" y="0"/>
            <a:ext cx="59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Самостоятельная рабо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9280" y="54936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 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50920" y="126828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 вариан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16000" y="2060640"/>
            <a:ext cx="71280" cy="1728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539280" y="2060640"/>
            <a:ext cx="576360" cy="576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68360" y="2637000"/>
            <a:ext cx="718920" cy="1152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1187280" y="2636640"/>
            <a:ext cx="576360" cy="1152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16000" y="2060640"/>
            <a:ext cx="647640" cy="576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187280" y="227664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2205000"/>
            <a:ext cx="6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71640" y="1557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19280" y="2276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42920" y="386064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26920" y="2205000"/>
            <a:ext cx="7308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332000" y="2133720"/>
            <a:ext cx="7128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55640" y="2276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835280" y="1844640"/>
            <a:ext cx="2376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1 =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ок-т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ff"/>
                </a:solidFill>
                <a:latin typeface="Garamond"/>
              </a:rPr>
              <a:t>Δ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ВД = </a:t>
            </a:r>
            <a:r>
              <a:rPr b="1" lang="el-GR" sz="2400" spc="-1" strike="noStrike">
                <a:solidFill>
                  <a:srgbClr val="ffffff"/>
                </a:solidFill>
                <a:latin typeface="Garamond"/>
              </a:rPr>
              <a:t>Δ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В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211640" y="1268280"/>
            <a:ext cx="53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2 вариан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356000" y="2060640"/>
            <a:ext cx="1511280" cy="720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27640" y="3645000"/>
            <a:ext cx="1512720" cy="576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427280" y="2060640"/>
            <a:ext cx="1439640" cy="1584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356000" y="2781360"/>
            <a:ext cx="1584360" cy="1439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84720" y="2205000"/>
            <a:ext cx="2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076720" y="29242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80000" y="16286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140360" y="350028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96000" y="40766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940360" y="2133720"/>
            <a:ext cx="3203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О=СО, ВО= Д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ок-т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ff"/>
                </a:solidFill>
                <a:latin typeface="Garamond"/>
              </a:rPr>
              <a:t>Δ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ОВ = </a:t>
            </a:r>
            <a:r>
              <a:rPr b="1" lang="el-GR" sz="2400" spc="-1" strike="noStrike">
                <a:solidFill>
                  <a:srgbClr val="ffffff"/>
                </a:solidFill>
                <a:latin typeface="Garamond"/>
              </a:rPr>
              <a:t>Δ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547640" y="4292640"/>
            <a:ext cx="67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2 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8360" y="4581360"/>
            <a:ext cx="0" cy="1845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68360" y="4581360"/>
            <a:ext cx="2448000" cy="576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468360" y="5733720"/>
            <a:ext cx="2448000" cy="692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68360" y="5589720"/>
            <a:ext cx="2448000" cy="144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39640" y="5157720"/>
            <a:ext cx="2448000" cy="43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8360" y="414936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68360" y="6381720"/>
            <a:ext cx="0" cy="476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9280" y="407664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530064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6400800"/>
            <a:ext cx="4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843280" y="486900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700360" y="5805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9640" y="414972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39640" y="6453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35280" y="4941720"/>
            <a:ext cx="5508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В = СД,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1 =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2, Е – середина АС, ВЕ = 10 с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айти: Д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10:57:52Z</dcterms:created>
  <dc:creator>Ёля</dc:creator>
  <dc:description/>
  <dc:language>en-US</dc:language>
  <cp:lastModifiedBy>Пользователь</cp:lastModifiedBy>
  <dcterms:modified xsi:type="dcterms:W3CDTF">2010-12-17T14:13:29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