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wmf" ContentType="image/x-wmf"/>
  <Override PartName="/ppt/media/image15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51.png" ContentType="image/png"/>
  <Override PartName="/ppt/media/image26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32.png" ContentType="image/png"/>
  <Override PartName="/ppt/media/image22.jpeg" ContentType="image/jpeg"/>
  <Override PartName="/ppt/media/image4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735-8BD4-4E46-A534-602CCCC5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B4F-F0F8-4C3B-8239-6AA8FEA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852-22CD-454D-8DD0-4CA6F1EF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C3E-4DD4-4F58-89AC-6C37EFD5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E87-BB90-4D28-9262-E39F898F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69F2-077A-40E2-842D-15B5735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BB01-4821-473E-A5B9-4FA5854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92B4-528B-4D1F-98FA-3DE1A07B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50A-472E-495C-898E-BD4A97A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694-4635-4D9E-B334-2900D35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F4BC-5D33-4614-A3B5-E0401DD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824-DF01-4342-88BF-D53CC61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B429-1E5B-43AB-81D7-ACB9C61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45D2-12DE-4F0D-A772-92A2923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1DD-08E1-4632-99E3-8944AC5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71A-610C-4BED-BBCA-0435A363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DCF3-F134-457E-8D1D-0E5CD71B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B66-1F60-4313-9868-8CED2C81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086-B8FD-4425-B2DA-D54B613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3B1-1BC7-4D9D-BF3A-BC3DB04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ED5-9922-4F12-9F0C-0FB3704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A3E-9F04-4140-978E-8EF66CF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587-E059-46C7-AF73-B5886D5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BBA-8440-47DD-B72B-935E366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863-9EC1-40DF-8066-CFF6B052E9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4AD-2EAF-4E67-9387-8ED63B39BA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hyperlink" Target="http://www.vzsar.ru/images/news/vzsar_ru_5826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photo.ck.ua/data/media/65/transp3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002.radikal.ru/0803/89/e069fe6444db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kanal12.ru/january2008/3101/avariya-b-02.jp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6516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ая азбу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приори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наки дополнительной информ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8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26 из 2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1 из 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17 из 5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32764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ДВИЖЕНИЕ ПЕШЕХОДОВ ЗАПРЕЩЕНО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544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7640" y="476280"/>
            <a:ext cx="302436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476280"/>
            <a:ext cx="504720" cy="216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32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2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2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4581360"/>
            <a:ext cx="43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30824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4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Бухгалтерия</cp:lastModifiedBy>
  <dcterms:modified xsi:type="dcterms:W3CDTF">2009-06-05T10:32:51Z</dcterms:modified>
  <cp:revision>29</cp:revision>
  <dc:subject/>
  <dc:title>Слайд 1</dc:title>
</cp:coreProperties>
</file>