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4.gif" ContentType="image/gif"/>
  <Override PartName="/ppt/media/image33.jpeg" ContentType="image/jpeg"/>
  <Override PartName="/ppt/media/image25.wmf" ContentType="image/x-wmf"/>
  <Override PartName="/ppt/media/image15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gif" ContentType="image/gif"/>
  <Override PartName="/ppt/media/image51.png" ContentType="image/png"/>
  <Override PartName="/ppt/media/image26.wmf" ContentType="image/x-wmf"/>
  <Override PartName="/ppt/media/image14.jpeg" ContentType="image/jpeg"/>
  <Override PartName="/ppt/media/image41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6.jpeg" ContentType="image/jpeg"/>
  <Override PartName="/ppt/media/image40.png" ContentType="image/png"/>
  <Override PartName="/ppt/media/image9.jpeg" ContentType="image/jpeg"/>
  <Override PartName="/ppt/media/image48.png" ContentType="image/png"/>
  <Override PartName="/ppt/media/image12.jpeg" ContentType="image/jpeg"/>
  <Override PartName="/ppt/media/image34.jpeg" ContentType="image/jpeg"/>
  <Override PartName="/ppt/media/image32.png" ContentType="image/png"/>
  <Override PartName="/ppt/media/image22.jpeg" ContentType="image/jpeg"/>
  <Override PartName="/ppt/media/image43.jpeg" ContentType="image/jpeg"/>
  <Override PartName="/ppt/media/image6.jpeg" ContentType="image/jpeg"/>
  <Override PartName="/ppt/media/image47.png" ContentType="image/png"/>
  <Override PartName="/ppt/media/image35.jpeg" ContentType="image/jpeg"/>
  <Override PartName="/ppt/media/image10.jpeg" ContentType="image/jpeg"/>
  <Override PartName="/ppt/media/image46.png" ContentType="image/png"/>
  <Override PartName="/ppt/media/image45.png" ContentType="image/png"/>
  <Override PartName="/ppt/media/image44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4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39.jpeg" ContentType="image/jpeg"/>
  <Override PartName="/ppt/media/image50.png" ContentType="image/png"/>
  <Override PartName="/ppt/media/image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7139-DFC7-43E0-AF54-8C8C0AC8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360C-EEBE-4C8A-AE3D-F55E9278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6EFD-B980-47C4-AF14-97B37DB0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8811-EA68-45FD-AF37-CD6B3726C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9546-312A-4DFF-98BF-285EDE36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C06A-9B84-4F27-904E-8D617DF7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1C81-A1C7-436D-A90C-26F4DF75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4C15-529B-4035-AE1E-4A13921A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5B6B-67A3-4957-B636-A0407C31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8994-00D1-46D1-A9FB-4718095F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2C68-9E2E-4ECF-A429-8CC7233C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6559-2EA8-4106-BDBB-60E5D2C7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7559-84E3-4FDB-A846-30013E7A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4390-4263-4612-864C-E17796B0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5D2C-DD0F-4F4C-948C-D044660B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C2AB-B13D-4677-8CE2-9B0AE7703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6D1A-8197-49B2-AE7B-49F9A0BF4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3F50-70D0-4E33-BF9D-39E8AE96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AC93-CF6C-4451-8E0D-F1E96753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0306-61A0-42D4-844B-349817A8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7FBE-A70A-473A-9225-73A9C0C8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D87C-4D3D-47D6-99CA-74DF8D69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2F42-3454-4F8A-9EF1-D016C9B9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2C68-B6C9-470F-9571-C33B092C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c3cc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9793-4A5E-4193-AAE3-2F8E589E27E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afb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A61D-8CBF-4172-9C05-B5D11E866BE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hyperlink" Target="http://www.vzsar.ru/images/news/vzsar_ru_5826.jpg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www.photo.ck.ua/data/media/65/transp3.jpg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i002.radikal.ru/0803/89/e069fe6444db.jpg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www.kanal12.ru/january2008/3101/avariya-b-02.jpg" TargetMode="External"/><Relationship Id="rId11" Type="http://schemas.openxmlformats.org/officeDocument/2006/relationships/image" Target="../media/image9.jpeg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332000" y="404640"/>
            <a:ext cx="651672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рожная азбу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609480" cy="1352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835280" y="1989000"/>
            <a:ext cx="5184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Запрещающие знак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1859040" cy="1801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27640" y="4076640"/>
            <a:ext cx="2022480" cy="1992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268360" y="2997360"/>
            <a:ext cx="1943280" cy="1942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732720" y="4726080"/>
            <a:ext cx="1871640" cy="1868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Предупреждающие знак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211640" y="4724280"/>
            <a:ext cx="1454040" cy="1432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187280" y="4797360"/>
            <a:ext cx="1454400" cy="1371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877080" y="4653000"/>
            <a:ext cx="1454040" cy="1352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050920" y="1773360"/>
            <a:ext cx="2160720" cy="1900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4932360" y="1773360"/>
            <a:ext cx="227484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Предписывающие знак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2692440" cy="2646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508720" y="3357720"/>
            <a:ext cx="2646360" cy="2358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11280" y="472428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ешеходная доро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03640" y="59500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елосипедная доро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500"/>
                            </p:stCondLst>
                            <p:childTnLst>
                              <p:par>
                                <p:cTn id="3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Информационно-указательные знак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44400" y="1484280"/>
            <a:ext cx="920880" cy="1461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95640" y="1484280"/>
            <a:ext cx="1030320" cy="1473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851280" y="4724280"/>
            <a:ext cx="1644480" cy="1594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971640" y="4581360"/>
            <a:ext cx="1574640" cy="1656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6738840" y="4581360"/>
            <a:ext cx="1509840" cy="1584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6659640" y="1628640"/>
            <a:ext cx="1181160" cy="1800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3995640" y="1700280"/>
            <a:ext cx="1289160" cy="2087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724360" y="371628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орога для автомоб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314172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есто остановки трамвая, автобуса или троллейб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8000" y="3933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втомагистр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500"/>
                            </p:stCondLst>
                            <p:childTnLst>
                              <p:par>
                                <p:cTn id="3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000"/>
                            </p:stCondLst>
                            <p:childTnLst>
                              <p:par>
                                <p:cTn id="3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Знаки сервис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187280" y="4221000"/>
            <a:ext cx="1549440" cy="2221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987640" y="3068640"/>
            <a:ext cx="1571760" cy="2160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948360" y="1268280"/>
            <a:ext cx="1663920" cy="2305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859280" y="1916280"/>
            <a:ext cx="16002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Знаки приоритет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5472000" cy="2230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227640" y="1557360"/>
            <a:ext cx="244656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Знаки дополнительной информаци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556000" y="2060640"/>
            <a:ext cx="4078080" cy="1584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332000" y="4437000"/>
            <a:ext cx="63943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8920" y="5129280"/>
            <a:ext cx="61927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_AlbionicTitulInfl"/>
              </a:rPr>
              <a:t>ПЕШЕХОДНЫЙ ПЕРЕХОД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835280" y="100080"/>
            <a:ext cx="5256000" cy="50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5373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_AlbionicTitulInfl"/>
              </a:rPr>
              <a:t>ПОДЗЕМНЫЙ ПЕШЕХОДНЫЙ ПЕРЕХОД</a:t>
            </a:r>
            <a:endParaRPr b="0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908000" y="189000"/>
            <a:ext cx="5256360" cy="51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5589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_AlbionicTitulInf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_AlbionicTitulInfl"/>
              </a:rPr>
              <a:t>ДЕТИ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47640" y="476280"/>
            <a:ext cx="590400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-1765440" y="333360"/>
            <a:ext cx="1511280" cy="779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Картинка 8 из 2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1700280"/>
            <a:ext cx="2363760" cy="1781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324000" y="4149720"/>
            <a:ext cx="2003400" cy="2403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Картинка 26 из 261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84720" y="1628640"/>
            <a:ext cx="2765520" cy="2075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Картинка 1 из 57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771640" y="4149720"/>
            <a:ext cx="3090960" cy="2317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Картинка 17 из 50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084720" y="4437000"/>
            <a:ext cx="2843280" cy="1990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2"/>
          <a:stretch/>
        </p:blipFill>
        <p:spPr>
          <a:xfrm>
            <a:off x="4067280" y="1413000"/>
            <a:ext cx="9730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63 0.03769 L 1.1724 0.02705 E">
                                      <p:cBhvr>
                                        <p:cTn id="70" dur="1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5327640"/>
            <a:ext cx="91440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_AlbionicTitulInfl"/>
              </a:rPr>
              <a:t>ДВИЖЕНИЕ ПЕШЕХОДОВ ЗАПРЕЩЕНО</a:t>
            </a:r>
            <a:endParaRPr b="0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515448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4878360" cy="5761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195640" y="630864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ервый светофор 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2021040" cy="3240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219640" y="333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озырё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907640" y="476280"/>
            <a:ext cx="3024360" cy="360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Картинка 1 из 165"/>
          <p:cNvPicPr/>
          <p:nvPr/>
        </p:nvPicPr>
        <p:blipFill>
          <a:blip r:embed="rId2"/>
          <a:stretch/>
        </p:blipFill>
        <p:spPr>
          <a:xfrm>
            <a:off x="4140360" y="907920"/>
            <a:ext cx="4190760" cy="5589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859280" y="476280"/>
            <a:ext cx="504720" cy="2160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Картинка 144 из 350"/>
          <p:cNvPicPr/>
          <p:nvPr/>
        </p:nvPicPr>
        <p:blipFill>
          <a:blip r:embed="rId3"/>
          <a:stretch/>
        </p:blipFill>
        <p:spPr>
          <a:xfrm>
            <a:off x="1979640" y="3357720"/>
            <a:ext cx="1905120" cy="3219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H="1">
            <a:off x="2627280" y="476280"/>
            <a:ext cx="2232000" cy="3313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32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82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32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353440" cy="6265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V="1">
            <a:off x="5076720" y="3860280"/>
            <a:ext cx="935280" cy="863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148360" y="4149720"/>
            <a:ext cx="3527280" cy="574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2050920" y="3933720"/>
            <a:ext cx="3168720" cy="790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1476360" y="4149720"/>
            <a:ext cx="3743280" cy="574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537080" cy="3403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24000" y="4581360"/>
            <a:ext cx="4319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усть запомнят твёрдо де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ерно поступает то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661000"/>
            <a:ext cx="4716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то лишь при зелёном св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Через улицу идё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451640" y="4581360"/>
            <a:ext cx="1308240" cy="2016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716360" y="1341360"/>
            <a:ext cx="442764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720"/>
                            </p:stCondLst>
                            <p:childTnLst>
                              <p:par>
                                <p:cTn id="1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240"/>
                            </p:stCondLst>
                            <p:childTnLst>
                              <p:par>
                                <p:cTn id="17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79280" y="4149360"/>
            <a:ext cx="43308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амые старые из всех дорожных знаков - указатели расстояни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91160" y="333360"/>
            <a:ext cx="4128840" cy="62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Верстовые столбы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451640" y="3141720"/>
            <a:ext cx="1433520" cy="3039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50920" y="3500280"/>
            <a:ext cx="1716120" cy="2808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050920" y="2013120"/>
            <a:ext cx="5329440" cy="36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Первые дорожные знак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48402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15:38:14Z</dcterms:created>
  <dc:creator>Ниночка</dc:creator>
  <dc:description/>
  <dc:language>en-US</dc:language>
  <cp:lastModifiedBy>Бухгалтерия</cp:lastModifiedBy>
  <dcterms:modified xsi:type="dcterms:W3CDTF">2009-06-05T10:32:51Z</dcterms:modified>
  <cp:revision>29</cp:revision>
  <dc:subject/>
  <dc:title>Слайд 1</dc:title>
</cp:coreProperties>
</file>