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3.png" ContentType="image/png"/>
  <Override PartName="/ppt/media/image56.jpeg" ContentType="image/jpeg"/>
  <Override PartName="/ppt/media/image52.png" ContentType="image/png"/>
  <Override PartName="/ppt/media/image51.jpeg" ContentType="image/jpeg"/>
  <Override PartName="/ppt/media/image50.png" ContentType="image/png"/>
  <Override PartName="/ppt/media/image49.png" ContentType="image/png"/>
  <Override PartName="/ppt/media/image65.jpeg" ContentType="image/jpe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43.png" ContentType="image/png"/>
  <Override PartName="/ppt/media/image55.jpeg" ContentType="image/jpeg"/>
  <Override PartName="/ppt/media/image42.png" ContentType="image/png"/>
  <Override PartName="/ppt/media/image41.png" ContentType="image/png"/>
  <Override PartName="/ppt/media/image26.wmf" ContentType="image/x-wmf"/>
  <Override PartName="/ppt/media/chimes.wav" ContentType="audio/x-wav"/>
  <Override PartName="/ppt/media/image17.jpeg" ContentType="image/jpe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22.png" ContentType="image/png"/>
  <Override PartName="/ppt/media/image59.png" ContentType="image/png"/>
  <Override PartName="/ppt/media/image25.gif" ContentType="image/gif"/>
  <Override PartName="/ppt/media/image29.png" ContentType="image/png"/>
  <Override PartName="/ppt/media/image63.jpeg" ContentType="image/jpeg"/>
  <Override PartName="/ppt/media/image60.png" ContentType="image/png"/>
  <Override PartName="/ppt/media/image30.png" ContentType="image/png"/>
  <Override PartName="/ppt/media/image75.png" ContentType="image/png"/>
  <Override PartName="/ppt/media/image70.jpeg" ContentType="image/jpeg"/>
  <Override PartName="/ppt/media/image5.png" ContentType="image/png"/>
  <Override PartName="/ppt/media/image73.wmf" ContentType="image/x-wmf"/>
  <Override PartName="/ppt/media/image62.png" ContentType="image/png"/>
  <Override PartName="/ppt/media/image72.wmf" ContentType="image/x-wmf"/>
  <Override PartName="/ppt/media/image71.jpeg" ContentType="image/jpeg"/>
  <Override PartName="/ppt/media/image68.png" ContentType="image/png"/>
  <Override PartName="/ppt/media/image67.wmf" ContentType="image/x-wmf"/>
  <Override PartName="/ppt/media/image66.wmf" ContentType="image/x-wmf"/>
  <Override PartName="/ppt/media/image27.png" ContentType="image/png"/>
  <Override PartName="/ppt/media/image24.gif" ContentType="image/gif"/>
  <Override PartName="/ppt/media/image64.png" ContentType="image/png"/>
  <Override PartName="/ppt/media/image23.png" ContentType="image/png"/>
  <Override PartName="/ppt/media/image61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69.jpeg" ContentType="image/jpeg"/>
  <Override PartName="/ppt/media/image9.gif" ContentType="image/gif"/>
  <Override PartName="/ppt/media/image2.png" ContentType="image/png"/>
  <Override PartName="/ppt/media/image14.png" ContentType="image/png"/>
  <Override PartName="/ppt/media/image11.gif" ContentType="image/gif"/>
  <Override PartName="/ppt/media/image12.gif" ContentType="image/gif"/>
  <Override PartName="/ppt/media/image15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0.gif" ContentType="image/gif"/>
  <Override PartName="/ppt/media/image13.png" ContentType="image/png"/>
  <Override PartName="/ppt/media/image33.png" ContentType="image/png"/>
  <Override PartName="/ppt/media/image54.jpeg" ContentType="image/jpeg"/>
  <Override PartName="/ppt/media/image28.wmf" ContentType="image/x-wmf"/>
  <Override PartName="/ppt/media/image31.jpeg" ContentType="image/jpeg"/>
  <Override PartName="/ppt/media/image35.png" ContentType="image/png"/>
  <Override PartName="/ppt/media/image32.gif" ContentType="image/gif"/>
  <Override PartName="/ppt/media/image38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963-4E11-4357-A934-810A9F83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712-F3A0-4DC9-A7E5-0895190E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A29-A0F8-4D1F-AC09-7DDB655F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839-0C48-4AD3-8DD0-10C4AAD9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EC8-CA78-4DD2-B328-6B8DF4EE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C63-D6DD-41A3-8D91-1E70E832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099-5940-4A91-92FF-74AD8592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1DA-3423-496D-AB81-24672F4D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AA3-9CA7-48A0-9F6D-352D5B4B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11C-E3C9-4566-9788-A1350B24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DD4-4618-4D30-B75C-C4345FE5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FCD-92DB-4FF3-A377-E6C31D93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02AC-273B-4B9C-9784-3AF8B324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28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8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png"/><Relationship Id="rId3" Type="http://schemas.openxmlformats.org/officeDocument/2006/relationships/image" Target="../media/image8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0.png"/><Relationship Id="rId3" Type="http://schemas.openxmlformats.org/officeDocument/2006/relationships/image" Target="../media/image8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png"/><Relationship Id="rId3" Type="http://schemas.openxmlformats.org/officeDocument/2006/relationships/slide" Target="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5.jpeg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image" Target="../media/image68.png"/><Relationship Id="rId5" Type="http://schemas.openxmlformats.org/officeDocument/2006/relationships/image" Target="../media/image68.png"/><Relationship Id="rId6" Type="http://schemas.openxmlformats.org/officeDocument/2006/relationships/image" Target="../media/image68.png"/><Relationship Id="rId7" Type="http://schemas.openxmlformats.org/officeDocument/2006/relationships/image" Target="../media/image57.jpe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0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47628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Устная и письменная реч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16360" y="2708280"/>
            <a:ext cx="34639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тили реч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3789360"/>
            <a:ext cx="4537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ипы реч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4" name="Picture 6" descr="Biz00017"/>
          <p:cNvPicPr/>
          <p:nvPr/>
        </p:nvPicPr>
        <p:blipFill>
          <a:blip r:embed="rId2"/>
          <a:stretch/>
        </p:blipFill>
        <p:spPr>
          <a:xfrm>
            <a:off x="468360" y="4508640"/>
            <a:ext cx="3476520" cy="205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Невербальные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несловесные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)средства общения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очень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часто используются в разговоре , дополняя и разъясняя</a:t>
            </a:r>
            <a:br>
              <a:rPr sz="1800"/>
            </a:b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сказа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00360" y="1773360"/>
            <a:ext cx="1150920" cy="287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2133720"/>
            <a:ext cx="11509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2205000"/>
            <a:ext cx="1224000" cy="2160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9760" y="3003480"/>
            <a:ext cx="8608320" cy="52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Жест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– движение , что-то выражающее или сопровождающее реч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952800"/>
            <a:ext cx="9209160" cy="794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Мимика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– движение лица, выражающее внутреннее душевное состо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85400" y="4724280"/>
            <a:ext cx="9100440" cy="5205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Реакция</a:t>
            </a:r>
            <a:r>
              <a:rPr b="1" i="1" lang="en-US" sz="2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собеседника –проявление отношения к чему-то или к кому-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2440" y="1542960"/>
            <a:ext cx="2779200" cy="947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Неверб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Monotype Corsiva"/>
              </a:rPr>
              <a:t>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51080" y="1576440"/>
            <a:ext cx="848160" cy="368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Ж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05640" y="2008080"/>
            <a:ext cx="10630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Ми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77280" y="2368440"/>
            <a:ext cx="263880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еакция собес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56720" y="1844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900000" y="5229360"/>
            <a:ext cx="1060560" cy="1412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7236000" y="5157720"/>
            <a:ext cx="1244520" cy="1486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179280" y="836640"/>
            <a:ext cx="1203480" cy="40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2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70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98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480"/>
                            </p:stCondLst>
                            <p:childTnLst>
                              <p:par>
                                <p:cTn id="4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12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48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433440" y="-7920"/>
            <a:ext cx="10260360" cy="6860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Пожалуйста , потиш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 музее , кинотеатре и трамва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 том, о сём друг другу говор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о часто одного не замеча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то ,как в лесу дремучем, мы крич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 том, что мы вчера ходили в г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то папа подарил велосипед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У дедушки к дождю разнылись к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, между прочим, дождика всё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-Пожалуйста, потиш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-Пожалуйста, потиш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-Тсс! Тсс! Ччч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 какое бы общественно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удьба сегодня вас не привела,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Учтите , никому не интере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сё знать про ваши личные д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1.Прочитайте,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родумывая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 силу голоса и интонаци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одготовьтесь к чтению отдельных реплик полил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160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3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3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800"/>
                            </p:stCondLst>
                            <p:childTnLst>
                              <p:par>
                                <p:cTn id="4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30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500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500"/>
                                        <p:tgtEl>
                                          <p:spTgt spid="13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333360"/>
            <a:ext cx="659232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КАК ВЕСТИ СЕБЯ ВО ВРЕМЯ РАЗ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0" y="1197000"/>
            <a:ext cx="9117000" cy="5946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1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Говорите спокой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Не размахивайте ру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3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Следите за тем, какие слова вы подбира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4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Умейте слушать друг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5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Говорите отчётливо, не спеш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    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Изменяйте интонацию, чтобы в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                       </a:t>
            </a:r>
            <a:r>
              <a:rPr b="1" i="1" lang="en-US" sz="2400" spc="-1" strike="noStrike">
                <a:solidFill>
                  <a:srgbClr val="0000cc"/>
                </a:solidFill>
                <a:latin typeface="Monotype Corsiva"/>
              </a:rPr>
              <a:t>речь не была монотонной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6</a:t>
            </a: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. Не разговаривайте слишком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Monotype Corsiva"/>
              </a:rPr>
              <a:t>         </a:t>
            </a:r>
            <a:r>
              <a:rPr b="1" i="1" lang="en-US" sz="2400" spc="-1" strike="noStrike">
                <a:solidFill>
                  <a:srgbClr val="ff3300"/>
                </a:solidFill>
                <a:latin typeface="Monotype Corsiva"/>
              </a:rPr>
              <a:t>7. Никогда не позволяйте себе грубо разговаривать с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8784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66760" y="294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67120" y="611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7480" y="150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236000" y="1268280"/>
            <a:ext cx="1160280" cy="16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7956720" y="5950080"/>
            <a:ext cx="601560" cy="54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152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ИСЬМЕННАЯ    РЕЧЬ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и её разновид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blipFill rotWithShape="0">
            <a:blip r:embed="rId2">
              <a:alphaModFix amt="0"/>
            </a:blip>
            <a:stretch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Monotype Corsiva"/>
              </a:rPr>
              <a:t>Письмо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                          </a:t>
            </a:r>
            <a:r>
              <a:rPr b="1" i="1" lang="en-US" sz="4000" spc="-1" strike="noStrike">
                <a:solidFill>
                  <a:srgbClr val="0000cc"/>
                </a:solidFill>
                <a:latin typeface="Monotype Corsiva"/>
              </a:rPr>
              <a:t>Личный дне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Monotype Corsiva"/>
              </a:rPr>
              <a:t>  </a:t>
            </a:r>
            <a:r>
              <a:rPr b="1" i="1" lang="en-US" sz="4000" spc="-1" strike="noStrike">
                <a:solidFill>
                  <a:srgbClr val="0000ff"/>
                </a:solidFill>
                <a:latin typeface="Monotype Corsiva"/>
              </a:rPr>
              <a:t>Изложение  </a:t>
            </a:r>
            <a:r>
              <a:rPr b="0" i="1" lang="en-US" sz="40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en-US" sz="4000" spc="-1" strike="noStrike">
                <a:solidFill>
                  <a:srgbClr val="0000ff"/>
                </a:solidFill>
                <a:latin typeface="Monotype Corsiva"/>
              </a:rPr>
              <a:t>Сочи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626920" y="1700280"/>
            <a:ext cx="151308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1700280"/>
            <a:ext cx="115236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195280" y="1773360"/>
            <a:ext cx="1871640" cy="23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700280"/>
            <a:ext cx="1800000" cy="23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дети1.jpg"/>
          <p:cNvPicPr/>
          <p:nvPr/>
        </p:nvPicPr>
        <p:blipFill>
          <a:blip r:embed="rId3"/>
          <a:stretch/>
        </p:blipFill>
        <p:spPr>
          <a:xfrm>
            <a:off x="3132000" y="5084640"/>
            <a:ext cx="1917720" cy="1487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800"/>
                            </p:stCondLst>
                            <p:childTnLst>
                              <p:par>
                                <p:cTn id="5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300"/>
                            </p:stCondLst>
                            <p:childTnLst>
                              <p:par>
                                <p:cTn id="5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800"/>
                            </p:stCondLst>
                            <p:childTnLst>
                              <p:par>
                                <p:cTn id="5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ПИСЬМЕННАЯ    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1.Тот, кто пишет, не видит и не слышит того, к кому обращ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2.Пишут, при проверке исправляя все ошибк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3.Пишущий реакцию собеседника не видит, может только предуга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80360" y="981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2384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6948360" y="616572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7493"/>
                </a:moveTo>
                <a:lnTo>
                  <a:pt x="13500" y="7493"/>
                </a:lnTo>
                <a:lnTo>
                  <a:pt x="13500" y="12828"/>
                </a:lnTo>
                <a:cubicBezTo>
                  <a:pt x="13500" y="13751"/>
                  <a:pt x="14301" y="14482"/>
                  <a:pt x="15337" y="14482"/>
                </a:cubicBezTo>
                <a:lnTo>
                  <a:pt x="16999" y="14482"/>
                </a:lnTo>
                <a:cubicBezTo>
                  <a:pt x="18035" y="14482"/>
                  <a:pt x="18835" y="13751"/>
                  <a:pt x="18835" y="12828"/>
                </a:cubicBezTo>
                <a:lnTo>
                  <a:pt x="18835" y="7493"/>
                </a:lnTo>
                <a:lnTo>
                  <a:pt x="16999" y="7493"/>
                </a:lnTo>
                <a:lnTo>
                  <a:pt x="20507" y="3985"/>
                </a:lnTo>
                <a:lnTo>
                  <a:pt x="24180" y="7493"/>
                </a:lnTo>
                <a:lnTo>
                  <a:pt x="22343" y="7493"/>
                </a:lnTo>
                <a:lnTo>
                  <a:pt x="22343" y="12828"/>
                </a:lnTo>
                <a:cubicBezTo>
                  <a:pt x="22343" y="15596"/>
                  <a:pt x="19767" y="18155"/>
                  <a:pt x="16999" y="18155"/>
                </a:cubicBezTo>
                <a:lnTo>
                  <a:pt x="15337" y="18155"/>
                </a:lnTo>
                <a:cubicBezTo>
                  <a:pt x="12569" y="18155"/>
                  <a:pt x="9993" y="15596"/>
                  <a:pt x="9993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1403280" cy="10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4620"/>
                            </p:stCondLst>
                            <p:childTnLst>
                              <p:par>
                                <p:cTn id="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180"/>
                            </p:stCondLst>
                            <p:childTnLst>
                              <p:par>
                                <p:cTn id="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920" y="2276640"/>
            <a:ext cx="12261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еч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иту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2637000"/>
            <a:ext cx="93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476360" y="1484280"/>
            <a:ext cx="863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2708280"/>
            <a:ext cx="792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1125360"/>
            <a:ext cx="180036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д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говор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2421000"/>
            <a:ext cx="129564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 ке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24000" y="3860640"/>
            <a:ext cx="200196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 какой цел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995640" y="475920"/>
            <a:ext cx="1297080" cy="647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40320" y="260280"/>
            <a:ext cx="337032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официальной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5640" y="1268280"/>
            <a:ext cx="1297080" cy="3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3680" y="1484280"/>
            <a:ext cx="363564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неофициальной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851280" y="2420640"/>
            <a:ext cx="1727280" cy="142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1280" y="2708280"/>
            <a:ext cx="1512720" cy="50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8160" y="2276640"/>
            <a:ext cx="256896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дни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56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3933720"/>
            <a:ext cx="21812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4724280"/>
            <a:ext cx="201636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5589720"/>
            <a:ext cx="225288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4005360"/>
            <a:ext cx="16556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4076640"/>
            <a:ext cx="1655640" cy="865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1640" y="4149720"/>
            <a:ext cx="172872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3068640"/>
            <a:ext cx="28562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большой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аудито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290160" y="85680"/>
            <a:ext cx="44143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Monotype Corsiva"/>
              </a:rPr>
              <a:t>Выбор стиля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3500"/>
                            </p:stCondLst>
                            <p:childTnLst>
                              <p:par>
                                <p:cTn id="6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74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240"/>
                            </p:stCondLst>
                            <p:childTnLst>
                              <p:par>
                                <p:cTn id="6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760"/>
                            </p:stCondLst>
                            <p:childTnLst>
                              <p:par>
                                <p:cTn id="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260"/>
                            </p:stCondLst>
                            <p:childTnLst>
                              <p:par>
                                <p:cTn id="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180"/>
                            </p:stCondLst>
                            <p:childTnLst>
                              <p:par>
                                <p:cTn id="6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6680"/>
                            </p:stCondLst>
                            <p:childTnLst>
                              <p:par>
                                <p:cTn id="6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68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8180"/>
                            </p:stCondLst>
                            <p:childTnLst>
                              <p:par>
                                <p:cTn id="6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882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320"/>
                            </p:stCondLst>
                            <p:childTnLst>
                              <p:par>
                                <p:cTn id="6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8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58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9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1400"/>
                            </p:stCondLst>
                            <p:childTnLst>
                              <p:par>
                                <p:cTn id="6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1800"/>
                            </p:stCondLst>
                            <p:childTnLst>
                              <p:par>
                                <p:cTn id="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2300"/>
                            </p:stCondLst>
                            <p:childTnLst>
                              <p:par>
                                <p:cTn id="7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-356040" y="189000"/>
            <a:ext cx="1028628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                         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Стили        речи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69000" y="1073160"/>
            <a:ext cx="5055840" cy="42087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ртисты говорят в гримёр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вой  друг  беседует  с  тобой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это прос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не какой – нибудь и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ссказ читаешь или сти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ман, поэму , пьес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най в них                                  стил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иль очень интере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щё есть ст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татей в журнале политичес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азетных очерков, замето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помни также стиль и эт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биографию открой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 правила когда мы уч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потребляем стиль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2200" y="5511960"/>
            <a:ext cx="1762560" cy="398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Разговор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" y="6184800"/>
            <a:ext cx="20811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Худож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68920" y="5465880"/>
            <a:ext cx="22550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68560" y="5969160"/>
            <a:ext cx="2648160" cy="3682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Официально - де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2920" y="6184800"/>
            <a:ext cx="1125720" cy="368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Нау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-0.02313 0.00018 -0.04626 0.00139 -0.06938 C 0.00157 -0.07355 0.01007 -0.09459 0.01198 -0.09783 C 0.01389 -0.10107 0.01875 -0.10662 0.01875 -0.10662 C 0.0224 -0.12281 0.01788 -0.10107 0.02136 -0.14038 C 0.0224 -0.15125 0.02535 -0.16166 0.02674 -0.1723 C 0.02709 -0.18409 0.02726 -0.19612 0.02795 -0.20791 C 0.02847 -0.21624 0.0349 -0.21878 0.03872 -0.22387 C 0.04236 -0.22873 0.04427 -0.23497 0.04809 -0.23983 C 0.05191 -0.25047 0.05209 -0.24492 0.05729 -0.25232 C 0.06059 -0.26527 0.07327 -0.28331 0.08143 -0.2914 C 0.08472 -0.30019 0.08733 -0.30551 0.09341 -0.31083 C 0.09479 -0.3136 0.09636 -0.31777 0.09861 -0.31985 C 0.10122 -0.32239 0.10677 -0.32678 0.10677 -0.32678 C 0.11528 -0.34413 0.13004 -0.35685 0.14271 -0.36772 C 0.15521 -0.37836 0.15209 -0.38275 0.16667 -0.38553 C 0.17743 -0.39617 0.17483 -0.41397 0.18542 -0.42808 C 0.18663 -0.43363 0.18594 -0.4334 0.18941 -0.43687 C 0.19323 -0.44057 0.19809 -0.44288 0.20139 -0.44751 C 0.20573 -0.45375 0.21268 -0.46092 0.21875 -0.4637 C 0.22483 -0.4741 0.2283 -0.47179 0.23733 -0.47965 C 0.23976 -0.48173 0.2415 -0.48497 0.2441 -0.48659 C 0.24566 -0.48775 0.24757 -0.48752 0.24931 -0.48844 C 0.25122 -0.48937 0.25295 -0.49052 0.25469 -0.49191 C 0.26181 -0.49723 0.26684 -0.5044 0.27466 -0.5081 C 0.28334 -0.51989 0.29618 -0.52591 0.30799 -0.53099 C 0.31233 -0.53284 0.31563 -0.53631 0.31997 -0.53816 C 0.33056 -0.54233 0.3415 -0.5458 0.35209 -0.55065 C 0.35972 -0.55828 0.36563 -0.56106 0.37466 -0.56476 C 0.38056 -0.57262 0.38959 -0.56915 0.3974 -0.57193 C 0.39879 -0.57239 0.4 -0.57378 0.40139 -0.57378 C 0.42761 -0.57493 0.45382 -0.57493 0.48004 -0.5754 C 0.49288 -0.57725 0.50243 -0.57956 0.51597 -0.5754 C 0.51736 -0.57493 0.51632 -0.57147 0.51736 -0.57008 C 0.51841 -0.56869 0.51997 -0.56892 0.52136 -0.56846 C 0.53108 -0.57008 0.52761 -0.57008 0.53195 -0.57008 E">
                                      <p:cBhvr>
                                        <p:cTn id="774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57 -0.00578 0.004 -0.01781 0.004 -0.01781 C 0.00521 -0.04949 0.00365 -0.06845 0.02014 -0.09042 C 0.02171 -0.09713 0.02518 -0.10083 0.02813 -0.10661 C 0.03125 -0.12026 0.0415 -0.12882 0.0507 -0.13483 C 0.05851 -0.1487 0.06789 -0.15911 0.07483 -0.17391 C 0.07882 -0.19172 0.07535 -0.21045 0.08143 -0.22734 C 0.08264 -0.23635 0.08299 -0.24306 0.08681 -0.25046 C 0.09046 -0.26665 0.09896 -0.27683 0.10677 -0.28955 C 0.11615 -0.30481 0.12448 -0.31961 0.13611 -0.3321 C 0.14098 -0.35893 0.15643 -0.38159 0.17483 -0.39431 C 0.19063 -0.42183 0.16493 -0.37882 0.18542 -0.40657 C 0.18733 -0.40911 0.18768 -0.41304 0.18941 -0.41559 C 0.19445 -0.42322 0.19688 -0.42229 0.20278 -0.42808 C 0.2158 -0.44056 0.22605 -0.45097 0.24011 -0.46184 C 0.24341 -0.46438 0.24514 -0.46924 0.24809 -0.47248 C 0.25278 -0.47757 0.26736 -0.49098 0.27483 -0.49722 C 0.27691 -0.49907 0.27969 -0.5 0.28143 -0.50254 C 0.2823 -0.5037 0.28282 -0.50601 0.28403 -0.50624 C 0.29723 -0.50879 0.31077 -0.50809 0.32414 -0.50971 C 0.3316 -0.51249 0.33941 -0.51318 0.34671 -0.51688 C 0.35261 -0.51989 0.35782 -0.52359 0.36407 -0.52567 C 0.3823 -0.52498 0.40052 -0.52613 0.41875 -0.52382 C 0.42066 -0.52359 0.42118 -0.51989 0.42275 -0.5185 C 0.42934 -0.51272 0.44167 -0.51943 0.44549 -0.50971 E">
                                      <p:cBhvr>
                                        <p:cTn id="77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42 -0.02475 0.00365 -0.14639 0.00399 -0.17045 C 0.00573 -0.321 -0.0316 -0.318 0.01215 -0.318 E">
                                      <p:cBhvr>
                                        <p:cTn id="78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61 -0.01134 -0.00104 -0.00047 0.00538 -0.00694 C 0.00799 -0.00949 0.00938 -0.01365 0.01198 -0.01596 C 0.01458 -0.01827 0.01771 -0.01989 0.01997 -0.0229 C 0.02274 -0.02683 0.0257 -0.03123 0.02934 -0.03377 C 0.03177 -0.03539 0.03472 -0.03608 0.03733 -0.03724 C 0.04097 -0.04487 0.04462 -0.04926 0.0507 -0.0532 C 0.0566 -0.06106 0.06389 -0.06638 0.07205 -0.06915 C 0.07674 -0.07887 0.08316 -0.08002 0.09063 -0.08511 C 0.09288 -0.08673 0.09479 -0.08904 0.09722 -0.09043 C 0.10486 -0.09482 0.11372 -0.09667 0.12136 -0.10107 C 0.13229 -0.10731 0.14323 -0.11425 0.15469 -0.11888 C 0.15677 -0.12836 0.16233 -0.13067 0.16788 -0.13668 C 0.17483 -0.14432 0.1816 -0.15125 0.18802 -0.15981 C 0.18906 -0.1612 0.1908 -0.16097 0.19202 -0.16166 C 0.19566 -0.16374 0.19913 -0.16629 0.20261 -0.1686 C 0.20434 -0.16975 0.20799 -0.1723 0.20799 -0.1723 C 0.21424 -0.18525 0.2059 -0.16999 0.21597 -0.18109 C 0.21719 -0.18247 0.21719 -0.18525 0.21858 -0.18641 C 0.22014 -0.18779 0.22222 -0.18733 0.22396 -0.18826 C 0.2309 -0.19219 0.23577 -0.19843 0.24271 -0.20051 C 0.24774 -0.20421 0.25174 -0.20606 0.25729 -0.20768 C 0.26163 -0.21161 0.26424 -0.21624 0.26927 -0.21832 C 0.27431 -0.22503 0.27413 -0.22757 0.28004 -0.22896 C 0.29288 -0.23173 0.29202 -0.22526 0.29202 -0.23428 E">
                                      <p:cBhvr>
                                        <p:cTn id="786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21 -0.03053 -0.00191 -0.05943 -0.01458 -0.08534 C -0.0151 -0.08834 -0.01458 -0.09181 -0.01597 -0.09412 C -0.01788 -0.09759 -0.02395 -0.10129 -0.02395 -0.10129 C -0.02621 -0.11147 -0.025 -0.12581 -0.02916 -0.13506 C -0.03125 -0.13968 -0.03593 -0.14107 -0.03854 -0.1457 C -0.04305 -0.15379 -0.046 -0.16235 -0.05191 -0.16882 C -0.05694 -0.17437 -0.06354 -0.17391 -0.06927 -0.17761 C -0.07274 -0.17992 -0.07639 -0.18224 -0.07986 -0.18478 E">
                                      <p:cBhvr>
                                        <p:cTn id="79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тили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(где? с кем? зачем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Книж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Разговорны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62680" y="2276640"/>
            <a:ext cx="4081320" cy="916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говорные слова, непол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едложения,диалог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68920" y="28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5040" y="2655720"/>
            <a:ext cx="1460880" cy="11912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АУЧНЫЙ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терми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24120" y="3305160"/>
            <a:ext cx="2730240" cy="91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ХУДОЖЕСТВЕННЫЙ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образные с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6320" y="4365720"/>
            <a:ext cx="3309480" cy="91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ФИЦИАЛЬНО – ДЕЛ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(сообщ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особые слова и обор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19640" y="5445000"/>
            <a:ext cx="4608360" cy="6426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2720" y="5942160"/>
            <a:ext cx="6101640" cy="91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общение информации , воз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щественно-политическая лексика,совме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оржественной лексики и разговорных средств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4000" y="2133720"/>
            <a:ext cx="201600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2060640"/>
            <a:ext cx="1224000" cy="1150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2133720"/>
            <a:ext cx="4105440" cy="21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84360" y="2060640"/>
            <a:ext cx="6335640" cy="381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84360" y="1484280"/>
            <a:ext cx="223200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1484280"/>
            <a:ext cx="331308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6500"/>
                            </p:stCondLst>
                            <p:childTnLst>
                              <p:par>
                                <p:cTn id="8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7000"/>
                            </p:stCondLst>
                            <p:childTnLst>
                              <p:par>
                                <p:cTn id="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75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8000"/>
                            </p:stCondLst>
                            <p:childTnLst>
                              <p:par>
                                <p:cTn id="8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8500"/>
                            </p:stCondLst>
                            <p:childTnLst>
                              <p:par>
                                <p:cTn id="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0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9500"/>
                            </p:stCondLst>
                            <p:childTnLst>
                              <p:par>
                                <p:cTn id="8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cc"/>
                </a:solidFill>
                <a:latin typeface="Monotype Corsiva"/>
              </a:rPr>
              <a:t>Разговор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разговорного ст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6364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5280" y="2637000"/>
            <a:ext cx="976320" cy="772920"/>
          </a:xfrm>
          <a:prstGeom prst="rightArrow">
            <a:avLst>
              <a:gd name="adj1" fmla="val 50000"/>
              <a:gd name="adj2" fmla="val 31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99480" y="34290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i="1" lang="en-US" sz="3200" spc="-1" strike="noStrike">
                <a:solidFill>
                  <a:srgbClr val="0000cc"/>
                </a:solidFill>
                <a:latin typeface="Monotype Corsiva"/>
              </a:rPr>
              <a:t>Цель  -  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7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71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39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3280" y="4097160"/>
            <a:ext cx="85168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ер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– общение с близкими и хорошо  знакомыми людь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ера бытовых отношений и устная форма профессиональ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080" y="4889520"/>
            <a:ext cx="227772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тилев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6000" y="4941720"/>
            <a:ext cx="658800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Мы не всегда знаем, о чём будем  гово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Мы не знаем , какие  слова подбер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Мы должны видеть и слышать участника разговора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440" y="5932440"/>
            <a:ext cx="851868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зыков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ниж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сторе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большое количество междометий, частиц, наличие неполных и корот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ложений, богатство интон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96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897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98" dur="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9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05" dur="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906" dur="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907" dur="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0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8500"/>
                            </p:stCondLst>
                            <p:childTnLst>
                              <p:par>
                                <p:cTn id="92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9500"/>
                            </p:stCondLst>
                            <p:childTnLst>
                              <p:par>
                                <p:cTn id="92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1060"/>
                            </p:stCondLst>
                            <p:childTnLst>
                              <p:par>
                                <p:cTn id="9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5380"/>
                            </p:stCondLst>
                            <p:childTnLst>
                              <p:par>
                                <p:cTn id="9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02800" y="281160"/>
            <a:ext cx="197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98560" y="189000"/>
            <a:ext cx="549468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ХУДОЖЕСТВЕННЫЙ      СТИЛЬ    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00" y="907920"/>
            <a:ext cx="723672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язы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художественно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литератур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8400" y="1576440"/>
            <a:ext cx="6975000" cy="1465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озда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художественног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обра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эмоционально – эстетическое воз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4437000"/>
            <a:ext cx="6092640" cy="2288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Языковые средства 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 сравнения, метафо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ипербола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Стилистические фигуры (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чи)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: анафора, антитеза ,бессоюзие ,градация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инверсия ,параллелизм ,риторический вопрос ,об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щение ,умолчание ,эллипсис, эпифора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7320" y="3089160"/>
            <a:ext cx="635292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Художественный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стиль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отличается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образность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широким использованием изобразительно –выраз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тельных средств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7429680" y="189000"/>
            <a:ext cx="1714320" cy="208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7020000" y="537372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5500"/>
                            </p:stCondLst>
                            <p:childTnLst>
                              <p:par>
                                <p:cTn id="96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8000"/>
                            </p:stCondLst>
                            <p:childTnLst>
                              <p:par>
                                <p:cTn id="964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27280" y="549360"/>
            <a:ext cx="36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Устная и письменная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1844640"/>
            <a:ext cx="424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Стил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Типы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2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87480" y="755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8200" y="719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0360" y="223920"/>
            <a:ext cx="6292080" cy="3202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Художественный стиль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7480" y="1073160"/>
            <a:ext cx="685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.Предназначен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для  создания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       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художествен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поэтических  образов , эмоционально – эсте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воздействия , и  все  языковые  средства , включа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в художественное произведение,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дчиняются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дач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данного сти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9280" y="2800440"/>
            <a:ext cx="456840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.Основная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функция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эстетическая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2000" y="3448080"/>
            <a:ext cx="187380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.К средст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49280" y="3448080"/>
            <a:ext cx="44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художественной выраз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3860640"/>
            <a:ext cx="667224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относятс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ИТМ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ИФМ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НТОНАЦИЯ,ЗВУКО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6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5020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41800" y="39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5320" y="4384800"/>
            <a:ext cx="673560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4.Характерная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ь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оединение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разл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тилей речи , совмещение слов «высоких» и «низких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присутствие разговорной лексики ,иногда – просто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чий , диалектизмов ,профессионал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5080" y="5681520"/>
            <a:ext cx="643428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.Тип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реч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рассужде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рассужде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элемен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описания, описани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6200" y="438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3200"/>
                            </p:stCondLst>
                            <p:childTnLst>
                              <p:par>
                                <p:cTn id="98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80"/>
                            </p:stCondLst>
                            <p:childTnLst>
                              <p:par>
                                <p:cTn id="9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7080"/>
                            </p:stCondLst>
                            <p:childTnLst>
                              <p:par>
                                <p:cTn id="9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9080"/>
                            </p:stCondLst>
                            <p:childTnLst>
                              <p:par>
                                <p:cTn id="9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1080"/>
                            </p:stCondLst>
                            <p:childTnLst>
                              <p:par>
                                <p:cTn id="9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3080"/>
                            </p:stCondLst>
                            <p:childTnLst>
                              <p:par>
                                <p:cTn id="10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80"/>
                            </p:stCondLst>
                            <p:childTnLst>
                              <p:par>
                                <p:cTn id="10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7080"/>
                            </p:stCondLst>
                            <p:childTnLst>
                              <p:par>
                                <p:cTn id="10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7160"/>
                            </p:stCondLst>
                            <p:childTnLst>
                              <p:par>
                                <p:cTn id="10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8440"/>
                            </p:stCondLst>
                            <p:childTnLst>
                              <p:par>
                                <p:cTn id="10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2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9540"/>
                            </p:stCondLst>
                            <p:childTnLst>
                              <p:par>
                                <p:cTn id="10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60"/>
                            </p:stCondLst>
                            <p:childTnLst>
                              <p:par>
                                <p:cTn id="10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3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21260"/>
                            </p:stCondLst>
                            <p:childTnLst>
                              <p:par>
                                <p:cTn id="10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1340"/>
                            </p:stCondLst>
                            <p:childTnLst>
                              <p:par>
                                <p:cTn id="10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2940"/>
                            </p:stCondLst>
                            <p:childTnLst>
                              <p:par>
                                <p:cTn id="104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4200"/>
                            </p:stCondLst>
                            <p:childTnLst>
                              <p:par>
                                <p:cTn id="105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5460"/>
                            </p:stCondLst>
                            <p:childTnLst>
                              <p:par>
                                <p:cTn id="105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5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6720"/>
                            </p:stCondLst>
                            <p:childTnLst>
                              <p:par>
                                <p:cTn id="10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8720"/>
                            </p:stCondLst>
                            <p:childTnLst>
                              <p:par>
                                <p:cTn id="10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9220"/>
                            </p:stCondLst>
                            <p:childTnLst>
                              <p:par>
                                <p:cTn id="10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9720"/>
                            </p:stCondLst>
                            <p:childTnLst>
                              <p:par>
                                <p:cTn id="10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30220"/>
                            </p:stCondLst>
                            <p:childTnLst>
                              <p:par>
                                <p:cTn id="107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ублицист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-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обый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ип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литературны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й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,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орых</a:t>
            </a:r>
            <a:r>
              <a:rPr b="0" i="1" lang="en-US" sz="40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вещаются, разъясня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актуальные вопросы общественно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олитической жизни, поднимаются нравственные пробл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7229520" y="1125360"/>
            <a:ext cx="1914480" cy="3089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8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иль радио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телевиде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газет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журна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атей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одновремен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воздейств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читател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луш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: информация, критическая заметка,  репортаж ,интервью ,стат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ецензия, зарисовка, очерк ,фельетон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153200" y="2492280"/>
            <a:ext cx="19908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11440" y="58975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ОРАТОРСКАЯ  РЕЧЬ,  СУДЕБНАЯ РЕЧЬ . ДО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Особенности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 публицистического стиля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635280" y="1341360"/>
            <a:ext cx="2881440" cy="3384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82320" y="1865160"/>
            <a:ext cx="2943720" cy="25628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.ЛОГ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.ОБРАЗ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.ЭМОЦИОНАЛЬ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4.ОЦЕНОЧ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.ПРИЗЫВ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3760" y="4384800"/>
            <a:ext cx="33537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.ОБЩЕСТВЕННО-ПОЛИ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ЧЕСКАЯ 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8000" y="5321160"/>
            <a:ext cx="54889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ажнейшее качество –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БЩЕДОСТУП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на рассчитана на широкую аудиторию и долж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 быть понятна всем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2000" y="1341360"/>
            <a:ext cx="2994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Чтоб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оздейств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 воображение и чув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тва читателя , испо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уются  ЭПИТ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АВНЕНИЯ , МЕ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ОР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просторе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а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 L 0.036 0.04796 L 0.072 0.04796 L 0.072 0.09592 L 0.108 0.09592 L 0.108 0.14388 L 0.144 0.14388 L 0.144 0.19184 L 0.18 0.19184 L 0.18 0.2398 L 0.216 0.2398 L 0.216 0.28776 L 0.252 0.28776 L 0.252 0.33572 E">
                                      <p:cBhvr>
                                        <p:cTn id="1171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920"/>
                            </p:stCondLst>
                            <p:childTnLst>
                              <p:par>
                                <p:cTn id="1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6800"/>
                            </p:stCondLst>
                            <p:childTnLst>
                              <p:par>
                                <p:cTn id="1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7360"/>
                            </p:stCondLst>
                            <p:childTnLst>
                              <p:par>
                                <p:cTn id="11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9360"/>
                            </p:stCondLst>
                            <p:childTnLst>
                              <p:par>
                                <p:cTn id="11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4784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03560" y="352440"/>
            <a:ext cx="68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ФИЦИАЛЬНО – ДЕЛОВОЙ     СТИЛЬ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658880" cy="295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225520" y="907920"/>
            <a:ext cx="691848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спольз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фициа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ст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вке ( сфера  законодательства ,  делопроизвод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дминистративно –правовой деятельности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16280" y="2276640"/>
            <a:ext cx="41889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информ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59280" y="3213000"/>
            <a:ext cx="594036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снов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зак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риказ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остан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резолюции, протоколы, акты ,справки , инстру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бъявления, деловые бумаги (заявление, рапорт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докладная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748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921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724280"/>
            <a:ext cx="421632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язы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.Официально – деловая лекс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.Устойчивые , стандартизиров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бороты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.Точность,не допускающая и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588000" y="515772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0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398240" y="115920"/>
            <a:ext cx="597492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фициально – деловой стиль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65000"/>
            <a:ext cx="798660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авов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лужеб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оизвод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тно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6880" y="1773360"/>
            <a:ext cx="63806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ообщение , информир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60" y="2421000"/>
            <a:ext cx="4773960" cy="2288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сновные чер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.Точ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допускающ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и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.Нелич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.Стандартизованность,стереотип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остроения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4.Долженствующ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едписывающ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харак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4200" y="4869000"/>
            <a:ext cx="8236440" cy="201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Языковые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1.Лексика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– широкое употребление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тандартных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оборотов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пециальной терми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.Синтакс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осложнё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ост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едло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3.Тип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реч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поч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отсутству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повеств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пис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4.Все документы лишены эмоциональности, отсутствуют изобраз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средства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29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40720" y="29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0720" y="3141720"/>
            <a:ext cx="1119240" cy="772920"/>
          </a:xfrm>
          <a:prstGeom prst="rightArrow">
            <a:avLst>
              <a:gd name="adj1" fmla="val 50000"/>
              <a:gd name="adj2" fmla="val 362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547640" cy="1014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3900"/>
                            </p:stCondLst>
                            <p:childTnLst>
                              <p:par>
                                <p:cTn id="1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900"/>
                            </p:stCondLst>
                            <p:childTnLst>
                              <p:par>
                                <p:cTn id="1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7900"/>
                            </p:stCondLst>
                            <p:childTnLst>
                              <p:par>
                                <p:cTn id="1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9900"/>
                            </p:stCondLst>
                            <p:childTnLst>
                              <p:par>
                                <p:cTn id="1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Схема научного стил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Речевая ситуац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35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27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2764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8800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3716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95040" y="5176800"/>
            <a:ext cx="5914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ЦЕЛЬ   - СООБЩЕНИЕ,ПЕРЕДАЧА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0856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160" y="6113520"/>
            <a:ext cx="871056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ев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р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влеч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бщ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ость , доказательность, неэмоциональность и объе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p:transition>
    <p:push dir="r"/>
  </p:transition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0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9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1" dur="8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680"/>
                            </p:stCondLst>
                            <p:childTnLst>
                              <p:par>
                                <p:cTn id="1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180"/>
                            </p:stCondLst>
                            <p:childTnLst>
                              <p:par>
                                <p:cTn id="1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68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318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3680"/>
                            </p:stCondLst>
                            <p:childTnLst>
                              <p:par>
                                <p:cTn id="1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4680"/>
                            </p:stCondLst>
                            <p:childTnLst>
                              <p:par>
                                <p:cTn id="1358" nodeType="after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59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60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61" dur="1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78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79" dur="1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5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96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97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4680"/>
                            </p:stCondLst>
                            <p:childTnLst>
                              <p:par>
                                <p:cTn id="1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0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6040"/>
                            </p:stCondLst>
                            <p:childTnLst>
                              <p:par>
                                <p:cTn id="14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11280" y="260280"/>
            <a:ext cx="7489800" cy="432000"/>
          </a:xfrm>
          <a:prstGeom prst="rect">
            <a:avLst/>
          </a:prstGeom>
          <a:solidFill>
            <a:srgbClr val="00ffff">
              <a:alpha val="35000"/>
            </a:srgbClr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97120" y="189000"/>
            <a:ext cx="659088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тилистический          экспери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20" y="692280"/>
            <a:ext cx="1235160" cy="3988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11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12560" y="1000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05280" y="765000"/>
            <a:ext cx="7919640" cy="1585800"/>
          </a:xfrm>
          <a:prstGeom prst="rect">
            <a:avLst/>
          </a:prstGeom>
          <a:gradFill rotWithShape="0">
            <a:gsLst>
              <a:gs pos="0">
                <a:srgbClr val="00ffcc">
                  <a:alpha val="17254"/>
                </a:srgbClr>
              </a:gs>
              <a:gs pos="100000">
                <a:srgbClr val="ffff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.Прочитайте текст два раза.  При первом чтении используйте перв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синоним, данный в скобках, а затем прочитайте текст со вторым си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нимом . Что получилос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.В чём заключается разница между двумя прозвучавшими текста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.Что получится, если прочитать текст ещё  один раз, используя то первый, то втор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синони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6676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0" y="2565360"/>
            <a:ext cx="9203040" cy="2014200"/>
          </a:xfrm>
          <a:prstGeom prst="rect">
            <a:avLst/>
          </a:prstGeom>
          <a:gradFill rotWithShape="0">
            <a:gsLst>
              <a:gs pos="0">
                <a:srgbClr val="00ffff">
                  <a:alpha val="96078"/>
                </a:srgbClr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 ручья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ыросл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ымахала)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красавица Роза . На ветку перед ней 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е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згромо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дилс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) Соловей . С восхищением он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мотре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уставился)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на Розу,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оспева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асхвалива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её красоту . Соловьиные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трел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реща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звучали над ручьём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тот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тори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оддакивал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им тихим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журчанием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бульканьем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о пришла осень.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пал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твалилис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лепестки прекрасной Розы. Ручей (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унёс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волок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их вдаль , и (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молкл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заглохла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) соловьиная пес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.Смирн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797360"/>
            <a:ext cx="2413080" cy="2060640"/>
          </a:xfrm>
          <a:prstGeom prst="rect">
            <a:avLst/>
          </a:prstGeom>
          <a:ln w="0">
            <a:noFill/>
          </a:ln>
        </p:spPr>
      </p:pic>
      <p:sp>
        <p:nvSpPr>
          <p:cNvPr id="299" name="">
            <a:hlinkClick r:id="rId5" action="ppaction://hlinksldjump"/>
          </p:cNvPr>
          <p:cNvSpPr/>
          <p:nvPr/>
        </p:nvSpPr>
        <p:spPr>
          <a:xfrm>
            <a:off x="7451640" y="6237360"/>
            <a:ext cx="865440" cy="504720"/>
          </a:xfrm>
          <a:custGeom>
            <a:avLst/>
            <a:gdLst>
              <a:gd name="textAreaLeft" fmla="*/ 32400 w 865440"/>
              <a:gd name="textAreaRight" fmla="*/ 833040 w 865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7026" h="21600">
                <a:moveTo>
                  <a:pt x="0" y="0"/>
                </a:moveTo>
                <a:lnTo>
                  <a:pt x="37026" y="0"/>
                </a:lnTo>
                <a:lnTo>
                  <a:pt x="37026" y="21600"/>
                </a:lnTo>
                <a:lnTo>
                  <a:pt x="0" y="21600"/>
                </a:lnTo>
                <a:close/>
              </a:path>
              <a:path fill="lightenLess" w="37026" h="21600">
                <a:moveTo>
                  <a:pt x="0" y="0"/>
                </a:moveTo>
                <a:lnTo>
                  <a:pt x="37026" y="0"/>
                </a:lnTo>
                <a:lnTo>
                  <a:pt x="35626" y="1400"/>
                </a:lnTo>
                <a:lnTo>
                  <a:pt x="1400" y="1400"/>
                </a:lnTo>
                <a:close/>
              </a:path>
              <a:path fill="darken" w="37026" h="21600">
                <a:moveTo>
                  <a:pt x="37026" y="0"/>
                </a:moveTo>
                <a:lnTo>
                  <a:pt x="37026" y="21600"/>
                </a:lnTo>
                <a:lnTo>
                  <a:pt x="35626" y="20200"/>
                </a:lnTo>
                <a:lnTo>
                  <a:pt x="35626" y="1400"/>
                </a:lnTo>
                <a:close/>
              </a:path>
              <a:path fill="darkenLess" w="37026" h="21600">
                <a:moveTo>
                  <a:pt x="37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6" y="20200"/>
                </a:lnTo>
                <a:close/>
              </a:path>
              <a:path fill="lighten" w="37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26" h="21600">
                <a:moveTo>
                  <a:pt x="11507" y="7493"/>
                </a:moveTo>
                <a:lnTo>
                  <a:pt x="15014" y="7493"/>
                </a:lnTo>
                <a:lnTo>
                  <a:pt x="15014" y="12828"/>
                </a:lnTo>
                <a:cubicBezTo>
                  <a:pt x="15014" y="13751"/>
                  <a:pt x="15815" y="14482"/>
                  <a:pt x="16851" y="14482"/>
                </a:cubicBezTo>
                <a:lnTo>
                  <a:pt x="18513" y="14482"/>
                </a:lnTo>
                <a:cubicBezTo>
                  <a:pt x="19549" y="14482"/>
                  <a:pt x="20350" y="13751"/>
                  <a:pt x="20350" y="12828"/>
                </a:cubicBezTo>
                <a:lnTo>
                  <a:pt x="20350" y="7493"/>
                </a:lnTo>
                <a:lnTo>
                  <a:pt x="18513" y="7493"/>
                </a:lnTo>
                <a:lnTo>
                  <a:pt x="22021" y="3985"/>
                </a:lnTo>
                <a:lnTo>
                  <a:pt x="25694" y="7493"/>
                </a:lnTo>
                <a:lnTo>
                  <a:pt x="23857" y="7493"/>
                </a:lnTo>
                <a:lnTo>
                  <a:pt x="23857" y="12828"/>
                </a:lnTo>
                <a:cubicBezTo>
                  <a:pt x="23857" y="15596"/>
                  <a:pt x="21281" y="18155"/>
                  <a:pt x="18513" y="18155"/>
                </a:cubicBezTo>
                <a:lnTo>
                  <a:pt x="16851" y="18155"/>
                </a:lnTo>
                <a:cubicBezTo>
                  <a:pt x="14083" y="18155"/>
                  <a:pt x="11507" y="15596"/>
                  <a:pt x="11507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0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2260"/>
                            </p:stCondLst>
                            <p:childTnLst>
                              <p:par>
                                <p:cTn id="14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3260"/>
                            </p:stCondLst>
                            <p:childTnLst>
                              <p:par>
                                <p:cTn id="14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blipFill rotWithShape="0">
            <a:blip r:embed="rId2"/>
            <a:stretch/>
          </a:blip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Стилистический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Задани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.В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данном тексте встречаются синонимы к слову гла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глазёнки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,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гляделки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. С какой целью использовал их автор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.Как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меняются прилагательные и глаголы, оказавшись рядом с этими синонима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.Что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, по вашему мнению, будут представлять собой люди – обладатели  глаз, глазёнок , гляделок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2781360"/>
            <a:ext cx="111924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л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080" y="3213000"/>
            <a:ext cx="9097920" cy="36601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ыли глаза: чёрные, прекрасные. Взглянут – и смотрят, и спрашивают. И  были глазёнки: серые, плутоватые – всё шмыгают, ни на кого прямо не смотр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просили глаза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то вы бегаете? Чего ищете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бегали глазёнки, засуетились, говорят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  так себе ,понемножечку ,полегонечку , нельзя – помилуйте , надо ж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м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нает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 были гляделки : тусклые, нахальные .Уставятся и глядят. Спросили глаза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то вы смотрите ? Что види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косились гляделки , закричали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а как вы смеете? Да кто вы? Да кто мы ? Да мы вас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кали глаза глаз  таких же прекрасных , не нашли и сомкну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. Солог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firstslide"/>
          </p:cNvPr>
          <p:cNvSpPr/>
          <p:nvPr/>
        </p:nvSpPr>
        <p:spPr>
          <a:xfrm>
            <a:off x="8172360" y="6021360"/>
            <a:ext cx="647640" cy="603360"/>
          </a:xfrm>
          <a:custGeom>
            <a:avLst/>
            <a:gdLst>
              <a:gd name="textAreaLeft" fmla="*/ 38880 w 647640"/>
              <a:gd name="textAreaRight" fmla="*/ 608760 w 647640"/>
              <a:gd name="textAreaTop" fmla="*/ 38880 h 603360"/>
              <a:gd name="textAreaBottom" fmla="*/ 564480 h 603360"/>
            </a:gdLst>
            <a:ahLst/>
            <a:rect l="textAreaLeft" t="textAreaTop" r="textAreaRight" b="textAreaBottom"/>
            <a:pathLst>
              <a:path w="23184" h="21600">
                <a:moveTo>
                  <a:pt x="0" y="0"/>
                </a:moveTo>
                <a:lnTo>
                  <a:pt x="23184" y="0"/>
                </a:lnTo>
                <a:lnTo>
                  <a:pt x="23184" y="21600"/>
                </a:lnTo>
                <a:lnTo>
                  <a:pt x="0" y="21600"/>
                </a:lnTo>
                <a:close/>
              </a:path>
              <a:path fill="lightenLess" w="23184" h="21600">
                <a:moveTo>
                  <a:pt x="0" y="0"/>
                </a:moveTo>
                <a:lnTo>
                  <a:pt x="23184" y="0"/>
                </a:lnTo>
                <a:lnTo>
                  <a:pt x="21784" y="1400"/>
                </a:lnTo>
                <a:lnTo>
                  <a:pt x="1400" y="1400"/>
                </a:lnTo>
                <a:close/>
              </a:path>
              <a:path fill="darken" w="23184" h="21600">
                <a:moveTo>
                  <a:pt x="23184" y="0"/>
                </a:moveTo>
                <a:lnTo>
                  <a:pt x="23184" y="21600"/>
                </a:lnTo>
                <a:lnTo>
                  <a:pt x="21784" y="20200"/>
                </a:lnTo>
                <a:lnTo>
                  <a:pt x="21784" y="1400"/>
                </a:lnTo>
                <a:close/>
              </a:path>
              <a:path fill="darkenLess" w="23184" h="21600">
                <a:moveTo>
                  <a:pt x="23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84" y="20200"/>
                </a:lnTo>
                <a:close/>
              </a:path>
              <a:path fill="lighten" w="23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84" h="21600">
                <a:moveTo>
                  <a:pt x="4586" y="7493"/>
                </a:moveTo>
                <a:lnTo>
                  <a:pt x="8093" y="7493"/>
                </a:lnTo>
                <a:lnTo>
                  <a:pt x="8093" y="12828"/>
                </a:lnTo>
                <a:cubicBezTo>
                  <a:pt x="8093" y="13751"/>
                  <a:pt x="8894" y="14482"/>
                  <a:pt x="9930" y="14482"/>
                </a:cubicBezTo>
                <a:lnTo>
                  <a:pt x="11592" y="14482"/>
                </a:lnTo>
                <a:cubicBezTo>
                  <a:pt x="12628" y="14482"/>
                  <a:pt x="13429" y="13751"/>
                  <a:pt x="13429" y="12828"/>
                </a:cubicBezTo>
                <a:lnTo>
                  <a:pt x="13429" y="7493"/>
                </a:lnTo>
                <a:lnTo>
                  <a:pt x="11592" y="7493"/>
                </a:lnTo>
                <a:lnTo>
                  <a:pt x="15100" y="3985"/>
                </a:lnTo>
                <a:lnTo>
                  <a:pt x="18773" y="7493"/>
                </a:lnTo>
                <a:lnTo>
                  <a:pt x="16936" y="7493"/>
                </a:lnTo>
                <a:lnTo>
                  <a:pt x="16936" y="12828"/>
                </a:lnTo>
                <a:cubicBezTo>
                  <a:pt x="16936" y="15596"/>
                  <a:pt x="14360" y="18155"/>
                  <a:pt x="11592" y="18155"/>
                </a:cubicBezTo>
                <a:lnTo>
                  <a:pt x="9930" y="18155"/>
                </a:lnTo>
                <a:cubicBezTo>
                  <a:pt x="7162" y="18155"/>
                  <a:pt x="4586" y="15596"/>
                  <a:pt x="4586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0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9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3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7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5280"/>
                            </p:stCondLst>
                            <p:childTnLst>
                              <p:par>
                                <p:cTn id="1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5554800" cy="79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Типы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560" y="1622520"/>
            <a:ext cx="223812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0560" y="1647720"/>
            <a:ext cx="203508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Описа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73080" y="1603440"/>
            <a:ext cx="1854000" cy="398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0" y="981000"/>
            <a:ext cx="0" cy="6476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18728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0" y="981000"/>
            <a:ext cx="3384720" cy="576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50920" y="2492280"/>
            <a:ext cx="0" cy="2160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2492280"/>
            <a:ext cx="23763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627280" y="2492280"/>
            <a:ext cx="0" cy="2089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2360" y="2421000"/>
            <a:ext cx="2016360" cy="2232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565360"/>
            <a:ext cx="0" cy="21589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43640" y="2349360"/>
            <a:ext cx="1441440" cy="1656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708360" y="2924280"/>
            <a:ext cx="1657440" cy="1295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 flipH="1" rot="21327000">
            <a:off x="539640" y="2491560"/>
            <a:ext cx="2013120" cy="1101960"/>
          </a:xfrm>
          <a:prstGeom prst="rect">
            <a:avLst/>
          </a:prstGeom>
          <a:ln w="0">
            <a:noFill/>
          </a:ln>
        </p:spPr>
      </p:pic>
      <p:sp>
        <p:nvSpPr>
          <p:cNvPr id="323" name="Tree"/>
          <p:cNvSpPr/>
          <p:nvPr/>
        </p:nvSpPr>
        <p:spPr>
          <a:xfrm>
            <a:off x="539640" y="3284640"/>
            <a:ext cx="1871640" cy="136836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1763640" y="4365720"/>
            <a:ext cx="936720" cy="541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58040" y="5105520"/>
            <a:ext cx="23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Что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произош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3640" y="5392800"/>
            <a:ext cx="25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рисун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(фотограф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66720" y="61135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лаг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5157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а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дин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(фотограф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илагательные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41640" y="5032440"/>
            <a:ext cx="186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ет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рисун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фотограф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а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0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7560"/>
                            </p:stCondLst>
                            <p:childTnLst>
                              <p:par>
                                <p:cTn id="1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8060"/>
                            </p:stCondLst>
                            <p:childTnLst>
                              <p:par>
                                <p:cTn id="15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2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8380"/>
                            </p:stCondLst>
                            <p:childTnLst>
                              <p:par>
                                <p:cTn id="15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8880"/>
                            </p:stCondLst>
                            <p:childTnLst>
                              <p:par>
                                <p:cTn id="1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9380"/>
                            </p:stCondLst>
                            <p:childTnLst>
                              <p:par>
                                <p:cTn id="15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9880"/>
                            </p:stCondLst>
                            <p:childTnLst>
                              <p:par>
                                <p:cTn id="15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380"/>
                            </p:stCondLst>
                            <p:childTnLst>
                              <p:par>
                                <p:cTn id="1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9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0" dur="8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700"/>
                            </p:stCondLst>
                            <p:childTnLst>
                              <p:par>
                                <p:cTn id="15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4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11200"/>
                            </p:stCondLst>
                            <p:childTnLst>
                              <p:par>
                                <p:cTn id="1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11700"/>
                            </p:stCondLst>
                            <p:childTnLst>
                              <p:par>
                                <p:cTn id="15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2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98760" y="609480"/>
            <a:ext cx="1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692280"/>
            <a:ext cx="345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720" y="189000"/>
            <a:ext cx="70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Устная и письменная ре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268280"/>
            <a:ext cx="594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Для чего человеку нужна речь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Устная реч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Характеристика устной реч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8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 «Голос . Особенности интонаци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«Невербальные средст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бщ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Пожалуйста ,потише…».Зад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лас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1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. «Как вести себя во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зговор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12. «Письменная речь и е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зновидно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лайд 13. «Письменная реч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7093080" y="6237360"/>
            <a:ext cx="863640" cy="50472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6949" h="21600">
                <a:moveTo>
                  <a:pt x="0" y="0"/>
                </a:moveTo>
                <a:lnTo>
                  <a:pt x="36949" y="0"/>
                </a:lnTo>
                <a:lnTo>
                  <a:pt x="36949" y="21600"/>
                </a:lnTo>
                <a:lnTo>
                  <a:pt x="0" y="21600"/>
                </a:lnTo>
                <a:close/>
              </a:path>
              <a:path fill="lightenLess" w="36949" h="21600">
                <a:moveTo>
                  <a:pt x="0" y="0"/>
                </a:moveTo>
                <a:lnTo>
                  <a:pt x="36949" y="0"/>
                </a:lnTo>
                <a:lnTo>
                  <a:pt x="35549" y="1400"/>
                </a:lnTo>
                <a:lnTo>
                  <a:pt x="1400" y="1400"/>
                </a:lnTo>
                <a:close/>
              </a:path>
              <a:path fill="darken" w="36949" h="21600">
                <a:moveTo>
                  <a:pt x="36949" y="0"/>
                </a:moveTo>
                <a:lnTo>
                  <a:pt x="36949" y="21600"/>
                </a:lnTo>
                <a:lnTo>
                  <a:pt x="35549" y="20200"/>
                </a:lnTo>
                <a:lnTo>
                  <a:pt x="35549" y="1400"/>
                </a:lnTo>
                <a:close/>
              </a:path>
              <a:path fill="darkenLess" w="36949" h="21600">
                <a:moveTo>
                  <a:pt x="36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49" y="20200"/>
                </a:lnTo>
                <a:close/>
              </a:path>
              <a:path fill="lighten" w="36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49" h="21600">
                <a:moveTo>
                  <a:pt x="11468" y="7493"/>
                </a:moveTo>
                <a:lnTo>
                  <a:pt x="14976" y="7493"/>
                </a:lnTo>
                <a:lnTo>
                  <a:pt x="14976" y="12828"/>
                </a:lnTo>
                <a:cubicBezTo>
                  <a:pt x="14976" y="13751"/>
                  <a:pt x="15777" y="14482"/>
                  <a:pt x="16812" y="14482"/>
                </a:cubicBezTo>
                <a:lnTo>
                  <a:pt x="18475" y="14482"/>
                </a:lnTo>
                <a:cubicBezTo>
                  <a:pt x="19510" y="14482"/>
                  <a:pt x="20311" y="13751"/>
                  <a:pt x="20311" y="12828"/>
                </a:cubicBezTo>
                <a:lnTo>
                  <a:pt x="20311" y="7493"/>
                </a:lnTo>
                <a:lnTo>
                  <a:pt x="18475" y="7493"/>
                </a:lnTo>
                <a:lnTo>
                  <a:pt x="21982" y="3985"/>
                </a:lnTo>
                <a:lnTo>
                  <a:pt x="25655" y="7493"/>
                </a:lnTo>
                <a:lnTo>
                  <a:pt x="23819" y="7493"/>
                </a:lnTo>
                <a:lnTo>
                  <a:pt x="23819" y="12828"/>
                </a:lnTo>
                <a:cubicBezTo>
                  <a:pt x="23819" y="15596"/>
                  <a:pt x="21242" y="18155"/>
                  <a:pt x="18475" y="18155"/>
                </a:cubicBezTo>
                <a:lnTo>
                  <a:pt x="16812" y="18155"/>
                </a:lnTo>
                <a:cubicBezTo>
                  <a:pt x="14045" y="18155"/>
                  <a:pt x="11468" y="15596"/>
                  <a:pt x="11468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5832360" cy="86364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Типы речи . Повеств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1700280"/>
            <a:ext cx="867564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Повествование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– это рассказ, сообщение о каком – то событии в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временной последова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1200" y="2728800"/>
            <a:ext cx="905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омпозиционные особе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роизведения   повествовательного   типа   мог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ачинаться сразу с завязки и даже с развязки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(т.е. событие может передаваться в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прямой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, хронол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гической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следовательност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и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ратной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99"/>
                </a:solidFill>
                <a:uFillTx/>
                <a:latin typeface="Arial"/>
              </a:rPr>
              <a:t>когд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мы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начала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узнаём о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развязке , а потом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уже - о са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дей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твии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11280" y="48164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Выразительная  и изобразительная  сила  повест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ания заключается в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глядном представлени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дейст-в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66360" y="5753160"/>
            <a:ext cx="67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Особа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оль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принадлежи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лаголам,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обозначающ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последовательн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меняющие друг друга события ,п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могают развёртыванию пов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338" name="Picture 6" descr="Biz00017"/>
          <p:cNvPicPr/>
          <p:nvPr/>
        </p:nvPicPr>
        <p:blipFill>
          <a:blip r:embed="rId3"/>
          <a:stretch/>
        </p:blipFill>
        <p:spPr>
          <a:xfrm>
            <a:off x="0" y="3645000"/>
            <a:ext cx="3476520" cy="20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0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9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10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10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55800" y="281160"/>
            <a:ext cx="81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ВЕСТВОВАНИЕ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–это рассказ , сообщение о каком-то событии в 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временной  последователь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2160" y="1289160"/>
            <a:ext cx="69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Глав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оряд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ротек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действ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сю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54360" y="2081160"/>
            <a:ext cx="80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разитель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зобразитель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си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овество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режде всего в наглядном представлении действия, движени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и явлений во времени и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3240" y="3376440"/>
            <a:ext cx="871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собая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роль принадлежи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ГОЛА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, особенно формам прошедшего врем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и совершенного вида (они, обозначая последовательность событий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мог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ют  развёртыванию  повествования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7880" y="4673520"/>
            <a:ext cx="81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К  тексту – повествованию можно поставить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ЧТО  ПРОИЗОШЛ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1480" y="5608800"/>
            <a:ext cx="68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Метод фотографирования –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ЕСКОЛЬКО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ФОТОГРАФ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8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9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0" dur="8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699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0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0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1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Повествование и его</a:t>
            </a:r>
            <a:br>
              <a:rPr sz="4400"/>
            </a:br>
            <a:r>
              <a:rPr b="1" i="1" lang="en-US" sz="4400" spc="-1" strike="noStrike">
                <a:solidFill>
                  <a:srgbClr val="ff0000"/>
                </a:solidFill>
                <a:latin typeface="Monotype Corsiva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348" name="_s75781"/>
            <p:cNvCxnSpPr>
              <a:stCxn id="349" idx="0"/>
              <a:endCxn id="350" idx="2"/>
            </p:cNvCxnSpPr>
            <p:nvPr/>
          </p:nvCxnSpPr>
          <p:spPr>
            <a:xfrm flipV="1" rot="16200000">
              <a:off x="5718960" y="2261160"/>
              <a:ext cx="905400" cy="3201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51" name="_s75782"/>
            <p:cNvCxnSpPr>
              <a:stCxn id="352" idx="0"/>
              <a:endCxn id="350" idx="2"/>
            </p:cNvCxnSpPr>
            <p:nvPr/>
          </p:nvCxnSpPr>
          <p:spPr>
            <a:xfrm flipV="1" rot="16200000">
              <a:off x="4651920" y="3328200"/>
              <a:ext cx="905400" cy="1067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53" name="_s75783"/>
            <p:cNvCxnSpPr>
              <a:stCxn id="354" idx="0"/>
              <a:endCxn id="350" idx="2"/>
            </p:cNvCxnSpPr>
            <p:nvPr/>
          </p:nvCxnSpPr>
          <p:spPr>
            <a:xfrm flipH="1" flipV="1" rot="5400000">
              <a:off x="3585600" y="3328560"/>
              <a:ext cx="905400" cy="10670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355" name="_s75784"/>
            <p:cNvCxnSpPr>
              <a:stCxn id="356" idx="0"/>
              <a:endCxn id="350" idx="2"/>
            </p:cNvCxnSpPr>
            <p:nvPr/>
          </p:nvCxnSpPr>
          <p:spPr>
            <a:xfrm flipH="1" flipV="1" rot="5400000">
              <a:off x="2518560" y="2261520"/>
              <a:ext cx="905400" cy="3200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350" name="_s75785"/>
            <p:cNvSpPr/>
            <p:nvPr/>
          </p:nvSpPr>
          <p:spPr>
            <a:xfrm>
              <a:off x="3657240" y="1600200"/>
              <a:ext cx="1828440" cy="1809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3300"/>
              </a:solidFill>
              <a:miter/>
            </a:ln>
            <a:effectLst>
              <a:outerShdw dist="63504" dir="19383909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5786"/>
            <p:cNvSpPr/>
            <p:nvPr/>
          </p:nvSpPr>
          <p:spPr>
            <a:xfrm>
              <a:off x="457200" y="4314960"/>
              <a:ext cx="1828440" cy="1809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5787"/>
            <p:cNvSpPr/>
            <p:nvPr/>
          </p:nvSpPr>
          <p:spPr>
            <a:xfrm>
              <a:off x="2590560" y="4314960"/>
              <a:ext cx="1828440" cy="1809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5788"/>
            <p:cNvSpPr/>
            <p:nvPr/>
          </p:nvSpPr>
          <p:spPr>
            <a:xfrm>
              <a:off x="4724280" y="4314960"/>
              <a:ext cx="1828440" cy="1809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75789"/>
            <p:cNvSpPr/>
            <p:nvPr/>
          </p:nvSpPr>
          <p:spPr>
            <a:xfrm>
              <a:off x="6857640" y="4314960"/>
              <a:ext cx="1828440" cy="1809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6600"/>
              </a:solidFill>
              <a:miter/>
            </a:ln>
            <a:effectLst>
              <a:outerShdw dist="63504" dir="19383909" blurRad="0" rotWithShape="0">
                <a:srgbClr val="99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95280" y="4869000"/>
            <a:ext cx="19494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в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35120" y="481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27280" y="4869000"/>
            <a:ext cx="1719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Завя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67984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44360" y="4869000"/>
            <a:ext cx="181872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Развя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637800" y="1844640"/>
            <a:ext cx="19011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УЛЬ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572000" y="4076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3200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492360" y="3429000"/>
            <a:ext cx="1079640" cy="720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0" y="3429000"/>
            <a:ext cx="1079640" cy="79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51640" y="4149720"/>
            <a:ext cx="216036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7"/>
          <a:stretch/>
        </p:blipFill>
        <p:spPr>
          <a:xfrm>
            <a:off x="684360" y="765000"/>
            <a:ext cx="2201760" cy="33847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877080" y="4869000"/>
            <a:ext cx="204948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8"/>
          <a:stretch/>
        </p:blipFill>
        <p:spPr>
          <a:xfrm>
            <a:off x="6804000" y="189000"/>
            <a:ext cx="2340000" cy="1533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0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2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5997600" cy="719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Описание и его стру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052640"/>
            <a:ext cx="894204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Описание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– словесное изображение какого - либо явления действител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ости  путём  перечисления  и  раскрытия   его  основных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знаков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2840" y="1916280"/>
            <a:ext cx="768492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Цель описания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– сделать так , чтобы читатель (слуша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увидел предмет описания,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едставил его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в своём созн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3716280"/>
            <a:ext cx="5022360" cy="234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Композиция опис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1.Общее представление о предм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2.Отдельные признаки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(описание деталей, част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3.Авторская оценка, вывод ,заключени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500800" y="2890800"/>
            <a:ext cx="3643200" cy="3965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Языковые 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Широкое   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лов, обозначающих качест-ва , свойства  предмет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. Употребление   глаголов несовершенного  вида  в форме прошедшег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  для  особой  наглядности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изобразительности – в фор-ме настоящег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Важную   роль  играют определения , назывные  и  неполные  предложен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380360" y="115920"/>
            <a:ext cx="1619280" cy="1060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2" dur="indefinite" restart="never" nodeType="tmRoot">
          <p:childTnLst>
            <p:seq>
              <p:cTn id="1773" dur="indefinite" nodeType="mainSeq">
                <p:childTnLst>
                  <p:par>
                    <p:cTn id="1774" fill="hold">
                      <p:stCondLst>
                        <p:cond delay="0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9" dur="8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0" dur="8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4460"/>
                            </p:stCondLst>
                            <p:childTnLst>
                              <p:par>
                                <p:cTn id="18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4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5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8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2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6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0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5" fill="hold">
                            <p:stCondLst>
                              <p:cond delay="8500"/>
                            </p:stCondLst>
                            <p:childTnLst>
                              <p:par>
                                <p:cTn id="1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8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692360" y="2276640"/>
            <a:ext cx="619272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Объекты опис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в  зависимости  от   ситуации   и целей могут быть самые  ра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3419640" y="4005360"/>
            <a:ext cx="2232000" cy="20746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011320" cy="16556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6588000" y="333360"/>
            <a:ext cx="2011320" cy="15843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6516720" y="4292640"/>
            <a:ext cx="2338200" cy="20019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468360" y="4149720"/>
            <a:ext cx="1660320" cy="2087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3635280" y="189000"/>
            <a:ext cx="1650960" cy="143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4427640" y="3500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1618920" y="3429000"/>
            <a:ext cx="280836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7640" y="3429000"/>
            <a:ext cx="309708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427640" y="1628280"/>
            <a:ext cx="0" cy="505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339640" y="1052280"/>
            <a:ext cx="208764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4427640" y="1052280"/>
            <a:ext cx="2089080" cy="10810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0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7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8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9" dur="8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960"/>
                            </p:stCondLst>
                            <p:childTnLst>
                              <p:par>
                                <p:cTn id="18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2460"/>
                            </p:stCondLst>
                            <p:childTnLst>
                              <p:par>
                                <p:cTn id="18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7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4460"/>
                            </p:stCondLst>
                            <p:childTnLst>
                              <p:par>
                                <p:cTn id="18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4960"/>
                            </p:stCondLst>
                            <p:childTnLst>
                              <p:par>
                                <p:cTn id="188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6960"/>
                            </p:stCondLst>
                            <p:childTnLst>
                              <p:par>
                                <p:cTn id="18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7460"/>
                            </p:stCondLst>
                            <p:childTnLst>
                              <p:par>
                                <p:cTn id="189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9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9460"/>
                            </p:stCondLst>
                            <p:childTnLst>
                              <p:par>
                                <p:cTn id="1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9960"/>
                            </p:stCondLst>
                            <p:childTnLst>
                              <p:par>
                                <p:cTn id="189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11960"/>
                            </p:stCondLst>
                            <p:childTnLst>
                              <p:par>
                                <p:cTn id="1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12460"/>
                            </p:stCondLst>
                            <p:childTnLst>
                              <p:par>
                                <p:cTn id="190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4460"/>
                            </p:stCondLst>
                            <p:childTnLst>
                              <p:par>
                                <p:cTn id="19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14960"/>
                            </p:stCondLst>
                            <p:childTnLst>
                              <p:par>
                                <p:cTn id="191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1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539640" y="333360"/>
            <a:ext cx="684072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Рассуждение  и  его  струк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9320" y="1263600"/>
            <a:ext cx="8882640" cy="673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Рассужде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– это словесное  изложение , разъяснение, подтвер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    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какой – либо мысли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0520" y="2198520"/>
            <a:ext cx="9053280" cy="1221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– очен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ажный тип речи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: чтобы  убедить в чём – то, на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уметь рассуждать , доказывать , логически мыслить , делать обоснова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ные выводы . Это умение необходимо ,чтобы опровергнуть точку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ппонента , с которым вы не согла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00000" y="3573360"/>
            <a:ext cx="8244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Ком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 Тезис ( высказывается какая – то мысль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 Аргументы( доказательства  или  опровержение  этой  мыс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а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б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в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627280" y="5084640"/>
            <a:ext cx="914400" cy="609840"/>
          </a:xfrm>
          <a:prstGeom prst="rightArrowCallout">
            <a:avLst>
              <a:gd name="adj1" fmla="val 25002"/>
              <a:gd name="adj2" fmla="val 25000"/>
              <a:gd name="adj3" fmla="val 24990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18360" y="5176800"/>
            <a:ext cx="5456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бедительные, сопровождаемые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0720" y="58053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. Вывод ( заключение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1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9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0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1" dur="8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900"/>
                            </p:stCondLst>
                            <p:childTnLst>
                              <p:par>
                                <p:cTn id="19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5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6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8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4580"/>
                            </p:stCondLst>
                            <p:childTnLst>
                              <p:par>
                                <p:cTn id="19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80"/>
                            </p:stCondLst>
                            <p:childTnLst>
                              <p:par>
                                <p:cTn id="19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8" fill="hold">
                            <p:stCondLst>
                              <p:cond delay="5580"/>
                            </p:stCondLst>
                            <p:childTnLst>
                              <p:par>
                                <p:cTn id="19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1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2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8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6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7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8" dur="8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2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3" dur="8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6" dur="8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7" dur="8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8" dur="8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1" dur="8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2" dur="8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3" dur="8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7700"/>
                            </p:stCondLst>
                            <p:childTnLst>
                              <p:par>
                                <p:cTn id="19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9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1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2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3" dur="8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4" fill="hold">
                            <p:stCondLst>
                              <p:cond delay="9680"/>
                            </p:stCondLst>
                            <p:childTnLst>
                              <p:par>
                                <p:cTn id="1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8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9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8101080" cy="1068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0000"/>
                </a:solidFill>
                <a:latin typeface="Monotype Corsiva"/>
              </a:rPr>
              <a:t>Рассуждение и его характерные особ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2492280"/>
            <a:ext cx="232416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Важно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,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19480" y="907920"/>
            <a:ext cx="6824520" cy="420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тезис был доказуемым и чётко сформулиров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аргументы  были убедительными, их должно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достаточно  для  доказательства  вашего   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между тезисом и аргументами, а также отде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ргументами устанавливалась логическая  и грам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- 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   матическая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каждый аргумент подтверждал именно выдвинутый        вами тезис , а не что – то другое ( факт – самое  бе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порное доказатель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) для грамматической  связи  между  аргументами ,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также между тезисом и аргументам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ользова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вводны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лов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: во – первых , во – вторых , наконец ,           итак , следовательно , таким обра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7440" y="5084640"/>
            <a:ext cx="386892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Жанровые формы рассу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9280" y="6093000"/>
            <a:ext cx="106200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ись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76360" y="6093000"/>
            <a:ext cx="13492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тат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058560" y="6093000"/>
            <a:ext cx="55954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ецензия        Доклад       Полемический ди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826920" y="5516640"/>
            <a:ext cx="3313440" cy="504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924360" y="5516640"/>
            <a:ext cx="21600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11640" y="5516640"/>
            <a:ext cx="108108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979640" y="5516640"/>
            <a:ext cx="223200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140360" y="5516640"/>
            <a:ext cx="3240000" cy="576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1014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0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6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7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8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1980"/>
                            </p:stCondLst>
                            <p:childTnLst>
                              <p:par>
                                <p:cTn id="20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3" fill="hold">
                            <p:stCondLst>
                              <p:cond delay="2480"/>
                            </p:stCondLst>
                            <p:childTnLst>
                              <p:par>
                                <p:cTn id="202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5980"/>
                            </p:stCondLst>
                            <p:childTnLst>
                              <p:par>
                                <p:cTn id="20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6480"/>
                            </p:stCondLst>
                            <p:childTnLst>
                              <p:par>
                                <p:cTn id="20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6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7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8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6760"/>
                            </p:stCondLst>
                            <p:childTnLst>
                              <p:par>
                                <p:cTn id="2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3" fill="hold">
                            <p:stCondLst>
                              <p:cond delay="7260"/>
                            </p:stCondLst>
                            <p:childTnLst>
                              <p:par>
                                <p:cTn id="20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6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7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8" dur="8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7540"/>
                            </p:stCondLst>
                            <p:childTnLst>
                              <p:par>
                                <p:cTn id="2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8039"/>
                            </p:stCondLst>
                            <p:childTnLst>
                              <p:par>
                                <p:cTn id="20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6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8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9360"/>
                            </p:stCondLst>
                            <p:childTnLst>
                              <p:par>
                                <p:cTn id="20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9860"/>
                            </p:stCondLst>
                            <p:childTnLst>
                              <p:par>
                                <p:cTn id="20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6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7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8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11180"/>
                            </p:stCondLst>
                            <p:childTnLst>
                              <p:par>
                                <p:cTn id="2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11680"/>
                            </p:stCondLst>
                            <p:childTnLst>
                              <p:par>
                                <p:cTn id="2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13" name=""/>
          <p:cNvSpPr/>
          <p:nvPr/>
        </p:nvSpPr>
        <p:spPr>
          <a:xfrm>
            <a:off x="169200" y="2108160"/>
            <a:ext cx="7640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Розенталь Д.Э., Теленкова М.А. Словарь-справо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лингвистических терминов. М.: Просвещение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УМК  по русскому языку под редакцией Бабайцевой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-9класс.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.:Дрофа,2008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4. http://www.gifzona.ru/i/ok_d/05.g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03640" y="0"/>
            <a:ext cx="2039760" cy="106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Monotype Corsiva"/>
              </a:rPr>
              <a:t>Стили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76280"/>
            <a:ext cx="7850160" cy="6066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4.  Выбор стиля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«Стили речи».(Стихотворение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Стили речи (опорный конспек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Разговорный стиль и его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1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Художественный ст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Художественный стиль и его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  Публицистический ст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Публицистический стиль . Сфера употребления,            цель, жан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Особенности публицистического сти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Официально – деловой сти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Официально – деловой стиль и его особ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Схема научного стиля р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Стилистический экспериме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айд 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 Стилистический эксперимент 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7451640" y="587700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7493"/>
                </a:moveTo>
                <a:lnTo>
                  <a:pt x="16319" y="7493"/>
                </a:lnTo>
                <a:lnTo>
                  <a:pt x="16319" y="12828"/>
                </a:lnTo>
                <a:cubicBezTo>
                  <a:pt x="16319" y="13751"/>
                  <a:pt x="17120" y="14482"/>
                  <a:pt x="18156" y="14482"/>
                </a:cubicBezTo>
                <a:lnTo>
                  <a:pt x="19818" y="14482"/>
                </a:lnTo>
                <a:cubicBezTo>
                  <a:pt x="20854" y="14482"/>
                  <a:pt x="21654" y="13751"/>
                  <a:pt x="21654" y="12828"/>
                </a:cubicBezTo>
                <a:lnTo>
                  <a:pt x="21654" y="7493"/>
                </a:lnTo>
                <a:lnTo>
                  <a:pt x="19818" y="7493"/>
                </a:lnTo>
                <a:lnTo>
                  <a:pt x="23326" y="3985"/>
                </a:lnTo>
                <a:lnTo>
                  <a:pt x="26999" y="7493"/>
                </a:lnTo>
                <a:lnTo>
                  <a:pt x="25162" y="7493"/>
                </a:lnTo>
                <a:lnTo>
                  <a:pt x="25162" y="12828"/>
                </a:lnTo>
                <a:cubicBezTo>
                  <a:pt x="25162" y="15596"/>
                  <a:pt x="22586" y="18155"/>
                  <a:pt x="19818" y="18155"/>
                </a:cubicBezTo>
                <a:lnTo>
                  <a:pt x="18156" y="18155"/>
                </a:lnTo>
                <a:cubicBezTo>
                  <a:pt x="15388" y="18155"/>
                  <a:pt x="12812" y="15596"/>
                  <a:pt x="12812" y="12828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60920" y="187200"/>
            <a:ext cx="27939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Типы</a:t>
            </a:r>
            <a:r>
              <a:rPr b="1" i="1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052640"/>
            <a:ext cx="8137440" cy="508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28. Типы речи . Повествование, описание ,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рассуж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29.  Типы речи. Повествовани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0. Повеств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1. Структура пов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2. Описание и его струк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3. Объекты опис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4. Рассуждение и его структ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лайд 35. Рассуждение и его характерные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308720" y="5950080"/>
            <a:ext cx="935280" cy="647640"/>
          </a:xfrm>
          <a:custGeom>
            <a:avLst/>
            <a:gdLst>
              <a:gd name="textAreaLeft" fmla="*/ 41760 w 935280"/>
              <a:gd name="textAreaRight" fmla="*/ 893520 w 9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88" h="21600">
                <a:moveTo>
                  <a:pt x="0" y="0"/>
                </a:moveTo>
                <a:lnTo>
                  <a:pt x="31188" y="0"/>
                </a:lnTo>
                <a:lnTo>
                  <a:pt x="31188" y="21600"/>
                </a:lnTo>
                <a:lnTo>
                  <a:pt x="0" y="21600"/>
                </a:lnTo>
                <a:close/>
              </a:path>
              <a:path fill="lightenLess" w="31188" h="21600">
                <a:moveTo>
                  <a:pt x="0" y="0"/>
                </a:moveTo>
                <a:lnTo>
                  <a:pt x="31188" y="0"/>
                </a:lnTo>
                <a:lnTo>
                  <a:pt x="29788" y="1400"/>
                </a:lnTo>
                <a:lnTo>
                  <a:pt x="1400" y="1400"/>
                </a:lnTo>
                <a:close/>
              </a:path>
              <a:path fill="darken" w="31188" h="21600">
                <a:moveTo>
                  <a:pt x="31188" y="0"/>
                </a:moveTo>
                <a:lnTo>
                  <a:pt x="31188" y="21600"/>
                </a:lnTo>
                <a:lnTo>
                  <a:pt x="29788" y="20200"/>
                </a:lnTo>
                <a:lnTo>
                  <a:pt x="29788" y="1400"/>
                </a:lnTo>
                <a:close/>
              </a:path>
              <a:path fill="darkenLess" w="31188" h="21600">
                <a:moveTo>
                  <a:pt x="3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8" y="20200"/>
                </a:lnTo>
                <a:close/>
              </a:path>
              <a:path fill="lighten" w="3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8" h="21600">
                <a:moveTo>
                  <a:pt x="8588" y="7493"/>
                </a:moveTo>
                <a:lnTo>
                  <a:pt x="12095" y="7493"/>
                </a:lnTo>
                <a:lnTo>
                  <a:pt x="12095" y="12828"/>
                </a:lnTo>
                <a:cubicBezTo>
                  <a:pt x="12095" y="13751"/>
                  <a:pt x="12896" y="14482"/>
                  <a:pt x="13932" y="14482"/>
                </a:cubicBezTo>
                <a:lnTo>
                  <a:pt x="15594" y="14482"/>
                </a:lnTo>
                <a:cubicBezTo>
                  <a:pt x="16630" y="14482"/>
                  <a:pt x="17430" y="13751"/>
                  <a:pt x="17430" y="12828"/>
                </a:cubicBezTo>
                <a:lnTo>
                  <a:pt x="17430" y="7493"/>
                </a:lnTo>
                <a:lnTo>
                  <a:pt x="15594" y="7493"/>
                </a:lnTo>
                <a:lnTo>
                  <a:pt x="19102" y="3985"/>
                </a:lnTo>
                <a:lnTo>
                  <a:pt x="22775" y="7493"/>
                </a:lnTo>
                <a:lnTo>
                  <a:pt x="20938" y="7493"/>
                </a:lnTo>
                <a:lnTo>
                  <a:pt x="20938" y="12828"/>
                </a:lnTo>
                <a:cubicBezTo>
                  <a:pt x="20938" y="15596"/>
                  <a:pt x="18362" y="18155"/>
                  <a:pt x="15594" y="18155"/>
                </a:cubicBezTo>
                <a:lnTo>
                  <a:pt x="13932" y="18155"/>
                </a:lnTo>
                <a:cubicBezTo>
                  <a:pt x="11164" y="18155"/>
                  <a:pt x="8588" y="15596"/>
                  <a:pt x="8588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632160" y="189000"/>
            <a:ext cx="8730360" cy="703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>
                  <a:alpha val="9607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Для чего нужна человеку речь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060640"/>
            <a:ext cx="2640240" cy="398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ЧЬ ПОМО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61640" y="1011240"/>
            <a:ext cx="628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бщ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елиться  мыслями ,чув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Договориться о чём- ниб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Согласовать с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охвалить, развеселить, рассме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Предостеречь, посовето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Monotype Corsiva"/>
              </a:rPr>
              <a:t>Остано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771640" y="1267920"/>
            <a:ext cx="1871640" cy="79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771640" y="1484280"/>
            <a:ext cx="194472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987640" y="1916280"/>
            <a:ext cx="165744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492280"/>
            <a:ext cx="194292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2349360"/>
            <a:ext cx="1800000" cy="28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227664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3787920"/>
            <a:ext cx="691344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СТНАЯ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ЧЬ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ЕЁ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ЗНОВИ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4719600"/>
            <a:ext cx="151920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ДИ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73800" y="4797360"/>
            <a:ext cx="169416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ПОЛИ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99840" y="5608800"/>
            <a:ext cx="226548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МОНО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4292640"/>
            <a:ext cx="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195280" y="4292640"/>
            <a:ext cx="230508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4292640"/>
            <a:ext cx="244764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00000" cy="1179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5445000"/>
            <a:ext cx="1311120" cy="836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067280" y="5992920"/>
            <a:ext cx="865080" cy="787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732720" y="5373720"/>
            <a:ext cx="931680" cy="622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7812000" y="5013360"/>
            <a:ext cx="892440" cy="809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7596360" y="5734080"/>
            <a:ext cx="760320" cy="5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72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22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72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22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2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22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72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УСТНАЯ       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1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.Те,кто говорят, видят и слышат друг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2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.Говорят, на ходу исправляя лишь те ошибки , которые заметя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Monotype Corsiva"/>
              </a:rPr>
              <a:t>3.</a:t>
            </a: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Говорящий видит реакцию собесе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56720" y="49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1343160" cy="132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path" presetID="6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 0 L 0 -0.33302 E">
                                      <p:cBhvr>
                                        <p:cTn id="18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ХАРАКТЕРИСТИКИ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устной  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1.ТЕМП  (скорость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2.ГРОМКОСТЬ (сила звуч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3.ТЕМБР (окраска голо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4.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5013360"/>
            <a:ext cx="1185120" cy="520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ТЕ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64160" y="4456080"/>
            <a:ext cx="2713680" cy="2288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Норм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Скороговор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Замед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Очень мед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63640" y="530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5300640"/>
            <a:ext cx="187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908000" y="4652640"/>
            <a:ext cx="180036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268360" y="5084640"/>
            <a:ext cx="721080" cy="1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445000"/>
            <a:ext cx="187164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5516640"/>
            <a:ext cx="151272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68360" y="5445000"/>
            <a:ext cx="1440000" cy="1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343160" cy="1323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659640" y="4724280"/>
            <a:ext cx="1873080" cy="162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914200" y="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ГОЛ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9960" y="1125360"/>
            <a:ext cx="843768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ВЫСОКИЙ   НИЗКИЙ   ЕХИДНЫЙ    РОБКИЙ    ВКРАДЧИВЫЙ      ГРУ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16000" y="476280"/>
            <a:ext cx="2735280" cy="57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771640" y="549360"/>
            <a:ext cx="115272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76280"/>
            <a:ext cx="3311640" cy="57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8000" y="549360"/>
            <a:ext cx="180000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995280" y="620640"/>
            <a:ext cx="289080" cy="43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20640"/>
            <a:ext cx="647640" cy="4320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2280"/>
            <a:ext cx="9144000" cy="5244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1.Прочитайте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диалог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, учитывая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окраску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голоса</a:t>
            </a:r>
            <a:r>
              <a:rPr b="1" lang="ru-RU" sz="2800" spc="-1" strike="noStrike">
                <a:solidFill>
                  <a:srgbClr val="0000cc"/>
                </a:solidFill>
                <a:latin typeface="Monotype Corsiv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- Алло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.Слушаю в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- Павлик до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- Нет, он ещё не приходил из школ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Monotype Corsiva"/>
              </a:rPr>
              <a:t>Возможны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вариант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покой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-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ердит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-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об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верен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-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уган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Варианты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силы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Monotype Corsiva"/>
              </a:rPr>
              <a:t>голоса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:   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ромко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лишком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ромко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шёпотом,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ихо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524720" y="4581360"/>
            <a:ext cx="1343160" cy="13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гафонова Е.Е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475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6430"/>
                            </p:stCondLst>
                            <p:childTnLst>
                              <p:par>
                                <p:cTn id="31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773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41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93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90"/>
                            </p:stCondLst>
                            <p:childTnLst>
                              <p:par>
                                <p:cTn id="3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209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9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309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admin</cp:lastModifiedBy>
  <dcterms:modified xsi:type="dcterms:W3CDTF">2011-07-29T20:15:30Z</dcterms:modified>
  <cp:revision>65</cp:revision>
  <dc:subject/>
  <dc:title>Слайд 1</dc:title>
</cp:coreProperties>
</file>