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36B3-BFFB-4294-B55F-BCF8BF35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1A6B-AFF8-4540-AA63-CE966463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9CA0-0418-450D-8FE7-E4F3D5FF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37C4-2F0B-4C7E-B288-AE6FC066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8757-6344-42B6-AD7E-B855927C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3637-A03C-4038-95A8-84753110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2EC3-105F-4530-9F17-09B782BA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2786-AFBD-4E10-85AF-9EC1E05D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4925-7972-4476-8A54-BCE709FE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E40C-F40D-49E7-BB34-55BF56C3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540F-039A-4262-AB2C-C4947D0F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DB917-8977-40FD-A4CA-899AE1A7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81A9-ED1F-42D9-B663-B639288F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8DCA-6823-4382-A291-1359C62B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9A43-D19E-4753-90F8-B15E5BB9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D58A-3829-4075-BDE5-85584945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B6AA-DE33-496C-82C1-CC2CE486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B148-2434-4A80-982B-2DCF94ED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72818-55F3-446B-8165-659F8A74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F0D1D-26FE-4612-8EA9-FF24EE83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6FF9-B9DB-48C0-97AE-707495F7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842A0-B6CA-467C-B828-D1A4AD56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F8557-3D56-4DD0-939F-B79ECC39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D7576-0EB9-41DC-996D-A2C5A42B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3F1A-C1DB-4D8C-BB01-7C372F01E8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B9E1-9A47-46A4-94F0-49AA2EF1EB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419640" y="1628640"/>
            <a:ext cx="287280" cy="36036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419640" y="2492280"/>
            <a:ext cx="410508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708360" y="3357720"/>
            <a:ext cx="4319640" cy="86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87640" y="2060640"/>
            <a:ext cx="1871640" cy="2736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27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3640" y="400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43640" y="162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59280" y="4581360"/>
            <a:ext cx="42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1 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2 = 8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йти все образовавшиеся уг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162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27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3429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68360" y="1052640"/>
            <a:ext cx="216000" cy="36036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1844640"/>
            <a:ext cx="41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3068640"/>
            <a:ext cx="489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140360" y="1268280"/>
            <a:ext cx="576000" cy="252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0" y="1341360"/>
            <a:ext cx="2376720" cy="237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17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299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76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19640" y="9079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84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2708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56360" y="19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20000" y="2637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16720" y="2708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000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4292640"/>
            <a:ext cx="518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1 +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2 = 18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3 = 4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йти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4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5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400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40000" y="981000"/>
            <a:ext cx="287280" cy="57636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68360" y="112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1052640"/>
            <a:ext cx="5472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резок ДМ – биссектриса треугольника СДЕ. Через точку М проведена прямая , параллельная стороне СД и пересекающая сторону ДЕ в точк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Найдите углы треугольника Д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, ес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СДЕ = 6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16360" y="40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/з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349360"/>
            <a:ext cx="2376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500280"/>
            <a:ext cx="2952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971280" y="1916280"/>
            <a:ext cx="1584360" cy="23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191628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573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35280" y="1844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2349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357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14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365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но: а //в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2 на 24˚ меньш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1. Найти углы 1 и 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3280" y="2997360"/>
            <a:ext cx="374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1700280"/>
            <a:ext cx="338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716000" y="907920"/>
            <a:ext cx="1368360" cy="244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04000" y="1052640"/>
            <a:ext cx="1008000" cy="259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20000" y="1268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17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1640" y="2492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4360" y="1700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8360" y="2492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96360" y="2492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7236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567640" y="27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33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59640" y="549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4720" y="3933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йти углы 1, 2,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125360"/>
            <a:ext cx="720720" cy="648000"/>
          </a:xfrm>
          <a:prstGeom prst="ellipse">
            <a:avLst/>
          </a:prstGeom>
          <a:solidFill>
            <a:srgbClr val="005ab4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19700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476280"/>
            <a:ext cx="719280" cy="865080"/>
          </a:xfrm>
          <a:prstGeom prst="ellipse">
            <a:avLst/>
          </a:prstGeom>
          <a:solidFill>
            <a:srgbClr val="005ab4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69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00000" y="3573360"/>
            <a:ext cx="76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1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3 на 30˚ больше угла 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йт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3 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4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2565360"/>
            <a:ext cx="432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1484280"/>
            <a:ext cx="453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627280" y="907920"/>
            <a:ext cx="1800360" cy="16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7640" y="907920"/>
            <a:ext cx="144360" cy="165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213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105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256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40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249228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88000" y="1268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00720" y="234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5:40:26Z</dcterms:created>
  <dc:creator>ёля</dc:creator>
  <dc:description/>
  <dc:language>en-US</dc:language>
  <cp:lastModifiedBy>Admin</cp:lastModifiedBy>
  <dcterms:modified xsi:type="dcterms:W3CDTF">2011-03-13T07:52:01Z</dcterms:modified>
  <cp:revision>10</cp:revision>
  <dc:subject/>
  <dc:title>Слайд 1</dc:title>
</cp:coreProperties>
</file>