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FC87-240F-4AC7-A69C-DBAFE2B4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5700-F50F-4A6B-AA9A-F3851A3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181F-008C-4A00-8539-66C7618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10FD-29BF-4E8C-A819-DA0259D2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9FAB-0058-42B9-94F5-A9E7371F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4E42-D12F-435A-9AB3-7D19B836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65EF-251C-49C3-82AC-89184E48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7FD7-1840-4307-A6E5-99F5125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68F-8B20-4E7E-95D5-F2191B13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0635-BBBC-4049-9077-7FB7470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544-1846-4F2F-B0C5-BDA39BD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85D8-9421-493D-8F32-1C59825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242-10B1-49B9-9B03-18E6FE5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02FB-A801-415C-92DE-2DA6B65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5238-491B-49CE-8EA0-8EE7E7F9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C3D-15E2-475D-B34D-6BB5F96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30D-3A29-4FF2-8978-504D0187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F814-7D46-42EE-B872-141A8C5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E553-737F-496B-808B-83D01FBC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23D5-156E-4E20-BC26-8551F967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8DF5-B4F0-4204-82D5-479DA90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31C6-503E-4DDD-B0EC-6DA7DBD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2200-02CD-434B-8B83-9F6E191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13FA-023E-4AB3-9353-1B22B23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865D-A891-4E99-87AB-A1973315A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835-BDB3-4A8D-B43C-439C8C864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419640" y="1628640"/>
            <a:ext cx="287280" cy="360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419640" y="2492280"/>
            <a:ext cx="410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08360" y="3357720"/>
            <a:ext cx="4319640" cy="86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7640" y="2060640"/>
            <a:ext cx="1871640" cy="27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7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40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162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458136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 = 8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ти все образовавшиеся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62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429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68360" y="1052640"/>
            <a:ext cx="216000" cy="360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844640"/>
            <a:ext cx="41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3068640"/>
            <a:ext cx="489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40360" y="1268280"/>
            <a:ext cx="576000" cy="252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1341360"/>
            <a:ext cx="2376720" cy="237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907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84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2637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29264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1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2 = 18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3 = 4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йти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4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5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40000" y="981000"/>
            <a:ext cx="287280" cy="576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112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1052640"/>
            <a:ext cx="5472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езок ДМ – биссектриса треугольника СДЕ. Через точку М проведена прямая , параллельная стороне СД и пересекающая сторону ДЕ в точк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йдите углы треугольника 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, ес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СДЕ = 6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16360" y="40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/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349360"/>
            <a:ext cx="237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0028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71280" y="1916280"/>
            <a:ext cx="1584360" cy="23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916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5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1844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234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35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14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365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о: а //в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 на 24˚ мен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. Найти углы 1 и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2997360"/>
            <a:ext cx="374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1700280"/>
            <a:ext cx="338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16000" y="907920"/>
            <a:ext cx="1368360" cy="244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1052640"/>
            <a:ext cx="100800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1268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24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2492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2492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67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33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54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39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ти углы 1, 2,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125360"/>
            <a:ext cx="720720" cy="648000"/>
          </a:xfrm>
          <a:prstGeom prst="ellipse">
            <a:avLst/>
          </a:prstGeom>
          <a:solidFill>
            <a:srgbClr val="005ab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97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476280"/>
            <a:ext cx="719280" cy="865080"/>
          </a:xfrm>
          <a:prstGeom prst="ellipse">
            <a:avLst/>
          </a:prstGeom>
          <a:solidFill>
            <a:srgbClr val="005ab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357336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3 на 30˚ больше угла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т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3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2565360"/>
            <a:ext cx="432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1484280"/>
            <a:ext cx="453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27280" y="907920"/>
            <a:ext cx="1800360" cy="16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907920"/>
            <a:ext cx="144360" cy="16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10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0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2492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88000" y="1268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5:40:26Z</dcterms:created>
  <dc:creator>ёля</dc:creator>
  <dc:description/>
  <dc:language>en-US</dc:language>
  <cp:lastModifiedBy>Admin</cp:lastModifiedBy>
  <dcterms:modified xsi:type="dcterms:W3CDTF">2011-03-13T07:52:01Z</dcterms:modified>
  <cp:revision>10</cp:revision>
  <dc:subject/>
  <dc:title>Слайд 1</dc:title>
</cp:coreProperties>
</file>