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71EF-1DAB-41BE-82EC-3373667D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9436-43A9-4682-AC94-F5EC4354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831C-70E1-4767-BAD7-584B42F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AB9C-B4C8-490A-ADF7-02C6F262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2160-28E4-43B0-A2B0-BCA41611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16E-453B-4673-91D6-EB6488B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B360-9CEC-43EA-8E03-856F251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824-9B7A-442C-92AF-064A6BF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0F6-B359-4757-9DCF-191A57BA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11D8-C205-4A9C-9C83-47A1076F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88AE-5456-43DD-9CEF-3120431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436C-4E67-4176-A597-7869894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333-2464-45D0-9E8E-070CE58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695-F16A-40B5-88FB-08653B8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6F62-4038-4114-89C6-1F8A89CF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5E3-18E1-4F36-A893-7E74EB4C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5C3-8304-4543-BA3A-D5FC1D6C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B9C6-A235-4F47-8EC8-91F62F4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9F4B-8DCD-498D-BED7-6455F604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C033-5087-4F9F-81F0-BA298CA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B7E1-0429-462B-9E9B-04363DFC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23BD-0D16-4627-AD17-0DCE725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EABE-FBD9-4934-BCBD-F0AC678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B13A-BCC9-4E06-B14D-A8BEE89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0C46-8BD0-4692-8380-598BDF1BE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6B6-4CFA-4765-8886-CFF5D9CBC1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028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СДЕ проведена биссектриса Е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90˚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= 30˚. Докажите, что треугольник ДЕ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равнобедрен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В треугольнике А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90˚. Точка М лежит на стороне АС. Докажите, что 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2592360" cy="1656000"/>
          </a:xfrm>
          <a:prstGeom prst="rtTriangle">
            <a:avLst/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573360"/>
            <a:ext cx="79200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522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284640"/>
            <a:ext cx="2665440" cy="2016000"/>
          </a:xfrm>
          <a:prstGeom prst="rtTriangle">
            <a:avLst/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5013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530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013360"/>
            <a:ext cx="21564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157720"/>
            <a:ext cx="144720" cy="142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005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867280" y="4076640"/>
            <a:ext cx="266544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0" y="2835360"/>
            <a:ext cx="502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повторить  главу 4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вопросы 1- 9 стр. 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0( б), 249,  251, 2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50920" y="17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повторить  главу 4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вопросы 1- 9 стр. 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0( б), 249,  251, 2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4000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равенство треуг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1341360"/>
            <a:ext cx="7489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стройте треугольник АВС такой, чтоб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АВ = 4 см, ВС = 5 см, АС = 6 с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 АВ = 5 см, ВС = 3 см, АС = 2 с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АВ = 8 см, ВС = 4 см, АС = 3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4076640"/>
            <a:ext cx="143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013360"/>
            <a:ext cx="83534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Каждая сторона треугольника меньше суммы двух других сто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68360" y="47628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 по готовым чертеж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4130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133720"/>
            <a:ext cx="3024360" cy="13665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3068640"/>
            <a:ext cx="107964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9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7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3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55736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жет ли длина АВ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ыть равной 27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365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653000"/>
            <a:ext cx="1656000" cy="158436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4221000"/>
            <a:ext cx="1224000" cy="11527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40000" y="5445000"/>
            <a:ext cx="7128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797360"/>
            <a:ext cx="7272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4581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О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43280" y="4797360"/>
            <a:ext cx="7128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300640"/>
            <a:ext cx="73080" cy="73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4437000"/>
            <a:ext cx="36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5 см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4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ким может быть расстояние О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340000" y="4797360"/>
            <a:ext cx="50328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79736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411280" y="4797360"/>
            <a:ext cx="108108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404640"/>
            <a:ext cx="2448000" cy="115272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9280" y="155736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00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4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89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1197000"/>
            <a:ext cx="439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– внешний, значит равен сумме углов С и 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 теорема), т. е. больше угла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3573360"/>
            <a:ext cx="1728720" cy="187164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300640"/>
            <a:ext cx="216000" cy="14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30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997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5229360"/>
            <a:ext cx="144360" cy="21564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cubicBezTo>
                  <a:pt x="38" y="79"/>
                  <a:pt x="76" y="23"/>
                  <a:pt x="9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3716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равните АС и 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620640"/>
            <a:ext cx="2016000" cy="194328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7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26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6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620640"/>
            <a:ext cx="108108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234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62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774800">
            <a:off x="2123640" y="4436640"/>
            <a:ext cx="2376720" cy="129708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5084640"/>
            <a:ext cx="26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49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486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6308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465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407664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ВД + Д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2421000"/>
            <a:ext cx="144360" cy="14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84360" y="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8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836640"/>
            <a:ext cx="259092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187280" y="2276640"/>
            <a:ext cx="288000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49360"/>
            <a:ext cx="0" cy="30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28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83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83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40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1844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981000"/>
            <a:ext cx="36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АЕ = 11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ДВ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6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ВС = 9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50864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дна из сторон тупоугольного равнобедренного треугольника на 17 см меньше другой. Найдите стороны этого треугольника, если его периметр равен 77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33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04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авнобедренном треугольнике биссектрисы углов при основании образуют при пересечении угол, равный 52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Найдите угол при вершине этого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8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В треугольнике АВС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70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 = 6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Сравните стороны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437000"/>
            <a:ext cx="83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АВС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 =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2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Д –  высота, СК – биссектриса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Д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62064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треугольнике МКР медиана МС равна половине стороны КР. Найдите угол М треугольника МК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789360"/>
            <a:ext cx="1511280" cy="2448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5157720"/>
            <a:ext cx="122400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720" y="61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86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019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76720" y="5372280"/>
            <a:ext cx="21600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219640" y="5445000"/>
            <a:ext cx="21600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4653000"/>
            <a:ext cx="28872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61080" y="4508640"/>
            <a:ext cx="28728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92280"/>
            <a:ext cx="41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Сторона АВ треугольника АВС продолжена за точку В. На продолжении отмечена точк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так, что ВС = В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Найдите угол АС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есл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6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54936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АВС биссектрисы, проведенные из вершин А и В пересекаются в точке О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 = 3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ОВ = 10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Докажите, что треугольник АВС не является остроуго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3984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3589200"/>
            <a:ext cx="3384720" cy="129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24000" y="4076280"/>
            <a:ext cx="237672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3059280" y="4149720"/>
            <a:ext cx="244944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4565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3052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3557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434988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933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443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45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1:25:20Z</dcterms:created>
  <dc:creator>ёля</dc:creator>
  <dc:description/>
  <dc:language>en-US</dc:language>
  <cp:lastModifiedBy>Математика</cp:lastModifiedBy>
  <dcterms:modified xsi:type="dcterms:W3CDTF">2011-04-21T03:49:37Z</dcterms:modified>
  <cp:revision>16</cp:revision>
  <dc:subject/>
  <dc:title>Слайд 1</dc:title>
</cp:coreProperties>
</file>