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61EB-E3C5-4514-906F-C89CBB0F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A609-D269-4B61-BE79-3B1BAC16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6387-C4B0-4CE8-9FB5-897ED404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C5E0D-D437-428D-A9EB-5F98396D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E419-65AF-433E-8231-529ABF0D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2C4D-D5C5-434F-A4E2-D6D2EE4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F121-80A6-4E78-A600-C808958A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B86E-2B7A-44BB-809B-D5043AE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D337-2A3D-4104-A68A-914BDF46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32AA-A77C-4B07-B3EE-9B748434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0231-144A-4005-99EA-4457EA9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DFA25-CF47-463A-B967-7DA45293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8F3-97C7-4186-90CB-1C9B9FC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362-0B9B-4F1B-B142-EAB56B4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21FF-78CA-4D04-AFAC-7FD31235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8B70-D6BB-4F01-8F7B-08A4129A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3950-8E53-46F6-A360-B76C889B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0EB01-5C2D-4755-A6B4-3F0F7E96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0E50-8A04-4D39-8496-088B2996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6C4D-F21C-4C24-BBE2-D45FA41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46E0-8691-450A-8898-21C65BBA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4233-E6C1-4730-BDC4-CF9FB0F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17B10-52AF-4CC6-A823-2AD28A8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9461-AAF4-48AA-BC6F-A3007FA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84C6-49AE-40E6-8BC1-5D6233A51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490-EFE7-4443-A5C3-F1E931D43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6028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СДЕ проведена биссектриса Е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90˚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= 30˚. Докажите, что треугольник ДЕ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равнобедрен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В треугольнике А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90˚. Точка М лежит на стороне АС. Докажите, что 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М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2592360" cy="1656000"/>
          </a:xfrm>
          <a:prstGeom prst="rtTriangle">
            <a:avLst/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30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9640" y="501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573360"/>
            <a:ext cx="79200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522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284640"/>
            <a:ext cx="2665440" cy="2016000"/>
          </a:xfrm>
          <a:prstGeom prst="rtTriangle">
            <a:avLst/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2852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5013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530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013360"/>
            <a:ext cx="21564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157720"/>
            <a:ext cx="144720" cy="1429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005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3860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867280" y="4076640"/>
            <a:ext cx="266544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0" y="2835360"/>
            <a:ext cx="502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повторить  главу 4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вопросы 1- 9 стр. 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0( б), 249,  251, 2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050920" y="177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повторить  главу 4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вопросы 1- 9 стр. 8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0( б), 249,  251, 23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4000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равенство треуголь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1341360"/>
            <a:ext cx="7489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остройте треугольник АВС такой, чтоб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) АВ = 4 см, ВС = 5 см, АС = 6 с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 АВ = 5 см, ВС = 3 см, АС = 2 с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АВ = 8 см, ВС = 4 см, АС = 3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51280" y="4076640"/>
            <a:ext cx="143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5013360"/>
            <a:ext cx="83534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Каждая сторона треугольника меньше суммы двух других сто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68360" y="47628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 по готовым чертеж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41300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133720"/>
            <a:ext cx="3024360" cy="13665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3068640"/>
            <a:ext cx="107964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285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9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6836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7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33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155736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ожет ли длина АВ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ыть равной 27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43657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653000"/>
            <a:ext cx="1656000" cy="158436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4221000"/>
            <a:ext cx="1224000" cy="11527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340000" y="5445000"/>
            <a:ext cx="7128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797360"/>
            <a:ext cx="7272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1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4581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О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43280" y="4797360"/>
            <a:ext cx="71280" cy="7164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000" y="5300640"/>
            <a:ext cx="73080" cy="73080"/>
          </a:xfrm>
          <a:prstGeom prst="ellipse">
            <a:avLst/>
          </a:prstGeom>
          <a:solidFill>
            <a:srgbClr val="00051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76720" y="4437000"/>
            <a:ext cx="3672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5 см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4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аким может быть расстояние О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ī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340000" y="4797360"/>
            <a:ext cx="50328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797360"/>
            <a:ext cx="649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411280" y="4797360"/>
            <a:ext cx="108108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404640"/>
            <a:ext cx="2448000" cy="115272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9280" y="1557360"/>
            <a:ext cx="936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0028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41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890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1197000"/>
            <a:ext cx="4392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– внешний, значит равен сумме углов С и 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 теорема), т. е. больше угла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79640" y="3573360"/>
            <a:ext cx="1728720" cy="187164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5300640"/>
            <a:ext cx="216000" cy="14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530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92360" y="2997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5229360"/>
            <a:ext cx="144360" cy="21564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136"/>
                </a:moveTo>
                <a:cubicBezTo>
                  <a:pt x="38" y="79"/>
                  <a:pt x="76" y="23"/>
                  <a:pt x="91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3280" y="3716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равните АС и 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95640" y="620640"/>
            <a:ext cx="2016000" cy="1943280"/>
          </a:xfrm>
          <a:prstGeom prst="rtTriangl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47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26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26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5640" y="620640"/>
            <a:ext cx="1081080" cy="19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2637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1640" y="234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620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В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774800">
            <a:off x="2123640" y="4436640"/>
            <a:ext cx="2376720" cy="129708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5084640"/>
            <a:ext cx="26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49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1128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486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24360" y="6308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1280" y="4653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5600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407664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3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ВД + ДС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g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2421000"/>
            <a:ext cx="144360" cy="144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84360" y="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98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836640"/>
            <a:ext cx="259092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187280" y="2276640"/>
            <a:ext cx="2880000" cy="64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549360"/>
            <a:ext cx="0" cy="309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28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836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95640" y="83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40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24000" y="2637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3357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1844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03640" y="981000"/>
            <a:ext cx="36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АЕ = 11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ДВ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= 6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ВС = 9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43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508640"/>
            <a:ext cx="66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дна из сторон тупоугольного равнобедренного треугольника на 17 см меньше другой. Найдите стороны этого треугольника, если его периметр равен 77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33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404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авнобедренном треугольнике биссектрисы углов при основании образуют при пересечении угол, равный 52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Найдите угол при вершине этого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8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В треугольнике АВС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70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 = 6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Сравните стороны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437000"/>
            <a:ext cx="8353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АВС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 =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2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Д –  высота, СК – биссектриса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Д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62064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треугольнике МКР медиана МС равна половине стороны КР. Найдите угол М треугольника МК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3789360"/>
            <a:ext cx="1511280" cy="244800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5157720"/>
            <a:ext cx="122400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720" y="6165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86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6019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3500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76720" y="5372280"/>
            <a:ext cx="21600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219640" y="5445000"/>
            <a:ext cx="216000" cy="21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4653000"/>
            <a:ext cx="28872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61080" y="4508640"/>
            <a:ext cx="28728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92280"/>
            <a:ext cx="41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Сторона АВ треугольника АВС продолжена за точку В. На продолжении отмечена точк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так, что ВС = В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Найдите угол АС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есл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6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54936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треугольнике АВС биссектрисы, проведенные из вершин А и В пересекаются в точке О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ВС = 3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ОВ = 10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Докажите, что треугольник АВС не является остроуго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3984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3589200"/>
            <a:ext cx="3384720" cy="129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24000" y="4076280"/>
            <a:ext cx="2376720" cy="79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3059280" y="4149720"/>
            <a:ext cx="2449440" cy="719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479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35640" y="4565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08360" y="3052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7164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00720" y="3557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434988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933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58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4437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280" y="4581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1:25:20Z</dcterms:created>
  <dc:creator>ёля</dc:creator>
  <dc:description/>
  <dc:language>en-US</dc:language>
  <cp:lastModifiedBy>Математика</cp:lastModifiedBy>
  <dcterms:modified xsi:type="dcterms:W3CDTF">2011-04-21T03:49:37Z</dcterms:modified>
  <cp:revision>16</cp:revision>
  <dc:subject/>
  <dc:title>Слайд 1</dc:title>
</cp:coreProperties>
</file>