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A5B-9ABC-4B7D-9E4F-D54EDF56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D13-E3B6-45B1-999B-2B8243C6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7A8-1FD3-4E25-B9C5-41AD595E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D6D-93EA-49B4-8FD1-F1430D64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E4A-342D-4CAA-B99C-E4528364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B7A-23F5-44DA-8F2D-A4919B00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FB2-F1F1-474B-BAB6-0A537A53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A86-92FC-4177-A325-697D7048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10E-589B-4D42-AA7B-ECDF3698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95F-97DB-46FE-AB64-3DC1A9CB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4E7-2669-4341-A389-BAD5F7EA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CEA-8B8F-47D3-9115-905AF3A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9E9E-8111-40AE-B10A-4685914C6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9320"/>
            <a:ext cx="894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ловарные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 третью четвер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6720" y="2496960"/>
            <a:ext cx="544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Запоминай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22050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вт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82404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др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154476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асная пло</a:t>
            </a: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щ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2852640"/>
            <a:ext cx="31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з</a:t>
            </a: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48768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4365720"/>
            <a:ext cx="28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о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020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..м..б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2050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бу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82404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др..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54476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асная площ..д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2852640"/>
            <a:ext cx="31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з..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348768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мл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4365720"/>
            <a:ext cx="28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..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1844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8240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126828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2492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у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3068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3645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дна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71840" y="6516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84720" y="429264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б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50720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жу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г..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1844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..р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720" y="8240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26828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т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492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с..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3068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дру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3645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дна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71840" y="6516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429264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..б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50720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..жу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ч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844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ыс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836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е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126828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в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2492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о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3068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кз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3645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1840" y="6516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95640" y="4076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варт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4581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75120" y="5145120"/>
            <a:ext cx="239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ч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844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ыстр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4720" y="8240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..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26828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..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492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ор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3068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..кз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645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см..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71840" y="6516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4076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в..рт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4581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..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75120" y="5145120"/>
            <a:ext cx="239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..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з..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1844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с..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8240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др..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26828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асная площ..д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2492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..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67280" y="3068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..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3789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..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71840" y="651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вёрт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4292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ч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486900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25:43Z</dcterms:created>
  <dc:creator>Школа</dc:creator>
  <dc:description/>
  <dc:language>en-US</dc:language>
  <cp:lastModifiedBy>Школа</cp:lastModifiedBy>
  <dcterms:modified xsi:type="dcterms:W3CDTF">2011-07-27T08:53:54Z</dcterms:modified>
  <cp:revision>2</cp:revision>
  <dc:subject/>
  <dc:title>Слайд 1</dc:title>
</cp:coreProperties>
</file>