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3A8A8-A46A-4B43-B85E-BE666DAE8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A4D0A-4511-4512-A6F9-8D935F241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51152-A89F-4206-9EF3-E93625A44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8A733-ACAC-4243-AE76-0980882F3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01261-9A24-4DA4-8F8D-B446C7BBE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EA722-E546-4FE9-9673-DAD44F347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57D35-7F65-4E49-89F8-B1C30D164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692D2-F8CB-4F70-8A64-9895771A5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12E80-042D-422B-A272-45AF5F65B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95B82-42AA-457B-AB84-BEA0BD548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D3F0C-80CB-4974-8E1B-72EC42EE3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20E8B-869F-4EA9-9696-B9F4DE0A2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57AF1-0FB6-4023-86BF-964862977F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8229600" cy="57927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49320"/>
            <a:ext cx="89409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Словарные слов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на третью четверт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6720" y="2496960"/>
            <a:ext cx="5441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Запоминайте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8229600" cy="57927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556000" y="333360"/>
            <a:ext cx="468000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автомобил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76720" y="2205000"/>
            <a:ext cx="324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автобу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635280" y="824040"/>
            <a:ext cx="266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адре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1544760"/>
            <a:ext cx="6667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Красная пло</a:t>
            </a:r>
            <a:r>
              <a:rPr b="1" lang="en-US" sz="4400" spc="-1" strike="noStrike">
                <a:solidFill>
                  <a:srgbClr val="99cc00"/>
                </a:solidFill>
                <a:latin typeface="Arial"/>
              </a:rPr>
              <a:t>ща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д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132000" y="2852640"/>
            <a:ext cx="310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праз</a:t>
            </a:r>
            <a:r>
              <a:rPr b="1" lang="en-US" sz="4400" spc="-1" strike="noStrike">
                <a:solidFill>
                  <a:srgbClr val="99cc00"/>
                </a:solidFill>
                <a:latin typeface="Arial"/>
              </a:rPr>
              <a:t>д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н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76720" y="3487680"/>
            <a:ext cx="277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Кремл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059280" y="4365720"/>
            <a:ext cx="2803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столиц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040200" y="136440"/>
            <a:ext cx="239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ервый дикта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" dur="80"/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" dur="80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80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" dur="80"/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" dur="80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" dur="80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" dur="80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" dur="80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" dur="80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" dur="80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5" dur="80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" dur="80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" dur="80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" dur="80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" dur="80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8229600" cy="57927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556000" y="333360"/>
            <a:ext cx="468000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Авт..м..бил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276720" y="2205000"/>
            <a:ext cx="324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Автобу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635280" y="824040"/>
            <a:ext cx="266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Адр..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692360" y="1544760"/>
            <a:ext cx="6667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Красная площ..д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32000" y="2852640"/>
            <a:ext cx="310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раз..н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276720" y="3487680"/>
            <a:ext cx="277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Кремл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059280" y="4365720"/>
            <a:ext cx="2803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т..лиц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1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7" dur="80"/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8" dur="80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" dur="80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4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5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1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2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3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8" dur="80"/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9" dur="80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" dur="80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5" dur="80"/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6" dur="80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" dur="80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2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3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4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8229600" cy="57927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556000" y="333360"/>
            <a:ext cx="468000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Яго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995640" y="1844640"/>
            <a:ext cx="252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карти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284720" y="824040"/>
            <a:ext cx="201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чт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92360" y="1268280"/>
            <a:ext cx="6667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оте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140360" y="2492280"/>
            <a:ext cx="273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русск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356000" y="3068640"/>
            <a:ext cx="216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вдру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140360" y="3645000"/>
            <a:ext cx="360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однажд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71840" y="65160"/>
            <a:ext cx="225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торой дикта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284720" y="4292640"/>
            <a:ext cx="2519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ребя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067280" y="5072040"/>
            <a:ext cx="316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дежурны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1" dur="80"/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2" dur="80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3" dur="80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8" dur="80"/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9" dur="80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0" dur="80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5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6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7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2" dur="80"/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3" dur="80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4" dur="80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9" dur="80"/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0" dur="80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1" dur="80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6" dur="80"/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7" dur="80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8" dur="80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3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4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5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0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1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2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7" dur="80"/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8" dur="80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9" dur="80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8229600" cy="57927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2556000" y="333360"/>
            <a:ext cx="468000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Яг..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95640" y="1844640"/>
            <a:ext cx="252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К..рти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284720" y="824040"/>
            <a:ext cx="201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..т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692360" y="1268280"/>
            <a:ext cx="6667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..те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140360" y="2492280"/>
            <a:ext cx="273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Рус..к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356000" y="3068640"/>
            <a:ext cx="216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дру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140360" y="3645000"/>
            <a:ext cx="360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..днажд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471840" y="65160"/>
            <a:ext cx="225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торой дикта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284720" y="4292640"/>
            <a:ext cx="2519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Р..бя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067280" y="5072040"/>
            <a:ext cx="316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Д..журны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6" dur="80"/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7" dur="80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8" dur="80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3" dur="80"/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4" dur="80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5" dur="80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0" dur="80"/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1" dur="80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2" dur="80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7" dur="80"/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8" dur="80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9" dur="80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4" dur="80"/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5" dur="80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6" dur="80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1" dur="80"/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2" dur="80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3" dur="80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8" dur="80"/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9" dur="80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0" dur="80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5" dur="80"/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6" dur="80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7" dur="80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2" dur="80"/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3" dur="80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4" dur="80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8229600" cy="579276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2556000" y="333360"/>
            <a:ext cx="468000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Меч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95640" y="1844640"/>
            <a:ext cx="252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Быстр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284720" y="836640"/>
            <a:ext cx="201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Геро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692360" y="1268280"/>
            <a:ext cx="6667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Завт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140360" y="2492280"/>
            <a:ext cx="273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Ск</a:t>
            </a:r>
            <a:r>
              <a:rPr b="1" lang="en-US" sz="4400" spc="-1" strike="noStrike">
                <a:solidFill>
                  <a:srgbClr val="99cc00"/>
                </a:solidFill>
                <a:latin typeface="Arial"/>
              </a:rPr>
              <a:t>ор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56000" y="3068640"/>
            <a:ext cx="216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Вокза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140360" y="3645000"/>
            <a:ext cx="360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Космо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471840" y="65160"/>
            <a:ext cx="225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ретий  дикта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95640" y="4076640"/>
            <a:ext cx="280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Кварти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067280" y="4581360"/>
            <a:ext cx="316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Плато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75120" y="5145120"/>
            <a:ext cx="2397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Наро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1" dur="80"/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2" dur="80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3" dur="80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8" dur="80"/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9" dur="80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0" dur="80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5" dur="80"/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6" dur="80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7" dur="80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2" dur="80"/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3" dur="80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4" dur="80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9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0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1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6" dur="80"/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7" dur="80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8" dur="80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3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4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5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1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2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7" dur="80"/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8" dur="80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9" dur="80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4" dur="8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5" dur="8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6" dur="8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8229600" cy="57927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556000" y="333360"/>
            <a:ext cx="468000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М..ч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995640" y="1844640"/>
            <a:ext cx="252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Быстр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284720" y="824040"/>
            <a:ext cx="201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Г..ро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692360" y="1268280"/>
            <a:ext cx="6667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За..т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140360" y="2492280"/>
            <a:ext cx="273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Скор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356000" y="3068640"/>
            <a:ext cx="216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..кза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140360" y="3645000"/>
            <a:ext cx="360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Косм..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471840" y="65160"/>
            <a:ext cx="225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ретий  дикта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995640" y="4076640"/>
            <a:ext cx="280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Кв..рти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067280" y="4581360"/>
            <a:ext cx="316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л..то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975120" y="5145120"/>
            <a:ext cx="2397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Н..ро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1" dur="80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2" dur="80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7" dur="80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8" dur="80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9" dur="80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4" dur="80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5" dur="80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6" dur="80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1" dur="8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2" dur="8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3" dur="8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8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9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0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5" dur="8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6" dur="8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7" dur="8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2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3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4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9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0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1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6" dur="8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7" dur="8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8" dur="8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8229600" cy="57927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2556000" y="333360"/>
            <a:ext cx="468000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раз..н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995640" y="1844640"/>
            <a:ext cx="252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Рус..к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284720" y="824040"/>
            <a:ext cx="201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Адр..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692360" y="1268280"/>
            <a:ext cx="6667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Красная площ..д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140360" y="2492280"/>
            <a:ext cx="273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Г..ро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67280" y="3068640"/>
            <a:ext cx="367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Кр..мл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140360" y="3789360"/>
            <a:ext cx="360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т..лиц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471840" y="6516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Четвёртый  дикта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995640" y="4292640"/>
            <a:ext cx="280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М..ч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067280" y="4869000"/>
            <a:ext cx="316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М..ск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5" dur="8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6" dur="8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7" dur="8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2" dur="8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3" dur="8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4" dur="8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9" dur="8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0" dur="8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1" dur="8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6" dur="8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7" dur="8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8" dur="8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3" dur="8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4" dur="8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5" dur="8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0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1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2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7" dur="8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8" dur="8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9" dur="8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4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5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6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1" dur="8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2" dur="8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3" dur="8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7T08:25:43Z</dcterms:created>
  <dc:creator>Школа</dc:creator>
  <dc:description/>
  <dc:language>en-US</dc:language>
  <cp:lastModifiedBy>Школа</cp:lastModifiedBy>
  <dcterms:modified xsi:type="dcterms:W3CDTF">2011-07-27T08:53:54Z</dcterms:modified>
  <cp:revision>2</cp:revision>
  <dc:subject/>
  <dc:title>Слайд 1</dc:title>
</cp:coreProperties>
</file>