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620-F7E7-4F66-B170-219DEEDE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3CE-ADD5-479E-A3EA-D1208CE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3D8-8850-40DA-AE5E-A7785EF0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924-31DD-49E4-9D60-21887045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886-D2AC-4617-BCBC-1A50F08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28B-464F-464C-9CEE-4365A256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39F-D957-4F4D-86D5-F0C20A2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0E2-C88D-40D4-8ED7-0786B25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AC7-D06D-4986-9C40-EDFA846E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C1F-8EE1-4520-AB02-0F128EB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FDC-A132-426B-84F0-25BB62E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629-5CAC-479D-B9F8-2CFD95A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197-D7C5-4FBD-BE0E-17FA6E3A5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586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536400"/>
            <a:ext cx="701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варные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четвёртую четвер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22000" y="2857680"/>
            <a:ext cx="544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781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34360" y="1017720"/>
            <a:ext cx="206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л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4880" y="1341360"/>
            <a:ext cx="22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736640"/>
            <a:ext cx="23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4720" y="209700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щ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ч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59120" y="3952800"/>
            <a:ext cx="23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оп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0000" y="4473720"/>
            <a:ext cx="19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ла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000" y="4976640"/>
            <a:ext cx="14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ж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76900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0200" y="6516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..р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2781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..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33280" y="10177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..л.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4160" y="1341360"/>
            <a:ext cx="23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.ре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736640"/>
            <a:ext cx="23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пу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3080" y="213372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Щ.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….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3952800"/>
            <a:ext cx="23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..п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9280" y="447372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..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37280" y="4976640"/>
            <a:ext cx="14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ж.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576900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тр..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  сви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4720" y="1017720"/>
            <a:ext cx="17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4160" y="134136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ч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1700280"/>
            <a:ext cx="23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4160" y="213372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35480" y="497664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769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б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  св..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34000" y="101772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..р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3080" y="134136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ч..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17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….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3080" y="2133720"/>
            <a:ext cx="23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..сиб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….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..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.с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5480" y="497664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с..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769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б..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л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1017720"/>
            <a:ext cx="38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но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13413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7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133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97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5769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..л..виз.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..л..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1017720"/>
            <a:ext cx="38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н..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13413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.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7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.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2133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..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..твер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..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н..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497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см..на..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5769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мпьют.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....ств..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314172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см..на..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105264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бл..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177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….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276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..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708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..с..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378936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..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429264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ч..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4941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….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558972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    св..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306864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..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0526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..рож..н..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1557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.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1989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..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42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дру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42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ная площ..д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мл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450864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….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522936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..ск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5769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я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84560" y="13644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ого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9:06:29Z</dcterms:created>
  <dc:creator>Школа</dc:creator>
  <dc:description/>
  <dc:language>en-US</dc:language>
  <cp:lastModifiedBy>Школа</cp:lastModifiedBy>
  <dcterms:modified xsi:type="dcterms:W3CDTF">2011-07-27T09:43:18Z</dcterms:modified>
  <cp:revision>2</cp:revision>
  <dc:subject/>
  <dc:title>Слайд 1</dc:title>
</cp:coreProperties>
</file>