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56E-FE7F-4A18-A3AA-514EA1CB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CC6-50FA-414B-A68F-82CFE4F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BB2-E834-47A4-A5BB-1C31DFE7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F99-E0FD-4D9F-AC31-01F4482B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BA3-DB60-41FC-B703-643C497F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337-B86C-490D-9192-0B35885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E8E-8618-458B-9246-F11A0F33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34A-4429-4521-9556-EC1576AC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86E-75A2-453E-A9BF-D44005FC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EF4-7E05-416B-8F3B-92839BB7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01A1-BA12-4723-85B7-BFDF8BB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301-7A18-4D1A-A7C7-AD47B88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CE6-35ED-4111-ACBF-5091C94F0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586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58920" y="536400"/>
            <a:ext cx="7012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оварные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четвёртую четвер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22000" y="2857680"/>
            <a:ext cx="544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781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в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34360" y="1017720"/>
            <a:ext cx="206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л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4880" y="1341360"/>
            <a:ext cx="22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736640"/>
            <a:ext cx="23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пу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4720" y="209700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щ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ч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59120" y="3952800"/>
            <a:ext cx="23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лоп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50000" y="4473720"/>
            <a:ext cx="197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ла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000" y="4976640"/>
            <a:ext cx="14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ж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76900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0200" y="65160"/>
            <a:ext cx="24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..р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1280" y="2781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..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33280" y="1017720"/>
            <a:ext cx="20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..л.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4160" y="1341360"/>
            <a:ext cx="23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.рев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736640"/>
            <a:ext cx="23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пу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3080" y="2133720"/>
            <a:ext cx="221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Щ.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Ч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….ств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59120" y="3952800"/>
            <a:ext cx="239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..п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49280" y="4473720"/>
            <a:ext cx="20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л..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37280" y="4976640"/>
            <a:ext cx="14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ж.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5769000"/>
            <a:ext cx="23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втр..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  сви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34720" y="1017720"/>
            <a:ext cx="173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4160" y="134136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ч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1700280"/>
            <a:ext cx="23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4160" y="213372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од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35480" y="497664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с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769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б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деж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  св..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34000" y="1017720"/>
            <a:ext cx="178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99cc00"/>
                </a:solidFill>
                <a:latin typeface="Arial"/>
              </a:rPr>
              <a:t>..р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3080" y="134136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ч..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17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….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3080" y="2133720"/>
            <a:ext cx="232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..сиб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….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..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.су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5480" y="497664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с..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76900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б..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левиз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л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1017720"/>
            <a:ext cx="38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ино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13413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7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133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ор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тве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97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смонав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5769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..л..виз.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781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..л..в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1017720"/>
            <a:ext cx="383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ин..филь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134136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.с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70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..н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1280" y="2133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..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6360" y="324972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..твер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..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48200" y="4473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ятн..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4976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см..на..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5769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мпьют..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....ств..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314172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..см..на..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105264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бл..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1773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….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2276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..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2708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..с..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378936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в..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59120" y="429264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ч..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67280" y="494172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….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558972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    св..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8456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6337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58920" y="536400"/>
            <a:ext cx="70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зы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306864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..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05264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..рож..н..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155736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..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198900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..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242100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.дру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0920" y="3429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асная площ..д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59120" y="3952800"/>
            <a:ext cx="268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емл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67280" y="4508640"/>
            <a:ext cx="246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….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5229360"/>
            <a:ext cx="47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..ск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92360" y="5769000"/>
            <a:ext cx="37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ря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84560" y="13644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ого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9:06:29Z</dcterms:created>
  <dc:creator>Школа</dc:creator>
  <dc:description/>
  <dc:language>en-US</dc:language>
  <cp:lastModifiedBy>Школа</cp:lastModifiedBy>
  <dcterms:modified xsi:type="dcterms:W3CDTF">2011-07-27T09:43:18Z</dcterms:modified>
  <cp:revision>2</cp:revision>
  <dc:subject/>
  <dc:title>Слайд 1</dc:title>
</cp:coreProperties>
</file>