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A5B-BEE6-4E79-93EF-B0FCECFA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774-F759-4CAF-9927-D1807D0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52E-2DC3-445B-B705-4360D5C6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54E-ED63-421B-A566-6173871D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A2E-84D0-48CC-94B2-7F5FB2F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A91-593F-4FBB-8524-7B2AECA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F62-C022-40C8-97B0-8674842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99F-635C-43BF-956D-6D8D8CB2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7E4-2851-442C-95C8-05CD5A9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4C5-3A11-49C0-8C93-B848DF7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15E-648A-4027-B8C5-154627A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17B-2414-4CC9-946B-ABB8510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4C0-7F61-40E7-8020-2E7BFEBDE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239840" y="1144440"/>
            <a:ext cx="628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ые сл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ервую 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042920" y="31161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327480" y="1364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39640" y="69696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а вторую четвер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619280" y="359244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492360" y="620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132000" y="4724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627280" y="1341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филь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400560" y="5373720"/>
            <a:ext cx="26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л..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р..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13200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627280" y="1341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..тфил..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132000" y="51451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340000" y="220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е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843280" y="2997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419640" y="3860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419640" y="45813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492360" y="51451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.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40000" y="220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н..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843280" y="2997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н..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19640" y="3860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19640" y="45813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.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492360" y="51451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б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492360" y="191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348000" y="2565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203640" y="393372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492360" y="458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132000" y="5288040"/>
            <a:ext cx="33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..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492360" y="191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348000" y="2565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..р..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..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203640" y="393372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р..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..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492360" y="458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32000" y="5288040"/>
            <a:ext cx="33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..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л..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700360" y="1916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..тфил..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556000" y="256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н..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..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276720" y="3933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059280" y="458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..р..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348000" y="5288040"/>
            <a:ext cx="31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402000" y="14000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400560" y="2205000"/>
            <a:ext cx="17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400560" y="3860640"/>
            <a:ext cx="236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ш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40200" y="208080"/>
            <a:ext cx="28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02360" y="1400040"/>
            <a:ext cx="15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400560" y="386064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ш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00920" y="1400040"/>
            <a:ext cx="17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71640" y="386064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184200" y="492768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535120" y="6516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скресен..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401280" y="140004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..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..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771640" y="386064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..мл..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184920" y="4927680"/>
            <a:ext cx="254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399840" y="1400040"/>
            <a:ext cx="23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916360" y="220500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203640" y="2997360"/>
            <a:ext cx="31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419640" y="3860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64000" y="49276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ь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327480" y="13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400560" y="140004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6360" y="220500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ро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03640" y="2997360"/>
            <a:ext cx="31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..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419640" y="3860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к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564000" y="49276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ль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327480" y="13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132000" y="49276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471840" y="1341360"/>
            <a:ext cx="27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скресен..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..мл..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р..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132000" y="49276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..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71840" y="1341360"/>
            <a:ext cx="318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09:31Z</dcterms:created>
  <dc:creator>Школа</dc:creator>
  <dc:description/>
  <dc:language>en-US</dc:language>
  <cp:lastModifiedBy>Николай</cp:lastModifiedBy>
  <dcterms:modified xsi:type="dcterms:W3CDTF">2011-07-27T18:31:14Z</dcterms:modified>
  <cp:revision>4</cp:revision>
  <dc:subject/>
  <dc:title>Слайд 1</dc:title>
</cp:coreProperties>
</file>