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052F-9F48-4C83-923F-EB428036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DFAB-52EA-4B9B-9528-DD7C94A5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FBFE-A09C-41A7-A2A0-14169408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DCE2-1937-40E9-BC6A-23941FB4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FB3A-77DA-4703-A850-BE409618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33B9-FDF3-46ED-81EA-F2B983D8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A4BC-9672-4CF8-9A61-4F1B4B67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4A0F-17D4-4159-8222-043F7E5F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7D0-11D5-43A6-B240-F2B0E115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4B09-BF74-47C4-880D-43FDF137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64F5-760A-4B33-9092-7729B274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37A5-B5B0-456D-AF16-5592E027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2EA3-9595-4966-92DF-6E8808C075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1239840" y="1144440"/>
            <a:ext cx="628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оварные слов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первую четвер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042920" y="3116160"/>
            <a:ext cx="68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Запоминайт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3400560" y="14000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3327480" y="13644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539640" y="69696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ловарные сл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на вторую четвер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1619280" y="359244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Запоминайт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3492360" y="62064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я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400560" y="14000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916360" y="220500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леф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203640" y="2997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нь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059280" y="386064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ор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132000" y="472428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дв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327480" y="13644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2627280" y="134136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ультфиль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3400560" y="5373720"/>
            <a:ext cx="261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б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239840" y="620640"/>
            <a:ext cx="62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..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400560" y="14000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916360" y="220500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..л..ф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203640" y="2997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..нь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3059280" y="386064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..р..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132000" y="458136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..дв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327480" y="13644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2627280" y="134136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ул..тфил..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3132000" y="5145120"/>
            <a:ext cx="24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..б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203640" y="620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ю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400560" y="14000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340000" y="220500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неде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2843280" y="299736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тор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419640" y="386064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и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419640" y="4581360"/>
            <a:ext cx="28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327480" y="13644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ой 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276720" y="1341360"/>
            <a:ext cx="33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ю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492360" y="5145120"/>
            <a:ext cx="21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е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3203640" y="620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..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400560" y="14000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40000" y="220500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..н..де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843280" y="299736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торн..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419640" y="386064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ин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419640" y="4581360"/>
            <a:ext cx="28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ч..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3327480" y="13644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ой 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3276720" y="1341360"/>
            <a:ext cx="33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..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3492360" y="5145120"/>
            <a:ext cx="21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.бе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3203640" y="620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ами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400560" y="14000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492360" y="191628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348000" y="256536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ор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ш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203640" y="321300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се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203640" y="3933720"/>
            <a:ext cx="30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ор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327480" y="13644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тий 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3276720" y="1341360"/>
            <a:ext cx="33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3492360" y="4581360"/>
            <a:ext cx="21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3132000" y="5288040"/>
            <a:ext cx="336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с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т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3203640" y="620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..ми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400560" y="14000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492360" y="191628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..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348000" y="256536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..р..ш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203640" y="321300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с..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3203640" y="3933720"/>
            <a:ext cx="30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..р..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327480" y="13644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тий 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3276720" y="1341360"/>
            <a:ext cx="33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..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3492360" y="4581360"/>
            <a:ext cx="21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ас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3132000" y="5288040"/>
            <a:ext cx="336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ес..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3203640" y="620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..л..ф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400560" y="14000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700360" y="191628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ул..тфил..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2556000" y="2565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..н..де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3203640" y="321300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..ми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3276720" y="393372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..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3327480" y="13644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ёртый 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3276720" y="1341360"/>
            <a:ext cx="33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..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3059280" y="4581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..р..ш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3348000" y="5288040"/>
            <a:ext cx="314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ас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1239840" y="620640"/>
            <a:ext cx="62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ор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402000" y="1400040"/>
            <a:ext cx="161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400560" y="2205000"/>
            <a:ext cx="179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ор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059280" y="2997360"/>
            <a:ext cx="32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нтяб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400560" y="3860640"/>
            <a:ext cx="236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ши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040200" y="208080"/>
            <a:ext cx="28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1239840" y="620640"/>
            <a:ext cx="62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..р.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402360" y="1400040"/>
            <a:ext cx="152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.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400560" y="2205000"/>
            <a:ext cx="246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..р.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059280" y="2997360"/>
            <a:ext cx="32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..нтяб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400560" y="386064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ш.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1239840" y="620640"/>
            <a:ext cx="62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скресен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400920" y="1400040"/>
            <a:ext cx="176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400560" y="2205000"/>
            <a:ext cx="246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059280" y="2997360"/>
            <a:ext cx="32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рз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771640" y="386064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емля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3184200" y="4927680"/>
            <a:ext cx="255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ор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2535120" y="65160"/>
            <a:ext cx="36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о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1239840" y="620640"/>
            <a:ext cx="62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..скресен..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401280" y="1400040"/>
            <a:ext cx="182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ет..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400560" y="2205000"/>
            <a:ext cx="246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..рё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059280" y="2997360"/>
            <a:ext cx="32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..рз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2771640" y="386064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..мл..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184920" y="4927680"/>
            <a:ext cx="254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..р.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1239840" y="620640"/>
            <a:ext cx="62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овари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399840" y="1400040"/>
            <a:ext cx="239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тр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916360" y="220500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ор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е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203640" y="2997360"/>
            <a:ext cx="31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3419640" y="386064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ктяб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564000" y="492768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аль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3327480" y="136440"/>
            <a:ext cx="22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ти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1239840" y="620640"/>
            <a:ext cx="62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..вари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400560" y="1400040"/>
            <a:ext cx="245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..тр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916360" y="220500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..роже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203640" y="2997360"/>
            <a:ext cx="31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..р..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419640" y="386064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.ктяб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3564000" y="492768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..ль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327480" y="136440"/>
            <a:ext cx="22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ти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1239840" y="620640"/>
            <a:ext cx="62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400560" y="14000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916360" y="220500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скресен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203640" y="2997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емля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059280" y="386064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99cc00"/>
                </a:solidFill>
                <a:latin typeface="Arial"/>
              </a:rPr>
              <a:t>ор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е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132000" y="492768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327480" y="13644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ёртый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3471840" y="1341360"/>
            <a:ext cx="277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нтяб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1239840" y="620640"/>
            <a:ext cx="628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.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400560" y="14000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916360" y="220500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..скресен..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203640" y="2997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..мл..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059280" y="386064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..р..же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3132000" y="492768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..р..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3327480" y="13644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ёртый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471840" y="1341360"/>
            <a:ext cx="318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..нтяб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7:09:31Z</dcterms:created>
  <dc:creator>Школа</dc:creator>
  <dc:description/>
  <dc:language>en-US</dc:language>
  <cp:lastModifiedBy>Николай</cp:lastModifiedBy>
  <dcterms:modified xsi:type="dcterms:W3CDTF">2011-07-27T18:31:14Z</dcterms:modified>
  <cp:revision>4</cp:revision>
  <dc:subject/>
  <dc:title>Слайд 1</dc:title>
</cp:coreProperties>
</file>