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D06E-4F57-4BDB-9237-D20E0757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28C4-4740-4D9C-9322-BAA2DEDB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DD7A3-39C6-4021-8D43-C60EB5C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6B5A1-B3E1-406E-9D07-DDAE45D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FB772-E62D-4920-A324-0616953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001F7-8CC3-4B47-82D5-F5A4195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6E50D-733D-45DA-A724-69A13DB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D3685-4BE8-4772-8F9C-572E7348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FB8F6-6959-4E5F-A234-3A1F53F8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7EFBE-C3A8-4C34-9762-69C9EB3C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DE4E0-BC79-4B3C-BD15-5EB6F999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0555D-0F21-450D-8F21-61F99DE3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81A0-6E50-4402-97B9-971D500A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7110F-0822-402A-A5FE-509854E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200F4-5CCF-4D39-9785-F45D6CC0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32E7A-9F30-496A-B5ED-0701B772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9D100-F3BB-4B82-A563-D707A21C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22BB8-16B8-4E85-9040-3F1B266E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9A013-83AF-4935-8381-6356EC1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8CCC3-B348-43E0-B491-C7FDC8E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2A08C-E020-4065-A5A0-44D885EF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77C21-6D13-48A6-A5B1-1407564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4F3DE-FC2A-46D6-A75B-50CFC17D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43AA-05A9-46F5-9A80-A4C80576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8F4BD-9D7A-4AB5-AFC2-D25B4D0C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31B96-E35E-4B5E-8056-5A57EF4C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4C8B1-83C7-4752-B115-17E6A9E6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FD18-99A4-4EDF-AE78-A4F95C9F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320F8-75A0-411F-970E-E682D92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57434-CF3F-4614-A674-678D129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093E2-C895-46CF-B2AF-A310B26A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5908B-FFCD-4B25-ACB1-B2570A1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9C570-E312-4934-A6A2-2B421AA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4355-629A-481D-8FF5-64A53FA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FD2D-7C9C-43D0-9010-3AED34BE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E92A0-C0AC-4AC6-A9B1-2A541C1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543AE-030D-488D-A04D-A9EEF96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23152-7D40-48AD-B49E-9B7CAE14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1681-1CA4-4E75-8161-3D08A143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EF18-B705-40EA-B2DC-C13FD78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611-30B3-4EDA-ADC2-8FDC8BE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1771-61A2-45F2-A90F-AA9FF77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818C-3D4D-4482-BB05-A51A0BA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C30-7897-4FD4-9176-4EF7A0B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EECB-EEB2-4C95-ACF9-CB773AD1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C3C-D4F9-4171-A980-D7F722F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1364-BB8C-4F25-BB6F-17C80D0A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4C7F-9D01-433D-9CE7-4134A62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629-5809-4A75-9863-128C00EF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23C-B947-43C8-9A80-D1D3D132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C1FC-61B8-4F7A-883D-20CF1F6E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0638-BF1E-4D48-AB59-D5D2AFC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6E85-60A0-45D8-8028-980D2CFC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B493-1AF5-4B4E-AC17-AF9036C2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9B20-F190-4887-9085-FDEB15C2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C530-6507-41F0-A10F-49BD0E9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5A1E-E2EB-42B6-AF34-1549D3DF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9EB2-FBBE-4F10-B561-8DB6406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0FA8-A0B0-4247-A0AC-0997A30A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34D4-F7AD-48EF-B132-EEE0E86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6EC5-1853-4156-856C-140A187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4DAE-8076-4319-874D-BDAFC85A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0050-4D7A-42E0-BAA7-B0A4F2FB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E416-98CF-4717-8A0B-9D81DF75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6119-C025-46A6-BA83-54130424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5396-B9F1-463C-B2DB-6EF4E106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9447-B00C-4BA7-A3FB-998016C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A9F1-F970-4A26-9A1C-8D2FA39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C7C8-7029-4138-A20B-20A41EDE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8F51-D64A-4A27-90C1-AAD817A6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718A-EAB6-490A-9110-FCCF911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DC10-1533-441C-AA60-606A0B5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20E5D-26C4-4BD1-8A7C-9FCB7CC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DDC4-B358-473B-A6EF-D2EB38D6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F0AB-52C0-4FEC-A575-38D5F42F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814E-0B7F-438D-A43D-F0BCFABA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C6AE-2125-4D9C-8412-AF74D89C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CA9D-BA1C-43AF-8745-5E8844C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B4EE-51CF-4744-A2E3-B6A17C9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06CF-D080-40D1-A182-6BF021D5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4D2B-D0E3-4616-A8D6-165F7E1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168E-5671-4317-B6F6-41EFF6A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9889-B8AA-4DAA-8402-0C2BB3A2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DB10-C6D7-4F1B-99F3-175EDEC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AE6A-674E-4A6F-AE53-DB1B4A6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0A99-9CAB-457E-BA13-165DD32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04B2-DCC7-4809-9FB2-36DBAF5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9C07-E087-4D13-B359-7D2AD84A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2A68-8784-480C-9569-D67C69C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D271-4ACB-4E9F-B7EB-44DDFCFC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B845-B824-417A-B9DD-77A67FAE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F6AD-CBB6-40C1-A5B2-EEB3B215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10F4-C5F9-4D2C-B7B2-76FA050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FE1B-2424-4E3E-B215-6A7D981C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5825-99D0-4CAE-A7F7-17983ED8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9841D-8A3A-4986-B330-8BC55E8C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2A11-F8F0-489D-AF5C-743BAE9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B0CB-E49D-4E11-96F2-0CCD438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358F-495E-4C77-B22D-08F6F45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E6B0-7B58-4FA6-B427-C0D373A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8C61-A923-4C6E-9EA1-AEBBCE18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CEB48-3A08-4DF8-85BF-66F8BF5B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AB8C-67AB-491F-BDF0-E147523E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0E21-405A-413A-AA8E-928B0BF3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64EAD-FE7D-4796-BBF6-ED4F3D4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C583C-43F6-4C8B-BB78-110C6A6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95FC-DC7C-41D7-A867-89C14C1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E71C5-C38B-47EC-BD72-69D31FDE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B446-6709-4EA4-BA03-61695386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DCAD7-97F2-46F0-9108-AF2CAE7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65C6-2CB6-46A1-9BA5-0450EAB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0EA3-46F9-4C32-B669-A5A4835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5BC6-6D23-46B2-B2B8-F653100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6AAE-85F2-41FB-8050-3BEAC35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22EB-A97F-4240-BA50-F2803B8D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535D8-53A2-47C4-927E-B7031480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23BF-5D5B-4597-A297-7B6CAE10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79BC-396B-4C3E-8FED-B3128C76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4690-1565-4B5E-8A45-1E7C8FC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57538-7579-40E4-A312-6DA7A98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F807-34DD-47AE-B6A1-5B02D583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299F-0443-443D-AC09-BC8F619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975A-4736-4019-B902-20DFD05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C379B-D653-42A7-98B2-571102E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41DC7-C5BA-4D0D-B8D5-F67874E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C7529-4A14-4100-B93B-400B740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1447-C3F9-4A29-BF59-BCC95D2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80CE0-A75E-470C-AD3B-CDEF3B76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556D-CD19-4B75-BC47-B4C62E7E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C35D1-5964-4B75-A870-E435ECA8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50CD0-406D-4838-895D-DA5CC7D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6E2DB-9E7A-47F1-9010-034478F9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BEC7-C9BD-4062-9217-9CBA9BBD00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9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9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96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97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98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0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1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AE25-714B-4320-BDAB-C0E41EFCA4F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5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DD47-B5AA-4EDF-9370-68B645AAC0C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7EC-B0FE-48BD-B5BD-5117793B2C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6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0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2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3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9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0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1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13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2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3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FC6-3F75-4C26-A782-7AB95096264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4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7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7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BE31-4130-4C81-8557-68145DEC558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83D0-B666-4C3E-AE84-F15C2C26B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5F0D-17EA-44F6-9C64-7439A12486D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43A-EFB4-4568-956A-66FAC08EF6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2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3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B0F9-8836-4768-A755-C4DAF3407EF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249-7820-4027-B13D-854AC4CF434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k6.bmstu.ru/electronic_book/posapr/zadanpo/kvadrat.htm" TargetMode="External"/><Relationship Id="rId2" Type="http://schemas.openxmlformats.org/officeDocument/2006/relationships/hyperlink" Target="http://rk6.bmstu.ru/electronic_book/posapr/zadanpo/kvadrat.htm" TargetMode="External"/><Relationship Id="rId3" Type="http://schemas.openxmlformats.org/officeDocument/2006/relationships/hyperlink" Target="http://rk6.bmstu.ru/electronic_book/posapr/zadanpo/kvadrat.htm" TargetMode="External"/><Relationship Id="rId4" Type="http://schemas.openxmlformats.org/officeDocument/2006/relationships/hyperlink" Target="http://rk6.bmstu.ru/electronic_book/posapr/zadanpo/kvadrat.htm" TargetMode="External"/><Relationship Id="rId5" Type="http://schemas.openxmlformats.org/officeDocument/2006/relationships/hyperlink" Target="http://rk6.bmstu.ru/electronic_book/posapr/zadanpo/kvadrat.htm" TargetMode="External"/><Relationship Id="rId6" Type="http://schemas.openxmlformats.org/officeDocument/2006/relationships/hyperlink" Target="http://rk6.bmstu.ru/electronic_book/posapr/zadanpo/kvadrat.htm" TargetMode="External"/><Relationship Id="rId7" Type="http://schemas.openxmlformats.org/officeDocument/2006/relationships/hyperlink" Target="http://rk6.bmstu.ru/electronic_book/posapr/zadanpo/kvadrat.htm" TargetMode="External"/><Relationship Id="rId8" Type="http://schemas.openxmlformats.org/officeDocument/2006/relationships/hyperlink" Target="http://rk6.bmstu.ru/electronic_book/posapr/zadanpo/kvadrat.htm" TargetMode="External"/><Relationship Id="rId9" Type="http://schemas.openxmlformats.org/officeDocument/2006/relationships/hyperlink" Target="http://rk6.bmstu.ru/electronic_book/posapr/zadanpo/kvadrat.htm" TargetMode="External"/><Relationship Id="rId10" Type="http://schemas.openxmlformats.org/officeDocument/2006/relationships/hyperlink" Target="http://rk6.bmstu.ru/electronic_book/posapr/zadanpo/kvadrat.htm" TargetMode="External"/><Relationship Id="rId11" Type="http://schemas.openxmlformats.org/officeDocument/2006/relationships/hyperlink" Target="http://rk6.bmstu.ru/electronic_book/posapr/zadanpo/kvadrat.htm" TargetMode="External"/><Relationship Id="rId12" Type="http://schemas.openxmlformats.org/officeDocument/2006/relationships/hyperlink" Target="http://rk6.bmstu.ru/electronic_book/posapr/zadanpo/kvadrat.htm" TargetMode="External"/><Relationship Id="rId13" Type="http://schemas.openxmlformats.org/officeDocument/2006/relationships/hyperlink" Target="http://rk6.bmstu.ru/electronic_book/posapr/zadanpo/kvadrat.htm" TargetMode="External"/><Relationship Id="rId14" Type="http://schemas.openxmlformats.org/officeDocument/2006/relationships/hyperlink" Target="http://rk6.bmstu.ru/electronic_book/posapr/zadanpo/kvadrat.htm" TargetMode="External"/><Relationship Id="rId15" Type="http://schemas.openxmlformats.org/officeDocument/2006/relationships/hyperlink" Target="http://rk6.bmstu.ru/electronic_book/posapr/zadanpo/kvadrat.htm" TargetMode="External"/><Relationship Id="rId16" Type="http://schemas.openxmlformats.org/officeDocument/2006/relationships/hyperlink" Target="http://rk6.bmstu.ru/electronic_book/posapr/zadanpo/kvadrat.htm" TargetMode="External"/><Relationship Id="rId17" Type="http://schemas.openxmlformats.org/officeDocument/2006/relationships/hyperlink" Target="http://rk6.bmstu.ru/electronic_book/posapr/zadanpo/kvadrat.htm" TargetMode="External"/><Relationship Id="rId18" Type="http://schemas.openxmlformats.org/officeDocument/2006/relationships/hyperlink" Target="http://rk6.bmstu.ru/electronic_book/posapr/zadanpo/kvadrat.htm" TargetMode="External"/><Relationship Id="rId19" Type="http://schemas.openxmlformats.org/officeDocument/2006/relationships/hyperlink" Target="http://rk6.bmstu.ru/electronic_book/posapr/zadanpo/kvadrat.htm" TargetMode="External"/><Relationship Id="rId20" Type="http://schemas.openxmlformats.org/officeDocument/2006/relationships/hyperlink" Target="http://www.bios.by/issue/07.06.2004/rub12/doc8581.html" TargetMode="External"/><Relationship Id="rId21" Type="http://schemas.openxmlformats.org/officeDocument/2006/relationships/hyperlink" Target="http://www.bios.by/issue/07.06.2004/rub12/doc8581.html" TargetMode="External"/><Relationship Id="rId22" Type="http://schemas.openxmlformats.org/officeDocument/2006/relationships/hyperlink" Target="http://www.bios.by/issue/07.06.2004/rub12/doc8581.html" TargetMode="External"/><Relationship Id="rId23" Type="http://schemas.openxmlformats.org/officeDocument/2006/relationships/hyperlink" Target="http://www.bios.by/issue/07.06.2004/rub12/doc8581.html" TargetMode="External"/><Relationship Id="rId24" Type="http://schemas.openxmlformats.org/officeDocument/2006/relationships/hyperlink" Target="http://www.bios.by/issue/07.06.2004/rub12/doc8581.html" TargetMode="External"/><Relationship Id="rId25" Type="http://schemas.openxmlformats.org/officeDocument/2006/relationships/hyperlink" Target="http://www.bios.by/issue/07.06.2004/rub12/doc8581.html" TargetMode="External"/><Relationship Id="rId26" Type="http://schemas.openxmlformats.org/officeDocument/2006/relationships/hyperlink" Target="http://www.bios.by/issue/07.06.2004/rub12/doc8581.html" TargetMode="External"/><Relationship Id="rId27" Type="http://schemas.openxmlformats.org/officeDocument/2006/relationships/hyperlink" Target="http://www.bios.by/issue/07.06.2004/rub12/doc8581.html" TargetMode="External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182880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агия чисел 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олшебные квадраты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Arial"/>
              </a:rPr>
              <a:t>Автор  работы: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Братищева Екатерина Владимировна,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9 класс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Arial"/>
              </a:rPr>
              <a:t>Руководитель: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Аграфонова Светлана Алексеевна, 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итель математики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МОУ Староюрьевской основной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общеобразовательной школы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105520" y="2286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В дни моей юности я в свободное время развлекался тем, что составлял… магические квадраты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Бенджамин Франклин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02" name="Picture 5" descr="text1"/>
          <p:cNvPicPr/>
          <p:nvPr/>
        </p:nvPicPr>
        <p:blipFill>
          <a:blip r:embed="rId1"/>
          <a:stretch/>
        </p:blipFill>
        <p:spPr>
          <a:xfrm>
            <a:off x="6324480" y="4281480"/>
            <a:ext cx="2819520" cy="2576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2819520" y="1905120"/>
          <a:ext cx="3657600" cy="3581280"/>
        </p:xfrm>
        <a:graphic>
          <a:graphicData uri="http://schemas.openxmlformats.org/drawingml/2006/table">
            <a:tbl>
              <a:tblPr/>
              <a:tblGrid>
                <a:gridCol w="731880"/>
                <a:gridCol w="731520"/>
                <a:gridCol w="730440"/>
                <a:gridCol w="731880"/>
                <a:gridCol w="7318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Rectangle 47"/>
          <p:cNvSpPr/>
          <p:nvPr/>
        </p:nvSpPr>
        <p:spPr>
          <a:xfrm>
            <a:off x="3581280" y="5486400"/>
            <a:ext cx="685800" cy="60948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1" name="Rectangle 48"/>
          <p:cNvSpPr/>
          <p:nvPr/>
        </p:nvSpPr>
        <p:spPr>
          <a:xfrm>
            <a:off x="4267080" y="6095880"/>
            <a:ext cx="685800" cy="60984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5029200" y="5486400"/>
            <a:ext cx="685800" cy="60948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6477120" y="2666880"/>
            <a:ext cx="76176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477120" y="4114800"/>
            <a:ext cx="76176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7238880" y="3352680"/>
            <a:ext cx="68580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Rectangle 53"/>
          <p:cNvSpPr/>
          <p:nvPr/>
        </p:nvSpPr>
        <p:spPr>
          <a:xfrm>
            <a:off x="2057400" y="403848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7" name="Rectangle 54"/>
          <p:cNvSpPr/>
          <p:nvPr/>
        </p:nvSpPr>
        <p:spPr>
          <a:xfrm>
            <a:off x="2057400" y="266688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8" name="Rectangle 55"/>
          <p:cNvSpPr/>
          <p:nvPr/>
        </p:nvSpPr>
        <p:spPr>
          <a:xfrm>
            <a:off x="1295280" y="335268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9" name="Rectangle 56"/>
          <p:cNvSpPr/>
          <p:nvPr/>
        </p:nvSpPr>
        <p:spPr>
          <a:xfrm>
            <a:off x="3505320" y="1219320"/>
            <a:ext cx="76176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0" name="Rectangle 57"/>
          <p:cNvSpPr/>
          <p:nvPr/>
        </p:nvSpPr>
        <p:spPr>
          <a:xfrm>
            <a:off x="4952880" y="121932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1" name="Rectangle 58"/>
          <p:cNvSpPr/>
          <p:nvPr/>
        </p:nvSpPr>
        <p:spPr>
          <a:xfrm>
            <a:off x="4267080" y="533520"/>
            <a:ext cx="68580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2" name="WordArt 59"/>
          <p:cNvSpPr txBox="1"/>
          <p:nvPr/>
        </p:nvSpPr>
        <p:spPr>
          <a:xfrm rot="5400000">
            <a:off x="1401480" y="36273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3" name="WordArt 60"/>
          <p:cNvSpPr txBox="1"/>
          <p:nvPr/>
        </p:nvSpPr>
        <p:spPr>
          <a:xfrm rot="5400000">
            <a:off x="216360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4" name="WordArt 61"/>
          <p:cNvSpPr txBox="1"/>
          <p:nvPr/>
        </p:nvSpPr>
        <p:spPr>
          <a:xfrm rot="5400000">
            <a:off x="2925720" y="22557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5" name="WordArt 62"/>
          <p:cNvSpPr txBox="1"/>
          <p:nvPr/>
        </p:nvSpPr>
        <p:spPr>
          <a:xfrm rot="5400000">
            <a:off x="3687480" y="149364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6" name="WordArt 63"/>
          <p:cNvSpPr txBox="1"/>
          <p:nvPr/>
        </p:nvSpPr>
        <p:spPr>
          <a:xfrm rot="5400000">
            <a:off x="4373280" y="80784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7" name="WordArt 64"/>
          <p:cNvSpPr txBox="1"/>
          <p:nvPr/>
        </p:nvSpPr>
        <p:spPr>
          <a:xfrm rot="5400000">
            <a:off x="216360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8" name="WordArt 65"/>
          <p:cNvSpPr txBox="1"/>
          <p:nvPr/>
        </p:nvSpPr>
        <p:spPr>
          <a:xfrm rot="5400000">
            <a:off x="2925720" y="36273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9" name="WordArt 66"/>
          <p:cNvSpPr txBox="1"/>
          <p:nvPr/>
        </p:nvSpPr>
        <p:spPr>
          <a:xfrm rot="5400000">
            <a:off x="368748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0" name="WordArt 67"/>
          <p:cNvSpPr txBox="1"/>
          <p:nvPr/>
        </p:nvSpPr>
        <p:spPr>
          <a:xfrm rot="5400000">
            <a:off x="4373280" y="22557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WordArt 68"/>
          <p:cNvSpPr txBox="1"/>
          <p:nvPr/>
        </p:nvSpPr>
        <p:spPr>
          <a:xfrm>
            <a:off x="5181480" y="13716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2" name="WordArt 69"/>
          <p:cNvSpPr txBox="1"/>
          <p:nvPr/>
        </p:nvSpPr>
        <p:spPr>
          <a:xfrm>
            <a:off x="3048120" y="49528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3" name="WordArt 70"/>
          <p:cNvSpPr txBox="1"/>
          <p:nvPr/>
        </p:nvSpPr>
        <p:spPr>
          <a:xfrm>
            <a:off x="3809880" y="42670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4" name="WordArt 71"/>
          <p:cNvSpPr txBox="1"/>
          <p:nvPr/>
        </p:nvSpPr>
        <p:spPr>
          <a:xfrm>
            <a:off x="4495680" y="35053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5" name="WordArt 72"/>
          <p:cNvSpPr txBox="1"/>
          <p:nvPr/>
        </p:nvSpPr>
        <p:spPr>
          <a:xfrm>
            <a:off x="5181480" y="28195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6" name="WordArt 74"/>
          <p:cNvSpPr txBox="1"/>
          <p:nvPr/>
        </p:nvSpPr>
        <p:spPr>
          <a:xfrm>
            <a:off x="5943600" y="21337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7" name="WordArt 75"/>
          <p:cNvSpPr txBox="1"/>
          <p:nvPr/>
        </p:nvSpPr>
        <p:spPr>
          <a:xfrm>
            <a:off x="3733920" y="55627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8" name="WordArt 76"/>
          <p:cNvSpPr txBox="1"/>
          <p:nvPr/>
        </p:nvSpPr>
        <p:spPr>
          <a:xfrm>
            <a:off x="4419720" y="617220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9" name="WordArt 77"/>
          <p:cNvSpPr txBox="1"/>
          <p:nvPr/>
        </p:nvSpPr>
        <p:spPr>
          <a:xfrm>
            <a:off x="4495680" y="49528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0" name="WordArt 78"/>
          <p:cNvSpPr txBox="1"/>
          <p:nvPr/>
        </p:nvSpPr>
        <p:spPr>
          <a:xfrm>
            <a:off x="5181480" y="42670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1" name="WordArt 79"/>
          <p:cNvSpPr txBox="1"/>
          <p:nvPr/>
        </p:nvSpPr>
        <p:spPr>
          <a:xfrm>
            <a:off x="5943600" y="35053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2" name="WordArt 80"/>
          <p:cNvSpPr txBox="1"/>
          <p:nvPr/>
        </p:nvSpPr>
        <p:spPr>
          <a:xfrm>
            <a:off x="6705720" y="28195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3" name="WordArt 81"/>
          <p:cNvSpPr txBox="1"/>
          <p:nvPr/>
        </p:nvSpPr>
        <p:spPr>
          <a:xfrm>
            <a:off x="5257800" y="55627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4" name="WordArt 82"/>
          <p:cNvSpPr txBox="1"/>
          <p:nvPr/>
        </p:nvSpPr>
        <p:spPr>
          <a:xfrm>
            <a:off x="5867280" y="49528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5" name="WordArt 83"/>
          <p:cNvSpPr txBox="1"/>
          <p:nvPr/>
        </p:nvSpPr>
        <p:spPr>
          <a:xfrm>
            <a:off x="6705720" y="42670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6" name="WordArt 84"/>
          <p:cNvSpPr txBox="1"/>
          <p:nvPr/>
        </p:nvSpPr>
        <p:spPr>
          <a:xfrm>
            <a:off x="7391520" y="35053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7" name="WordArt 86"/>
          <p:cNvSpPr txBox="1"/>
          <p:nvPr/>
        </p:nvSpPr>
        <p:spPr>
          <a:xfrm rot="5400000">
            <a:off x="1401480" y="36273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8" name="WordArt 87"/>
          <p:cNvSpPr txBox="1"/>
          <p:nvPr/>
        </p:nvSpPr>
        <p:spPr>
          <a:xfrm rot="5400000">
            <a:off x="216360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9" name="WordArt 88"/>
          <p:cNvSpPr txBox="1"/>
          <p:nvPr/>
        </p:nvSpPr>
        <p:spPr>
          <a:xfrm rot="5400000">
            <a:off x="216360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0" name="WordArt 89"/>
          <p:cNvSpPr txBox="1"/>
          <p:nvPr/>
        </p:nvSpPr>
        <p:spPr>
          <a:xfrm>
            <a:off x="3048120" y="49528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1" name="WordArt 91"/>
          <p:cNvSpPr txBox="1"/>
          <p:nvPr/>
        </p:nvSpPr>
        <p:spPr>
          <a:xfrm rot="5400000">
            <a:off x="5142960" y="3619440"/>
            <a:ext cx="380880" cy="15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2" name="WordArt 92"/>
          <p:cNvSpPr txBox="1"/>
          <p:nvPr/>
        </p:nvSpPr>
        <p:spPr>
          <a:xfrm rot="5400000">
            <a:off x="589752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3" name="WordArt 93"/>
          <p:cNvSpPr txBox="1"/>
          <p:nvPr/>
        </p:nvSpPr>
        <p:spPr>
          <a:xfrm rot="5400000">
            <a:off x="582120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4" name="WordArt 94"/>
          <p:cNvSpPr txBox="1"/>
          <p:nvPr/>
        </p:nvSpPr>
        <p:spPr>
          <a:xfrm rot="5400000">
            <a:off x="3687480" y="50749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5" name="WordArt 95"/>
          <p:cNvSpPr txBox="1"/>
          <p:nvPr/>
        </p:nvSpPr>
        <p:spPr>
          <a:xfrm rot="5400000">
            <a:off x="437328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6" name="WordArt 96"/>
          <p:cNvSpPr txBox="1"/>
          <p:nvPr/>
        </p:nvSpPr>
        <p:spPr>
          <a:xfrm>
            <a:off x="5257800" y="48769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WordArt 97"/>
          <p:cNvSpPr txBox="1"/>
          <p:nvPr/>
        </p:nvSpPr>
        <p:spPr>
          <a:xfrm>
            <a:off x="3733920" y="21337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8" name="WordArt 98"/>
          <p:cNvSpPr txBox="1"/>
          <p:nvPr/>
        </p:nvSpPr>
        <p:spPr>
          <a:xfrm>
            <a:off x="4419720" y="28195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9" name="WordArt 99"/>
          <p:cNvSpPr txBox="1"/>
          <p:nvPr/>
        </p:nvSpPr>
        <p:spPr>
          <a:xfrm>
            <a:off x="2971800" y="28954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0" name="WordArt 100"/>
          <p:cNvSpPr txBox="1"/>
          <p:nvPr/>
        </p:nvSpPr>
        <p:spPr>
          <a:xfrm>
            <a:off x="5181480" y="21337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1" name="WordArt 101"/>
          <p:cNvSpPr txBox="1"/>
          <p:nvPr/>
        </p:nvSpPr>
        <p:spPr>
          <a:xfrm>
            <a:off x="2971800" y="41911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2" name="WordArt 102"/>
          <p:cNvSpPr txBox="1"/>
          <p:nvPr/>
        </p:nvSpPr>
        <p:spPr>
          <a:xfrm>
            <a:off x="3733920" y="35812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676520" y="990720"/>
          <a:ext cx="6019560" cy="5257800"/>
        </p:xfrm>
        <a:graphic>
          <a:graphicData uri="http://schemas.openxmlformats.org/drawingml/2006/table">
            <a:tbl>
              <a:tblPr/>
              <a:tblGrid>
                <a:gridCol w="1204920"/>
                <a:gridCol w="1203120"/>
                <a:gridCol w="1203480"/>
                <a:gridCol w="1203120"/>
                <a:gridCol w="120492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WordArt 105"/>
          <p:cNvSpPr txBox="1"/>
          <p:nvPr/>
        </p:nvSpPr>
        <p:spPr>
          <a:xfrm rot="5400000">
            <a:off x="1975320" y="16056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5" name="WordArt 106"/>
          <p:cNvSpPr txBox="1"/>
          <p:nvPr/>
        </p:nvSpPr>
        <p:spPr>
          <a:xfrm rot="5400000">
            <a:off x="1975320" y="36630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6" name="WordArt 107"/>
          <p:cNvSpPr txBox="1"/>
          <p:nvPr/>
        </p:nvSpPr>
        <p:spPr>
          <a:xfrm rot="5400000">
            <a:off x="3270600" y="25200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7" name="WordArt 108"/>
          <p:cNvSpPr txBox="1"/>
          <p:nvPr/>
        </p:nvSpPr>
        <p:spPr>
          <a:xfrm rot="5400000">
            <a:off x="4261320" y="145332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8" name="WordArt 109"/>
          <p:cNvSpPr txBox="1"/>
          <p:nvPr/>
        </p:nvSpPr>
        <p:spPr>
          <a:xfrm>
            <a:off x="3200400" y="4343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9" name="WordArt 110"/>
          <p:cNvSpPr txBox="1"/>
          <p:nvPr/>
        </p:nvSpPr>
        <p:spPr>
          <a:xfrm>
            <a:off x="4495680" y="3581280"/>
            <a:ext cx="50184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0" name="WordArt 111"/>
          <p:cNvSpPr txBox="1"/>
          <p:nvPr/>
        </p:nvSpPr>
        <p:spPr>
          <a:xfrm>
            <a:off x="5638680" y="2362320"/>
            <a:ext cx="501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1" name="WordArt 112"/>
          <p:cNvSpPr txBox="1"/>
          <p:nvPr/>
        </p:nvSpPr>
        <p:spPr>
          <a:xfrm>
            <a:off x="6705720" y="13716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2" name="WordArt 113"/>
          <p:cNvSpPr txBox="1"/>
          <p:nvPr/>
        </p:nvSpPr>
        <p:spPr>
          <a:xfrm>
            <a:off x="4419720" y="5410080"/>
            <a:ext cx="501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3" name="WordArt 114"/>
          <p:cNvSpPr txBox="1"/>
          <p:nvPr/>
        </p:nvSpPr>
        <p:spPr>
          <a:xfrm>
            <a:off x="5638680" y="4495680"/>
            <a:ext cx="50184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4" name="WordArt 115"/>
          <p:cNvSpPr txBox="1"/>
          <p:nvPr/>
        </p:nvSpPr>
        <p:spPr>
          <a:xfrm>
            <a:off x="6629400" y="3352680"/>
            <a:ext cx="501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5" name="WordArt 116"/>
          <p:cNvSpPr txBox="1"/>
          <p:nvPr/>
        </p:nvSpPr>
        <p:spPr>
          <a:xfrm>
            <a:off x="6781680" y="5486400"/>
            <a:ext cx="501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6" name="WordArt 117"/>
          <p:cNvSpPr txBox="1"/>
          <p:nvPr/>
        </p:nvSpPr>
        <p:spPr>
          <a:xfrm>
            <a:off x="2133720" y="5486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7" name="WordArt 118"/>
          <p:cNvSpPr txBox="1"/>
          <p:nvPr/>
        </p:nvSpPr>
        <p:spPr>
          <a:xfrm rot="5400000">
            <a:off x="5563080" y="3656880"/>
            <a:ext cx="609480" cy="15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8" name="WordArt 119"/>
          <p:cNvSpPr txBox="1"/>
          <p:nvPr/>
        </p:nvSpPr>
        <p:spPr>
          <a:xfrm rot="5400000">
            <a:off x="6623280" y="244404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9" name="WordArt 120"/>
          <p:cNvSpPr txBox="1"/>
          <p:nvPr/>
        </p:nvSpPr>
        <p:spPr>
          <a:xfrm rot="5400000">
            <a:off x="6623280" y="450144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0" name="WordArt 121"/>
          <p:cNvSpPr txBox="1"/>
          <p:nvPr/>
        </p:nvSpPr>
        <p:spPr>
          <a:xfrm rot="5400000">
            <a:off x="3118320" y="556812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1" name="WordArt 122"/>
          <p:cNvSpPr txBox="1"/>
          <p:nvPr/>
        </p:nvSpPr>
        <p:spPr>
          <a:xfrm rot="5400000">
            <a:off x="4261320" y="45774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2" name="WordArt 123"/>
          <p:cNvSpPr txBox="1"/>
          <p:nvPr/>
        </p:nvSpPr>
        <p:spPr>
          <a:xfrm>
            <a:off x="5562720" y="5486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3" name="WordArt 124"/>
          <p:cNvSpPr txBox="1"/>
          <p:nvPr/>
        </p:nvSpPr>
        <p:spPr>
          <a:xfrm>
            <a:off x="3352680" y="1295280"/>
            <a:ext cx="50184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4" name="WordArt 125"/>
          <p:cNvSpPr txBox="1"/>
          <p:nvPr/>
        </p:nvSpPr>
        <p:spPr>
          <a:xfrm>
            <a:off x="4343400" y="236232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5" name="WordArt 126"/>
          <p:cNvSpPr txBox="1"/>
          <p:nvPr/>
        </p:nvSpPr>
        <p:spPr>
          <a:xfrm>
            <a:off x="2133720" y="2438280"/>
            <a:ext cx="501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6" name="WordArt 127"/>
          <p:cNvSpPr txBox="1"/>
          <p:nvPr/>
        </p:nvSpPr>
        <p:spPr>
          <a:xfrm>
            <a:off x="5638680" y="1371600"/>
            <a:ext cx="501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7" name="WordArt 128"/>
          <p:cNvSpPr txBox="1"/>
          <p:nvPr/>
        </p:nvSpPr>
        <p:spPr>
          <a:xfrm>
            <a:off x="2057400" y="4343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8" name="WordArt 129"/>
          <p:cNvSpPr txBox="1"/>
          <p:nvPr/>
        </p:nvSpPr>
        <p:spPr>
          <a:xfrm>
            <a:off x="3276720" y="350532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9" name="Text Box 131"/>
          <p:cNvSpPr/>
          <p:nvPr/>
        </p:nvSpPr>
        <p:spPr>
          <a:xfrm>
            <a:off x="304920" y="6858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0" name="Text Box 132"/>
          <p:cNvSpPr/>
          <p:nvPr/>
        </p:nvSpPr>
        <p:spPr>
          <a:xfrm>
            <a:off x="304920" y="152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лучится магический 25-клеточный квадрат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нтересен способ заполнения магического квадрата четвертого порядка. В литературе я прочитала, что способов заполнения магического квадрата четвертого порядка существует 880. Вот один из них: берем квадрат размером 4×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1905120" y="1143000"/>
          <a:ext cx="5486400" cy="447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Oval 32"/>
          <p:cNvSpPr/>
          <p:nvPr/>
        </p:nvSpPr>
        <p:spPr>
          <a:xfrm>
            <a:off x="3657600" y="1447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4" name="Oval 33"/>
          <p:cNvSpPr/>
          <p:nvPr/>
        </p:nvSpPr>
        <p:spPr>
          <a:xfrm>
            <a:off x="5029200" y="1447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5" name="Oval 34"/>
          <p:cNvSpPr/>
          <p:nvPr/>
        </p:nvSpPr>
        <p:spPr>
          <a:xfrm>
            <a:off x="6400800" y="2590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6" name="Oval 35"/>
          <p:cNvSpPr/>
          <p:nvPr/>
        </p:nvSpPr>
        <p:spPr>
          <a:xfrm>
            <a:off x="6400800" y="3733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7" name="Oval 36"/>
          <p:cNvSpPr/>
          <p:nvPr/>
        </p:nvSpPr>
        <p:spPr>
          <a:xfrm>
            <a:off x="2362320" y="2514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8" name="Oval 37"/>
          <p:cNvSpPr/>
          <p:nvPr/>
        </p:nvSpPr>
        <p:spPr>
          <a:xfrm>
            <a:off x="2362320" y="3733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9" name="Oval 38"/>
          <p:cNvSpPr/>
          <p:nvPr/>
        </p:nvSpPr>
        <p:spPr>
          <a:xfrm>
            <a:off x="3733920" y="4800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0" name="Oval 39"/>
          <p:cNvSpPr/>
          <p:nvPr/>
        </p:nvSpPr>
        <p:spPr>
          <a:xfrm>
            <a:off x="5105520" y="4800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1" name="WordArt 40"/>
          <p:cNvSpPr txBox="1"/>
          <p:nvPr/>
        </p:nvSpPr>
        <p:spPr>
          <a:xfrm>
            <a:off x="2362320" y="1447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WordArt 41"/>
          <p:cNvSpPr txBox="1"/>
          <p:nvPr/>
        </p:nvSpPr>
        <p:spPr>
          <a:xfrm>
            <a:off x="6553080" y="1447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3" name="WordArt 42"/>
          <p:cNvSpPr txBox="1"/>
          <p:nvPr/>
        </p:nvSpPr>
        <p:spPr>
          <a:xfrm>
            <a:off x="3733920" y="2590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4" name="WordArt 43"/>
          <p:cNvSpPr txBox="1"/>
          <p:nvPr/>
        </p:nvSpPr>
        <p:spPr>
          <a:xfrm>
            <a:off x="5105520" y="2590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WordArt 44"/>
          <p:cNvSpPr txBox="1"/>
          <p:nvPr/>
        </p:nvSpPr>
        <p:spPr>
          <a:xfrm>
            <a:off x="3733920" y="36576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WordArt 45"/>
          <p:cNvSpPr txBox="1"/>
          <p:nvPr/>
        </p:nvSpPr>
        <p:spPr>
          <a:xfrm>
            <a:off x="5029200" y="3657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7" name="WordArt 46"/>
          <p:cNvSpPr txBox="1"/>
          <p:nvPr/>
        </p:nvSpPr>
        <p:spPr>
          <a:xfrm>
            <a:off x="2438280" y="48006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WordArt 47"/>
          <p:cNvSpPr txBox="1"/>
          <p:nvPr/>
        </p:nvSpPr>
        <p:spPr>
          <a:xfrm>
            <a:off x="6477120" y="4724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9" name="WordArt 48"/>
          <p:cNvSpPr txBox="1"/>
          <p:nvPr/>
        </p:nvSpPr>
        <p:spPr>
          <a:xfrm>
            <a:off x="2286000" y="2514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0" name="WordArt 49"/>
          <p:cNvSpPr txBox="1"/>
          <p:nvPr/>
        </p:nvSpPr>
        <p:spPr>
          <a:xfrm>
            <a:off x="3733920" y="1447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WordArt 50"/>
          <p:cNvSpPr txBox="1"/>
          <p:nvPr/>
        </p:nvSpPr>
        <p:spPr>
          <a:xfrm>
            <a:off x="5105520" y="1447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WordArt 51"/>
          <p:cNvSpPr txBox="1"/>
          <p:nvPr/>
        </p:nvSpPr>
        <p:spPr>
          <a:xfrm>
            <a:off x="6477120" y="25146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WordArt 52"/>
          <p:cNvSpPr txBox="1"/>
          <p:nvPr/>
        </p:nvSpPr>
        <p:spPr>
          <a:xfrm>
            <a:off x="2438280" y="3733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WordArt 53"/>
          <p:cNvSpPr txBox="1"/>
          <p:nvPr/>
        </p:nvSpPr>
        <p:spPr>
          <a:xfrm>
            <a:off x="3809880" y="47242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WordArt 54"/>
          <p:cNvSpPr txBox="1"/>
          <p:nvPr/>
        </p:nvSpPr>
        <p:spPr>
          <a:xfrm>
            <a:off x="5181480" y="47242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6" name="WordArt 55"/>
          <p:cNvSpPr txBox="1"/>
          <p:nvPr/>
        </p:nvSpPr>
        <p:spPr>
          <a:xfrm>
            <a:off x="6477120" y="3733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1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4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7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атинским квадратом называется квадрат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клеток, в которых написаны числа от 1, до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, при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том так, что в каждой строке и каждом столбце встречаются все эти числа по одному разу. Они обладают интересной особенностью: если один квадрат наложить на другой, то все пары получившихся чисел оказываются различными. Такие пары латинских квадратов называются ортогональными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8" name="Picture 4" descr="rddd"/>
          <p:cNvPicPr/>
          <p:nvPr/>
        </p:nvPicPr>
        <p:blipFill>
          <a:blip r:embed="rId1"/>
          <a:stretch/>
        </p:blipFill>
        <p:spPr>
          <a:xfrm>
            <a:off x="914400" y="3962520"/>
            <a:ext cx="7848720" cy="221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209680" y="762120"/>
            <a:ext cx="6477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Впервые задачу отыскания ортогональных латинских квадратов поставил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Л. Эйлер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причём в такой занимательной формулировке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99cc00"/>
                </a:solidFill>
                <a:latin typeface="Arial"/>
              </a:rPr>
              <a:t>«Среди 36 офицеров поровну уланов, драгунов, гусаров, кирасиров, кавалергардов и гренадеров и, кроме того, поровну генералов, полковников,   майоров,   капитанов,    поручиков   и   подпоручиков, причем каждый род войск представлен офицерами всех шести рангов. Можно ли выстроить всех офицеров в каре 6 * 6 так, чтобы в любой колонне и любой шеренге встречались офицеры всех рангов?»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0" name="Picture 4" descr="Эйлер"/>
          <p:cNvPicPr/>
          <p:nvPr/>
        </p:nvPicPr>
        <p:blipFill>
          <a:blip r:embed="rId1"/>
          <a:stretch/>
        </p:blipFill>
        <p:spPr>
          <a:xfrm>
            <a:off x="228600" y="609480"/>
            <a:ext cx="2262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1901 г. было доказано, что ортогональных квадратов 6*6 не существует. В 1959 г. с помощью  ЭВМ  были  найдены  сначала  ортогональные квадраты 10*10, потом 14*14, 18 *18, 22 *22. А затем было показано, что для любого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, кроме 6, существуют ортогональные квадраты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*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Шифрование текстов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3" name="Rectangle 15" descr=""/>
          <p:cNvPicPr/>
          <p:nvPr/>
        </p:nvPicPr>
        <p:blipFill>
          <a:blip r:embed="rId1"/>
          <a:srcRect l="51855" t="36216" r="15482" b="21450"/>
          <a:stretch/>
        </p:blipFill>
        <p:spPr>
          <a:xfrm>
            <a:off x="2819520" y="160020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 2  3 4  5  6 7  8    9 10 11 12 13 14 15 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П Р И Л Е Т А Ю    В  О  С  Ь  М  О   Г   О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Использование ортогональных латинских квадратов помогает учесть все возможные варианты в экспериментах в сельском хозяйстве, физике, химии, технике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rcRect l="49219" t="42708" r="15626" b="31250"/>
          <a:stretch/>
        </p:blipFill>
        <p:spPr>
          <a:xfrm>
            <a:off x="2286000" y="457200"/>
            <a:ext cx="48769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3733560" y="76212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удо́ку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9900"/>
                </a:solidFill>
                <a:latin typeface="Arial"/>
              </a:rPr>
              <a:t>— это головоломка-пазл с числами, ставшая в последнее время очень популярной. В переводе с японского «су» — «цифра», «доку» — «стоящая отдельно». Иногда судоку называют «магическим квадратом», что в общем-то не верно, так как судоку является латинским квадратом 9-го порядка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9908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моей работы – выяснить различные способы составления магических квадратов  и изучить области их применения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ля этого  поставила  следующие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задачи</a:t>
            </a:r>
            <a:r>
              <a:rPr b="1" i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знакомиться с историей появления магических квадратов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ыяснить виды магических квадратов и способы их заполнения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овести исследование и подтвердить или опровергнуть утверждение  Пифагора о том, что судьба человека зависит от числа его рождения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ыявить области применения  магических квадратов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Объект исследования</a:t>
            </a:r>
            <a:r>
              <a:rPr b="0" i="1" lang="ru-RU" sz="2000" spc="-1" strike="noStrike">
                <a:solidFill>
                  <a:srgbClr val="3366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магические квадраты; ученики 9 класса, мои родственники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Предмет исследования</a:t>
            </a:r>
            <a:r>
              <a:rPr b="0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методы составления магических квадратов; мнения респондентов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Я думаю, что существуют способы заполнения магических квадратов, изучив которые можно составить магический квадрат любого порядка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зучая магические квадраты, я обнаружила еще один занимательный квадрат - квадрат Пифагора, представляющий исторический интерес и, возможно, полезный для составления психологического портрета личност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62" name="Picture 5" descr="1249361969_1e"/>
          <p:cNvPicPr/>
          <p:nvPr/>
        </p:nvPicPr>
        <p:blipFill>
          <a:blip r:embed="rId1"/>
          <a:stretch/>
        </p:blipFill>
        <p:spPr>
          <a:xfrm>
            <a:off x="2971800" y="3619440"/>
            <a:ext cx="357192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ною было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проведено исследование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насколько магический квадрат Пифагора  соответствует реальным качествам человека. В эксперименте участвовало 25 человек. При анализе результатов, я выяснила, что его магические свойства совпадают на 71 %. На основе этого я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делала вывод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: не следует слепо верить всему магическому. Может быть, некоторые черты характера и заложены в дате рождения человека, но человек всегда может найти способы что-то изменить в своей судьбе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tretch/>
        </p:blipFill>
        <p:spPr>
          <a:xfrm>
            <a:off x="5840280" y="1219320"/>
            <a:ext cx="3303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66" name="Picture 3" descr=""/>
          <p:cNvPicPr/>
          <p:nvPr/>
        </p:nvPicPr>
        <p:blipFill>
          <a:blip r:embed="rId1"/>
          <a:srcRect l="32408" t="31373" r="18520" b="9805"/>
          <a:stretch/>
        </p:blipFill>
        <p:spPr>
          <a:xfrm>
            <a:off x="0" y="3049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58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ботая над проблемой заполнения квадратов, я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ишла к вывод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что общий метод построения квадратов неизвестен, хотя широко применяются различные частные алгоритмы. Я систематизировала изученный материал и представила его в виде следующей схе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9" name="Group 42"/>
          <p:cNvGrpSpPr/>
          <p:nvPr/>
        </p:nvGrpSpPr>
        <p:grpSpPr>
          <a:xfrm>
            <a:off x="990720" y="3352320"/>
            <a:ext cx="6819840" cy="3505680"/>
            <a:chOff x="990720" y="3352320"/>
            <a:chExt cx="6819840" cy="3505680"/>
          </a:xfrm>
        </p:grpSpPr>
        <p:grpSp>
          <p:nvGrpSpPr>
            <p:cNvPr id="770" name="Group 43"/>
            <p:cNvGrpSpPr/>
            <p:nvPr/>
          </p:nvGrpSpPr>
          <p:grpSpPr>
            <a:xfrm>
              <a:off x="990720" y="3882240"/>
              <a:ext cx="6819840" cy="2975760"/>
              <a:chOff x="990720" y="3882240"/>
              <a:chExt cx="6819840" cy="2975760"/>
            </a:xfrm>
          </p:grpSpPr>
          <p:sp>
            <p:nvSpPr>
              <p:cNvPr id="771" name="AutoShape 44"/>
              <p:cNvSpPr/>
              <p:nvPr/>
            </p:nvSpPr>
            <p:spPr>
              <a:xfrm>
                <a:off x="990720" y="3882240"/>
                <a:ext cx="6819840" cy="29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72" name="AutoShape 45"/>
              <p:cNvSpPr/>
              <p:nvPr/>
            </p:nvSpPr>
            <p:spPr>
              <a:xfrm>
                <a:off x="990720" y="4646520"/>
                <a:ext cx="1469880" cy="423360"/>
              </a:xfrm>
              <a:prstGeom prst="roundRect">
                <a:avLst>
                  <a:gd name="adj" fmla="val 16667"/>
                </a:avLst>
              </a:prstGeom>
              <a:solidFill>
                <a:srgbClr val="e1ffeb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73" name="Text Box 46"/>
              <p:cNvSpPr/>
              <p:nvPr/>
            </p:nvSpPr>
            <p:spPr>
              <a:xfrm>
                <a:off x="990720" y="4646520"/>
                <a:ext cx="1361160" cy="45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метод достроения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774" name="Group 47"/>
              <p:cNvGrpSpPr/>
              <p:nvPr/>
            </p:nvGrpSpPr>
            <p:grpSpPr>
              <a:xfrm>
                <a:off x="6198840" y="5387760"/>
                <a:ext cx="1611720" cy="529560"/>
                <a:chOff x="6198840" y="5387760"/>
                <a:chExt cx="1611720" cy="529560"/>
              </a:xfrm>
            </p:grpSpPr>
            <p:sp>
              <p:nvSpPr>
                <p:cNvPr id="775" name="AutoShape 48"/>
                <p:cNvSpPr/>
                <p:nvPr/>
              </p:nvSpPr>
              <p:spPr>
                <a:xfrm>
                  <a:off x="6198840" y="5387760"/>
                  <a:ext cx="1611720" cy="52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e8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49"/>
                <p:cNvSpPr/>
                <p:nvPr/>
              </p:nvSpPr>
              <p:spPr>
                <a:xfrm>
                  <a:off x="6198840" y="5387760"/>
                  <a:ext cx="16117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диагональный метод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50"/>
              <p:cNvGrpSpPr/>
              <p:nvPr/>
            </p:nvGrpSpPr>
            <p:grpSpPr>
              <a:xfrm>
                <a:off x="1734480" y="4116600"/>
                <a:ext cx="6019560" cy="1810080"/>
                <a:chOff x="1734480" y="4116600"/>
                <a:chExt cx="6019560" cy="1810080"/>
              </a:xfrm>
            </p:grpSpPr>
            <p:sp>
              <p:nvSpPr>
                <p:cNvPr id="778" name="Line 51"/>
                <p:cNvSpPr/>
                <p:nvPr/>
              </p:nvSpPr>
              <p:spPr>
                <a:xfrm flipH="1">
                  <a:off x="3593880" y="4964040"/>
                  <a:ext cx="2356200" cy="423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52"/>
                <p:cNvSpPr/>
                <p:nvPr/>
              </p:nvSpPr>
              <p:spPr>
                <a:xfrm>
                  <a:off x="1858320" y="4116600"/>
                  <a:ext cx="185004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e5e5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53"/>
                <p:cNvSpPr/>
                <p:nvPr/>
              </p:nvSpPr>
              <p:spPr>
                <a:xfrm>
                  <a:off x="1734480" y="4116600"/>
                  <a:ext cx="1760040" cy="2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не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54"/>
                <p:cNvSpPr/>
                <p:nvPr/>
              </p:nvSpPr>
              <p:spPr>
                <a:xfrm>
                  <a:off x="2602080" y="4646160"/>
                  <a:ext cx="152352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ffeb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55"/>
                <p:cNvSpPr/>
                <p:nvPr/>
              </p:nvSpPr>
              <p:spPr>
                <a:xfrm>
                  <a:off x="2602080" y="4646160"/>
                  <a:ext cx="141480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метод              А. де Лубера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56"/>
                <p:cNvSpPr/>
                <p:nvPr/>
              </p:nvSpPr>
              <p:spPr>
                <a:xfrm>
                  <a:off x="4586760" y="4646160"/>
                  <a:ext cx="157788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ffeb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57"/>
                <p:cNvSpPr/>
                <p:nvPr/>
              </p:nvSpPr>
              <p:spPr>
                <a:xfrm>
                  <a:off x="4710960" y="4646160"/>
                  <a:ext cx="141480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четно-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58"/>
                <p:cNvSpPr/>
                <p:nvPr/>
              </p:nvSpPr>
              <p:spPr>
                <a:xfrm>
                  <a:off x="6322680" y="4646160"/>
                  <a:ext cx="141444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ffeb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59"/>
                <p:cNvSpPr/>
                <p:nvPr/>
              </p:nvSpPr>
              <p:spPr>
                <a:xfrm>
                  <a:off x="2602080" y="5387760"/>
                  <a:ext cx="1523520" cy="52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e8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60"/>
                <p:cNvSpPr/>
                <p:nvPr/>
              </p:nvSpPr>
              <p:spPr>
                <a:xfrm>
                  <a:off x="2850120" y="5387760"/>
                  <a:ext cx="99432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порядок  2</a:t>
                  </a:r>
                  <a:r>
                    <a:rPr b="1" i="1" lang="ru-RU" sz="1900" spc="-1" strike="noStrike" baseline="30000">
                      <a:solidFill>
                        <a:srgbClr val="0000ff"/>
                      </a:solidFill>
                      <a:latin typeface="Bookman Old Style"/>
                    </a:rPr>
                    <a:t>п</a:t>
                  </a:r>
                  <a:endParaRPr b="0" lang="en-US" sz="19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Group 61"/>
                <p:cNvGrpSpPr/>
                <p:nvPr/>
              </p:nvGrpSpPr>
              <p:grpSpPr>
                <a:xfrm>
                  <a:off x="4214160" y="5387760"/>
                  <a:ext cx="1578600" cy="538920"/>
                  <a:chOff x="4214160" y="5387760"/>
                  <a:chExt cx="1578600" cy="538920"/>
                </a:xfrm>
              </p:grpSpPr>
              <p:sp>
                <p:nvSpPr>
                  <p:cNvPr id="789" name="AutoShape 62"/>
                  <p:cNvSpPr/>
                  <p:nvPr/>
                </p:nvSpPr>
                <p:spPr>
                  <a:xfrm>
                    <a:off x="4214160" y="5387760"/>
                    <a:ext cx="1578600" cy="5389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e1e8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Text Box 63"/>
                  <p:cNvSpPr/>
                  <p:nvPr/>
                </p:nvSpPr>
                <p:spPr>
                  <a:xfrm>
                    <a:off x="4268160" y="5387760"/>
                    <a:ext cx="1416240" cy="47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000ff"/>
                        </a:solidFill>
                        <a:latin typeface="Arial"/>
                      </a:rPr>
                      <a:t>метод     </a:t>
                    </a:r>
                    <a:endParaRPr b="0" lang="en-US" sz="14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000ff"/>
                        </a:solidFill>
                        <a:latin typeface="Arial"/>
                      </a:rPr>
                      <a:t> </a:t>
                    </a:r>
                    <a:r>
                      <a:rPr b="1" lang="ru-RU" sz="1400" spc="-1" strike="noStrike">
                        <a:solidFill>
                          <a:srgbClr val="0000ff"/>
                        </a:solidFill>
                        <a:latin typeface="Arial"/>
                      </a:rPr>
                      <a:t>Раус - Бола</a:t>
                    </a:r>
                    <a:endParaRPr b="0" lang="en-US" sz="14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1" name="Line 64"/>
                <p:cNvSpPr/>
                <p:nvPr/>
              </p:nvSpPr>
              <p:spPr>
                <a:xfrm flipH="1">
                  <a:off x="1734480" y="4327920"/>
                  <a:ext cx="95616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5"/>
                <p:cNvSpPr/>
                <p:nvPr/>
              </p:nvSpPr>
              <p:spPr>
                <a:xfrm>
                  <a:off x="2726280" y="4327920"/>
                  <a:ext cx="74376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6"/>
                <p:cNvSpPr/>
                <p:nvPr/>
              </p:nvSpPr>
              <p:spPr>
                <a:xfrm flipH="1">
                  <a:off x="5330520" y="4327920"/>
                  <a:ext cx="87012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7"/>
                <p:cNvSpPr/>
                <p:nvPr/>
              </p:nvSpPr>
              <p:spPr>
                <a:xfrm>
                  <a:off x="6198840" y="4327920"/>
                  <a:ext cx="99180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8"/>
                <p:cNvSpPr/>
                <p:nvPr/>
              </p:nvSpPr>
              <p:spPr>
                <a:xfrm flipH="1">
                  <a:off x="5206320" y="5069880"/>
                  <a:ext cx="201240" cy="317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9"/>
                <p:cNvSpPr/>
                <p:nvPr/>
              </p:nvSpPr>
              <p:spPr>
                <a:xfrm>
                  <a:off x="7066800" y="5069880"/>
                  <a:ext cx="360" cy="317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70"/>
                <p:cNvSpPr/>
                <p:nvPr/>
              </p:nvSpPr>
              <p:spPr>
                <a:xfrm>
                  <a:off x="4959000" y="4116600"/>
                  <a:ext cx="192456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e5e5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8" name="Text Box 71"/>
                <p:cNvSpPr/>
                <p:nvPr/>
              </p:nvSpPr>
              <p:spPr>
                <a:xfrm>
                  <a:off x="5082840" y="4116600"/>
                  <a:ext cx="1924560" cy="2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9" name="Text Box 72"/>
                <p:cNvSpPr/>
                <p:nvPr/>
              </p:nvSpPr>
              <p:spPr>
                <a:xfrm>
                  <a:off x="6446880" y="4646160"/>
                  <a:ext cx="1307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четно-не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Line 73"/>
              <p:cNvSpPr/>
              <p:nvPr/>
            </p:nvSpPr>
            <p:spPr>
              <a:xfrm flipH="1">
                <a:off x="3222000" y="3882240"/>
                <a:ext cx="1453320" cy="25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1" name="Line 74"/>
              <p:cNvSpPr/>
              <p:nvPr/>
            </p:nvSpPr>
            <p:spPr>
              <a:xfrm>
                <a:off x="4710960" y="3882240"/>
                <a:ext cx="1487880" cy="25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75"/>
            <p:cNvGrpSpPr/>
            <p:nvPr/>
          </p:nvGrpSpPr>
          <p:grpSpPr>
            <a:xfrm>
              <a:off x="3594240" y="3352320"/>
              <a:ext cx="2727720" cy="423720"/>
              <a:chOff x="3594240" y="3352320"/>
              <a:chExt cx="2727720" cy="423720"/>
            </a:xfrm>
          </p:grpSpPr>
          <p:sp>
            <p:nvSpPr>
              <p:cNvPr id="803" name="AutoShape 76"/>
              <p:cNvSpPr/>
              <p:nvPr/>
            </p:nvSpPr>
            <p:spPr>
              <a:xfrm rot="10800000">
                <a:off x="3594240" y="3352320"/>
                <a:ext cx="2727720" cy="423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4" name="Text Box 77"/>
              <p:cNvSpPr/>
              <p:nvPr/>
            </p:nvSpPr>
            <p:spPr>
              <a:xfrm>
                <a:off x="3594600" y="3458520"/>
                <a:ext cx="2583000" cy="21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Магические  квадраты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805" name="Text Box 78"/>
          <p:cNvSpPr/>
          <p:nvPr/>
        </p:nvSpPr>
        <p:spPr>
          <a:xfrm>
            <a:off x="1752480" y="6019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спользуя один из этих методов можно заполнить квадрат любого размера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ПИСОК  ЛИТЕРАТУРЫ   И  ИСТОЧНИКИ ИНТЕРНЕ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1. Задачи для внеклассной работы по математике в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классах/ Сост. В.Ю. Сафонова. Под ред. Д.Б. Фукса. – М.: МИРОС, 1998.     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2. Климченко Д.В. Задачи для любознательных: Кн. для учащихся 5-6 кл.-М.:  Просвещение, 1999. 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3.  Кордемский Б.А. Математическая смекалка. –М.: Юнисам, МДС, 199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4. Ткачева М. В. Элементы статистики и вероятность: Учебн. пособие для общеобразовательных учреждений: Просвещение, 2004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5. Шарыгин И. Ф. Шевкин А. В.  Подумай и реши: задачи на смекалку.- М.: ГАЛАС, 1993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6.  Энциклопедический словарь юного математика. М., Педагогика, 1999г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7. 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3"/>
              </a:rPr>
              <a:t>rk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4"/>
              </a:rPr>
              <a:t>6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5"/>
              </a:rPr>
              <a:t>bmstu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7"/>
              </a:rPr>
              <a:t>ru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9"/>
              </a:rPr>
              <a:t>electronic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0"/>
              </a:rPr>
              <a:t>_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1"/>
              </a:rPr>
              <a:t>book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3"/>
              </a:rPr>
              <a:t>posapr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5"/>
              </a:rPr>
              <a:t>zadanpo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7"/>
              </a:rPr>
              <a:t>kvadrat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9"/>
              </a:rPr>
              <a:t>htm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8.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4"/>
              </a:rPr>
              <a:t>bios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6"/>
              </a:rPr>
              <a:t>by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7"/>
              </a:rPr>
              <a:t>/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issue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/07.06.2004/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rub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12/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oc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8581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ml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В сборниках нестандартных задач по математике часто встречаются задачи на составление магических квадратов. Кроме того, такие задания нередко включают в математические олимпиады, поэтому ребятам, увлекающимся математикой полезно знать способы решения задач такого типа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6095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тематические или волшебные квадраты были известны еще арабам и индусам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 Европе они появились в 15 веке благодаря византийскому писателю Мосхопуло. Средневековые звездочеты верили в магическую силу этих квадратов, которые, по их убеждению, могли служить талисманом от чумы. Но и в наше время математики и не математики не пренебрегают вопросом о магических квадратах. В древности магические квадраты очень уважали и приписывали им различные мистические свойства. Бытовало поверье, что выгравированный на серебре магический квадрат защищает от чумы. Даже сегодня среди атрибутов европейских прорицателей можно увидеть магические квадраты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06" name="Picture 4" descr="magic-square"/>
          <p:cNvPicPr/>
          <p:nvPr/>
        </p:nvPicPr>
        <p:blipFill>
          <a:blip r:embed="rId1"/>
          <a:srcRect l="7008" t="6894" r="26971" b="41126"/>
          <a:stretch/>
        </p:blipFill>
        <p:spPr>
          <a:xfrm>
            <a:off x="6324480" y="533520"/>
            <a:ext cx="2819520" cy="2687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thumbnail"/>
          <p:cNvPicPr/>
          <p:nvPr/>
        </p:nvPicPr>
        <p:blipFill>
          <a:blip r:embed="rId2"/>
          <a:stretch/>
        </p:blipFill>
        <p:spPr>
          <a:xfrm>
            <a:off x="6095880" y="34290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72931"/>
          <p:cNvPicPr/>
          <p:nvPr/>
        </p:nvPicPr>
        <p:blipFill>
          <a:blip r:embed="rId1"/>
          <a:srcRect l="55001" t="0" r="0" b="0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1640" y="6094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гласно легенде, во времена правления императора Ю (ок. 2200 до н.э.) из вод Хуанхэ (Желтой реки) всплыла священная черепаха, на панцире которой были начертаны таинственные иероглифы и эти знаки известны под названием ло-шу и равносильны магическому квадра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0" name="Picture 8" descr="Безымянный"/>
          <p:cNvPicPr/>
          <p:nvPr/>
        </p:nvPicPr>
        <p:blipFill>
          <a:blip r:embed="rId2"/>
          <a:stretch/>
        </p:blipFill>
        <p:spPr>
          <a:xfrm>
            <a:off x="5638680" y="4648320"/>
            <a:ext cx="2179800" cy="2209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5562720" y="3124080"/>
            <a:ext cx="3581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м квадратом, придуманным европейцем, считается квадрат А.Дюрера, изображенный на его знаменитой гравюре «Меланхолия» 1514 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2" name="Picture 4" descr="меланхолия"/>
          <p:cNvPicPr/>
          <p:nvPr/>
        </p:nvPicPr>
        <p:blipFill>
          <a:blip r:embed="rId1"/>
          <a:stretch/>
        </p:blipFill>
        <p:spPr>
          <a:xfrm>
            <a:off x="0" y="0"/>
            <a:ext cx="531648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Oval 6"/>
          <p:cNvSpPr/>
          <p:nvPr/>
        </p:nvSpPr>
        <p:spPr>
          <a:xfrm>
            <a:off x="4038480" y="914400"/>
            <a:ext cx="11430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514600" cy="24606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5181480" y="14479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152280"/>
            <a:ext cx="3124080" cy="281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агических квадратов 2*2 не существует. Существует единственный магический квадрат 3*3, так как остальные магические квадраты 3*3 получаются из него либо перестановкой строк (а) или столбцов (б) либо путем поворота исходного квадрата на 90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) или на 180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(г)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19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2268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 увеличением размеров квадрата (числа клеток) быстро растет количество возможных магических квадратов такого размера. Например, существует 880 магических квадратов порядка 4 и 275 000 000 магических квадратов порядка 5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21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5029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kvadrat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MagicSquar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2895480" y="1600200"/>
          <a:ext cx="4114800" cy="3733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Rectangle 30"/>
          <p:cNvSpPr/>
          <p:nvPr/>
        </p:nvSpPr>
        <p:spPr>
          <a:xfrm>
            <a:off x="4267080" y="3049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6" name="Rectangle 33"/>
          <p:cNvSpPr/>
          <p:nvPr/>
        </p:nvSpPr>
        <p:spPr>
          <a:xfrm>
            <a:off x="4267080" y="53341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7" name="Rectangle 34"/>
          <p:cNvSpPr/>
          <p:nvPr/>
        </p:nvSpPr>
        <p:spPr>
          <a:xfrm>
            <a:off x="1523880" y="28195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8" name="Rectangle 35"/>
          <p:cNvSpPr/>
          <p:nvPr/>
        </p:nvSpPr>
        <p:spPr>
          <a:xfrm>
            <a:off x="7010280" y="28195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WordArt 36"/>
          <p:cNvSpPr txBox="1"/>
          <p:nvPr/>
        </p:nvSpPr>
        <p:spPr>
          <a:xfrm rot="5400000">
            <a:off x="1689840" y="3263040"/>
            <a:ext cx="887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0" name="WordArt 37"/>
          <p:cNvSpPr txBox="1"/>
          <p:nvPr/>
        </p:nvSpPr>
        <p:spPr>
          <a:xfrm rot="5400000">
            <a:off x="3001680" y="202716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1" name="WordArt 38"/>
          <p:cNvSpPr txBox="1"/>
          <p:nvPr/>
        </p:nvSpPr>
        <p:spPr>
          <a:xfrm rot="5400000">
            <a:off x="4373280" y="80784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2" name="WordArt 39"/>
          <p:cNvSpPr txBox="1"/>
          <p:nvPr/>
        </p:nvSpPr>
        <p:spPr>
          <a:xfrm rot="5400000">
            <a:off x="3078000" y="446544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3" name="WordArt 40"/>
          <p:cNvSpPr txBox="1"/>
          <p:nvPr/>
        </p:nvSpPr>
        <p:spPr>
          <a:xfrm rot="5400000">
            <a:off x="4449600" y="324648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4" name="WordArt 41"/>
          <p:cNvSpPr txBox="1"/>
          <p:nvPr/>
        </p:nvSpPr>
        <p:spPr>
          <a:xfrm rot="5400000">
            <a:off x="5744880" y="202716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5" name="WordArt 42"/>
          <p:cNvSpPr txBox="1"/>
          <p:nvPr/>
        </p:nvSpPr>
        <p:spPr>
          <a:xfrm rot="5400000">
            <a:off x="4525560" y="576108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6" name="WordArt 43"/>
          <p:cNvSpPr txBox="1"/>
          <p:nvPr/>
        </p:nvSpPr>
        <p:spPr>
          <a:xfrm rot="5400000">
            <a:off x="5821200" y="438948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7" name="WordArt 44"/>
          <p:cNvSpPr txBox="1"/>
          <p:nvPr/>
        </p:nvSpPr>
        <p:spPr>
          <a:xfrm rot="5400000">
            <a:off x="7192800" y="317016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0" y="609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Прием составления нечетных магических квадратов (3*3, 5*5, 7*7 и т. п.) предложенный в 17 веке французским математиком Баше.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45 -1.96532E-006 E">
                                      <p:cBhvr>
                                        <p:cTn id="57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0.00208 L -0.4434 0.00208 E">
                                      <p:cBhvr>
                                        <p:cTn id="61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6451 L -0.00173 -0.55283 E">
                                      <p:cBhvr>
                                        <p:cTn id="65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34104E-006 L -3.88889E-006 0.53272 E">
                                      <p:cBhvr>
                                        <p:cTn id="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8T15:39:2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