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966-DF3E-4708-AC2B-2F91B12E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109-0258-4794-8E3F-7831D514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1B2-18DA-4C42-8AD6-8AC87DB5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2522-45E2-42D3-B117-95CC19E6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DBB-7709-468C-9F67-DE57AA7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C35-A343-47F6-93E3-70A1614E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101-C262-4872-9D77-8EBD23E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72EC-B1DF-4487-A41B-FCFD32B2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C18-A610-407B-9418-112ACAE5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0A4-18C9-47DE-B561-68E6C7B3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D4F-8D95-40D9-A1B4-3FB6714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823-410C-4C0A-8500-365D931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8714-0FE4-4D20-8CE9-A623DD54A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УМК «Гармония» и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стандарты второго поко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32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полнение действий для приобретения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достающих знан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9320" y="1600200"/>
            <a:ext cx="36054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268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3887640" cy="561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549360"/>
            <a:ext cx="390384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032360" cy="550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889440" cy="5505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Выявление и освоение способа действия для осознанного применения знаний (для формирования осознанных ум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47720" y="1600200"/>
            <a:ext cx="3679920" cy="463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3680" y="1600200"/>
            <a:ext cx="3730680" cy="4637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03236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30920" y="692280"/>
            <a:ext cx="38890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3372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88080" y="692280"/>
            <a:ext cx="38606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960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3960720" cy="5473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054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90960" y="765000"/>
            <a:ext cx="39290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ный подход к обучению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учебниках М.С. Соловейчик, Н.С. Кузьменко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К тайнам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1438200" cy="18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50920" y="1773360"/>
            <a:ext cx="1314720" cy="172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00360" y="2205000"/>
            <a:ext cx="136836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95640" y="1773360"/>
            <a:ext cx="1312920" cy="165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932360" y="2205000"/>
            <a:ext cx="134460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1844640"/>
            <a:ext cx="1263960" cy="17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948360" y="2349360"/>
            <a:ext cx="1312920" cy="172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. Формирование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5607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6560" y="1600200"/>
            <a:ext cx="35481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82752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. Включение содержания обучения в контекст решения значимых жизненны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377532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41720" y="1600200"/>
            <a:ext cx="35910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92760" y="836640"/>
            <a:ext cx="385596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9592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6072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032360" cy="521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840120" cy="521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8894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036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60800" y="765000"/>
            <a:ext cx="38592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684360" y="1971720"/>
            <a:ext cx="1081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ак обеспечивает ли учеб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К тайнам нашего язы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ализацию деятельнос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дхода к обучению?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и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6440" y="1600200"/>
            <a:ext cx="375120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06800" y="1600200"/>
            <a:ext cx="376884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684360" y="1755720"/>
            <a:ext cx="1081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Ребёнок в процессе обучения дол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быть </a:t>
            </a: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не объектом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тем,  к о г о  учат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а субъектом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учебной деятель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тем,  к т о  учится).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69000" y="836640"/>
            <a:ext cx="39510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9038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16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1440" y="274680"/>
            <a:ext cx="44593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41054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887640" cy="5289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6920" y="274680"/>
            <a:ext cx="46087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41036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3800" y="836640"/>
            <a:ext cx="38862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13000" y="274680"/>
            <a:ext cx="451656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38480" y="274680"/>
            <a:ext cx="466704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036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44960" y="765000"/>
            <a:ext cx="387504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80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56040" y="765000"/>
            <a:ext cx="38926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ный подход к обучению предполагает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у дете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знавательного мо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желания узнать, открыть, научиться) и конкрет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чебной ц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понимания того, что именно нужно выяснить, освои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ение учениками определённых действий для приобретения недостающ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явление и освоение учащимися  способа действия, позволяющего осознанно применять приобретённые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ирование у школьников умения контролировать свои действия – как после их завершения, так и по х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ключение содержания обучения в контекст решения значимых жизненных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8880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89520" y="765000"/>
            <a:ext cx="39304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18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16520" y="765000"/>
            <a:ext cx="3832200" cy="525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884840" y="836640"/>
            <a:ext cx="38638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0320" y="274680"/>
            <a:ext cx="47419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032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81636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9592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8894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43520" y="765000"/>
            <a:ext cx="380520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41720" y="274680"/>
            <a:ext cx="465912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98600" y="274680"/>
            <a:ext cx="45450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81636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88944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3720" y="2006640"/>
            <a:ext cx="487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Обеспечивает ли учеб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«К тайнам нашего язы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еализ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деятельнос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дхода к обучению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365200" y="274680"/>
            <a:ext cx="4413600" cy="585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81636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73680" y="692280"/>
            <a:ext cx="387504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6108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930920" y="836640"/>
            <a:ext cx="3817800" cy="5289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959280" cy="54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88080" y="765000"/>
            <a:ext cx="393192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9610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78360" y="765000"/>
            <a:ext cx="3797280" cy="53611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личие  познавательного мотива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 конкретной  учебной цел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6440" y="1600200"/>
            <a:ext cx="360036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906800" y="1600200"/>
            <a:ext cx="3519720" cy="4525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479240"/>
            <a:ext cx="860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пособы мотивации деятельности учащихся в учеб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К тайнам нашего язык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, суждения, ошибки персонаж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я, для выполнения которых недостаёт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головки-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ения за фактами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бъяснения которых нужны новые сведения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02588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69000" y="549360"/>
            <a:ext cx="395100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908160" cy="55767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032000" cy="554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08:11:28Z</dcterms:created>
  <dc:creator>nuvarova</dc:creator>
  <dc:description/>
  <dc:language>en-US</dc:language>
  <cp:lastModifiedBy>nuvarova</cp:lastModifiedBy>
  <dcterms:modified xsi:type="dcterms:W3CDTF">2008-10-30T11:43:24Z</dcterms:modified>
  <cp:revision>8</cp:revision>
  <dc:subject/>
  <dc:title>УМК «Гармония» и  стандарты второго поколения </dc:title>
</cp:coreProperties>
</file>