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06F-9F95-4369-AFFF-A6A629B6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543-5896-462E-8CDA-9D6BCC4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2A2-9141-47DC-9B6C-CAB31E36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E7B-835D-4842-B34A-EEDF1876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98E-494B-4840-9752-2EF11104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CE7-172A-4718-996D-7219F4FA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21A-A2AA-4677-A358-8DE80322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487-FBCD-472E-A6F9-509F507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945-8DEB-405D-B06B-55879D81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FA3-65B1-4EAA-8F04-4895A6D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DE4-6C2C-4DCD-9E1F-FF5261C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8F0-83BC-4654-8A14-25DB928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4023-364F-4DF8-959C-CCC74617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УМК «Гармония» и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стандарты второго поко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32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полнение действий для приобретения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достающих знан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9320" y="1600200"/>
            <a:ext cx="360540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268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887640" cy="561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90384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32360" cy="550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889440" cy="550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Выявление и освоение способа действия для осознанного применения знаний (для формирования осознанных ум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7720" y="1600200"/>
            <a:ext cx="3679920" cy="4637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3680" y="1600200"/>
            <a:ext cx="3730680" cy="4637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03236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30920" y="692280"/>
            <a:ext cx="388908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3372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88080" y="692280"/>
            <a:ext cx="386064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960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960720" cy="5473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054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90960" y="765000"/>
            <a:ext cx="39290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ятельностный подход к обучению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учебниках М.С. Соловейчик, Н.С. Кузьменко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К тайнам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1438200" cy="18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131472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1368360" cy="17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95640" y="1773360"/>
            <a:ext cx="1312920" cy="165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932360" y="2205000"/>
            <a:ext cx="1344600" cy="17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84720" y="1844640"/>
            <a:ext cx="1263960" cy="17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948360" y="2349360"/>
            <a:ext cx="1312920" cy="17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Формирование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56076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6560" y="1600200"/>
            <a:ext cx="354816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2752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Включение содержания обучения в контекст решения значимых жизнен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77532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41720" y="1600200"/>
            <a:ext cx="359100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592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92760" y="836640"/>
            <a:ext cx="385596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9592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6072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521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840120" cy="521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95928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88944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036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60800" y="765000"/>
            <a:ext cx="38592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684360" y="1971720"/>
            <a:ext cx="1081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ак обеспечивает ли учеб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К тайнам нашего язы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ализацию деятельнос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дхода к обучению?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6440" y="1600200"/>
            <a:ext cx="375120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06800" y="1600200"/>
            <a:ext cx="376884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684360" y="1755720"/>
            <a:ext cx="1081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Ребёнок в процессе обучения дол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быть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не объектом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тем,  к о г о  учат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а субъектом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учебной деятельно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тем,  к т о  учится)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69000" y="836640"/>
            <a:ext cx="395100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9038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1440" y="274680"/>
            <a:ext cx="44593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054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887640" cy="5289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6920" y="274680"/>
            <a:ext cx="46087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410364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3800" y="836640"/>
            <a:ext cx="388620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13000" y="274680"/>
            <a:ext cx="451656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38480" y="274680"/>
            <a:ext cx="466704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036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44960" y="765000"/>
            <a:ext cx="38750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880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56040" y="765000"/>
            <a:ext cx="38926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ятельностный подход к обучению предполагает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у дете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знавательного мот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желания узнать, открыть, научиться) и конкрет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ебной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онимания того, что именно нужно выяснить, освои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ение учениками определённых действий для приобретения недостающи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ление и освоение учащимися  способа действия, позволяющего осознанно применять приобретён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у школьников умения контролировать свои действия – как после их завершения, так и по хо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ение содержания обучения в контекст решения значимых жизнен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880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89520" y="765000"/>
            <a:ext cx="39304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531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16520" y="765000"/>
            <a:ext cx="3832200" cy="525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84840" y="836640"/>
            <a:ext cx="38638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0320" y="274680"/>
            <a:ext cx="47419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816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592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88944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43520" y="765000"/>
            <a:ext cx="38052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41720" y="274680"/>
            <a:ext cx="46591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98600" y="274680"/>
            <a:ext cx="45450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81636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88944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3720" y="2006640"/>
            <a:ext cx="487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еспечивает ли учеб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К тайнам нашего язы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ализ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еятельнос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дхода к обучению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5200" y="274680"/>
            <a:ext cx="4413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81636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3680" y="692280"/>
            <a:ext cx="387504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30920" y="836640"/>
            <a:ext cx="381780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95928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88080" y="765000"/>
            <a:ext cx="393192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8360" y="765000"/>
            <a:ext cx="37972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личие  познавательного мотива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 конкретной  учебной цел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6440" y="1600200"/>
            <a:ext cx="360036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06800" y="1600200"/>
            <a:ext cx="351972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479240"/>
            <a:ext cx="860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пособы мотивации деятельности учащихся в учеб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К тайнам нашего язы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, суждения, ошибки персонаж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я, для выполнения которых недостаёт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головки-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ения за фактами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бъяснения которых нужны новые сведения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2588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69000" y="549360"/>
            <a:ext cx="3951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90816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11:28Z</dcterms:created>
  <dc:creator>nuvarova</dc:creator>
  <dc:description/>
  <dc:language>en-US</dc:language>
  <cp:lastModifiedBy>nuvarova</cp:lastModifiedBy>
  <dcterms:modified xsi:type="dcterms:W3CDTF">2008-10-30T11:43:24Z</dcterms:modified>
  <cp:revision>8</cp:revision>
  <dc:subject/>
  <dc:title>УМК «Гармония» и  стандарты второго поколения </dc:title>
</cp:coreProperties>
</file>