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19.jpeg" ContentType="image/jpeg"/>
  <Override PartName="/ppt/media/image18.jpeg" ContentType="image/jpeg"/>
  <Override PartName="/ppt/media/image21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gif" ContentType="image/gif"/>
  <Override PartName="/ppt/media/image24.gif" ContentType="image/gif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1DC-84EE-4B18-9183-FD34E5C3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CDD-B279-40A0-9596-7FFEF843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E07-F5EE-4485-B8E8-67630EB2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8762-A61A-433B-95FF-E481DA76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70D6-DCF1-45DF-8192-1288A6AC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C493-3C7D-4DF2-B1D8-3E83BD04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0B81-2D26-4F22-8BCA-CB52EE00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0AA8-AB49-4B3D-9D8E-4D68AFD6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787C-03C3-41D1-B4AF-EE1F204A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B4C3-CCC9-436E-ACC8-218D3953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AF00-6DD2-4E26-B0CE-6E472184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AA1-84FF-4B20-9542-7E71C9FE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0527-F830-45C3-9CBA-693A2373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6CE4-89FF-451E-9ECB-CA1E4FD9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9E25-B0B2-4202-9250-245B26CF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30C5-41F1-4AEB-9AE7-421F444E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0BCC-786F-4E95-AC30-54FC0A98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757B-872C-4392-B6DE-05F5E717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2EE6-A6EF-45B9-BB1A-11A9B36E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CB7-4E64-4288-89FA-F452E800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16E-3920-4AC3-B7AE-574E3A4B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B5D-7821-4E36-B91C-DA58AE0F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80D-2A75-43EE-B573-A4AE77CA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F706-C67D-4A02-A7B0-49167C41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F657-6C1C-4086-A0C7-659AFC23513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BC78-6804-4D00-A239-0740CA9A8E0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hyperlink" Target="http://www.incredimail.com/english/download.aspx?product=installer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incredimail.com/english/download.aspx?product=installer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Лепим фрукты</a:t>
            </a:r>
            <a:br>
              <a:rPr sz="3600"/>
            </a:br>
            <a:br>
              <a:rPr sz="32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урок технологии в 1 классе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УМК «Школа России»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0" y="314172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Составила: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Стойко Светлана Владимировна, учитель начальных классов МОБУ СОШ № 1, г. Кореновск, Краснодарского края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Яблоко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ля того чтобы сделать яблоко, скатай шарик из зеленого, красного или желтого пластилин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419640" y="3409920"/>
            <a:ext cx="43210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ШАРИ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бы сделать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шарик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озьми кусочек размягчённого пластилина и придай ему пальцами шаровидную форму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тем положи его в середину левой ладони и катай по ней круговыми движениями прав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92720" y="4869000"/>
            <a:ext cx="30970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 одной стороны сделай карандашом глубокую ямку, с другой — прилепи маленький коричневый шарик.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35280" y="3933720"/>
            <a:ext cx="26654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кни карандашом в центр этого шарика, так, чтобы образовалась ямка с коричневой точкой внутр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48000" y="3933720"/>
            <a:ext cx="22035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катай из коричневого пластил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жгутик-веточку и воткни её в цент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глубокой ям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211640" y="3860640"/>
            <a:ext cx="3097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Жгутик</a:t>
            </a:r>
            <a:br>
              <a:rPr sz="32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олбаски могут быть самыми разными — посмотри на рисунок. Совсем тоненькие колбаски называют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жгутиками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х можно переплетать между собой, как ниточк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47640" y="4437000"/>
            <a:ext cx="67694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перь сделаем зелёный листик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ля этого из светло-зелёного      пластилина скатай небольшую капельку и расплющь её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24360" y="3610080"/>
            <a:ext cx="30240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исоедини листик к веточке и яблоко готово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256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 получившемся листике отметь жилки острием ножа и сделай черешок из тоненького маленького жгутика. Листик вышел совсем как настоящи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27352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Груш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Груша делается почти так же. Только шарику- заготовке надо придать    грушевидную форму, покатав его  посередине, а потом слегка помяв пальцами, чтобы поверхность груши была ровной.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24360" y="4653000"/>
            <a:ext cx="266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знакомить  с техникой лепки из шар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звивать творческие способности, воображение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оспитывать аккуратность, инициативность, эстетический вку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делай на груше вмятины, присоедини листочек, а на вмятинке на нижней части груши сделай ножом небольшие насечки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360600" y="3933720"/>
            <a:ext cx="3032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ылепи фрукты, которые ты больше всего любишь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Удачи тебе!!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79640" y="3068640"/>
            <a:ext cx="42195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флекс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 я многому научил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 я кое-что поня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я ничему не научил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" descr="Картинка 3 из 1123"/>
          <p:cNvPicPr/>
          <p:nvPr/>
        </p:nvPicPr>
        <p:blipFill>
          <a:blip r:embed="rId1"/>
          <a:stretch/>
        </p:blipFill>
        <p:spPr>
          <a:xfrm>
            <a:off x="1258920" y="3645000"/>
            <a:ext cx="1150920" cy="1295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403280" y="5013360"/>
            <a:ext cx="1076400" cy="1284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Картинка 78 из 1233"/>
          <p:cNvPicPr/>
          <p:nvPr/>
        </p:nvPicPr>
        <p:blipFill>
          <a:blip r:embed="rId3"/>
          <a:stretch/>
        </p:blipFill>
        <p:spPr>
          <a:xfrm>
            <a:off x="1042920" y="1773360"/>
            <a:ext cx="18241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сылк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* Екатерина Витальевна Данкевич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Умные пальчики» (уникальная методика развитие малыш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нимационные картинки a href="http://bestgif.narod.ru/" target="_blank"&gt;&lt;img src="http://bestgif.narod.ru/eda/bestgif.narod.ru_411.gi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href="http://bestgif.narod.ru/mult13.htm" target="_blank"&gt;&lt;img src="http://bestgif.narod.ru/muliki/multik-42.gif" bord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&lt;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a href="http://bestgif.narod.ru/" target="_blank"&gt;&lt;img src="http://bestgif.narod.ru/raznoe/animashka_38.gif"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http://bukashka.org/index.php/home/tastiness/fruit.html?start=1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Яблок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http://coderszone.info/xcd-apple-clip-art-free.php4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              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http://coderszone.info/xcd-apple-clip-art-free.php4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        http://www.hotres.ru/humor/66/42311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/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733840" cy="194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3357720"/>
            <a:ext cx="155232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ир вокру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69284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глянись вокруг себя: ты увидишь, что нас окружает великое множество вещ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ы так к ним привыкли, что попросту не замечаем. Но если приглядеться, то в обычной чайной чашке или тарелке, в булке, яблоке, груше много удивительного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 самое удивительное то, что все эти вещи мы можем слепить из пластилин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 представить себе, что мы живем в сказочном пластилиновом мире и пользуемся пластилиновыми предмет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380360" y="0"/>
            <a:ext cx="1547640" cy="1069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997360"/>
            <a:ext cx="1692360" cy="14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епим фрукты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2360" y="2514600"/>
            <a:ext cx="577044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пельси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пельсин сделать проще всего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катай шарик из оранжевого пластилин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4578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бы получить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ранжевый цв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ля этого возьми два больших куска жёлтого и красного пластилина. Каждый из них раздели на одинаковое количество равных частей и соедини попарн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аждую порцию хорошенько перем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о получения оранжевого цвета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 потом смешай их все вмест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651640" y="3645000"/>
            <a:ext cx="1008000" cy="920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77080" y="3645000"/>
            <a:ext cx="936720" cy="874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948360" y="4869000"/>
            <a:ext cx="21956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ШАРИ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бы сделать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шарик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озьми кусочек размягчённого пластилина и придай ему пальцами шаровидную форму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тем положи его в середину левой ладони и катай по ней круговыми движениями прав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64000" y="4530600"/>
            <a:ext cx="33847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 апельсиновой кор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бы добиться эффекта апельсиновой корки, надо часто и равномерно потыкать шарик-заготовку острием карандаша. В одном месте надо сделать углубление побольше -здесь фрукт соединяется с веточк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-360" y="692280"/>
            <a:ext cx="88930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 ещё пластилин можно тыкать — вилкой, спичкой, шилом, иголкой, карандашом, стержнем и колпачком от шариковой ручк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—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 тебя получатся разные отпечатки, которые оживят твои пластилиновые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здел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987640" y="4149720"/>
            <a:ext cx="3816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10:11:45Z</dcterms:created>
  <dc:creator>Наташа</dc:creator>
  <dc:description/>
  <dc:language>en-US</dc:language>
  <cp:lastModifiedBy>Наташа</cp:lastModifiedBy>
  <dcterms:modified xsi:type="dcterms:W3CDTF">2011-08-03T13:33:35Z</dcterms:modified>
  <cp:revision>5</cp:revision>
  <dc:subject/>
  <dc:title>Лепим фрукты</dc:title>
</cp:coreProperties>
</file>