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0.gif" ContentType="image/gif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19.jpeg" ContentType="image/jpeg"/>
  <Override PartName="/ppt/media/image18.jpeg" ContentType="image/jpeg"/>
  <Override PartName="/ppt/media/image21.png" ContentType="image/png"/>
  <Override PartName="/ppt/media/image16.gif" ContentType="image/gif"/>
  <Override PartName="/ppt/media/image14.jpeg" ContentType="image/jpeg"/>
  <Override PartName="/ppt/media/image15.jpeg" ContentType="image/jpeg"/>
  <Override PartName="/ppt/media/image1.gif" ContentType="image/gif"/>
  <Override PartName="/ppt/media/image24.gif" ContentType="image/gif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26E7-9BF0-45D4-B76D-A7B6AE841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3414-F9AB-4F5A-8B7B-E25D7D33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4BA5-889F-4BD8-AF7E-FFA5452D6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AF4B-09FB-41C9-8602-6AFCE28DA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638E0-539C-4D03-9E95-691838737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DF5A-DC24-49ED-8870-979960A8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EA90-5055-413C-B8F1-468678F9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77F86-FAE0-45A8-BD12-2BBCE87C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C398-04A7-4CAD-9CF6-335488EE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13BEC-9232-4B4F-AF43-3EEFC6E0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713D-FC17-488E-8343-4DDE715B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2201-6AD8-4EA6-8AC9-95CB4E4D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AD84-8AD1-4A92-899F-ADBDA9A5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5BDA-743E-4747-A940-41BAF516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6E25-7834-436D-A0FD-1BC6224D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5C8B-A6EF-4B65-9724-4E13DDB12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8883D-BB63-4E43-B602-92FE6758A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AC90-0876-4FC8-A665-EB45B4DD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2C1A-857A-4E5B-B22B-C5CBD2D2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2043-3FFA-42B0-BD55-D1672F21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3392-5DDE-474E-8B76-18990273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2885-4C88-4363-BBA4-519159D3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7415-85ED-4A1B-BA2D-A21FCA6D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182E-6A3E-465F-BA25-6F475655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286E-0C3F-4829-832E-60A8DAB18CB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78E0-0A46-4F99-B4EC-3855CEE4400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hyperlink" Target="http://www.incredimail.com/english/download.aspx?product=installer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http://www.incredimail.com/english/download.aspx?product=installer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Лепим фрукты</a:t>
            </a:r>
            <a:br>
              <a:rPr sz="3600"/>
            </a:br>
            <a:br>
              <a:rPr sz="32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урок технологии в 1 классе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УМК «Школа России»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0" y="314172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Составила: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Стойко Светлана Владимировна, учитель начальных классов МОБУ СОШ № 1, г. Кореновск, Краснодарского края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Яблоко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Для того чтобы сделать яблоко, скатай шарик из зеленого, красного или желтого пластилин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419640" y="3409920"/>
            <a:ext cx="432108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ШАРИ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Чтобы сделать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шарик,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озьми кусочек размягчённого пластилина и придай ему пальцами шаровидную форму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Затем положи его в середину левой ладони и катай по ней круговыми движениями право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292720" y="4869000"/>
            <a:ext cx="309708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 одной стороны сделай карандашом глубокую ямку, с другой — прилепи маленький коричневый шарик.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635280" y="3933720"/>
            <a:ext cx="266544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45080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Ткни карандашом в центр этого шарика, так, чтобы образовалась ямка с коричневой точкой внутр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348000" y="3933720"/>
            <a:ext cx="22035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45080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катай из коричневого пластили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жгутик-веточку и воткни её в центр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глубокой ямк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211640" y="3860640"/>
            <a:ext cx="3097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Жгутик</a:t>
            </a:r>
            <a:br>
              <a:rPr sz="32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Колбаски могут быть самыми разными — посмотри на рисунок. Совсем тоненькие колбаски называют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жгутиками.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х можно переплетать между собой, как ниточк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47640" y="4437000"/>
            <a:ext cx="67694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Теперь сделаем зелёный листик.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Для этого из светло-зелёного      пластилина скатай небольшую капельку и расплющь её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924360" y="3610080"/>
            <a:ext cx="302400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рисоедини листик к веточке и яблоко готово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124000" y="2349360"/>
            <a:ext cx="525636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45080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а получившемся листике отметь жилки острием ножа и сделай черешок из тоненького маленького жгутика. Листик вышел совсем как настоящий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76720" y="4221000"/>
            <a:ext cx="273528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Груш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Груша делается почти так же. Только шарику- заготовке надо придать    грушевидную форму, покатав его  посередине, а потом слегка помяв пальцами, чтобы поверхность груши была ровной.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924360" y="4653000"/>
            <a:ext cx="2663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Цели уро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знакомить  с техникой лепки из шар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азвивать творческие способности, воображение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оспитывать аккуратность, инициативность, эстетический вкус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45080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делай на груше вмятины, присоедини листочек, а на вмятинке на нижней части груши сделай ножом небольшие насечки</a:t>
            </a:r>
            <a:br>
              <a:rPr sz="2800"/>
            </a:b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360600" y="3933720"/>
            <a:ext cx="30322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Вылепи фрукты, которые ты больше всего любишь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Удачи тебе!!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979640" y="3068640"/>
            <a:ext cx="421956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Рефлекс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 я многому научилс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 я кое-что поня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я ничему не научилс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2" name="" descr="Картинка 3 из 1123"/>
          <p:cNvPicPr/>
          <p:nvPr/>
        </p:nvPicPr>
        <p:blipFill>
          <a:blip r:embed="rId1"/>
          <a:stretch/>
        </p:blipFill>
        <p:spPr>
          <a:xfrm>
            <a:off x="1258920" y="3645000"/>
            <a:ext cx="1150920" cy="1295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403280" y="5013360"/>
            <a:ext cx="1076400" cy="12841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Картинка 78 из 1233"/>
          <p:cNvPicPr/>
          <p:nvPr/>
        </p:nvPicPr>
        <p:blipFill>
          <a:blip r:embed="rId3"/>
          <a:stretch/>
        </p:blipFill>
        <p:spPr>
          <a:xfrm>
            <a:off x="1042920" y="1773360"/>
            <a:ext cx="182412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сылки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* Екатерина Витальевна Данкевич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«Умные пальчики» (уникальная методика развитие малыша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нимационные картинки a href="http://bestgif.narod.ru/" target="_blank"&gt;&lt;img src="http://bestgif.narod.ru/eda/bestgif.narod.ru_411.gi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href="http://bestgif.narod.ru/mult13.htm" target="_blank"&gt;&lt;img src="http://bestgif.narod.ru/muliki/multik-42.gif" borde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&lt;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a href="http://bestgif.narod.ru/" target="_blank"&gt;&lt;img src="http://bestgif.narod.ru/raznoe/animashka_38.gif"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http://bukashka.org/index.php/home/tastiness/fruit.html?start=10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Яблоки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–</a:t>
            </a:r>
            <a:r>
              <a:rPr b="0" lang="ru-RU" sz="1600" spc="-1" strike="noStrike" u="sng">
                <a:solidFill>
                  <a:srgbClr val="003366"/>
                </a:solidFill>
                <a:uFillTx/>
                <a:latin typeface="Arial"/>
              </a:rPr>
              <a:t>http://coderszone.info/xcd-apple-clip-art-free.php4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3366"/>
                </a:solidFill>
                <a:uFillTx/>
                <a:latin typeface="Arial"/>
              </a:rPr>
              <a:t>               </a:t>
            </a:r>
            <a:r>
              <a:rPr b="0" lang="ru-RU" sz="1600" spc="-1" strike="noStrike" u="sng">
                <a:solidFill>
                  <a:srgbClr val="003366"/>
                </a:solidFill>
                <a:uFillTx/>
                <a:latin typeface="Arial"/>
              </a:rPr>
              <a:t>http://coderszone.info/xcd-apple-clip-art-free.php4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                                          http://www.hotres.ru/humor/66/42311</a:t>
            </a: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/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227640" y="0"/>
            <a:ext cx="2733840" cy="1943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36000" y="3357720"/>
            <a:ext cx="155232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259920"/>
            <a:ext cx="79246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Мир вокруг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7692840" cy="41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ctr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глянись вокруг себя: ты увидишь, что нас окружает великое множество веще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11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11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Мы так к ним привыкли, что попросту не замечаем. Но если приглядеться, то в обычной чайной чашке или тарелке, в булке, яблоке, груше много удивительного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11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А самое удивительное то, что все эти вещи мы можем слепить из пластилин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11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 представить себе, что мы живем в сказочном пластилиновом мире и пользуемся пластилиновыми предметам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380360" y="0"/>
            <a:ext cx="1547640" cy="1069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997360"/>
            <a:ext cx="1692360" cy="140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Лепим фрукты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92360" y="2514600"/>
            <a:ext cx="5770440" cy="39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Апельсин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Апельсин сделать проще всего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катай шарик из оранжевого пластилин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132000" y="3284640"/>
            <a:ext cx="345780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тобы получить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ранжевый цве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Для этого возьми два больших куска жёлтого и красного пластилина. Каждый из них раздели на одинаковое количество равных частей и соедини попарно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Каждую порцию хорошенько перемн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до получения оранжевого цвета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а потом смешай их все вмест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651640" y="3645000"/>
            <a:ext cx="1008000" cy="920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877080" y="3645000"/>
            <a:ext cx="936720" cy="874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948360" y="4869000"/>
            <a:ext cx="219564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ШАРИ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Чтобы сделать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шарик,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озьми кусочек размягчённого пластилина и придай ему пальцами шаровидную форму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Затем положи его в середину левой ладони и катай по ней круговыми движениями право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64000" y="4530600"/>
            <a:ext cx="338472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Эффект апельсиновой кор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Чтобы добиться эффекта апельсиновой корки, надо часто и равномерно потыкать шарик-заготовку острием карандаша. В одном месте надо сделать углубление побольше -здесь фрукт соединяется с веточко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-360" y="692280"/>
            <a:ext cx="88930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А ещё пластилин можно тыкать — вилкой, спичкой, шилом, иголкой, карандашом, стержнем и колпачком от шариковой ручки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—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у тебя получатся разные отпечатки, которые оживят твои пластилиновые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здел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987640" y="4149720"/>
            <a:ext cx="3816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2T10:11:45Z</dcterms:created>
  <dc:creator>Наташа</dc:creator>
  <dc:description/>
  <dc:language>en-US</dc:language>
  <cp:lastModifiedBy>Наташа</cp:lastModifiedBy>
  <dcterms:modified xsi:type="dcterms:W3CDTF">2011-08-03T13:33:35Z</dcterms:modified>
  <cp:revision>5</cp:revision>
  <dc:subject/>
  <dc:title>Лепим фрукты</dc:title>
</cp:coreProperties>
</file>