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7.gif" ContentType="image/gif"/>
  <Override PartName="/ppt/media/image22.wmf" ContentType="image/x-wmf"/>
  <Override PartName="/ppt/media/image20.jpeg" ContentType="image/jpeg"/>
  <Override PartName="/ppt/media/image19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26.jpeg" ContentType="image/jpeg"/>
  <Override PartName="/ppt/media/image32.gif" ContentType="image/gif"/>
  <Override PartName="/ppt/media/image24.jpeg" ContentType="image/jpeg"/>
  <Override PartName="/ppt/media/image15.png" ContentType="image/png"/>
  <Override PartName="/ppt/media/image12.gif" ContentType="image/gif"/>
  <Override PartName="/ppt/media/image30.jpeg" ContentType="image/jpeg"/>
  <Override PartName="/ppt/media/image8.gif" ContentType="image/gif"/>
  <Override PartName="/ppt/media/image33.gif" ContentType="image/gif"/>
  <Override PartName="/ppt/media/image3.png" ContentType="image/png"/>
  <Override PartName="/ppt/media/image11.wmf" ContentType="image/x-wmf"/>
  <Override PartName="/ppt/media/image9.png" ContentType="image/png"/>
  <Override PartName="/ppt/media/image34.gif" ContentType="image/gif"/>
  <Override PartName="/ppt/media/image6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2.jpeg" ContentType="image/jpeg"/>
  <Override PartName="/ppt/media/image23.jpeg" ContentType="image/jpeg"/>
  <Override PartName="/ppt/media/image35.gif" ContentType="image/gif"/>
  <Override PartName="/ppt/media/image1.wmf" ContentType="image/x-wmf"/>
  <Override PartName="/ppt/media/image21.jpeg" ContentType="image/jpeg"/>
  <Override PartName="/ppt/media/image36.gif" ContentType="image/gif"/>
  <Override PartName="/ppt/media/image14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A8E-1AEE-4421-8523-BFDCC8C9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651-DCAC-48A4-9EDE-9BE66D14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415-55CF-4152-AF01-73BAD1A8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45D-16C3-46D7-99CC-20223807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D9D-DD00-4750-8760-1F33221A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AEAD-37E7-411A-B8C8-C40BA1C5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E5D4-44FF-4A26-A2C5-27535FA6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667A-7DB0-439A-857E-BA3333A8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1975-2F1F-437A-97DA-46418AAA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3CA0-2964-46FE-A88D-B6D9F449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0BF2-1704-48F6-B07D-6429F2B5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26E-D461-4931-A78D-43335E55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417A-4D5B-4EAD-9E4C-675D0B7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5AAE-EAA7-4716-859C-A00DE0B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A56-5F64-460F-8E7D-1256073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BED-2205-40E8-B0DE-FA5197D6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346F-F3AA-4386-ADA9-6FC2A840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B573-66CB-4B27-95F0-80BFFA8A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92A9-AD5B-4AE7-B6F3-1CC6CBD3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6124-D2D4-46F5-8B5B-6A7800AD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5B19-5F97-4AC6-BAAA-DD830C17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B22A-D6B9-460D-86DF-FE9CB614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3F5-5720-4ED7-A751-D9CF7B9F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1E1B-EDC9-40C9-94E6-64A20D59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FCBC-B3A9-4E26-85AC-F981DCB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897B-EC5A-461E-BFBC-5D2D95BA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64E0-7E5A-4F8E-BAE2-DFB760B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2A6FC-7C92-402F-BE9C-53E920C2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BC3B-AE2E-4804-A4D6-4DA71E71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6884-8E07-4653-A0AF-D5067A0B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8E84C6-18A2-4E43-B73A-CF703C42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82922-5519-49CC-A3E1-CCA7B501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A5C44-330F-4706-AB72-9C733814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203-A0F8-43C6-A6AE-B03F173D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C4263-69CA-487D-8F92-CE5E042C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142A1-D006-4A64-84D8-48B91055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67841-03AA-45F9-B71B-F3E974B6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C5CB7-A3E6-4FDA-9F4D-63425830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0712A-3417-4164-8442-AD4764DC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B0A79-4D93-48A8-9131-54909976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D5E53-BC10-45C9-BE53-517ADBBE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5E4923-DCAF-4DC6-8B08-737FEB95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19BDD-41E7-4434-BD3C-2BA26AE3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97C7C-49E6-40B8-8FA8-57B243A8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5B6-9509-4712-BAD9-33B1A91C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CE2B-97AB-455A-BF6A-10237F20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8E235-EDFC-4EB0-9413-35C80AEC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2AEE-7AC6-4607-9EAF-5DFFB110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A451C-E824-4B1A-8B35-3D7DAF59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DEA2-7A1F-453A-BA6F-9D21DE53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C160B-2517-4DC1-A224-035DADF4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6AEE9-6CEF-4C81-A8B3-EC7A319E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381F-63CD-4FAA-B508-15001655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9E63-BCBA-4688-B4BF-82AD9C3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9107-196D-48E8-98E4-4381311C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1AD-70FB-43B9-9E57-9083FA8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9E900-F3F1-49D0-A4DB-000EA55F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4D4C7-4E18-4ECA-8B37-78DFAD29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E967-8A0D-405E-941D-6BF686DD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AB52E-350D-4534-9993-6E72DD24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CF388-1EC8-415A-BCD7-2BA6CCA0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4C9C1-905F-421F-8EEF-EC7D200B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16A88-754F-4A5B-A447-B35D4F79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A52F-D559-436E-88DD-80B555F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10DF0-2BC3-479D-9B18-68E8EDC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41B33-A9FD-4CB9-BD3E-CE4511D3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0E9-35C2-49E8-80BC-D4D831D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8ABF8-D17D-4C51-9CCC-93164C9F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BBF57-4365-41B6-9C6F-CC5E10E6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7500A-51F3-449F-92AE-207ECEFB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402-19B2-46EA-ABFC-249B604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6E4-CECC-4197-8829-2EE7C15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EDEE-8EA3-47F2-AC62-BA9BC091FF05}" type="slidenum">
              <a:rPr b="0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9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1EA9-D90A-44A3-AFCE-6488AECEB8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46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147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8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6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64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65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7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68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69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7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7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7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7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090B-E2AC-4D25-B179-CD7A81B553F4}" type="slidenum">
              <a:rPr b="0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3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3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3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4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0890-D664-4472-B24F-AA73179D14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7DF9-EC4F-4FFC-8BDF-20EE6B433D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5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6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5094-224E-4D49-96C7-460F53DC0E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63280" y="596520"/>
            <a:ext cx="738036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e3e3ff"/>
                </a:solidFill>
                <a:latin typeface="Comic Sans MS"/>
              </a:rPr>
              <a:t>«Путешествие в английский язык»</a:t>
            </a:r>
            <a:endParaRPr b="0" lang="en-US" sz="63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WordArt 4"/>
          <p:cNvSpPr txBox="1"/>
          <p:nvPr/>
        </p:nvSpPr>
        <p:spPr>
          <a:xfrm>
            <a:off x="2195640" y="364500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aramond"/>
              </a:rPr>
              <a:t>WELCOM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cc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413" name="Picture 5" descr="BD06662_"/>
          <p:cNvPicPr/>
          <p:nvPr/>
        </p:nvPicPr>
        <p:blipFill>
          <a:blip r:embed="rId1"/>
          <a:stretch/>
        </p:blipFill>
        <p:spPr>
          <a:xfrm>
            <a:off x="0" y="4437000"/>
            <a:ext cx="252108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1440" y="102960"/>
            <a:ext cx="7785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Georgia"/>
              </a:rPr>
              <a:t>Англо-говорящие страны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54" name="Object 3" descr=""/>
          <p:cNvPicPr/>
          <p:nvPr/>
        </p:nvPicPr>
        <p:blipFill>
          <a:blip r:embed="rId1"/>
          <a:stretch/>
        </p:blipFill>
        <p:spPr>
          <a:xfrm>
            <a:off x="1805040" y="1557360"/>
            <a:ext cx="7338960" cy="50688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1835280" y="242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еликобритан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579600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встрал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6588000" y="29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Ш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4067280" y="407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овая Зеланд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6659640" y="22766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анад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ecff"/>
                </a:solidFill>
                <a:latin typeface="Georgia"/>
              </a:rPr>
              <a:t>    </a:t>
            </a:r>
            <a:endParaRPr b="0" lang="en-US" sz="66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61" name="Picture 5" descr="Dscn4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3903840"/>
            <a:ext cx="86868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Times New Roman"/>
              </a:rPr>
              <a:t>Лондон</a:t>
            </a:r>
            <a:endParaRPr b="0" lang="en-US" sz="8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Georgia"/>
              </a:rPr>
              <a:t>Биг Бен</a:t>
            </a:r>
            <a:endParaRPr b="0" lang="en-US" sz="72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64" name="Picture 5" descr="20051214"/>
          <p:cNvPicPr/>
          <p:nvPr/>
        </p:nvPicPr>
        <p:blipFill>
          <a:blip r:embed="rId1"/>
          <a:stretch/>
        </p:blipFill>
        <p:spPr>
          <a:xfrm>
            <a:off x="2050920" y="1341360"/>
            <a:ext cx="709308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70563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2762280" cy="383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3276720" y="0"/>
            <a:ext cx="5111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Georgia"/>
              </a:rPr>
              <a:t>Озеро Лох-Несс</a:t>
            </a:r>
            <a:endParaRPr b="0" lang="en-US" sz="6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7524720" cy="4781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Georgia"/>
              </a:rPr>
              <a:t>Несси</a:t>
            </a:r>
            <a:endParaRPr b="0" lang="en-US" sz="8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1871640" y="1773360"/>
            <a:ext cx="7272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406728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Comic Sans MS"/>
              </a:rPr>
              <a:t>Винни - Пу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3" name="Picture 10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7236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9" descr="Мор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2" descr="OBL-32"/>
          <p:cNvPicPr/>
          <p:nvPr/>
        </p:nvPicPr>
        <p:blipFill>
          <a:blip r:embed="rId2"/>
          <a:stretch/>
        </p:blipFill>
        <p:spPr>
          <a:xfrm rot="20758200">
            <a:off x="7386480" y="1896840"/>
            <a:ext cx="1332000" cy="1584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OBL-32"/>
          <p:cNvPicPr/>
          <p:nvPr/>
        </p:nvPicPr>
        <p:blipFill>
          <a:blip r:embed="rId3"/>
          <a:stretch/>
        </p:blipFill>
        <p:spPr>
          <a:xfrm rot="747000">
            <a:off x="0" y="259920"/>
            <a:ext cx="1292400" cy="1440000"/>
          </a:xfrm>
          <a:prstGeom prst="rect">
            <a:avLst/>
          </a:prstGeom>
          <a:ln w="0">
            <a:noFill/>
          </a:ln>
        </p:spPr>
      </p:pic>
      <p:sp>
        <p:nvSpPr>
          <p:cNvPr id="417" name="WordArt 15"/>
          <p:cNvSpPr txBox="1"/>
          <p:nvPr/>
        </p:nvSpPr>
        <p:spPr>
          <a:xfrm>
            <a:off x="642960" y="3714840"/>
            <a:ext cx="7929720" cy="20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lcome to</a:t>
            </a:r>
            <a:endParaRPr b="1" lang="en-US" sz="2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ur trip with English!</a:t>
            </a:r>
            <a:endParaRPr b="1" lang="en-US" sz="2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Picture 31" descr="0031"/>
          <p:cNvPicPr/>
          <p:nvPr/>
        </p:nvPicPr>
        <p:blipFill>
          <a:blip r:embed="rId4"/>
          <a:stretch/>
        </p:blipFill>
        <p:spPr>
          <a:xfrm>
            <a:off x="5148360" y="189000"/>
            <a:ext cx="1655640" cy="70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7" descr="0032"/>
          <p:cNvPicPr/>
          <p:nvPr/>
        </p:nvPicPr>
        <p:blipFill>
          <a:blip r:embed="rId5"/>
          <a:stretch/>
        </p:blipFill>
        <p:spPr>
          <a:xfrm>
            <a:off x="1332000" y="333360"/>
            <a:ext cx="2971800" cy="100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3" descr="корабль - 01"/>
          <p:cNvPicPr/>
          <p:nvPr/>
        </p:nvPicPr>
        <p:blipFill>
          <a:blip r:embed="rId6"/>
          <a:stretch/>
        </p:blipFill>
        <p:spPr>
          <a:xfrm>
            <a:off x="2268360" y="692280"/>
            <a:ext cx="4392720" cy="2952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" descr="0024"/>
          <p:cNvPicPr/>
          <p:nvPr/>
        </p:nvPicPr>
        <p:blipFill>
          <a:blip r:embed="rId7"/>
          <a:stretch/>
        </p:blipFill>
        <p:spPr>
          <a:xfrm>
            <a:off x="250920" y="260280"/>
            <a:ext cx="3647880" cy="362160"/>
          </a:xfrm>
          <a:prstGeom prst="rect">
            <a:avLst/>
          </a:prstGeom>
          <a:ln w="0">
            <a:noFill/>
          </a:ln>
        </p:spPr>
      </p:pic>
      <p:pic>
        <p:nvPicPr>
          <p:cNvPr id="422" name="Чайк923.wav" descr=""/>
          <p:cNvPicPr/>
          <p:nvPr/>
        </p:nvPicPr>
        <p:blipFill>
          <a:blip r:embed="rId8"/>
          <a:stretch/>
        </p:blipFill>
        <p:spPr>
          <a:xfrm>
            <a:off x="8047080" y="6021360"/>
            <a:ext cx="917640" cy="836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7596360" cy="6021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8"/>
          <p:cNvSpPr/>
          <p:nvPr/>
        </p:nvSpPr>
        <p:spPr>
          <a:xfrm>
            <a:off x="1920960" y="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Алиса в стране чудес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1476360" y="1773000"/>
            <a:ext cx="61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ap your han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ap your han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d you really want to sh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ap your han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Nod your hea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Stamp your fee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8" name="Picture 7" descr="2"/>
          <p:cNvPicPr/>
          <p:nvPr/>
        </p:nvPicPr>
        <p:blipFill>
          <a:blip r:embed="rId1"/>
          <a:stretch/>
        </p:blipFill>
        <p:spPr>
          <a:xfrm>
            <a:off x="7236000" y="177336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8" descr="dance21"/>
          <p:cNvPicPr/>
          <p:nvPr/>
        </p:nvPicPr>
        <p:blipFill>
          <a:blip r:embed="rId2"/>
          <a:stretch/>
        </p:blipFill>
        <p:spPr>
          <a:xfrm>
            <a:off x="5292720" y="5138640"/>
            <a:ext cx="2808360" cy="1719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dstarsdivider"/>
          <p:cNvPicPr/>
          <p:nvPr/>
        </p:nvPicPr>
        <p:blipFill>
          <a:blip r:embed="rId3"/>
          <a:stretch/>
        </p:blipFill>
        <p:spPr>
          <a:xfrm rot="16200000">
            <a:off x="-1478520" y="3863160"/>
            <a:ext cx="4248000" cy="353880"/>
          </a:xfrm>
          <a:prstGeom prst="rect">
            <a:avLst/>
          </a:prstGeom>
          <a:ln w="0">
            <a:noFill/>
          </a:ln>
        </p:spPr>
      </p:pic>
      <p:sp>
        <p:nvSpPr>
          <p:cNvPr id="481" name="WordArt 14"/>
          <p:cNvSpPr txBox="1"/>
          <p:nvPr/>
        </p:nvSpPr>
        <p:spPr>
          <a:xfrm>
            <a:off x="684360" y="1125360"/>
            <a:ext cx="7704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131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Song "If You're Happy"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131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WordArt 1029"/>
          <p:cNvSpPr txBox="1"/>
          <p:nvPr/>
        </p:nvSpPr>
        <p:spPr>
          <a:xfrm>
            <a:off x="154764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лив бодрости</a:t>
            </a:r>
            <a:endParaRPr b="0" lang="en-US" sz="2800" spc="1" strike="noStrike">
              <a:ln w="19080">
                <a:solidFill>
                  <a:srgbClr val="ff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WordArt 4"/>
          <p:cNvSpPr txBox="1"/>
          <p:nvPr/>
        </p:nvSpPr>
        <p:spPr>
          <a:xfrm>
            <a:off x="1143000" y="2071800"/>
            <a:ext cx="76024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od-bye!</a:t>
            </a:r>
            <a:endParaRPr b="0" lang="en-US" sz="287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7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84" name="Picture 7" descr="шары - 3"/>
          <p:cNvPicPr/>
          <p:nvPr/>
        </p:nvPicPr>
        <p:blipFill>
          <a:blip r:embed="rId1"/>
          <a:stretch/>
        </p:blipFill>
        <p:spPr>
          <a:xfrm>
            <a:off x="4211640" y="18900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4505fe3e936476d7a6e9c94264e49b6d"/>
          <p:cNvPicPr/>
          <p:nvPr/>
        </p:nvPicPr>
        <p:blipFill>
          <a:blip r:embed="rId2"/>
          <a:stretch/>
        </p:blipFill>
        <p:spPr>
          <a:xfrm>
            <a:off x="3419640" y="3933720"/>
            <a:ext cx="2376360" cy="2735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0" descr="шары - 3"/>
          <p:cNvPicPr/>
          <p:nvPr/>
        </p:nvPicPr>
        <p:blipFill>
          <a:blip r:embed="rId3"/>
          <a:stretch/>
        </p:blipFill>
        <p:spPr>
          <a:xfrm>
            <a:off x="7020000" y="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1" descr="шары - 3"/>
          <p:cNvPicPr/>
          <p:nvPr/>
        </p:nvPicPr>
        <p:blipFill>
          <a:blip r:embed="rId4"/>
          <a:stretch/>
        </p:blipFill>
        <p:spPr>
          <a:xfrm>
            <a:off x="900000" y="-531720"/>
            <a:ext cx="136836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2"/>
          <p:cNvSpPr/>
          <p:nvPr/>
        </p:nvSpPr>
        <p:spPr>
          <a:xfrm>
            <a:off x="1692360" y="404640"/>
            <a:ext cx="5790960" cy="9558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4" name="Picture 3" descr="000803_1063_4736_vnvv"/>
          <p:cNvPicPr/>
          <p:nvPr/>
        </p:nvPicPr>
        <p:blipFill>
          <a:blip r:embed="rId1"/>
          <a:stretch/>
        </p:blipFill>
        <p:spPr>
          <a:xfrm>
            <a:off x="-92160" y="952560"/>
            <a:ext cx="1844640" cy="1878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000803_1063_4716_vnvv"/>
          <p:cNvPicPr/>
          <p:nvPr/>
        </p:nvPicPr>
        <p:blipFill>
          <a:blip r:embed="rId2"/>
          <a:stretch/>
        </p:blipFill>
        <p:spPr>
          <a:xfrm>
            <a:off x="7318440" y="857160"/>
            <a:ext cx="1825560" cy="17398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7"/>
          <p:cNvSpPr/>
          <p:nvPr/>
        </p:nvSpPr>
        <p:spPr>
          <a:xfrm>
            <a:off x="500040" y="1428840"/>
            <a:ext cx="8643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 B C D E F G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 I J K L M N O P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Q R S T U V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 X Y and Z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Now I know my ABC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ell me what you think of m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7" name="Picture 9" descr="0007"/>
          <p:cNvPicPr/>
          <p:nvPr/>
        </p:nvPicPr>
        <p:blipFill>
          <a:blip r:embed="rId3"/>
          <a:stretch/>
        </p:blipFill>
        <p:spPr>
          <a:xfrm>
            <a:off x="785880" y="3357720"/>
            <a:ext cx="2133360" cy="1066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0007"/>
          <p:cNvPicPr/>
          <p:nvPr/>
        </p:nvPicPr>
        <p:blipFill>
          <a:blip r:embed="rId4"/>
          <a:stretch/>
        </p:blipFill>
        <p:spPr>
          <a:xfrm>
            <a:off x="380880" y="45720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429" name="WordArt 1029"/>
          <p:cNvSpPr txBox="1"/>
          <p:nvPr/>
        </p:nvSpPr>
        <p:spPr>
          <a:xfrm>
            <a:off x="2484360" y="549360"/>
            <a:ext cx="4175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BC</a:t>
            </a:r>
            <a:endParaRPr b="0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генда о Вавилонской башн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457200" y="1641600"/>
            <a:ext cx="3257640" cy="4287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492000" y="1484280"/>
            <a:ext cx="519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башня, которой посвящено библейское предание. Согласно этому преданию, после всемирного потопа люди разговаривали  на одном языке. Люди  захотели построить в Вавилоне башню до самых небес как символ человеческого един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вилонская башня» 1563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тер Брейгель Старший 1525-15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мешение язык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3286080" cy="4776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564000" y="1700280"/>
            <a:ext cx="5122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Бог рассудил, что теперь для людей не будет ничего невозможного и положил конец дерзкому деянию, смешал языки, чтобы строители перестали понимать друг друга  и рассеял строителей по св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юстав Доре  1832-18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мешение языков» 1865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18" descr="0051"/>
          <p:cNvPicPr/>
          <p:nvPr/>
        </p:nvPicPr>
        <p:blipFill>
          <a:blip r:embed="rId1"/>
          <a:stretch/>
        </p:blipFill>
        <p:spPr>
          <a:xfrm>
            <a:off x="5580000" y="5445000"/>
            <a:ext cx="2879640" cy="714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0051"/>
          <p:cNvPicPr/>
          <p:nvPr/>
        </p:nvPicPr>
        <p:blipFill>
          <a:blip r:embed="rId2"/>
          <a:stretch/>
        </p:blipFill>
        <p:spPr>
          <a:xfrm>
            <a:off x="4427640" y="4508640"/>
            <a:ext cx="3816360" cy="714240"/>
          </a:xfrm>
          <a:prstGeom prst="rect">
            <a:avLst/>
          </a:prstGeom>
          <a:ln w="0">
            <a:noFill/>
          </a:ln>
        </p:spPr>
      </p:pic>
      <p:sp>
        <p:nvSpPr>
          <p:cNvPr id="438" name="WordArt 1027"/>
          <p:cNvSpPr txBox="1"/>
          <p:nvPr/>
        </p:nvSpPr>
        <p:spPr>
          <a:xfrm>
            <a:off x="755640" y="333360"/>
            <a:ext cx="7920000" cy="151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вайте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накомимся!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9" name="Picture 8" descr="0022"/>
          <p:cNvPicPr/>
          <p:nvPr/>
        </p:nvPicPr>
        <p:blipFill>
          <a:blip r:embed="rId3"/>
          <a:stretch/>
        </p:blipFill>
        <p:spPr>
          <a:xfrm>
            <a:off x="684360" y="2133720"/>
            <a:ext cx="3241440" cy="4248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0010"/>
          <p:cNvPicPr/>
          <p:nvPr/>
        </p:nvPicPr>
        <p:blipFill>
          <a:blip r:embed="rId4"/>
          <a:stretch/>
        </p:blipFill>
        <p:spPr>
          <a:xfrm>
            <a:off x="6372360" y="378936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0022"/>
          <p:cNvPicPr/>
          <p:nvPr/>
        </p:nvPicPr>
        <p:blipFill>
          <a:blip r:embed="rId5"/>
          <a:stretch/>
        </p:blipFill>
        <p:spPr>
          <a:xfrm>
            <a:off x="5076720" y="2708280"/>
            <a:ext cx="1606680" cy="2089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Georgia"/>
              </a:rPr>
              <a:t>Mr. Tongue</a:t>
            </a:r>
            <a:endParaRPr b="0" lang="en-US" sz="6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3816360" cy="54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Verdana"/>
              </a:rPr>
              <a:t>Mr. Tongue</a:t>
            </a:r>
            <a:endParaRPr b="0" lang="en-US" sz="6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45" name="Picture 58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3241800" cy="49244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Georgia"/>
              </a:rPr>
              <a:t>     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d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g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b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k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l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n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7" name="AutoShape 61"/>
          <p:cNvSpPr/>
          <p:nvPr/>
        </p:nvSpPr>
        <p:spPr>
          <a:xfrm>
            <a:off x="4427640" y="2781360"/>
            <a:ext cx="2449440" cy="1368360"/>
          </a:xfrm>
          <a:prstGeom prst="wedgeEllipseCallout">
            <a:avLst>
              <a:gd name="adj1" fmla="val -76375"/>
              <a:gd name="adj2" fmla="val 60555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Rectangle 60"/>
          <p:cNvSpPr/>
          <p:nvPr/>
        </p:nvSpPr>
        <p:spPr>
          <a:xfrm>
            <a:off x="4763880" y="314172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GOO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ccecff"/>
                </a:solidFill>
                <a:latin typeface="Georgia"/>
              </a:rPr>
              <a:t>[w]</a:t>
            </a:r>
            <a:r>
              <a:rPr b="1" lang="ru-RU" sz="5400" spc="-1" strike="noStrike">
                <a:solidFill>
                  <a:srgbClr val="ccecff"/>
                </a:solidFill>
                <a:latin typeface="Georgia"/>
              </a:rPr>
              <a:t>    </a:t>
            </a:r>
            <a:r>
              <a:rPr b="1" lang="en-US" sz="5400" spc="-1" strike="noStrike">
                <a:solidFill>
                  <a:srgbClr val="ccecff"/>
                </a:solidFill>
                <a:latin typeface="Georgia"/>
              </a:rPr>
              <a:t> [tu]</a:t>
            </a:r>
            <a:endParaRPr b="0" lang="en-US" sz="54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7308720" cy="51134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                       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                            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4:39:22Z</dcterms:created>
  <dc:creator>Renata</dc:creator>
  <dc:description/>
  <dc:language>en-US</dc:language>
  <cp:lastModifiedBy>Рената</cp:lastModifiedBy>
  <dcterms:modified xsi:type="dcterms:W3CDTF">2011-08-07T18:40:07Z</dcterms:modified>
  <cp:revision>33</cp:revision>
  <dc:subject/>
  <dc:title>Слайд 1</dc:title>
</cp:coreProperties>
</file>