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DE6-918A-4373-8C87-C88BC6E1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5E6-AF7C-443F-9292-9A71F79C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754-A288-4296-9E58-0C1A3662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525D-E344-45E5-A6B8-1F0E5E4C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4C8-8B3E-4E52-93CD-882449F6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F87-EE36-49B1-8606-1020DDD7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5D7-E689-4816-8C4F-5D55E31A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E5B-3A0A-41F2-9625-A7517324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744-6E3B-4098-9084-67E300ED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41F-D6FF-4FE7-8F61-79C5DF29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B76-19AF-4B33-9D7D-5E694056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05C-723C-4475-94DB-BA6CEEA2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0891-0915-4E8D-85E8-3C1A97DF71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Муниципальное образовательное учреждение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«Средняя общеобразовательное школа № 3» г.Михайло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Работу выполни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Тарасова Марина, ученица 4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Тарасова Ирина, ученица 4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Клочкова Н. К., учитель начальных классо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1676520"/>
            <a:ext cx="4224600" cy="17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 СКАЗАЛ  МЯУ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2852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4286520" cy="6201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876920" y="152280"/>
            <a:ext cx="41148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572000" cy="3414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657600" y="3276720"/>
            <a:ext cx="51814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Это интерес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шка видит в темноте в 6 раз лучше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шка в 14 раз сильнее, человека различает запа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ердце у кошки бьется в 2 раза чаще, чем у человека (140 ударов в минут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у кошек 30 зуб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у кошек 24 ус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а передних лапах кошек 5 пальцев, на задних- 4 паль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 сутки кошки могут спать 18 час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шки живут до 2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Дикие родственники кош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ЛЕВ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         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ТИГР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191120" cy="3174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41911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ГЕПА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                                 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ПУ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191120" cy="326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038480" y="1638360"/>
            <a:ext cx="495324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ЯГУ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ЛЕОПА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14800" y="1981080"/>
            <a:ext cx="472428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РЫ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ИРБ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657600" y="144792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29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МАНУ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СЕРВ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257800" cy="351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038480" y="19051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ОШКА СТЕП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ДАЛЬНЕВОСТОЧ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191120" cy="3367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19720" y="1600200"/>
            <a:ext cx="40766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БАРХА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УСТЫ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ШКА                                    АЗИАТ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ЗОЛОТ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332160" cy="358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038480" y="1066680"/>
            <a:ext cx="35337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Цель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развитие интереса к животным из семейства кошачь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обогатить знаниями о домашних питомцах  – кош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АМЫШ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                     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АРА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800600" cy="359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962520" y="19810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ДИК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ЛЕС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КО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38102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Не обижайте нас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819520" y="2743200"/>
            <a:ext cx="2950920" cy="3733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29718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МЫ УЗНАЛИ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-  многие представители семейства кошачьих занесены в Красную книг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 мире свыше 500 миллионов домашних кошек, 60 различных пор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 России обитает 10 видов кошачь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вадки, места обитания диких кош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х разделяют на малых, средних и больших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План нашего исследова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ак человеку удалось приручить кош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- факты из жизни кош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- породы домашних кош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- дикие родственники ко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Бог сотворил кошку для того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у человека был тигр, которого можно поглад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иктор Гю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2724120" cy="380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19720" y="3200400"/>
            <a:ext cx="42861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35004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Ох, уж эти кошк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Сиамская кошка             Британская ко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3835440" cy="4038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105520" y="1295280"/>
            <a:ext cx="3462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ерсидская кошка                    Европей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короткошерс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4065480" cy="4448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410080" y="838080"/>
            <a:ext cx="3316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коттиш-страйт          Скоттиш-фол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3962520" cy="3962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4762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809880" cy="5943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495680" y="380880"/>
            <a:ext cx="42865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8-08T18:55:3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