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2A8-0601-4C2E-9707-AB7293A4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E03-706E-4636-8729-D256501E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23F-9006-43A7-AE70-67145636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C18-F704-4D2C-9733-519A1E6B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B42-A00F-42ED-8D36-F694D097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1E3-3664-4D31-9CA6-2A6DBF35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8E1-5EFD-4161-8F9A-4E3EEEEA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68C-A889-491F-8C11-4D11CA6B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32B-5B21-4727-98D9-BC517B4B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949-3DA9-4212-9060-305FCA33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A25-0051-41CA-B4D0-536C57C7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C87-0915-4839-B7C2-7A3B4FC8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D4F6-8F24-4207-9291-380CBDD96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униципальное образовательное учреждение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«Средняя общеобразовательное школа № 3» г.Михайло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Работу выполн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Тарасова Марина, ученица 4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Тарасова Ирина, ученица 4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Клочкова Н. К., учитель начальных класс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1676520"/>
            <a:ext cx="4224600" cy="17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 СКАЗАЛ  МЯУ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2852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4286520" cy="620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876920" y="152280"/>
            <a:ext cx="4114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3414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657600" y="3276720"/>
            <a:ext cx="51814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Это интерес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шка видит в темноте в 6 раз лучше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шка в 14 раз сильнее, человека различает запа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ердце у кошки бьется в 2 раза чаще, чем у человека (140 ударов в минут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 кошек 30 зуб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 кошек 24 ус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 передних лапах кошек 5 пальцев, на задних- 4 паль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сутки кошки могут спать 18 час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шки живут до 20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Дикие родственники кош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ЛЕВ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ТИГР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191120" cy="3174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41911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ГЕПА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                 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ПУ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191120" cy="326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38480" y="1638360"/>
            <a:ext cx="495324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ЯГУ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ЛЕОПА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14800" y="1981080"/>
            <a:ext cx="472428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РЫ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ИРБ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657600" y="144792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29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МАНУ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СЕРВ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257800" cy="351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038480" y="19051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ОШКА СТЕП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АЛЬНЕВОСТОЧ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191120" cy="3367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19720" y="1600200"/>
            <a:ext cx="40766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БАРХА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УСТЫ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ШКА                                    АЗИАТ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332160" cy="358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038480" y="1066680"/>
            <a:ext cx="35337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азвитие интереса к животным из семейства кошачь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богатить знаниями о домашних питомцах  – кош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МЫШ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                     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РА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800600" cy="359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ДИ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ЛЕС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КО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38102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Не обижайте н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819520" y="2743200"/>
            <a:ext cx="2950920" cy="3733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29718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Ы УЗНАЛ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-  многие представители семейства кошачьих занесены в Красную книг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 мире свыше 500 миллионов домашних кошек, 60 различных пор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 России обитает 10 видов кошачь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вадки, места обитания диких кош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х разделяют на малых, средних и больших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План нашего исследов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к человеку удалось приручить кош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- факты из жизни кош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- породы домашних кош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- дикие родственники ко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Бог сотворил кошку для того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у человека был тигр, которого можно поглади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иктор Гю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2724120" cy="380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19720" y="3200400"/>
            <a:ext cx="42861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35004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Ох, уж эти кошк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иамская кошка             Британская 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3835440" cy="403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105520" y="1295280"/>
            <a:ext cx="3462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ерсидская кошка                    Европей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короткошерс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4065480" cy="4448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10080" y="838080"/>
            <a:ext cx="331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коттиш-страйт          Скоттиш-фол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809880" cy="5943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495680" y="380880"/>
            <a:ext cx="42865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8-08T18:55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