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585-B015-4F78-B645-DD6D45A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3A-E416-4303-AF0D-0CED658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6E4-CAE7-4C70-944E-11731602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450-5523-4E4B-89E3-AF0C0DC2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A05F4-AA3B-4B5C-B264-991CF257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AB25-0D94-4C24-8EED-1E450568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CFAC-E79B-4FFB-A42C-374936F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A5367-B244-4448-94D2-657413F9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F2A3B-B8EF-43C9-8360-81DB5DB6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4BB9E-DC3C-4134-A8E0-B4D9A74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824D6-2873-47DE-84E6-5910104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C00-1993-4EDE-9863-1DAEC61C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BBFA6-99EC-408F-AFAA-F4E8E33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13DAE-9843-42FB-80AF-904716D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1C18D-7588-45A4-B9FA-BAF9541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0C8F-FD3A-4800-8301-896FFBF4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98A34-B08A-45C3-91E6-83A716A3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89A-99A5-4437-84DF-0F84C97C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A3A-73AE-48F2-A538-47A7867D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7B4-4EA2-402E-943F-58017E04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090-992E-4392-8E76-82E3B320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7F2-E6EA-4AED-8D52-F13A121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49B-274E-43CE-9186-4A59E676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FC1-6F99-4C33-ACAD-355BF74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6F47-77F7-40FE-AD94-1B8CFEE8C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31D-BB52-406B-B26B-52A0CB5587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5273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 Interesting Facts about the History of Saint Petersbur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Users\Пользователь\Pictures\Рисунок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53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Bri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Users\Пользователь\Pictures\Рисунок19.jpg"/>
          <p:cNvPicPr/>
          <p:nvPr/>
        </p:nvPicPr>
        <p:blipFill>
          <a:blip r:embed="rId1"/>
          <a:stretch/>
        </p:blipFill>
        <p:spPr>
          <a:xfrm>
            <a:off x="84240" y="620640"/>
            <a:ext cx="9059760" cy="5832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2170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N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713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) Put the pictures in orde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places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re laid in SPb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6" descr="C:\Users\Пользователь\Pictures\Рисунок27.jpg"/>
          <p:cNvPicPr/>
          <p:nvPr/>
        </p:nvPicPr>
        <p:blipFill>
          <a:blip r:embed="rId1"/>
          <a:stretch/>
        </p:blipFill>
        <p:spPr>
          <a:xfrm>
            <a:off x="0" y="4502160"/>
            <a:ext cx="2951280" cy="235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C:\Users\Пользователь\Pictures\Рисунок28.jpg"/>
          <p:cNvPicPr/>
          <p:nvPr/>
        </p:nvPicPr>
        <p:blipFill>
          <a:blip r:embed="rId2"/>
          <a:stretch/>
        </p:blipFill>
        <p:spPr>
          <a:xfrm>
            <a:off x="2952720" y="4481640"/>
            <a:ext cx="31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C:\Users\Пользователь\Pictures\Рисунок29.jpg"/>
          <p:cNvPicPr/>
          <p:nvPr/>
        </p:nvPicPr>
        <p:blipFill>
          <a:blip r:embed="rId3"/>
          <a:stretch/>
        </p:blipFill>
        <p:spPr>
          <a:xfrm>
            <a:off x="6062760" y="4437000"/>
            <a:ext cx="308124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C:\Users\Пользователь\Pictures\Рисунок26.jpg"/>
          <p:cNvPicPr/>
          <p:nvPr/>
        </p:nvPicPr>
        <p:blipFill>
          <a:blip r:embed="rId4"/>
          <a:stretch/>
        </p:blipFill>
        <p:spPr>
          <a:xfrm>
            <a:off x="6156360" y="2276640"/>
            <a:ext cx="298764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C:\Users\Пользователь\Pictures\Рисунок25.jpg"/>
          <p:cNvPicPr/>
          <p:nvPr/>
        </p:nvPicPr>
        <p:blipFill>
          <a:blip r:embed="rId5"/>
          <a:stretch/>
        </p:blipFill>
        <p:spPr>
          <a:xfrm>
            <a:off x="3059280" y="2276640"/>
            <a:ext cx="3097080" cy="217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C:\Users\Пользователь\Pictures\Рисунок24.jpg"/>
          <p:cNvPicPr/>
          <p:nvPr/>
        </p:nvPicPr>
        <p:blipFill>
          <a:blip r:embed="rId6"/>
          <a:stretch/>
        </p:blipFill>
        <p:spPr>
          <a:xfrm>
            <a:off x="0" y="2276640"/>
            <a:ext cx="30592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C:\Users\Пользователь\Pictures\Рисунок23.jpg"/>
          <p:cNvPicPr/>
          <p:nvPr/>
        </p:nvPicPr>
        <p:blipFill>
          <a:blip r:embed="rId7"/>
          <a:stretch/>
        </p:blipFill>
        <p:spPr>
          <a:xfrm>
            <a:off x="6156360" y="0"/>
            <a:ext cx="2987640" cy="227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C:\Users\Пользователь\Pictures\Рисунок22.jpg"/>
          <p:cNvPicPr/>
          <p:nvPr/>
        </p:nvPicPr>
        <p:blipFill>
          <a:blip r:embed="rId8"/>
          <a:stretch/>
        </p:blipFill>
        <p:spPr>
          <a:xfrm>
            <a:off x="3059280" y="0"/>
            <a:ext cx="3097080" cy="226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:\Users\Пользователь\Pictures\Рисунок21.jpg"/>
          <p:cNvPicPr/>
          <p:nvPr/>
        </p:nvPicPr>
        <p:blipFill>
          <a:blip r:embed="rId9"/>
          <a:stretch/>
        </p:blipFill>
        <p:spPr>
          <a:xfrm>
            <a:off x="0" y="0"/>
            <a:ext cx="3059280" cy="2243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483920"/>
            <a:ext cx="51444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419640" y="1484280"/>
            <a:ext cx="514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6516720" y="148428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179280" y="357336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3492360" y="364500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6443640" y="371628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08000" y="602136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64000" y="6093000"/>
            <a:ext cx="5144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6227640" y="6093000"/>
            <a:ext cx="5144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nswer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( Peter’s House – 170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(Peter and Paul Fortress – 1703 – Lamber, Tresini, militar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ine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(Admiralty – 1704 – Korobov, Zakharo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(Summer Garden – 1704 – planned by Peter I, grating b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(Peter’s Summer Palace – 1710 – 1714 - Tresi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( “Strelka” on Basil’s Island – 1716 – the residential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s construction started - Tresini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( “Kunstkamera” – 1714 – the year of museum foundation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18 – 1734 – years of building construction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arno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( The twelve Collegiums Building – 1722 - Tresi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( “Gostini Dvor” – 1748- Ghan Batist Valen de la M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situated to the right,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front of the Peter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  <a:cs typeface="Tahoma"/>
              </a:rPr>
              <a:t>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 House,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iginated from Chin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867280" y="907920"/>
            <a:ext cx="309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lions – symbols of Buddhism. One lion is with his paw on the ball and a lioness is holding a lion cu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C:\Users\Пользователь\Pictures\Рисунок30.jpg"/>
          <p:cNvPicPr/>
          <p:nvPr/>
        </p:nvPicPr>
        <p:blipFill>
          <a:blip r:embed="rId1"/>
          <a:stretch/>
        </p:blipFill>
        <p:spPr>
          <a:xfrm>
            <a:off x="0" y="0"/>
            <a:ext cx="56926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796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85899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e is the bust of Peter the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at in front of the House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re on hi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51640" y="291960"/>
            <a:ext cx="324144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 crying lion on one of his shoulders, symbolizing Sweden crying over lost lands, and there is a head of a ship on another shoul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C:\Users\Пользователь\Pictures\Рисунок31.jpg"/>
          <p:cNvPicPr/>
          <p:nvPr/>
        </p:nvPicPr>
        <p:blipFill>
          <a:blip r:embed="rId1"/>
          <a:stretch/>
        </p:blipFill>
        <p:spPr>
          <a:xfrm>
            <a:off x="0" y="0"/>
            <a:ext cx="5154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) What is depicted on the SPb coat-of-arms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) What nicknames of Saint Petersburg do you know? Look at the pictures and using your imagination try to guess what name is “behind” each pic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ity of 100 is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rthern Ven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rad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ultural capit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now Babyl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ity of st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radle of the Rev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Window to Eur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ningr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trogr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rthern Palmy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tropo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4211640" y="2060640"/>
            <a:ext cx="466560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5516280"/>
            <a:ext cx="403236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anchors – sea and river with a scepter   in the middle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579640" y="5589360"/>
            <a:ext cx="305604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-headed eag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284720" y="5661000"/>
            <a:ext cx="115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C:\Users\Пользователь\Pictures\Рисунок32.jpg"/>
          <p:cNvPicPr/>
          <p:nvPr/>
        </p:nvPicPr>
        <p:blipFill>
          <a:blip r:embed="rId1"/>
          <a:stretch/>
        </p:blipFill>
        <p:spPr>
          <a:xfrm>
            <a:off x="0" y="0"/>
            <a:ext cx="4568760" cy="544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Пользователь\Pictures\Рисунок33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546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76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i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03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patrons St Petersburg has. Who are they?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Paul and Peter     b) Alexander Nevsky and Paul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Alexander Nevsky and P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was Alexander Nevsky's patronymic n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Nikolaevic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Fedorovic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Yaroslavov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ow many cathedrals named after Alexander Nevsk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there in St- Petersburg at Peter the Great tim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5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con  became the "cover” of the city and it will st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il this icon is here?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Saint Michael    b)  V'ladimirskaya God's mo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 Kazan God's m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Пользователь\Pictures\Рисунок34.jpg"/>
          <p:cNvPicPr/>
          <p:nvPr/>
        </p:nvPicPr>
        <p:blipFill>
          <a:blip r:embed="rId1"/>
          <a:stretch/>
        </p:blipFill>
        <p:spPr>
          <a:xfrm>
            <a:off x="2556000" y="549360"/>
            <a:ext cx="4055760" cy="565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0) Where did Peter move it from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Vladimir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Suzda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Konstanlinop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1)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is the symbol of similar legend London h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crow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pige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rave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2)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id Napoleon call Spb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heart of Russia 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legs of Russia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head of Russi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Users\Пользователь\Pictures\Рисунок35.jpg"/>
          <p:cNvPicPr/>
          <p:nvPr/>
        </p:nvPicPr>
        <p:blipFill>
          <a:blip r:embed="rId1"/>
          <a:stretch/>
        </p:blipFill>
        <p:spPr>
          <a:xfrm>
            <a:off x="1979640" y="0"/>
            <a:ext cx="5076720" cy="684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)  Where can you see more than 500 images of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pter and crossed ancho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in grating of Troitski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In grating of Alexander Nevsky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in grating of Liteini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es the flag of Spb look li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ite panel with a scep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red panel with two anch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red panel with two anchors and a scep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towns with the name Spb are there in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a) 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I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) Who played the main role in capturing Notebur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reshek)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a) Narishk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b) Golits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Zot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Пользователь\Pictures\Рисунок36.jpg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first building built on the is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Peter and Paul Cathedral   b) Peter’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Peter and Paul For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) How many days did it take to build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4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a week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11280" y="4941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Who was the first architect who designed and started the construction of Peter and Paul Fortress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9640" y="5805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renu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Lebl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Lamb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C:\Users\Пользователь\Pictures\Рисунок37.jpg"/>
          <p:cNvPicPr/>
          <p:nvPr/>
        </p:nvPicPr>
        <p:blipFill>
          <a:blip r:embed="rId1"/>
          <a:stretch/>
        </p:blipFill>
        <p:spPr>
          <a:xfrm>
            <a:off x="1332000" y="0"/>
            <a:ext cx="65656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5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) Who was at the head of its reconstruction since 1706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Tresin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Kvaren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Lvo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15573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1) Why all the elements of this fortress one can name many layered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87280" y="2421000"/>
            <a:ext cx="582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many layers of 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onstruction took a lot of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ortress is very hig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95280" y="4221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2) Why can it be named "a town inside the town"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332000" y="4724280"/>
            <a:ext cx="7238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t was supposed to be a t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a lot of buildings inside Peter and Paul Fort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t started as a t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C:\Users\Пользователь\Pictures\Рисунок5.jpg"/>
          <p:cNvPicPr/>
          <p:nvPr/>
        </p:nvPicPr>
        <p:blipFill>
          <a:blip r:embed="rId1"/>
          <a:stretch/>
        </p:blipFill>
        <p:spPr>
          <a:xfrm>
            <a:off x="4932360" y="3573360"/>
            <a:ext cx="3902040" cy="277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Пользователь\Pictures\Рисунок4.jpg"/>
          <p:cNvPicPr/>
          <p:nvPr/>
        </p:nvPicPr>
        <p:blipFill>
          <a:blip r:embed="rId2"/>
          <a:stretch/>
        </p:blipFill>
        <p:spPr>
          <a:xfrm>
            <a:off x="324000" y="3500280"/>
            <a:ext cx="3895560" cy="277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Пользователь\Pictures\Рисунок3.jpg"/>
          <p:cNvPicPr/>
          <p:nvPr/>
        </p:nvPicPr>
        <p:blipFill>
          <a:blip r:embed="rId3"/>
          <a:stretch/>
        </p:blipFill>
        <p:spPr>
          <a:xfrm>
            <a:off x="4932360" y="549360"/>
            <a:ext cx="3902040" cy="2597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Пользователь\Pictures\Рисунок2.jpg"/>
          <p:cNvPicPr/>
          <p:nvPr/>
        </p:nvPicPr>
        <p:blipFill>
          <a:blip r:embed="rId4"/>
          <a:stretch/>
        </p:blipFill>
        <p:spPr>
          <a:xfrm>
            <a:off x="324000" y="549360"/>
            <a:ext cx="40543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was in charge of Peter and Paul Fortress construction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981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 Zotov             b) Narishkin           c) Menshiko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many bastions does it  hav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6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843280" y="3500280"/>
            <a:ext cx="3047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outh-eas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the north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the south-wester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04920" y="5257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long time did it take to build it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838080" y="5943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4 summer mon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3 mon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one yea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0880" y="2819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5) Which one is named after Peter the Great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Users\Пользователь\Pictures\Рисунок38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7) What “Strelka” supposed to be 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 a place where official buildings shoul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n bui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ce where Peter’s associates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ves of aristocracy suppos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ce where a garden should 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Users\Пользователь\Pictures\Рисунок39.jpg"/>
          <p:cNvPicPr/>
          <p:nvPr/>
        </p:nvPicPr>
        <p:blipFill>
          <a:blip r:embed="rId1"/>
          <a:stretch/>
        </p:blipFill>
        <p:spPr>
          <a:xfrm>
            <a:off x="0" y="549360"/>
            <a:ext cx="91695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) The construction of Saint Petersbur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ed when three fortifications w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ed. What were th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685800" y="5791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nshtadt, Peter and Paul Fortress, Admiralteiskaya Fortress that protected Saint Petersburg form the Sout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C:\Users\Пользователь\Pictures\Рисунок40.jpg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) What kind of Fortress was Kronshtadt?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main aim of i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Users\Пользователь\Pictures\Рисунок41.jpg"/>
          <p:cNvPicPr/>
          <p:nvPr/>
        </p:nvPicPr>
        <p:blipFill>
          <a:blip r:embed="rId1"/>
          <a:stretch/>
        </p:blipFill>
        <p:spPr>
          <a:xfrm>
            <a:off x="108000" y="260280"/>
            <a:ext cx="6003720" cy="5570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6012000" y="14842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84720" y="1268280"/>
            <a:ext cx="24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the sea fortress that protected the city from the so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) What is considered the architectur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and the core of the capit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) Why is it considered to be 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tanding monument of industri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11640" y="2276640"/>
            <a:ext cx="266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 – Admiral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1 – it was shipbuilding shipy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C:\Users\Пользователь\Pictures\Рисунок42.jpg"/>
          <p:cNvPicPr/>
          <p:nvPr/>
        </p:nvPicPr>
        <p:blipFill>
          <a:blip r:embed="rId1"/>
          <a:stretch/>
        </p:blipFill>
        <p:spPr>
          <a:xfrm>
            <a:off x="324000" y="333360"/>
            <a:ext cx="5248080" cy="59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Пользователь\Pictures\Рисунок6.jpg"/>
          <p:cNvPicPr/>
          <p:nvPr/>
        </p:nvPicPr>
        <p:blipFill>
          <a:blip r:embed="rId1"/>
          <a:stretch/>
        </p:blipFill>
        <p:spPr>
          <a:xfrm>
            <a:off x="250920" y="1268280"/>
            <a:ext cx="3109680" cy="428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Пользователь\Pictures\Рисунок7.jpg"/>
          <p:cNvPicPr/>
          <p:nvPr/>
        </p:nvPicPr>
        <p:blipFill>
          <a:blip r:embed="rId2"/>
          <a:stretch/>
        </p:blipFill>
        <p:spPr>
          <a:xfrm>
            <a:off x="3995640" y="189000"/>
            <a:ext cx="4835520" cy="313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Пользователь\Pictures\Рисунок8.jpg"/>
          <p:cNvPicPr/>
          <p:nvPr/>
        </p:nvPicPr>
        <p:blipFill>
          <a:blip r:embed="rId3"/>
          <a:stretch/>
        </p:blipFill>
        <p:spPr>
          <a:xfrm>
            <a:off x="3995640" y="3429000"/>
            <a:ext cx="481644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usual funny monu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aint Petersbu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is monument devoted t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rigin of it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:\Users\Пользователь\Pictures\Рисунок43.jpg"/>
          <p:cNvPicPr/>
          <p:nvPr/>
        </p:nvPicPr>
        <p:blipFill>
          <a:blip r:embed="rId1"/>
          <a:stretch/>
        </p:blipFill>
        <p:spPr>
          <a:xfrm>
            <a:off x="0" y="100080"/>
            <a:ext cx="6727680" cy="44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Пользователь\Pictures\Рисунок44.jpg"/>
          <p:cNvPicPr/>
          <p:nvPr/>
        </p:nvPicPr>
        <p:blipFill>
          <a:blip r:embed="rId2"/>
          <a:stretch/>
        </p:blipFill>
        <p:spPr>
          <a:xfrm>
            <a:off x="5715000" y="2349360"/>
            <a:ext cx="34290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885 in the building on the other side of Fontanka river according to the initiative of Prince Peter Oldenburgski,  Higher Law Educational Establishment was opened. Its students wore a special uniform – yellow green form and deer-skin cap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ыжикова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п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 Guardsmen officers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вардейск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фице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named them чижики-пыжики. In 1994 the monutment in honour to Chighik-Pighik during the  festival “Golden Ostap” was opened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stolen seven times but every time it was returned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considered that if you throw down a coin and it falls onto the stone – your wish will come true. Or if a groom puts down a glass filled with a drink , to a leg of which a rope is tired and  touches the beak of the bird, his marriage will be extremely happy if the glass doesn’t brea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writer was born in Ukr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 wrote the story, named as a part of human 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6720" y="620280"/>
            <a:ext cx="4067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«Major`s Kovalev Nose»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nument devoted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character of Gogol`s «Nose»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made of pink ukrainian marbl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om Gogol`s motherland)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was stolen in 2002, an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und  next year, in 2003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nument is situated on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znesensky avenu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:\Users\Пользователь\Pictures\Рисунок45.jpg"/>
          <p:cNvPicPr/>
          <p:nvPr/>
        </p:nvPicPr>
        <p:blipFill>
          <a:blip r:embed="rId1"/>
          <a:stretch/>
        </p:blipFill>
        <p:spPr>
          <a:xfrm>
            <a:off x="119160" y="538200"/>
            <a:ext cx="4717800" cy="520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remember any other symbols of SP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names of two la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s shown in video-clip to the so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My city’ (Elena Vaenga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C:\Users\Пользователь\Pictures\Рисунок11.jpg"/>
          <p:cNvPicPr/>
          <p:nvPr/>
        </p:nvPicPr>
        <p:blipFill>
          <a:blip r:embed="rId1"/>
          <a:stretch/>
        </p:blipFill>
        <p:spPr>
          <a:xfrm>
            <a:off x="4572000" y="170028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Пользователь\Pictures\Рисунок10.jpg"/>
          <p:cNvPicPr/>
          <p:nvPr/>
        </p:nvPicPr>
        <p:blipFill>
          <a:blip r:embed="rId2"/>
          <a:stretch/>
        </p:blipFill>
        <p:spPr>
          <a:xfrm>
            <a:off x="0" y="3429000"/>
            <a:ext cx="4352760" cy="326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Пользователь\Pictures\Рисунок9.jpg"/>
          <p:cNvPicPr/>
          <p:nvPr/>
        </p:nvPicPr>
        <p:blipFill>
          <a:blip r:embed="rId3"/>
          <a:stretch/>
        </p:blipFill>
        <p:spPr>
          <a:xfrm>
            <a:off x="0" y="0"/>
            <a:ext cx="4356000" cy="3281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5857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08000" y="6165720"/>
            <a:ext cx="585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643280" y="4149720"/>
            <a:ext cx="586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Пользователь\Pictures\Рисунок12.jpg"/>
          <p:cNvPicPr/>
          <p:nvPr/>
        </p:nvPicPr>
        <p:blipFill>
          <a:blip r:embed="rId1"/>
          <a:stretch/>
        </p:blipFill>
        <p:spPr>
          <a:xfrm>
            <a:off x="250920" y="404640"/>
            <a:ext cx="4694040" cy="301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Пользователь\Pictures\Рисунок13.jpg"/>
          <p:cNvPicPr/>
          <p:nvPr/>
        </p:nvPicPr>
        <p:blipFill>
          <a:blip r:embed="rId2"/>
          <a:stretch/>
        </p:blipFill>
        <p:spPr>
          <a:xfrm>
            <a:off x="250920" y="3573360"/>
            <a:ext cx="4736880" cy="297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Пользователь\Pictures\Рисунок14.jpg"/>
          <p:cNvPicPr/>
          <p:nvPr/>
        </p:nvPicPr>
        <p:blipFill>
          <a:blip r:embed="rId3"/>
          <a:stretch/>
        </p:blipFill>
        <p:spPr>
          <a:xfrm>
            <a:off x="5048280" y="1628640"/>
            <a:ext cx="4095720" cy="291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) What are the symbol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f SPb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03280" y="119664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ilded Angel weather vane with a cro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C:\Users\Пользователь\Pictures\Рисунок15.jpg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59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188640"/>
            <a:ext cx="172908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03640" y="6016320"/>
            <a:ext cx="20480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Users\Пользователь\Pictures\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4950000" cy="638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Пользователь\Pictures\Рисунок17.jpg"/>
          <p:cNvPicPr/>
          <p:nvPr/>
        </p:nvPicPr>
        <p:blipFill>
          <a:blip r:embed="rId2"/>
          <a:stretch/>
        </p:blipFill>
        <p:spPr>
          <a:xfrm>
            <a:off x="4995720" y="1341360"/>
            <a:ext cx="4148280" cy="459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2:08:37Z</dcterms:created>
  <dc:creator>Admin</dc:creator>
  <dc:description/>
  <dc:language>en-US</dc:language>
  <cp:lastModifiedBy>Пользователь</cp:lastModifiedBy>
  <dcterms:modified xsi:type="dcterms:W3CDTF">2011-08-12T10:53:00Z</dcterms:modified>
  <cp:revision>172</cp:revision>
  <dc:subject/>
  <dc:title>Слайд 1</dc:title>
</cp:coreProperties>
</file>