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44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43.jpeg" ContentType="image/jpeg"/>
  <Override PartName="/ppt/media/image45.jpeg" ContentType="image/jpeg"/>
  <Override PartName="/ppt/media/image40.jpeg" ContentType="image/jpeg"/>
  <Override PartName="/ppt/media/image13.jpeg" ContentType="image/jpeg"/>
  <Override PartName="/ppt/media/image46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F4D27-B4FA-42B7-8376-A4418B76D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74390-45CA-49ED-96B5-C37BFECA7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01D6E-9412-405C-A29D-79D5BC895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5E4EF-BE9B-4785-980D-717BDCC2D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E64296-B4F6-45FD-B2A7-DF20BE02C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4A328A-9565-4F94-B7C5-4FD600FEB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28F34C-FC3B-4DC4-BC95-B717EF59E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E57F58-1EED-40C8-9B9F-9582E4CDB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CE88F4-0D3D-402B-A8C9-3085B32AB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A739EA-380A-4C7A-B8CB-AF3E420BA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BFF751-C08F-439B-80B2-E533E76B3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D6F24-15C7-4BD8-8455-14BCF148C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79E040-4C20-426B-8C48-48034B26E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60571A-6CAC-45E6-A072-3E792C890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422F17-6064-485B-9F9C-857094DDF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917538-0380-4DD6-83ED-410E398C4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27A82C-4F41-4901-9F61-A45E71D82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5A836-D95E-445E-944B-E608FC68C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D9A28-A899-4ABE-A2E0-70C88EED8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68CE2-1904-4A00-BEC1-72AC13A6D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D62AD-8FDE-4605-A495-B03BC3892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5E2AB-A827-499B-A292-54F765321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39277-8ACE-4ED5-99BC-A1D17A44C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BAF25-7DBA-4BA0-9B40-48E91C9A9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C1714-B835-4224-A926-E1E1FC41E26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>
              <a:gd name="textAreaLeft" fmla="*/ 0 w 1440"/>
              <a:gd name="textAreaRight" fmla="*/ 1800 w 1440"/>
              <a:gd name="textAreaTop" fmla="*/ 0 h 3035160"/>
              <a:gd name="textAreaBottom" fmla="*/ 3035520 h 3035160"/>
            </a:gdLst>
            <a:ahLst/>
            <a:rect l="textAreaLeft" t="textAreaTop" r="textAreaRight" b="textAreaBottom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2BA00-D197-4D18-9742-148C24BBC2AC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image" Target="../media/image27.jpeg"/><Relationship Id="rId7" Type="http://schemas.openxmlformats.org/officeDocument/2006/relationships/image" Target="../media/image28.jpeg"/><Relationship Id="rId8" Type="http://schemas.openxmlformats.org/officeDocument/2006/relationships/image" Target="../media/image29.jpeg"/><Relationship Id="rId9" Type="http://schemas.openxmlformats.org/officeDocument/2006/relationships/image" Target="../media/image30.jpeg"/><Relationship Id="rId10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7" descr="C:\Users\Пользователь\Pictures\Рисунок1.jpg"/>
          <p:cNvPicPr/>
          <p:nvPr/>
        </p:nvPicPr>
        <p:blipFill>
          <a:blip r:embed="rId1"/>
          <a:stretch/>
        </p:blipFill>
        <p:spPr>
          <a:xfrm>
            <a:off x="-19080" y="0"/>
            <a:ext cx="91630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179280" y="527328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Some Interesting Facts about the History of Saint Petersburg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circl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4" descr="C:\Users\Пользователь\Pictures\Рисунок1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291960"/>
            <a:ext cx="353844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raw Bridg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blinds dir="vert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5" descr="C:\Users\Пользователь\Pictures\Рисунок19.jpg"/>
          <p:cNvPicPr/>
          <p:nvPr/>
        </p:nvPicPr>
        <p:blipFill>
          <a:blip r:embed="rId1"/>
          <a:stretch/>
        </p:blipFill>
        <p:spPr>
          <a:xfrm>
            <a:off x="84240" y="620640"/>
            <a:ext cx="9059760" cy="58327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26560" y="691920"/>
            <a:ext cx="217044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hite Nigh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zoom dir="out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78920" y="2133360"/>
            <a:ext cx="87138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2) Put the pictures in order 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the places</a:t>
            </a: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were laid in SPb</a:t>
            </a: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zoom dir="in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6" descr="C:\Users\Пользователь\Pictures\Рисунок27.jpg"/>
          <p:cNvPicPr/>
          <p:nvPr/>
        </p:nvPicPr>
        <p:blipFill>
          <a:blip r:embed="rId1"/>
          <a:stretch/>
        </p:blipFill>
        <p:spPr>
          <a:xfrm>
            <a:off x="0" y="4502160"/>
            <a:ext cx="2951280" cy="23558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27" descr="C:\Users\Пользователь\Pictures\Рисунок28.jpg"/>
          <p:cNvPicPr/>
          <p:nvPr/>
        </p:nvPicPr>
        <p:blipFill>
          <a:blip r:embed="rId2"/>
          <a:stretch/>
        </p:blipFill>
        <p:spPr>
          <a:xfrm>
            <a:off x="2952720" y="4481640"/>
            <a:ext cx="3132000" cy="23763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28" descr="C:\Users\Пользователь\Pictures\Рисунок29.jpg"/>
          <p:cNvPicPr/>
          <p:nvPr/>
        </p:nvPicPr>
        <p:blipFill>
          <a:blip r:embed="rId3"/>
          <a:stretch/>
        </p:blipFill>
        <p:spPr>
          <a:xfrm>
            <a:off x="6062760" y="4437000"/>
            <a:ext cx="3081240" cy="24210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25" descr="C:\Users\Пользователь\Pictures\Рисунок26.jpg"/>
          <p:cNvPicPr/>
          <p:nvPr/>
        </p:nvPicPr>
        <p:blipFill>
          <a:blip r:embed="rId4"/>
          <a:stretch/>
        </p:blipFill>
        <p:spPr>
          <a:xfrm>
            <a:off x="6156360" y="2276640"/>
            <a:ext cx="2987640" cy="21603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24" descr="C:\Users\Пользователь\Pictures\Рисунок25.jpg"/>
          <p:cNvPicPr/>
          <p:nvPr/>
        </p:nvPicPr>
        <p:blipFill>
          <a:blip r:embed="rId5"/>
          <a:stretch/>
        </p:blipFill>
        <p:spPr>
          <a:xfrm>
            <a:off x="3059280" y="2276640"/>
            <a:ext cx="3097080" cy="21747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23" descr="C:\Users\Пользователь\Pictures\Рисунок24.jpg"/>
          <p:cNvPicPr/>
          <p:nvPr/>
        </p:nvPicPr>
        <p:blipFill>
          <a:blip r:embed="rId6"/>
          <a:stretch/>
        </p:blipFill>
        <p:spPr>
          <a:xfrm>
            <a:off x="0" y="2276640"/>
            <a:ext cx="3059280" cy="21873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22" descr="C:\Users\Пользователь\Pictures\Рисунок23.jpg"/>
          <p:cNvPicPr/>
          <p:nvPr/>
        </p:nvPicPr>
        <p:blipFill>
          <a:blip r:embed="rId7"/>
          <a:stretch/>
        </p:blipFill>
        <p:spPr>
          <a:xfrm>
            <a:off x="6156360" y="0"/>
            <a:ext cx="2987640" cy="22795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21" descr="C:\Users\Пользователь\Pictures\Рисунок22.jpg"/>
          <p:cNvPicPr/>
          <p:nvPr/>
        </p:nvPicPr>
        <p:blipFill>
          <a:blip r:embed="rId8"/>
          <a:stretch/>
        </p:blipFill>
        <p:spPr>
          <a:xfrm>
            <a:off x="3059280" y="0"/>
            <a:ext cx="3097080" cy="22654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20" descr="C:\Users\Пользователь\Pictures\Рисунок21.jpg"/>
          <p:cNvPicPr/>
          <p:nvPr/>
        </p:nvPicPr>
        <p:blipFill>
          <a:blip r:embed="rId9"/>
          <a:stretch/>
        </p:blipFill>
        <p:spPr>
          <a:xfrm>
            <a:off x="0" y="0"/>
            <a:ext cx="3059280" cy="224316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78920" y="1483920"/>
            <a:ext cx="514440" cy="61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Rectangle 29"/>
          <p:cNvSpPr/>
          <p:nvPr/>
        </p:nvSpPr>
        <p:spPr>
          <a:xfrm>
            <a:off x="3419640" y="1484280"/>
            <a:ext cx="514080" cy="6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Rectangle 30"/>
          <p:cNvSpPr/>
          <p:nvPr/>
        </p:nvSpPr>
        <p:spPr>
          <a:xfrm>
            <a:off x="6516720" y="1484280"/>
            <a:ext cx="514440" cy="6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Rectangle 31"/>
          <p:cNvSpPr/>
          <p:nvPr/>
        </p:nvSpPr>
        <p:spPr>
          <a:xfrm>
            <a:off x="179280" y="3573360"/>
            <a:ext cx="514440" cy="6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Rectangle 32"/>
          <p:cNvSpPr/>
          <p:nvPr/>
        </p:nvSpPr>
        <p:spPr>
          <a:xfrm>
            <a:off x="3492360" y="3645000"/>
            <a:ext cx="514440" cy="6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Rectangle 33"/>
          <p:cNvSpPr/>
          <p:nvPr/>
        </p:nvSpPr>
        <p:spPr>
          <a:xfrm>
            <a:off x="6443640" y="3716280"/>
            <a:ext cx="514440" cy="6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Rectangle 34"/>
          <p:cNvSpPr/>
          <p:nvPr/>
        </p:nvSpPr>
        <p:spPr>
          <a:xfrm>
            <a:off x="108000" y="6021360"/>
            <a:ext cx="514440" cy="6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Rectangle 35"/>
          <p:cNvSpPr/>
          <p:nvPr/>
        </p:nvSpPr>
        <p:spPr>
          <a:xfrm>
            <a:off x="3564000" y="6093000"/>
            <a:ext cx="514440" cy="61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Rectangle 36"/>
          <p:cNvSpPr/>
          <p:nvPr/>
        </p:nvSpPr>
        <p:spPr>
          <a:xfrm>
            <a:off x="6227640" y="6093000"/>
            <a:ext cx="514440" cy="61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9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circl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he answers: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8200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3 ( Peter’s House – 1703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5 (Peter and Paul Fortress – 1703 – Lamber, Tresini, military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ngineers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9 (Admiralty – 1704 – Korobov, Zakharov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4 (Summer Garden – 1704 – planned by Peter I, grating by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elte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2 (Peter’s Summer Palace – 1710 – 1714 - Tresini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 ( “Strelka” on Basil’s Island – 1716 – the residential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uildings construction started - Tresini)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7 ( “Kunstkamera” – 1714 – the year of museum foundation,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718 – 1734 – years of building construction -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attarnovi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6 ( The twelve Collegiums Building – 1722 - Tresini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8 ( “Gostini Dvor” – 1748- Ghan Batist Valen de la Mod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heel spokes="8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39640" y="206028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3) 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hat is situated to the right, 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in front of the Peter</a:t>
            </a:r>
            <a:r>
              <a:rPr b="0" lang="he-IL" sz="4400" spc="-1" strike="noStrike">
                <a:solidFill>
                  <a:srgbClr val="ffffff"/>
                </a:solidFill>
                <a:latin typeface="Tahoma"/>
                <a:cs typeface="Tahoma"/>
              </a:rPr>
              <a:t>׳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 House, 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originated from China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pull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5867280" y="907920"/>
            <a:ext cx="309744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re are two lions – symbols of Buddhism. One lion is with his paw on the ball and a lioness is holding a lion cub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8" name="Picture 4" descr="C:\Users\Пользователь\Pictures\Рисунок30.jpg"/>
          <p:cNvPicPr/>
          <p:nvPr/>
        </p:nvPicPr>
        <p:blipFill>
          <a:blip r:embed="rId1"/>
          <a:stretch/>
        </p:blipFill>
        <p:spPr>
          <a:xfrm>
            <a:off x="0" y="0"/>
            <a:ext cx="5692680" cy="6858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796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" fill="hold">
                                          <p:stCondLst>
                                            <p:cond delay="1796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78920" y="2060280"/>
            <a:ext cx="858996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4) 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here is the bust of Peter the 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Great in front of the House. 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hat is there on his 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houlders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strips dir="l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651640" y="291960"/>
            <a:ext cx="3241440" cy="443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re is a crying lion on one of his shoulders, symbolizing Sweden crying over lost lands, and there is a head of a ship on another shoulder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1" name="Picture 4" descr="C:\Users\Пользователь\Pictures\Рисунок31.jpg"/>
          <p:cNvPicPr/>
          <p:nvPr/>
        </p:nvPicPr>
        <p:blipFill>
          <a:blip r:embed="rId1"/>
          <a:stretch/>
        </p:blipFill>
        <p:spPr>
          <a:xfrm>
            <a:off x="0" y="0"/>
            <a:ext cx="515448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4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11280" y="220464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5) What is depicted on the SPb coat-of-arms</a:t>
            </a: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1) What nicknames of Saint Petersburg do you know? Look at the pictures and using your imagination try to guess what name is “behind” each picture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4619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120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The city of 100 island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120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Northern Venic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120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Paradis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120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Cultural capita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120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Snow Babylo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120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City of ston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120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Cradle of the Revolutio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120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The Window to Europ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120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Leningra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120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Petrogra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120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Northern Palmyra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l.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Petropoli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7" name="Picture 5" descr="C:\Users\Пользователь\Pictures\Рисунок1.jpg"/>
          <p:cNvPicPr/>
          <p:nvPr/>
        </p:nvPicPr>
        <p:blipFill>
          <a:blip r:embed="rId1"/>
          <a:stretch/>
        </p:blipFill>
        <p:spPr>
          <a:xfrm>
            <a:off x="4211640" y="2060640"/>
            <a:ext cx="4665600" cy="344016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78920" y="5516280"/>
            <a:ext cx="4032360" cy="11523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wo anchors – sea and river with a scepter   in the middle     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5579640" y="5589360"/>
            <a:ext cx="3056040" cy="126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wo-headed eagl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Rectangle 10"/>
          <p:cNvSpPr/>
          <p:nvPr/>
        </p:nvSpPr>
        <p:spPr>
          <a:xfrm>
            <a:off x="4284720" y="5661000"/>
            <a:ext cx="1150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nd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6" name="Picture 7" descr="C:\Users\Пользователь\Pictures\Рисунок32.jpg"/>
          <p:cNvPicPr/>
          <p:nvPr/>
        </p:nvPicPr>
        <p:blipFill>
          <a:blip r:embed="rId1"/>
          <a:stretch/>
        </p:blipFill>
        <p:spPr>
          <a:xfrm>
            <a:off x="0" y="0"/>
            <a:ext cx="4568760" cy="54450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8" descr="C:\Users\Пользователь\Pictures\Рисунок33.jpg"/>
          <p:cNvPicPr/>
          <p:nvPr/>
        </p:nvPicPr>
        <p:blipFill>
          <a:blip r:embed="rId2"/>
          <a:stretch/>
        </p:blipFill>
        <p:spPr>
          <a:xfrm>
            <a:off x="4767120" y="0"/>
            <a:ext cx="4376880" cy="546408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3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576072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Quiz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0" y="836640"/>
            <a:ext cx="903600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6)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re are two patrons St Petersburg has. Who are they?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) Paul and Peter     b) Alexander Nevsky and Paul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) Alexander Nevsky and Pet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7)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hat was Alexander Nevsky's patronymic nam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) Nikolaevich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) Fedorovich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) Yaroslavovic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just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8)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How many cathedrals named after Alexander Nevsky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ere there in St- Petersburg at Peter the Great tim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) 20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) 50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) 4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9)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hat icon  became the "cover” of the city and it will stand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ntil this icon is here?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)  Saint Michael    b)  V'ladimirskaya God's mother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)  Kazan God's moth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pull dir="r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3" descr="C:\Users\Пользователь\Pictures\Рисунок34.jpg"/>
          <p:cNvPicPr/>
          <p:nvPr/>
        </p:nvPicPr>
        <p:blipFill>
          <a:blip r:embed="rId1"/>
          <a:stretch/>
        </p:blipFill>
        <p:spPr>
          <a:xfrm>
            <a:off x="2556000" y="549360"/>
            <a:ext cx="4055760" cy="565776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10) Where did Peter move it from?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a) Vladimir</a:t>
            </a:r>
            <a:r>
              <a:rPr b="0" lang="ru-RU" sz="3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b) Suzdal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c) Konstanlinopo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11)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What is the symbol of similar legend London has?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a) crows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b) pigeons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c) ravens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12)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How did Napoleon call Spb?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a) heart of Russia     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b) legs of Russia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c) head of Russia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strips dir="rd"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2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2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20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20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20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20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20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20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20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20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2000" fill="hold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2000" fill="hold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2000" fill="hold"/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2000" fill="hold"/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2000" fill="hold"/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2000" fill="hold"/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2000" fill="hold"/>
                                        <p:tgtEl>
                                          <p:spTgt spid="1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2000" fill="hold"/>
                                        <p:tgtEl>
                                          <p:spTgt spid="1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C:\Users\Пользователь\Pictures\Рисунок35.jpg"/>
          <p:cNvPicPr/>
          <p:nvPr/>
        </p:nvPicPr>
        <p:blipFill>
          <a:blip r:embed="rId1"/>
          <a:stretch/>
        </p:blipFill>
        <p:spPr>
          <a:xfrm>
            <a:off x="1979640" y="0"/>
            <a:ext cx="5076720" cy="684216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3)  Where can you see more than 500 images of the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cepter and crossed ancho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) in grating of Troitski bridg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) In grating of Alexander Nevsky bridg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) in grating of Liteini bridg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4)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hat does the flag of Spb look lik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) white panel with a scept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) red panel with two ancho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) red panel with two anchors and a scept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5)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ow many towns with the name Spb are there in the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SA?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a) 10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)8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)I5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6) Who played the main role in capturing Noteburg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(Oreshek)?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a) Narishkin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b) Golitsin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) Zotov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pull dir="l"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1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1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1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3" descr="C:\Users\Пользователь\Pictures\Рисунок36.jpg"/>
          <p:cNvPicPr/>
          <p:nvPr/>
        </p:nvPicPr>
        <p:blipFill>
          <a:blip r:embed="rId1"/>
          <a:stretch/>
        </p:blipFill>
        <p:spPr>
          <a:xfrm>
            <a:off x="0" y="262080"/>
            <a:ext cx="9144000" cy="608796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7)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was the first building built on the island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) Peter and Paul Cathedral   b) Peter’s Hous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) Peter and Paul Fortre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8) How many days did it take to build it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) 4 days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) 3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days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) a week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strips dir="lu"/>
  </p:transition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4"/>
          <p:cNvSpPr/>
          <p:nvPr/>
        </p:nvSpPr>
        <p:spPr>
          <a:xfrm>
            <a:off x="611280" y="4941720"/>
            <a:ext cx="815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9)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Who was the first architect who designed and started the construction of Peter and Paul Fortress?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Text Box 5"/>
          <p:cNvSpPr/>
          <p:nvPr/>
        </p:nvSpPr>
        <p:spPr>
          <a:xfrm>
            <a:off x="539640" y="5805360"/>
            <a:ext cx="838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)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Brenua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b) Leblon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c) Lamber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Picture 5" descr="C:\Users\Пользователь\Pictures\Рисунок37.jpg"/>
          <p:cNvPicPr/>
          <p:nvPr/>
        </p:nvPicPr>
        <p:blipFill>
          <a:blip r:embed="rId1"/>
          <a:stretch/>
        </p:blipFill>
        <p:spPr>
          <a:xfrm>
            <a:off x="1332000" y="0"/>
            <a:ext cx="6565680" cy="494172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2"/>
          <p:cNvSpPr/>
          <p:nvPr/>
        </p:nvSpPr>
        <p:spPr>
          <a:xfrm>
            <a:off x="324000" y="115920"/>
            <a:ext cx="838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20) Who was at the head of its reconstruction since 1706?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1042920" y="69192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. Tresini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. Kvarengi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.Lvov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324000" y="155736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21) Why all the elements of this fortress one can name many layered?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Text Box 5"/>
          <p:cNvSpPr/>
          <p:nvPr/>
        </p:nvSpPr>
        <p:spPr>
          <a:xfrm>
            <a:off x="1187280" y="2421000"/>
            <a:ext cx="58230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there are many layers of stone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the construction took a lot of tim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the fortress is very high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Text Box 6"/>
          <p:cNvSpPr/>
          <p:nvPr/>
        </p:nvSpPr>
        <p:spPr>
          <a:xfrm>
            <a:off x="395280" y="422100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22) Why can it be named "a town inside the town"?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Text Box 7"/>
          <p:cNvSpPr/>
          <p:nvPr/>
        </p:nvSpPr>
        <p:spPr>
          <a:xfrm>
            <a:off x="1332000" y="4724280"/>
            <a:ext cx="723888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it was supposed to be a tow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there are a lot of buildings inside Peter and Paul Fortres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it started as a town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strips dir="l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6" descr="C:\Users\Пользователь\Pictures\Рисунок5.jpg"/>
          <p:cNvPicPr/>
          <p:nvPr/>
        </p:nvPicPr>
        <p:blipFill>
          <a:blip r:embed="rId1"/>
          <a:stretch/>
        </p:blipFill>
        <p:spPr>
          <a:xfrm>
            <a:off x="4932360" y="3573360"/>
            <a:ext cx="3902040" cy="27799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7" descr="C:\Users\Пользователь\Pictures\Рисунок4.jpg"/>
          <p:cNvPicPr/>
          <p:nvPr/>
        </p:nvPicPr>
        <p:blipFill>
          <a:blip r:embed="rId2"/>
          <a:stretch/>
        </p:blipFill>
        <p:spPr>
          <a:xfrm>
            <a:off x="324000" y="3500280"/>
            <a:ext cx="3895560" cy="27799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8" descr="C:\Users\Пользователь\Pictures\Рисунок3.jpg"/>
          <p:cNvPicPr/>
          <p:nvPr/>
        </p:nvPicPr>
        <p:blipFill>
          <a:blip r:embed="rId3"/>
          <a:stretch/>
        </p:blipFill>
        <p:spPr>
          <a:xfrm>
            <a:off x="4932360" y="549360"/>
            <a:ext cx="3902040" cy="25970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9" descr="C:\Users\Пользователь\Pictures\Рисунок2.jpg"/>
          <p:cNvPicPr/>
          <p:nvPr/>
        </p:nvPicPr>
        <p:blipFill>
          <a:blip r:embed="rId4"/>
          <a:stretch/>
        </p:blipFill>
        <p:spPr>
          <a:xfrm>
            <a:off x="324000" y="549360"/>
            <a:ext cx="4054320" cy="259560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820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3)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ho was in charge of Peter and Paul Fortress construction?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Text Box 3"/>
          <p:cNvSpPr/>
          <p:nvPr/>
        </p:nvSpPr>
        <p:spPr>
          <a:xfrm>
            <a:off x="990720" y="98100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a) Zotov             b) Narishkin           c) Menshikov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Text Box 4"/>
          <p:cNvSpPr/>
          <p:nvPr/>
        </p:nvSpPr>
        <p:spPr>
          <a:xfrm>
            <a:off x="380880" y="16002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4)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How many bastions does it  have?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Text Box 5"/>
          <p:cNvSpPr/>
          <p:nvPr/>
        </p:nvSpPr>
        <p:spPr>
          <a:xfrm>
            <a:off x="0" y="228600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)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10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b) 8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c) 6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Text Box 7"/>
          <p:cNvSpPr/>
          <p:nvPr/>
        </p:nvSpPr>
        <p:spPr>
          <a:xfrm>
            <a:off x="2843280" y="3500280"/>
            <a:ext cx="304776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a)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the south-easter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b) the norther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c) the south-western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Text Box 8"/>
          <p:cNvSpPr/>
          <p:nvPr/>
        </p:nvSpPr>
        <p:spPr>
          <a:xfrm>
            <a:off x="304920" y="525780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)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How long time did it take to build it?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Text Box 9"/>
          <p:cNvSpPr/>
          <p:nvPr/>
        </p:nvSpPr>
        <p:spPr>
          <a:xfrm>
            <a:off x="838080" y="59436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a)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4 summer month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b) 3 month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c) one year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Text Box 6"/>
          <p:cNvSpPr/>
          <p:nvPr/>
        </p:nvSpPr>
        <p:spPr>
          <a:xfrm>
            <a:off x="380880" y="2819520"/>
            <a:ext cx="746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5) Which one is named after Peter the Great?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3" descr="C:\Users\Пользователь\Pictures\Рисунок38.jpg"/>
          <p:cNvPicPr/>
          <p:nvPr/>
        </p:nvPicPr>
        <p:blipFill>
          <a:blip r:embed="rId1"/>
          <a:stretch/>
        </p:blipFill>
        <p:spPr>
          <a:xfrm>
            <a:off x="179280" y="333360"/>
            <a:ext cx="8785440" cy="614376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395280" y="54936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7) What “Strelka” supposed to be at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eter’s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imes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)  a place where official buildings should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ave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een built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)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place where Peter’s associates and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presentatives of aristocracy supposed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iv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)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place where a garden should have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een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sign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circle/>
  </p:transition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898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1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898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898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10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898" fill="hold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3" descr="C:\Users\Пользователь\Pictures\Рисунок39.jpg"/>
          <p:cNvPicPr/>
          <p:nvPr/>
        </p:nvPicPr>
        <p:blipFill>
          <a:blip r:embed="rId1"/>
          <a:stretch/>
        </p:blipFill>
        <p:spPr>
          <a:xfrm>
            <a:off x="0" y="549360"/>
            <a:ext cx="9169560" cy="540072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horz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324000" y="134136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8) The construction of Saint Petersburg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arted when three fortifications were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nished. What were they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circl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 Box 5"/>
          <p:cNvSpPr/>
          <p:nvPr/>
        </p:nvSpPr>
        <p:spPr>
          <a:xfrm>
            <a:off x="685800" y="5791320"/>
            <a:ext cx="807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ronshtadt, Peter and Paul Fortress, Admiralteiskaya Fortress that protected Saint Petersburg form the South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8" name="Picture 4" descr="C:\Users\Пользователь\Pictures\Рисунок40.jpg"/>
          <p:cNvPicPr/>
          <p:nvPr/>
        </p:nvPicPr>
        <p:blipFill>
          <a:blip r:embed="rId1"/>
          <a:stretch/>
        </p:blipFill>
        <p:spPr>
          <a:xfrm>
            <a:off x="468360" y="189000"/>
            <a:ext cx="8207280" cy="547344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7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568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9) What kind of Fortress was Kronshtadt?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was the main aim of its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struction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strips dir="rd"/>
  </p:transition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10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898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5" descr="C:\Users\Пользователь\Pictures\Рисунок41.jpg"/>
          <p:cNvPicPr/>
          <p:nvPr/>
        </p:nvPicPr>
        <p:blipFill>
          <a:blip r:embed="rId1"/>
          <a:stretch/>
        </p:blipFill>
        <p:spPr>
          <a:xfrm>
            <a:off x="108000" y="260280"/>
            <a:ext cx="6003720" cy="557064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5"/>
          <p:cNvSpPr/>
          <p:nvPr/>
        </p:nvSpPr>
        <p:spPr>
          <a:xfrm>
            <a:off x="6012000" y="1484280"/>
            <a:ext cx="267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Text Box 6"/>
          <p:cNvSpPr/>
          <p:nvPr/>
        </p:nvSpPr>
        <p:spPr>
          <a:xfrm>
            <a:off x="6084720" y="1268280"/>
            <a:ext cx="2462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t was the sea fortress that protected the city from the sout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diamond/>
  </p:transition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4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395280" y="62064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0) What is considered the architectural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ymbol and the core of the capital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1) Why is it considered to be an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utstanding monument of industrial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rchitecture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circl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11640" y="2276640"/>
            <a:ext cx="2663640" cy="28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30 – Admiralty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31 – it was shipbuilding shipyar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5" name="Picture 4" descr="C:\Users\Пользователь\Pictures\Рисунок42.jpg"/>
          <p:cNvPicPr/>
          <p:nvPr/>
        </p:nvPicPr>
        <p:blipFill>
          <a:blip r:embed="rId1"/>
          <a:stretch/>
        </p:blipFill>
        <p:spPr>
          <a:xfrm>
            <a:off x="324000" y="333360"/>
            <a:ext cx="5248080" cy="5981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10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1000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5" descr="C:\Users\Пользователь\Pictures\Рисунок6.jpg"/>
          <p:cNvPicPr/>
          <p:nvPr/>
        </p:nvPicPr>
        <p:blipFill>
          <a:blip r:embed="rId1"/>
          <a:stretch/>
        </p:blipFill>
        <p:spPr>
          <a:xfrm>
            <a:off x="250920" y="1268280"/>
            <a:ext cx="3109680" cy="42800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" descr="C:\Users\Пользователь\Pictures\Рисунок7.jpg"/>
          <p:cNvPicPr/>
          <p:nvPr/>
        </p:nvPicPr>
        <p:blipFill>
          <a:blip r:embed="rId2"/>
          <a:stretch/>
        </p:blipFill>
        <p:spPr>
          <a:xfrm>
            <a:off x="3995640" y="189000"/>
            <a:ext cx="4835520" cy="31352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7" descr="C:\Users\Пользователь\Pictures\Рисунок8.jpg"/>
          <p:cNvPicPr/>
          <p:nvPr/>
        </p:nvPicPr>
        <p:blipFill>
          <a:blip r:embed="rId3"/>
          <a:stretch/>
        </p:blipFill>
        <p:spPr>
          <a:xfrm>
            <a:off x="3995640" y="3429000"/>
            <a:ext cx="4816440" cy="321948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539640" y="33336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nusual funny monument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Saint Petersbur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is this monument devoted to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is the origin of its name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circle/>
  </p:transition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10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898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1000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898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1000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898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1000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898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4" descr="C:\Users\Пользователь\Pictures\Рисунок43.jpg"/>
          <p:cNvPicPr/>
          <p:nvPr/>
        </p:nvPicPr>
        <p:blipFill>
          <a:blip r:embed="rId1"/>
          <a:stretch/>
        </p:blipFill>
        <p:spPr>
          <a:xfrm>
            <a:off x="0" y="100080"/>
            <a:ext cx="6727680" cy="448128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5" descr="C:\Users\Пользователь\Pictures\Рисунок44.jpg"/>
          <p:cNvPicPr/>
          <p:nvPr/>
        </p:nvPicPr>
        <p:blipFill>
          <a:blip r:embed="rId2"/>
          <a:stretch/>
        </p:blipFill>
        <p:spPr>
          <a:xfrm>
            <a:off x="5715000" y="2349360"/>
            <a:ext cx="3429000" cy="450864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179280" y="259920"/>
            <a:ext cx="8785440" cy="648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 1885 in the building on the other side of Fontanka river according to the initiative of Prince Peter Oldenburgski,  Higher Law Educational Establishment was opened. Its students wore a special uniform – yellow green form and deer-skin cap (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ыжиковая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шапка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). Guardsmen officers (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гвардейские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фицеры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) named them чижики-пыжики. In 1994 the monutment in honour to Chighik-Pighik during the  festival “Golden Ostap” was opened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t was stolen seven times but every time it was returned back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t is considered that if you throw down a coin and it falls onto the stone – your wish will come true. Or if a groom puts down a glass filled with a drink , to a leg of which a rope is tired and  touches the beak of the bird, his marriage will be extremely happy if the glass doesn’t break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pull dir="r"/>
  </p:transition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10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898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10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898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10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898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This writer was born in Ukrain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He wrote the story, named as a part of human fac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strips dir="ru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76720" y="620280"/>
            <a:ext cx="4067280" cy="576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«Major`s Kovalev Nose»</a:t>
            </a:r>
            <a:br>
              <a:rPr sz="2400"/>
            </a:b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This monument devoted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 to character of Gogol`s «Nose». 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It is made of pink ukrainian marble 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(from Gogol`s motherland) 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It was stolen in 2002, and 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found  next year, in 2003. 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This monument is situated on 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Voznesensky avenue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3" name="Picture 4" descr="C:\Users\Пользователь\Pictures\Рисунок45.jpg"/>
          <p:cNvPicPr/>
          <p:nvPr/>
        </p:nvPicPr>
        <p:blipFill>
          <a:blip r:embed="rId1"/>
          <a:stretch/>
        </p:blipFill>
        <p:spPr>
          <a:xfrm>
            <a:off x="119160" y="538200"/>
            <a:ext cx="4717800" cy="520524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3"/>
  </p:transition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9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o you remember any other symbols of SPb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0" y="234936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are the names of two last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ridges shown in video-clip to the song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“My city’ (Elena Vaenga)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strips dir="rd"/>
  </p:transition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10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898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10" descr="C:\Users\Пользователь\Pictures\Рисунок11.jpg"/>
          <p:cNvPicPr/>
          <p:nvPr/>
        </p:nvPicPr>
        <p:blipFill>
          <a:blip r:embed="rId1"/>
          <a:stretch/>
        </p:blipFill>
        <p:spPr>
          <a:xfrm>
            <a:off x="4572000" y="1700280"/>
            <a:ext cx="4572000" cy="31003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9" descr="C:\Users\Пользователь\Pictures\Рисунок10.jpg"/>
          <p:cNvPicPr/>
          <p:nvPr/>
        </p:nvPicPr>
        <p:blipFill>
          <a:blip r:embed="rId2"/>
          <a:stretch/>
        </p:blipFill>
        <p:spPr>
          <a:xfrm>
            <a:off x="0" y="3429000"/>
            <a:ext cx="4352760" cy="32608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8" descr="C:\Users\Пользователь\Pictures\Рисунок9.jpg"/>
          <p:cNvPicPr/>
          <p:nvPr/>
        </p:nvPicPr>
        <p:blipFill>
          <a:blip r:embed="rId3"/>
          <a:stretch/>
        </p:blipFill>
        <p:spPr>
          <a:xfrm>
            <a:off x="0" y="0"/>
            <a:ext cx="4356000" cy="328140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0560" y="2781360"/>
            <a:ext cx="585720" cy="47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Rectangle 8"/>
          <p:cNvSpPr/>
          <p:nvPr/>
        </p:nvSpPr>
        <p:spPr>
          <a:xfrm>
            <a:off x="108000" y="6165720"/>
            <a:ext cx="5857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Rectangle 9"/>
          <p:cNvSpPr/>
          <p:nvPr/>
        </p:nvSpPr>
        <p:spPr>
          <a:xfrm>
            <a:off x="4643280" y="4149720"/>
            <a:ext cx="58608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5" descr="C:\Users\Пользователь\Pictures\Рисунок12.jpg"/>
          <p:cNvPicPr/>
          <p:nvPr/>
        </p:nvPicPr>
        <p:blipFill>
          <a:blip r:embed="rId1"/>
          <a:stretch/>
        </p:blipFill>
        <p:spPr>
          <a:xfrm>
            <a:off x="250920" y="404640"/>
            <a:ext cx="4694040" cy="30178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C:\Users\Пользователь\Pictures\Рисунок13.jpg"/>
          <p:cNvPicPr/>
          <p:nvPr/>
        </p:nvPicPr>
        <p:blipFill>
          <a:blip r:embed="rId2"/>
          <a:stretch/>
        </p:blipFill>
        <p:spPr>
          <a:xfrm>
            <a:off x="250920" y="3573360"/>
            <a:ext cx="4736880" cy="29750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7" descr="C:\Users\Пользователь\Pictures\Рисунок14.jpg"/>
          <p:cNvPicPr/>
          <p:nvPr/>
        </p:nvPicPr>
        <p:blipFill>
          <a:blip r:embed="rId3"/>
          <a:stretch/>
        </p:blipFill>
        <p:spPr>
          <a:xfrm>
            <a:off x="5048280" y="1628640"/>
            <a:ext cx="4095720" cy="29196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1) What are the symbols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 of SPb</a:t>
            </a: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cover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5003280" y="1196640"/>
            <a:ext cx="403236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gilded Angel weather vane with a cros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6" name="Picture 4" descr="C:\Users\Пользователь\Pictures\Рисунок15.jpg"/>
          <p:cNvPicPr/>
          <p:nvPr/>
        </p:nvPicPr>
        <p:blipFill>
          <a:blip r:embed="rId1"/>
          <a:stretch/>
        </p:blipFill>
        <p:spPr>
          <a:xfrm>
            <a:off x="539640" y="404640"/>
            <a:ext cx="4032360" cy="599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42920" y="188640"/>
            <a:ext cx="1729080" cy="7189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bal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6803640" y="6016320"/>
            <a:ext cx="2048040" cy="84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 ship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9" name="Picture 6" descr="C:\Users\Пользователь\Pictures\Рисунок16.jpg"/>
          <p:cNvPicPr/>
          <p:nvPr/>
        </p:nvPicPr>
        <p:blipFill>
          <a:blip r:embed="rId1"/>
          <a:stretch/>
        </p:blipFill>
        <p:spPr>
          <a:xfrm>
            <a:off x="0" y="0"/>
            <a:ext cx="4950000" cy="63817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7" descr="C:\Users\Пользователь\Pictures\Рисунок17.jpg"/>
          <p:cNvPicPr/>
          <p:nvPr/>
        </p:nvPicPr>
        <p:blipFill>
          <a:blip r:embed="rId2"/>
          <a:stretch/>
        </p:blipFill>
        <p:spPr>
          <a:xfrm>
            <a:off x="4995720" y="1341360"/>
            <a:ext cx="4148280" cy="4592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6T12:08:37Z</dcterms:created>
  <dc:creator>Admin</dc:creator>
  <dc:description/>
  <dc:language>en-US</dc:language>
  <cp:lastModifiedBy>Пользователь</cp:lastModifiedBy>
  <dcterms:modified xsi:type="dcterms:W3CDTF">2011-08-12T10:53:00Z</dcterms:modified>
  <cp:revision>172</cp:revision>
  <dc:subject/>
  <dc:title>Слайд 1</dc:title>
</cp:coreProperties>
</file>