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484-A828-4F4E-B5BC-3DCBF971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3FFB-8D96-4F60-AD36-F64D8D52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0F3-1E8A-4958-B19A-1B58AFEE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E87-499F-4D3A-A2F3-695E1632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FBA-3755-4E6E-8A2D-4B818A38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2F1-0F5E-489F-9CAA-6888532E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746-4FCB-49F2-8EFE-8123F7EC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B1C-C049-4ED1-83A2-8D32C2A5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1A60-931D-493D-862F-921512D2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ED2-88BA-4DF5-945A-3CE0FE21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1DF-60D5-471A-9CF7-14B51C97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ECD-A908-441D-8C68-A83CCB1F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C945-06C0-4482-BBF1-DD4B7B58F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248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 Ну, способный, способный, только отстань! У меня голова разболелась. Сочиняй так, чтобы был смысл и рифма. Вот тебе и стихи. 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Братцы, что он про меня сочиняет? Никакого холодного утюга я не глотал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 Это потому, что ты к моей музыке ещё не привык. Вот привыкнешь, и уши не станут боле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 Садись, пожалуйста, устраивайся поудобнее. Места на воздушном шаре всем хват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До свидания, братцы! – закричал он. – Мы улетаем в далёкие края. Через недельку вернёмся обратно. До свидани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5616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889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549360"/>
            <a:ext cx="33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87640" y="1268280"/>
            <a:ext cx="3313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8247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5472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4103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 Ты, Незнайка, видно больной. У тебя что-то с глазами случилось. Когда это ты видел, чтоб у меня вместо носа был градусник? Придётся тебе на ночь касторки да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0:58:07Z</dcterms:created>
  <dc:creator>User</dc:creator>
  <dc:description/>
  <dc:language>en-US</dc:language>
  <cp:lastModifiedBy>User</cp:lastModifiedBy>
  <dcterms:modified xsi:type="dcterms:W3CDTF">2011-03-08T16:18:28Z</dcterms:modified>
  <cp:revision>4</cp:revision>
  <dc:subject/>
  <dc:title>Слайд 1</dc:title>
</cp:coreProperties>
</file>