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66C-6C6A-4C46-883D-5DC88168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568-E8CF-400C-8C75-5FA35C5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7E9-1A55-4A74-A6BF-5B4994E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8F4-875E-4B21-92D5-10B65951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A96-C4F8-4178-A57A-D138310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421-EBA6-446D-BDD7-E29E161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4ED-28E1-47C8-AA4B-8D0AE78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B3C-5407-4772-ACC2-11B38B6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168-CADE-46B8-BE49-EFF5F041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E32-95C0-4FF7-9FA2-530EE397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0EA-A49C-4675-AE2D-6DE8F82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A4D-F94F-4ADF-8C04-9647934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D17-8AFF-48C1-AAF3-3B7F6316E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248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Ну, способный, способный, только отстань! У меня голова разболелась. Сочиняй так, чтобы был смысл и рифма. Вот тебе и стихи. 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ратцы, что он про меня сочиняет? Никакого холодного утюга я не глота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Это потому, что ты к моей музыке ещё не привык. Вот привыкнешь, и уши не станут боле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Садись, пожалуйста, устраивайся поудобнее. Места на воздушном шаре всем хват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До свидания, братцы! – закричал он. – Мы улетаем в далёкие края. Через недельку вернёмся обратно. До свидани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5616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8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33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313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824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47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103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Ты, Незнайка, видно больной. У тебя что-то с глазами случилось. Когда это ты видел, чтоб у меня вместо носа был градусник? Придётся тебе на ночь касторки 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58:07Z</dcterms:created>
  <dc:creator>User</dc:creator>
  <dc:description/>
  <dc:language>en-US</dc:language>
  <cp:lastModifiedBy>User</cp:lastModifiedBy>
  <dcterms:modified xsi:type="dcterms:W3CDTF">2011-03-08T16:18:28Z</dcterms:modified>
  <cp:revision>4</cp:revision>
  <dc:subject/>
  <dc:title>Слайд 1</dc:title>
</cp:coreProperties>
</file>