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6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50AD2-1181-452B-838B-017B53C4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6B5D-5DFD-4637-9A43-58D17CD7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EA70-C100-45EE-8E41-94FC9E3A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A409-5F66-4C9F-A92B-DE26437D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1514-6ABD-47E0-B6B1-7651E344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2C39-5E29-4B6F-B98A-31587BC4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7B23-1CE3-44B0-A955-9B281E78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CF6D-87F8-4B71-8A78-CDA49171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5E08-8288-4BBF-8BD9-B3605A0A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1608-B982-4070-9273-16F3A218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4167-E4BA-4D00-91B1-C7100D9D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C259-5314-4E19-852C-FD3F5EB2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336E-8E82-431B-8920-AEF2709F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F409-B3A6-41C1-8417-E4BD2D5A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AC0E-AEBA-429E-9A8C-516864DD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E69D-B6D4-4659-A164-8637B8A6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165A-8F44-44AD-9397-BCA1EE2B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C1C56-444C-40E8-BF77-CA6658B5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7B94B-456E-4C94-9B78-17842032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ABD61-9E90-4395-B81A-23CD5D43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0B477-9EA8-42EA-B52E-19E6F0F1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4649E-E23C-47DC-8930-483A4BC7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ABC2A-F4E2-42CA-B017-F84E641F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DBA07-E5C1-46F1-BAC1-FC72B33E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9F8ED-08CE-40C3-9E7F-39A0CE5A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6AE4C-7E5A-4D17-B7D8-C830DD49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7B97-0437-4B1C-8250-29697A9A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D07BD-149B-4582-90F7-7CC35E8B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F5C25-8309-49DC-8302-6BA5D31D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39CAA-BB3E-4042-A1FA-D99A723A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AC749-EED1-4BFB-993C-108DBC04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F34D0-B96E-4D22-8E76-CB775C10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5C6CD-1C2A-4538-B0AB-DC028124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B807-DC4F-45F4-82E9-992515C8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6D4E1-B6D9-42CE-9AD1-E6D840A2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2D9C9-27E3-4DF0-B06F-FBEAAC1A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0C913-AAA0-4C11-8AEA-0FFDF304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B9BFC-AEB9-4051-BFC1-FA844B6B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86466-C04F-4842-89FC-023A287B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A4A8B-C534-4F50-83B7-09105418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F246D-C0C9-416A-827A-BF48BF92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94F20-3BA5-4136-BA99-490B1073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D719-9150-4334-BCFA-D91E8E95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3473-2938-4358-9476-07CD9DC6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77C6A-812C-4ECC-A86A-EDE3904B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4B4B-06E9-4834-984B-797E6DE4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69C3-2E1E-4AAF-B91C-44C92CE5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F3A2-E937-4EF6-BC14-939BA0BF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14DF-E525-4E83-8900-E1A1439297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CEDC-F585-43B4-A1A6-C83C2BA75F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DC43-E03B-4429-BF4A-1A6B38D1C31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05AB-086C-40A3-85F9-750066B6BAD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12.avi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aif.by/media/k2/items/cache/25da67824c9f1869e8ef3eacb5d2ced0_XL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 rot="21327600">
            <a:off x="614160" y="1353600"/>
            <a:ext cx="79880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Физика - это нау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нимать природу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/>
          <p:nvPr/>
        </p:nvSpPr>
        <p:spPr>
          <a:xfrm rot="21225000">
            <a:off x="5003640" y="48160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Э. Роджер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акового объема тела – стеклянное и стальное – опущены в воду. Одинаковы ли выталкивающие силы, действующие на н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>
            <a:lum contrast="24000"/>
          </a:blip>
          <a:srcRect l="0" t="0" r="0" b="16420"/>
          <a:stretch/>
        </p:blipFill>
        <p:spPr>
          <a:xfrm>
            <a:off x="2340000" y="3645000"/>
            <a:ext cx="4392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53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изменится выталкивающая сила на данное тело при погружении его в жидкости на разную глуби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268360" y="3573360"/>
            <a:ext cx="45370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686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ится ли выталкивающая сила, если брусок, находящийся в жидкости, перевести из положени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положение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rcRect l="-3124" t="0" r="6269" b="0"/>
          <a:stretch/>
        </p:blipFill>
        <p:spPr>
          <a:xfrm>
            <a:off x="2124000" y="3068640"/>
            <a:ext cx="4896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964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вешенные к коромыслу весов одинаковые шары погрузили в жидкость сначала так, как показано на рисунке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 затем так, как показано на рисунке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В каком случае равновесие весов нарушится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rcRect l="7125" t="4230" r="0" b="0"/>
          <a:stretch/>
        </p:blipFill>
        <p:spPr>
          <a:xfrm>
            <a:off x="539640" y="3400560"/>
            <a:ext cx="7993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360" y="1125360"/>
            <a:ext cx="4176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сок стального рельса находится на дне реки. Его приподняли и поставили вертикально. Изменилась ли при этом действующая на него выталкивающая сила, если при подъеме часть рельса окажется над вод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50920" y="2492280"/>
            <a:ext cx="446400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40096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рхимедова с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1867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50920" y="836640"/>
          <a:ext cx="8688240" cy="5808600"/>
        </p:xfrm>
        <a:graphic>
          <a:graphicData uri="http://schemas.openxmlformats.org/drawingml/2006/table">
            <a:tbl>
              <a:tblPr/>
              <a:tblGrid>
                <a:gridCol w="1942920"/>
                <a:gridCol w="1924200"/>
                <a:gridCol w="1879560"/>
                <a:gridCol w="2941560"/>
              </a:tblGrid>
              <a:tr h="717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ждом столбце таблицы выберите верный, на ваш взгляд, ответ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Единица изме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и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l-GR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ρ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весы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ru-RU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тр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l-GR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ρ</a:t>
                      </a:r>
                      <a:r>
                        <a:rPr b="0" lang="ru-RU" sz="3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r>
                        <a:rPr b="0" lang="ru-RU" sz="3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маномет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П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динамомет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к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</a:t>
                      </a:r>
                      <a:r>
                        <a:rPr b="0" lang="el-GR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ρ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баромет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l-GR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ρ</a:t>
                      </a:r>
                      <a:r>
                        <a:rPr b="0" lang="ru-RU" sz="3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r>
                        <a:rPr b="0" lang="ru-RU" sz="3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секундоме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41" name="Rectangle 5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0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3"/>
          <p:cNvSpPr/>
          <p:nvPr/>
        </p:nvSpPr>
        <p:spPr>
          <a:xfrm>
            <a:off x="0" y="10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6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49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ериментальное 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184464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Опыт «Картезианский водолаз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56908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ок интересны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я все по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ок интересны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 не все было поня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ок неинтер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я мало что по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20000" y="981000"/>
            <a:ext cx="1079280" cy="360360"/>
          </a:xfrm>
          <a:prstGeom prst="rect">
            <a:avLst/>
          </a:prstGeom>
          <a:solidFill>
            <a:srgbClr val="fb03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20000" y="2781360"/>
            <a:ext cx="1079280" cy="360360"/>
          </a:xfrm>
          <a:prstGeom prst="rect">
            <a:avLst/>
          </a:prstGeom>
          <a:solidFill>
            <a:srgbClr val="17c7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4653000"/>
            <a:ext cx="1079280" cy="360360"/>
          </a:xfrm>
          <a:prstGeom prst="rect">
            <a:avLst/>
          </a:prstGeom>
          <a:solidFill>
            <a:srgbClr val="eaea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АРХИМЕДОВА  СИЛ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Res" descr=""/>
          <p:cNvPicPr/>
          <p:nvPr/>
        </p:nvPicPr>
        <p:blipFill>
          <a:blip r:embed="rId2"/>
          <a:stretch/>
        </p:blipFill>
        <p:spPr>
          <a:xfrm>
            <a:off x="2700360" y="4221000"/>
            <a:ext cx="3503520" cy="2637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846000" y="693720"/>
            <a:ext cx="207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химед (287-212 до н.э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1" descr="arhimed"/>
          <p:cNvPicPr/>
          <p:nvPr/>
        </p:nvPicPr>
        <p:blipFill>
          <a:blip r:embed="rId2"/>
          <a:stretch/>
        </p:blipFill>
        <p:spPr>
          <a:xfrm>
            <a:off x="1100160" y="1628640"/>
            <a:ext cx="6707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ЗАКОН  АРХИМ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515916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ла, выталкивающая целиком погруженное в жидкость или газ тело, равна весу жидкости или газа в объеме этого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3640" y="4437000"/>
            <a:ext cx="3095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4800" spc="-1" strike="noStrike" baseline="-25000">
                <a:solidFill>
                  <a:srgbClr val="00007d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7d"/>
                </a:solidFill>
                <a:latin typeface="Arial"/>
              </a:rPr>
              <a:t>= Р</a:t>
            </a:r>
            <a:r>
              <a:rPr b="0" lang="ru-RU" sz="4800" spc="-1" strike="noStrike" baseline="-25000">
                <a:solidFill>
                  <a:srgbClr val="00007d"/>
                </a:solidFill>
                <a:latin typeface="Arial"/>
              </a:rPr>
              <a:t>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Res" descr=""/>
          <p:cNvPicPr/>
          <p:nvPr/>
        </p:nvPicPr>
        <p:blipFill>
          <a:blip r:embed="rId2"/>
          <a:srcRect l="21166" t="0" r="21166" b="0"/>
          <a:stretch/>
        </p:blipFill>
        <p:spPr>
          <a:xfrm>
            <a:off x="5796000" y="1413000"/>
            <a:ext cx="2981160" cy="47527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5300640"/>
            <a:ext cx="4176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4800" spc="-1" strike="noStrike" baseline="-25000">
                <a:solidFill>
                  <a:srgbClr val="00007d"/>
                </a:solidFill>
                <a:latin typeface="Arial"/>
              </a:rPr>
              <a:t>A</a:t>
            </a:r>
            <a:r>
              <a:rPr b="0" lang="ru-RU" sz="4800" spc="-1" strike="noStrike">
                <a:solidFill>
                  <a:srgbClr val="00007d"/>
                </a:solidFill>
                <a:latin typeface="Arial"/>
              </a:rPr>
              <a:t> = g ρ</a:t>
            </a:r>
            <a:r>
              <a:rPr b="0" lang="ru-RU" sz="4800" spc="-1" strike="noStrike" baseline="-25000">
                <a:solidFill>
                  <a:srgbClr val="00007d"/>
                </a:solidFill>
                <a:latin typeface="Arial"/>
              </a:rPr>
              <a:t>ж</a:t>
            </a:r>
            <a:r>
              <a:rPr b="0" lang="ru-RU" sz="4800" spc="-1" strike="noStrike">
                <a:solidFill>
                  <a:srgbClr val="00007d"/>
                </a:solidFill>
                <a:latin typeface="Arial"/>
              </a:rPr>
              <a:t> V</a:t>
            </a:r>
            <a:r>
              <a:rPr b="0" lang="ru-RU" sz="4800" spc="-1" strike="noStrike" baseline="-25000">
                <a:solidFill>
                  <a:srgbClr val="00007d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9640" y="836640"/>
            <a:ext cx="828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1">
                                  <p:stCondLst>
                                    <p:cond delay="4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70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3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ЭКСПЕРИМЕНТИРУ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67564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снить, от каких величин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зависи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химедова сила, а от каких –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не завис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843280" y="3429000"/>
            <a:ext cx="3665520" cy="2749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227640" y="3357720"/>
            <a:ext cx="852480" cy="1466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1835280" y="5229360"/>
            <a:ext cx="18954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НАШИ  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8360" y="1628640"/>
          <a:ext cx="8229600" cy="1155960"/>
        </p:xfrm>
        <a:graphic>
          <a:graphicData uri="http://schemas.openxmlformats.org/drawingml/2006/table">
            <a:tbl>
              <a:tblPr/>
              <a:tblGrid>
                <a:gridCol w="3929040"/>
                <a:gridCol w="430056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Архимедова</a:t>
                      </a:r>
                      <a:r>
                        <a:rPr b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си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зависи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е зависи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95280" y="2852640"/>
            <a:ext cx="3960720" cy="3382920"/>
          </a:xfrm>
          <a:prstGeom prst="foldedCorner">
            <a:avLst>
              <a:gd name="adj" fmla="val 12500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ъе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отности жид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ъ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груженной част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2852640"/>
            <a:ext cx="3960720" cy="3238560"/>
          </a:xfrm>
          <a:prstGeom prst="foldedCorner">
            <a:avLst>
              <a:gd name="adj" fmla="val 12500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отност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рмы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лубины пог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ЛЕГЕНДА  ОБ  АРХИМЕ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rcRect l="2976" t="2352" r="2976" b="13330"/>
          <a:stretch/>
        </p:blipFill>
        <p:spPr>
          <a:xfrm>
            <a:off x="2340000" y="1557360"/>
            <a:ext cx="4440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6435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акой из опущенных в воду стальных шаров действует наибольшая выталкивающая си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>
            <a:lum contrast="18000"/>
          </a:blip>
          <a:srcRect l="2018" t="2376" r="8243" b="9901"/>
          <a:stretch/>
        </p:blipFill>
        <p:spPr>
          <a:xfrm>
            <a:off x="2411280" y="3213000"/>
            <a:ext cx="41767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8:00:58Z</dcterms:created>
  <dc:creator>user</dc:creator>
  <dc:description/>
  <dc:language>en-US</dc:language>
  <cp:lastModifiedBy>SamLab.ws</cp:lastModifiedBy>
  <dcterms:modified xsi:type="dcterms:W3CDTF">2011-08-13T13:28:36Z</dcterms:modified>
  <cp:revision>42</cp:revision>
  <dc:subject/>
  <dc:title>АРХИМЕДОВА  СИЛА</dc:title>
</cp:coreProperties>
</file>