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466A-D0E3-4AC9-AB0B-8E2EB73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FA5B-F36B-4F06-B4F3-276A7B6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8B85-075A-4A95-8432-32EAF4ED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DCC7-5CAD-48FD-B30B-994B58E8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61AA-D4E6-4363-B665-25C06B7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7AA7-39AC-4221-B9B6-F13D096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0B20-B237-4E35-BBCB-4D4BCF1D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476-EE68-42D1-BC85-75EDB28D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F49-410A-4CB9-9D7E-6C1AE6C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BEE5-A157-4641-86EC-C6CE1645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F803-CF2E-425E-AD90-62ADB037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0BB8-87C3-4CED-B3F5-08D58C84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3083-0F57-45A6-8E60-53A68CE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350E-A041-4A32-AABB-121D0CA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A3E-937C-4D56-BE14-35565E4F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7095-2957-49B6-8715-DB7F2B8F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6AB9-93C4-4B7B-A5D8-EC5346DC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1D76-39B5-429A-B49F-B7A6AA2A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C4F6-86A7-48D3-8848-BB9E59F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5443-8EE0-4DB6-9632-5FA5E014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B73A-43D0-449C-A3F2-164D5EF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02E8-2B10-4A18-8AA5-6D70CB4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E2FD-ED06-4BFA-B9E5-975DBB9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F99E-D164-4985-BC44-D1DC5636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EDCF-C62A-4AD6-BE71-D094406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B0E4-29B9-48C7-88A5-95201DD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EB8CF-0273-433F-9B6E-DB86DB3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73CC-9F1C-468A-A753-B872496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BB21-1EE3-41CB-ABF8-EA6F2DD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4A87-7364-4F1F-9A19-4D4C0FE1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9435-D8E2-4944-A70E-0AF12EF3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EECE-587F-4C32-9DDD-6B2A627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B2ED-F2A1-41A6-88E3-2D2EC0A6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ED16-0007-4FC9-AB28-D470D1C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8A67-9A8A-4C67-854B-51D02B5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1DB2-04F7-4C7B-A8A0-37C0A4E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F5B5-99FB-4FB0-BE42-791DBCDE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92EA-52A9-4E77-876F-4CCE134A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8EF2-302C-47D9-96C2-43B51FD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7036-5AE6-49E5-B124-9B0E6BC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84BB-7C18-4484-9B4E-DF00697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B9D4-FC66-4B59-936A-B0DFE031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3FB3-6D2E-4618-AA86-1DB26E2D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140F-6084-4DAF-BF50-981516E7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B68D-1E1B-426A-BCCE-3BD7052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AA9C-3093-4D42-89F1-1CDDA033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FF02-AF21-4BAA-844D-D37F657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FD0D-0BA4-4FA8-9173-25C99747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730E-A14B-4F10-940D-10E4BC989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156C-91AD-4249-A243-D36F90A1BA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59E8-4E96-42A4-A8C9-C6BDBB7146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B545-F209-489D-8A3F-181AE1C0AC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12.avi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aif.by/media/k2/items/cache/25da67824c9f1869e8ef3eacb5d2ced0_XL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21327600">
            <a:off x="614160" y="1353600"/>
            <a:ext cx="79880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Физика - это нау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имать природу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 rot="21225000">
            <a:off x="5003640" y="48160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. Родже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акового объема тела – стеклянное и стальное – опущены в воду. Одинаковы ли выталкивающие силы, действующие на н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>
            <a:lum contrast="24000"/>
          </a:blip>
          <a:srcRect l="0" t="0" r="0" b="16420"/>
          <a:stretch/>
        </p:blipFill>
        <p:spPr>
          <a:xfrm>
            <a:off x="2340000" y="3645000"/>
            <a:ext cx="439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менится выталкивающая сила на данное тело при погружении его в жидкости на разную глуб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45370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686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ится ли выталкивающая сила, если брусок, находящийся в жидкости, перевести из положени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положени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-3124" t="0" r="6269" b="0"/>
          <a:stretch/>
        </p:blipFill>
        <p:spPr>
          <a:xfrm>
            <a:off x="2124000" y="3068640"/>
            <a:ext cx="4896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шенные к коромыслу весов одинаковые шары погрузили в жидкость сначала так, как показано на рисунке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затем так, как показано на рисунке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 каком случае равновесие весов нарушится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7125" t="4230" r="0" b="0"/>
          <a:stretch/>
        </p:blipFill>
        <p:spPr>
          <a:xfrm>
            <a:off x="539640" y="3400560"/>
            <a:ext cx="7993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360" y="1125360"/>
            <a:ext cx="4176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сок стального рельса находится на дне реки. Его приподняли и поставили вертикально. Изменилась ли при этом действующая на него выталкивающая сила, если при подъеме часть рельса окажется над в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2492280"/>
            <a:ext cx="446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40096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рхимедова 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0920" y="836640"/>
          <a:ext cx="8688240" cy="5808600"/>
        </p:xfrm>
        <a:graphic>
          <a:graphicData uri="http://schemas.openxmlformats.org/drawingml/2006/table">
            <a:tbl>
              <a:tblPr/>
              <a:tblGrid>
                <a:gridCol w="1942920"/>
                <a:gridCol w="1924200"/>
                <a:gridCol w="1879560"/>
                <a:gridCol w="2941560"/>
              </a:tblGrid>
              <a:tr h="717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ждом столбце таблицы выберите верный, на ваш взгляд, ответ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и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вес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тр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ман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П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динам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к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баромет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l-GR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ρ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lang="ru-RU" sz="3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) секундоме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1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3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49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альное зад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84464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пыт «Картезианский водолаз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интерес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я вс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интерес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 не все было 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неинтер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 я мало что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20000" y="981000"/>
            <a:ext cx="1079280" cy="360360"/>
          </a:xfrm>
          <a:prstGeom prst="rect">
            <a:avLst/>
          </a:prstGeom>
          <a:solidFill>
            <a:srgbClr val="fb03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20000" y="2781360"/>
            <a:ext cx="1079280" cy="360360"/>
          </a:xfrm>
          <a:prstGeom prst="rect">
            <a:avLst/>
          </a:prstGeom>
          <a:solidFill>
            <a:srgbClr val="17c7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4653000"/>
            <a:ext cx="1079280" cy="360360"/>
          </a:xfrm>
          <a:prstGeom prst="rect">
            <a:avLst/>
          </a:prstGeom>
          <a:solidFill>
            <a:srgbClr val="eaea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АРХИМЕДОВА  СИЛ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Res" descr=""/>
          <p:cNvPicPr/>
          <p:nvPr/>
        </p:nvPicPr>
        <p:blipFill>
          <a:blip r:embed="rId2"/>
          <a:stretch/>
        </p:blipFill>
        <p:spPr>
          <a:xfrm>
            <a:off x="2700360" y="4221000"/>
            <a:ext cx="3503520" cy="263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46000" y="693720"/>
            <a:ext cx="207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 (287-212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arhimed"/>
          <p:cNvPicPr/>
          <p:nvPr/>
        </p:nvPicPr>
        <p:blipFill>
          <a:blip r:embed="rId2"/>
          <a:stretch/>
        </p:blipFill>
        <p:spPr>
          <a:xfrm>
            <a:off x="1100160" y="1628640"/>
            <a:ext cx="6707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ЗАКОН  АРХИ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15916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а, выталкивающая целиком погруженное в жидкость или газ тело, равна весу жидкости или газа в объеме эт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437000"/>
            <a:ext cx="309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7d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= Р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Res" descr=""/>
          <p:cNvPicPr/>
          <p:nvPr/>
        </p:nvPicPr>
        <p:blipFill>
          <a:blip r:embed="rId2"/>
          <a:srcRect l="21166" t="0" r="21166" b="0"/>
          <a:stretch/>
        </p:blipFill>
        <p:spPr>
          <a:xfrm>
            <a:off x="5796000" y="1413000"/>
            <a:ext cx="2981160" cy="47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5300640"/>
            <a:ext cx="417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0" lang="en-US" sz="4800" spc="-1" strike="noStrike" baseline="-25000">
                <a:solidFill>
                  <a:srgbClr val="00007d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 = g ρ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ж</a:t>
            </a:r>
            <a:r>
              <a:rPr b="0" lang="ru-RU" sz="4800" spc="-1" strike="noStrike">
                <a:solidFill>
                  <a:srgbClr val="00007d"/>
                </a:solidFill>
                <a:latin typeface="Arial"/>
              </a:rPr>
              <a:t> V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9640" y="836640"/>
            <a:ext cx="828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4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7000"/>
                            </p:stCondLst>
                            <p:childTnLst>
                              <p:par>
                                <p:cTn id="78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ЭКСПЕРИМЕНТИРУ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6756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, от каких величин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зависи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химедова сила, а от каких – 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 за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227640" y="3357720"/>
            <a:ext cx="852480" cy="1466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835280" y="5229360"/>
            <a:ext cx="189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НАШИ 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8360" y="1628640"/>
          <a:ext cx="8229600" cy="1155960"/>
        </p:xfrm>
        <a:graphic>
          <a:graphicData uri="http://schemas.openxmlformats.org/drawingml/2006/table">
            <a:tbl>
              <a:tblPr/>
              <a:tblGrid>
                <a:gridCol w="3929040"/>
                <a:gridCol w="430056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рхимедова</a:t>
                      </a: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авис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е зависи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95280" y="2852640"/>
            <a:ext cx="3960720" cy="3382920"/>
          </a:xfrm>
          <a:prstGeom prst="foldedCorner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тности жид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груженной ча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852640"/>
            <a:ext cx="3960720" cy="3238560"/>
          </a:xfrm>
          <a:prstGeom prst="foldedCorner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тност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рмы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лубины пог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ЛЕГЕНДА  ОБ  АРХИМ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2976" t="2352" r="2976" b="13330"/>
          <a:stretch/>
        </p:blipFill>
        <p:spPr>
          <a:xfrm>
            <a:off x="2340000" y="1557360"/>
            <a:ext cx="4440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43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кой из опущенных в воду стальных шаров действует наибольшая выталкивающая си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>
            <a:lum contrast="18000"/>
          </a:blip>
          <a:srcRect l="2018" t="2376" r="8243" b="9901"/>
          <a:stretch/>
        </p:blipFill>
        <p:spPr>
          <a:xfrm>
            <a:off x="2411280" y="3213000"/>
            <a:ext cx="4176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8:00:58Z</dcterms:created>
  <dc:creator>user</dc:creator>
  <dc:description/>
  <dc:language>en-US</dc:language>
  <cp:lastModifiedBy>SamLab.ws</cp:lastModifiedBy>
  <dcterms:modified xsi:type="dcterms:W3CDTF">2011-08-13T13:28:36Z</dcterms:modified>
  <cp:revision>42</cp:revision>
  <dc:subject/>
  <dc:title>АРХИМЕДОВА  СИЛА</dc:title>
</cp:coreProperties>
</file>