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9481-69BB-4691-9D1E-FB866B6CCB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76B6-3CB9-4EC1-9958-C72B58E77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C9A2-E802-4DF5-9384-C8F733DD72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6EDA-71B5-4F08-A705-AA710288EE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D756-25DB-447A-8067-E8F4B34537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EC31-A36D-4E7A-8602-7D1CFF95AD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404A-9A06-45EE-9021-A275AC6104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DDA8-3316-4BD1-823C-D57224414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B3C1-6811-4560-B027-453773C79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0CED-8677-471D-BB51-DB1609275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5009-4AD5-498F-865B-14F795DB7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D0B9-8FAE-4B6D-AA28-D3756EF784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7DA8-1A08-4007-B3EF-3E4D4578D6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9FD2-C051-4124-9EA0-6A2A2818F6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6B23-1680-4B1D-94C9-994392B6E3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2D7-1B81-45D7-9BCF-A2000767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FD2-23E6-421B-89B2-EDC2DDAD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437-9387-4320-B353-58257D46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C4E-B636-4566-813B-52C574FB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3E23-029E-4A43-A32C-C4390516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8258-7278-4279-A32C-B03DFFC5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BACE-B215-4442-810E-C44E7108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D719-D969-4BB8-96CB-3A91BF25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CE5F-AF23-4C00-B240-C2E10740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2747-E660-4BCD-BA4C-F22E745C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C521-1F42-4DF9-806D-3473D02B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ECF-75E4-4E14-AE71-DD8E9213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1262-32EC-498E-9C01-AEA0F0DE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905C-E00E-4A02-BAA8-FE0C3DB1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6F55-B328-4FA1-8AA1-C26E3FE7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5F71-154A-40A4-94DC-6D4FC384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EEBD-8774-48FC-BC8F-A2D63758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FB1-666D-40C8-A5E2-06E45D59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E07-DEF3-4632-8D6F-4AF8676C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695-E94F-4B4F-82CA-C791103B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358-169A-47F0-B10E-8A9EAEC0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6A2-B5AC-4087-8031-2158C7A8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C26-504F-4DF9-A2F4-B748B7E2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A34-C0FE-45D1-BBE4-CEB884EF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4DDF-8AB2-4B2E-AA65-7CD7345613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6941-7EA6-4C0F-BA8C-55232499EF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Pepsi" TargetMode="External"/><Relationship Id="rId2" Type="http://schemas.openxmlformats.org/officeDocument/2006/relationships/hyperlink" Target="http://ru.wikipedia.org/wiki/&#1051;&#1072;&#1074;&#1089;&#1072;&#1085;" TargetMode="External"/><Relationship Id="rId3" Type="http://schemas.openxmlformats.org/officeDocument/2006/relationships/hyperlink" Target="http://ru.wikipedia.org/wiki/&#1060;&#1072;&#1081;&#1083;:DrPepper_0.5l_PET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2;&#1072;-&#1050;&#1086;&#1083;&#1072;" TargetMode="External"/><Relationship Id="rId2" Type="http://schemas.openxmlformats.org/officeDocument/2006/relationships/hyperlink" Target="http://ru.wikipedia.org/wiki/PepsiCo" TargetMode="External"/><Relationship Id="rId3" Type="http://schemas.openxmlformats.org/officeDocument/2006/relationships/hyperlink" Target="http://ru.wikipedia.org/wiki/&#1053;&#1086;&#1074;&#1086;&#1088;&#1086;&#1089;&#1089;&#1080;&#1081;&#1089;&#1082;" TargetMode="External"/><Relationship Id="rId4" Type="http://schemas.openxmlformats.org/officeDocument/2006/relationships/hyperlink" Target="http://ru.wikipedia.org/wiki/&#1069;&#1092;&#1080;&#1086;&#1087;&#1080;&#1103;" TargetMode="External"/><Relationship Id="rId5" Type="http://schemas.openxmlformats.org/officeDocument/2006/relationships/hyperlink" Target="http://ru.wikipedia.org/wiki/&#1052;&#1099;&#1096;&#1077;&#1083;&#1086;&#1074;&#1082;&#1072;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Проект на тему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31640" y="3715920"/>
            <a:ext cx="68389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Изделия из пластик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Цветочные бусы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Ваз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549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з пластика также можно сделать и вазу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45788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режьте горлышко бутылки. Разрежьте бутылку на полоски, где-то до середины. Пришейте цветочки выборочно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лоски вдоль бутыл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Ваза готов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7" descr="SSL14575"/>
          <p:cNvPicPr/>
          <p:nvPr/>
        </p:nvPicPr>
        <p:blipFill>
          <a:blip r:embed="rId1"/>
          <a:stretch/>
        </p:blipFill>
        <p:spPr>
          <a:xfrm>
            <a:off x="4140360" y="1844640"/>
            <a:ext cx="453528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9930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История пластиковой бутыл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42960" y="1484280"/>
            <a:ext cx="76960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реди ёмкостей для разлития газированных напитков наибольшую популярность имеют пластиковые бутылки, вследствие низкой себестоимости производства. Такие бутылки, как правило, имеют больший объём по сравнению со стеклянными, и более безопасны за счёт упругости. Большую популярность пластиковые бутылки приобрели в быту и могут использоваться для различных нужд. Впервые пластиковая бутылка </a:t>
            </a:r>
            <a:r>
              <a:rPr b="0" lang="ru-RU" sz="2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Pepsi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 появилась на рынке США в 1970 году.  С 1973 применяются бутылки из </a:t>
            </a:r>
            <a:r>
              <a:rPr b="0" lang="ru-RU" sz="2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лавсана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 (ПЭТ-бутылки)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696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территории России пластиковые бутылки получили популярность после прихода на рынок безалкогольных напитков западных корпораций «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Кока-Кол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» и 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ПепсиКо</a:t>
            </a:r>
            <a:r>
              <a:rPr b="1" lang="ru-RU" sz="2000" spc="-1" strike="noStrike" u="sng">
                <a:solidFill>
                  <a:srgbClr val="00b200"/>
                </a:solidFill>
                <a:uFillTx/>
                <a:latin typeface="Comic Sans MS"/>
              </a:rPr>
              <a:t>л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Первый завод по производству лимонада впластиковых бутылках в СССР открыла компания «ПепсиКо» в 1974 году в 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Новороссийске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Пластиковая бутылка Dr. Pepp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ластиковые бутылки находят большое применение в домашнем хозяйстве. В странах третьего мира, где обычная европейская посуда и ёмкости редки, пластиковые ёмкости имеют существенный спрос, в 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Эфиопи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использованные бутылки продаются прямо на рынках. В странах Африки из сплющенных полуторолитровых бутылок делают сандалии. Из бутылок делают скворечники, 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мышеловк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, воронки и горшочки для рассады, используют  для защиты молодых ростков риса, вешают на забор в качестве пугала от ворон, а также используют в качестве водонепроницаемых колпаков на верхушках столб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85480" y="620640"/>
            <a:ext cx="4321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В Казахстане из пластиковой бутылки делают рукомойники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А в Индонезии — стабилизаторы для придания устойчивости рыбацким лодкам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В Монголии их сжигают в качестве жертвоприношения духам.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С 2000году в России научились делать из пластика декоративные изделия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4788000" y="1125360"/>
            <a:ext cx="3298680" cy="446436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5"/>
          <p:cNvSpPr/>
          <p:nvPr/>
        </p:nvSpPr>
        <p:spPr>
          <a:xfrm>
            <a:off x="3059280" y="5643720"/>
            <a:ext cx="5473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ластиковая бутылка Dr. Pep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076400" y="723960"/>
            <a:ext cx="3782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асиб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3924360" y="2492280"/>
            <a:ext cx="1295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3492360" y="4653000"/>
            <a:ext cx="511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63640" y="1125360"/>
            <a:ext cx="6121440" cy="489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omic Sans MS"/>
              </a:rPr>
              <a:t>Работу выполнила: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Comic Sans MS"/>
              </a:rPr>
              <a:t>Ученица 6 «А» класса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Comic Sans MS"/>
              </a:rPr>
              <a:t>МОУ «СОШ № 61»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Comic Sans MS"/>
              </a:rPr>
              <a:t>Ленинского района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Comic Sans MS"/>
              </a:rPr>
              <a:t>г. Саратова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Comic Sans MS"/>
              </a:rPr>
              <a:t>Кривкова Екатерина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Comic Sans MS"/>
              </a:rPr>
              <a:t>Руководитель: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Comic Sans MS"/>
              </a:rPr>
              <a:t>Пронина Татьяна Никоноровн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446960" cy="11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 так! Нам понадобитс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50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ветные бутыл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нурок или цветная лен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исер, бусин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итка и игол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вечка и спич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жни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6" descr="SSL14496"/>
          <p:cNvPicPr/>
          <p:nvPr/>
        </p:nvPicPr>
        <p:blipFill>
          <a:blip r:embed="rId1"/>
          <a:stretch/>
        </p:blipFill>
        <p:spPr>
          <a:xfrm>
            <a:off x="4140360" y="1628640"/>
            <a:ext cx="45241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428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начала отрежьте бутылке горлышко и дно( они нам понадобятся позже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лучившийся цилиндр разрежьте вдол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SSL14499"/>
          <p:cNvPicPr/>
          <p:nvPr/>
        </p:nvPicPr>
        <p:blipFill>
          <a:blip r:embed="rId1"/>
          <a:stretch/>
        </p:blipFill>
        <p:spPr>
          <a:xfrm>
            <a:off x="4068720" y="1484280"/>
            <a:ext cx="4464000" cy="5184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Шаг первы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SSL14502"/>
          <p:cNvPicPr/>
          <p:nvPr/>
        </p:nvPicPr>
        <p:blipFill>
          <a:blip r:embed="rId1"/>
          <a:stretch/>
        </p:blipFill>
        <p:spPr>
          <a:xfrm>
            <a:off x="0" y="1125360"/>
            <a:ext cx="5076720" cy="4392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148000" y="1844280"/>
            <a:ext cx="38494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ерь из получившегося цилиндра вырежьте цветы и лепест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к же у донышек подрежьте уголки , чтобы получился большой цвето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971280" y="18864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Шаг второ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40669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ерь проткните середину в каждом цветке и лепестке шил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удьте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ОСТОРОЖНЫ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яя это действи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7" descr="SSL14510"/>
          <p:cNvPicPr/>
          <p:nvPr/>
        </p:nvPicPr>
        <p:blipFill>
          <a:blip r:embed="rId1"/>
          <a:stretch/>
        </p:blipFill>
        <p:spPr>
          <a:xfrm>
            <a:off x="4132440" y="2276640"/>
            <a:ext cx="4632120" cy="4392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6920" y="25992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Шаг трети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932360" y="1700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Работа с огнем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торожно над огнем подержите несколько секунд по одной штучке лепестки и листь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7" descr="SSL14540"/>
          <p:cNvPicPr/>
          <p:nvPr/>
        </p:nvPicPr>
        <p:blipFill>
          <a:blip r:embed="rId1"/>
          <a:stretch/>
        </p:blipFill>
        <p:spPr>
          <a:xfrm>
            <a:off x="179280" y="1125360"/>
            <a:ext cx="4608720" cy="4464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Шаг четверты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Шаг пяты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едините лепестки с листья нитко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середину вставьт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усин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SSL14545"/>
          <p:cNvPicPr/>
          <p:nvPr/>
        </p:nvPicPr>
        <p:blipFill>
          <a:blip r:embed="rId1"/>
          <a:stretch/>
        </p:blipFill>
        <p:spPr>
          <a:xfrm>
            <a:off x="3924360" y="1197000"/>
            <a:ext cx="5219640" cy="5024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Шаг шестой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59280" y="1916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лучившиеся цветы пришейте к шнурку или цветной лент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Бусы с цветами готовы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7" descr="SSL14551"/>
          <p:cNvPicPr/>
          <p:nvPr/>
        </p:nvPicPr>
        <p:blipFill>
          <a:blip r:embed="rId1"/>
          <a:stretch/>
        </p:blipFill>
        <p:spPr>
          <a:xfrm>
            <a:off x="250920" y="1349280"/>
            <a:ext cx="4608360" cy="40705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6:47:43Z</dcterms:created>
  <dc:creator>Ирина</dc:creator>
  <dc:description/>
  <dc:language>en-US</dc:language>
  <cp:lastModifiedBy>Татьяна</cp:lastModifiedBy>
  <dcterms:modified xsi:type="dcterms:W3CDTF">2011-08-14T13:57:36Z</dcterms:modified>
  <cp:revision>21</cp:revision>
  <dc:subject/>
  <dc:title>Проект на тему:</dc:title>
</cp:coreProperties>
</file>