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490-9D7B-4824-AEBC-83B559DC4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B369-FCD3-4619-B72D-DD84D8EDF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3EBE-772E-4AC0-85D9-EDE432A48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C6EB-E830-44C3-B3F0-FBE2E8FD2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D42-365A-4ECF-9F81-D28D4C751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CAEE-B48C-4B56-AC9F-AC67E1370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98C-A28C-42CB-AF4C-B73DC21B4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EB49-BF84-476F-B0CB-6AF5810EB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A9D3-AAA1-408F-8E53-D8AEECEE1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3BEB-93B5-4DF0-8D6B-12E81E951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F24-BE5E-48A3-A032-1DF7E14A4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BBB-A117-42CD-A359-BFC970676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0E75-E06C-4B39-A50A-0841D288E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6E93-2D12-45BF-9C79-619DEADC0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FF22-68D1-485E-83CF-794738B26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5B4-1B36-42A9-BCD2-8C2712BE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947-293B-4C94-BA2F-92534484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6D9-010D-49C2-988C-DECE35B0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815-9E91-4E74-90CC-A72A8B07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9E8-8060-42E5-9438-C270D820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278-9FF7-4391-99CC-A6A87F8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E887-AA16-4C09-913F-718783A7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AFC1-9677-4904-896D-D8AF06B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2CDA-3FE8-4F89-BD73-5AF5451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5DBC-C33D-41D2-B825-FB82906D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1DE-638C-499B-AABB-C4E3F9F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F96-1E3C-4B4F-B66F-CAA5B1B8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AF7D-FC28-4936-BC09-082912F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FC0-EBF0-430F-AC2F-81FC9D0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054-9398-4FB3-A66E-691D45D6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25A9-4680-45D7-9B74-95059E38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AB56-FFC7-41C5-A8C8-EB6CBA4C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290-D301-4BEA-8804-86E11859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B63-4648-48F3-91F0-ABD6003F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679-7EEF-45A8-BFE2-2C9AEC5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65F-60F1-41D9-8B34-32BDE4D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D6F-ACB7-4012-B8EC-318C0B4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4F-F400-4FAC-8836-40D48C4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153-FED1-4E12-986A-BFE35A1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945-110D-44C2-9FB9-08D560D147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C8B-67EF-40FC-B82B-623EF84D16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Pepsi" TargetMode="External"/><Relationship Id="rId2" Type="http://schemas.openxmlformats.org/officeDocument/2006/relationships/hyperlink" Target="http://ru.wikipedia.org/wiki/&#1051;&#1072;&#1074;&#1089;&#1072;&#1085;" TargetMode="External"/><Relationship Id="rId3" Type="http://schemas.openxmlformats.org/officeDocument/2006/relationships/hyperlink" Target="http://ru.wikipedia.org/wiki/&#1060;&#1072;&#1081;&#1083;:DrPepper_0.5l_PET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2;&#1072;-&#1050;&#1086;&#1083;&#1072;" TargetMode="External"/><Relationship Id="rId2" Type="http://schemas.openxmlformats.org/officeDocument/2006/relationships/hyperlink" Target="http://ru.wikipedia.org/wiki/PepsiCo" TargetMode="External"/><Relationship Id="rId3" Type="http://schemas.openxmlformats.org/officeDocument/2006/relationships/hyperlink" Target="http://ru.wikipedia.org/wiki/&#1053;&#1086;&#1074;&#1086;&#1088;&#1086;&#1089;&#1089;&#1080;&#1081;&#1089;&#1082;" TargetMode="External"/><Relationship Id="rId4" Type="http://schemas.openxmlformats.org/officeDocument/2006/relationships/hyperlink" Target="http://ru.wikipedia.org/wiki/&#1069;&#1092;&#1080;&#1086;&#1087;&#1080;&#1103;" TargetMode="External"/><Relationship Id="rId5" Type="http://schemas.openxmlformats.org/officeDocument/2006/relationships/hyperlink" Target="http://ru.wikipedia.org/wiki/&#1052;&#1099;&#1096;&#1077;&#1083;&#1086;&#1074;&#1082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роект на тему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1640" y="3715920"/>
            <a:ext cx="6838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Изделия из пласти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Цветочные бус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Ваз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54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з пластика также можно сделать и ваз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4578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режьте горлышко бутылки. Разрежьте бутылку на полоски, где-то до середины. Пришейте цветочки выборочно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оски вдоль бутыл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аза готов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SSL14575"/>
          <p:cNvPicPr/>
          <p:nvPr/>
        </p:nvPicPr>
        <p:blipFill>
          <a:blip r:embed="rId1"/>
          <a:stretch/>
        </p:blipFill>
        <p:spPr>
          <a:xfrm>
            <a:off x="4140360" y="1844640"/>
            <a:ext cx="45352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стория пластиковой бутыл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42960" y="1484280"/>
            <a:ext cx="7696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реди ёмкостей для разлития газированных напитков наибольшую популярность имеют пластиковые бутылки, вследствие низкой себестоимости производства. Такие бутылки, как правило, имеют больший объём по сравнению со стеклянными, и более безопасны за счёт упругости. Большую популярность пластиковые бутылки приобрели в быту и могут использоваться для различных нужд. Впервые пластиковая бутылка </a:t>
            </a: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epsi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появилась на рынке США в 1970 году.  С 1973 применяются бутылки из </a:t>
            </a: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лавсана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(ПЭТ-бутылки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69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территории России пластиковые бутылки получили популярность после прихода на рынок безалкогольных напитков западных корпораций 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ока-Ко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» и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ПепсиКо</a:t>
            </a:r>
            <a:r>
              <a:rPr b="1" lang="ru-RU" sz="2000" spc="-1" strike="noStrike" u="sng">
                <a:solidFill>
                  <a:srgbClr val="00b200"/>
                </a:solidFill>
                <a:uFillTx/>
                <a:latin typeface="Comic Sans MS"/>
              </a:rPr>
              <a:t>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Первый завод по производству лимонада впластиковых бутылках в СССР открыла компания «ПепсиКо» в 1974 году в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Новороссийск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ластиковая бутылка Dr. Pep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астиковые бутылки находят большое применение в домашнем хозяйстве. В странах третьего мира, где обычная европейская посуда и ёмкости редки, пластиковые ёмкости имеют существенный спрос, в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Эфиопи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спользованные бутылки продаются прямо на рынках. В странах Африки из сплющенных полуторолитровых бутылок делают сандалии. Из бутылок делают скворечники,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мышеловк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воронки и горшочки для рассады, используют  для защиты молодых ростков риса, вешают на забор в качестве пугала от ворон, а также используют в качестве водонепроницаемых колпаков на верхушках столб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85480" y="620640"/>
            <a:ext cx="432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В Казахстане из пластиковой бутылки делают рукомойник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А в Индонезии — стабилизаторы для придания устойчивости рыбацким лодкам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В Монголии их сжигают в качестве жертвоприношения духам.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С 2000году в России научились делать из пластика декоративные изделия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298680" cy="4464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5"/>
          <p:cNvSpPr/>
          <p:nvPr/>
        </p:nvSpPr>
        <p:spPr>
          <a:xfrm>
            <a:off x="3059280" y="5643720"/>
            <a:ext cx="547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ластиковая бутылка Dr. Pep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76400" y="723960"/>
            <a:ext cx="378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3924360" y="2492280"/>
            <a:ext cx="129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3492360" y="4653000"/>
            <a:ext cx="511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1125360"/>
            <a:ext cx="61214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Работу выполнила: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Ученица 6 «А» класс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МОУ «СОШ № 61»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Ленинского района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г. Саратов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Кривкова Екатерин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Руководитель: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Пронина Татьяна Никоноровн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4696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 так! Нам понадобит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0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ные бутыл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нурок или цветная лен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исер, бус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тка и игол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ечка и спич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SSL14496"/>
          <p:cNvPicPr/>
          <p:nvPr/>
        </p:nvPicPr>
        <p:blipFill>
          <a:blip r:embed="rId1"/>
          <a:stretch/>
        </p:blipFill>
        <p:spPr>
          <a:xfrm>
            <a:off x="4140360" y="162864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28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начала отрежьте бутылке горлышко и дно( они нам понадобятся позже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вшийся цилиндр разрежьте вдол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SSL14499"/>
          <p:cNvPicPr/>
          <p:nvPr/>
        </p:nvPicPr>
        <p:blipFill>
          <a:blip r:embed="rId1"/>
          <a:stretch/>
        </p:blipFill>
        <p:spPr>
          <a:xfrm>
            <a:off x="4068720" y="1484280"/>
            <a:ext cx="4464000" cy="5184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перв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SSL14502"/>
          <p:cNvPicPr/>
          <p:nvPr/>
        </p:nvPicPr>
        <p:blipFill>
          <a:blip r:embed="rId1"/>
          <a:stretch/>
        </p:blipFill>
        <p:spPr>
          <a:xfrm>
            <a:off x="0" y="1125360"/>
            <a:ext cx="507672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148000" y="1844280"/>
            <a:ext cx="38494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из получившегося цилиндра вырежьте цветы и лепес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же у донышек подрежьте уголки , чтобы получился большой цвет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втор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406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проткните середину в каждом цветке и лепестке шил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ьт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СТОРОЖНЫ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яя это действ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7" descr="SSL14510"/>
          <p:cNvPicPr/>
          <p:nvPr/>
        </p:nvPicPr>
        <p:blipFill>
          <a:blip r:embed="rId1"/>
          <a:stretch/>
        </p:blipFill>
        <p:spPr>
          <a:xfrm>
            <a:off x="4132440" y="2276640"/>
            <a:ext cx="4632120" cy="4392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трет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932360" y="1700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Работа с огне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торожно над огнем подержите несколько секунд по одной штучке лепестки и лист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SL14540"/>
          <p:cNvPicPr/>
          <p:nvPr/>
        </p:nvPicPr>
        <p:blipFill>
          <a:blip r:embed="rId1"/>
          <a:stretch/>
        </p:blipFill>
        <p:spPr>
          <a:xfrm>
            <a:off x="179280" y="1125360"/>
            <a:ext cx="4608720" cy="4464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четверт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пят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едините лепестки с листья нитк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ередину вставь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син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SSL14545"/>
          <p:cNvPicPr/>
          <p:nvPr/>
        </p:nvPicPr>
        <p:blipFill>
          <a:blip r:embed="rId1"/>
          <a:stretch/>
        </p:blipFill>
        <p:spPr>
          <a:xfrm>
            <a:off x="3924360" y="1197000"/>
            <a:ext cx="521964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шест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вшиеся цветы пришейте к шнурку или цветной лен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усы с цветами готов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SSL14551"/>
          <p:cNvPicPr/>
          <p:nvPr/>
        </p:nvPicPr>
        <p:blipFill>
          <a:blip r:embed="rId1"/>
          <a:stretch/>
        </p:blipFill>
        <p:spPr>
          <a:xfrm>
            <a:off x="250920" y="1349280"/>
            <a:ext cx="4608360" cy="4070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47:43Z</dcterms:created>
  <dc:creator>Ирина</dc:creator>
  <dc:description/>
  <dc:language>en-US</dc:language>
  <cp:lastModifiedBy>Татьяна</cp:lastModifiedBy>
  <dcterms:modified xsi:type="dcterms:W3CDTF">2011-08-14T13:57:36Z</dcterms:modified>
  <cp:revision>21</cp:revision>
  <dc:subject/>
  <dc:title>Проект на тему:</dc:title>
</cp:coreProperties>
</file>