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D04-2874-4736-925B-F3F5F510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BB5-FB48-407D-BE06-B892FDB8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494-F60C-41B6-8D00-C02BC379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917-4FC2-4C24-BEFF-2CF0E1C2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048B-96C3-472B-A1B2-EA1A20DD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E096-A960-4D81-9D15-7655430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529E-276E-43DD-88FB-1E1948C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DC2-041A-4B57-8442-BA255530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F72-9416-473D-AD0C-70B65BE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7FCC-47BD-4D8F-AC40-B9B4776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E9D3-3006-473A-B862-7ADB5F7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155-1521-470B-878E-957B10D7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647A-B442-4C2E-ABCA-80920B9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4B76-26E4-4D4A-AEF1-D040C99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52F4-80C1-4FDF-8419-8DCB2782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4860-4877-4899-8743-75609406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A6C4-E58A-4C75-A08F-81BE63BE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BFD-2F9D-4DBE-BFCD-9A6CD5A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D89-45E7-4A6F-B7F2-8CE93C92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222-BBF6-4730-9766-83E07DA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D9E-6AF1-444B-8089-E08B7F1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070-85A0-4206-94A8-29B682F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180-A5CA-447D-9855-35B0F91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440-CEE5-4F96-A3AF-F2E4CFB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B01E-EF60-43D5-8B45-F4B5D2DC7A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B073-3F6E-4E2E-BDC4-E73CA4B0C51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33"/>
                </a:solidFill>
                <a:latin typeface="Garamond"/>
              </a:rPr>
              <a:t>Функционально-стилистический аспект изучения союзов</a:t>
            </a:r>
            <a:endParaRPr b="0" lang="en-US" sz="4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казать, как осуществляется функциональный подход в обучении русскому языку на примере темы «Союз»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чевое упражнение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гра «Корректор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 успехом выступали как исполнители главных ролей, а также все остальные участники спектак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своем романе Толстой не только рисует картины великих сражений, но и мирный быт семьи Ростов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леша спросил, что сплю я или хочу ли слушать его расска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н купил не только учебники, а также тетра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идактический матери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кончите пословицы, употребляя противительные союз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Не по словам судят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На взгляд-то он хорош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Мягко стелют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ставьте предложения, в которых были бы слов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то               зат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тем             затем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так               итак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 чего           отчего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ереведите с древнерусского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 Рече же им Ольга, яко мстила уже обид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Бысть гром велик, яко слышали  в избе сидящ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Сдумаша, яко изгонити князя своег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6633"/>
                </a:solidFill>
                <a:latin typeface="Garamond"/>
              </a:rPr>
              <a:t>Таблицы, используемые при изучении теме «Союз».</a:t>
            </a:r>
            <a:br>
              <a:rPr sz="2100"/>
            </a:b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Таблица № 1.</a:t>
            </a:r>
            <a:br>
              <a:rPr sz="2100"/>
            </a:br>
            <a:r>
              <a:rPr b="1" lang="ru-RU" sz="2100" spc="-1" strike="noStrike">
                <a:solidFill>
                  <a:srgbClr val="006633"/>
                </a:solidFill>
                <a:latin typeface="Garamond"/>
              </a:rPr>
              <a:t>РАЗЛИЧАЙТЕ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066680"/>
          <a:ext cx="8610480" cy="57913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 ПИШУТСЯ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ОДНО СЛОВ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Е МЕСТОИМЕНИЙ ИЛИ НАРЕЧИЙ С ПРЕДЛОГАМИ И ЧАСТИЦАМИ ПИШУТСЯ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ЗДЕЛЬН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Тоже = также =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же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и вчера на спектакле? (= и вы были на спектакле?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получилось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 же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е, что было вчер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акже = тоже = 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йте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бросовестн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 делал всё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 ж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зрослы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Чтоб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аше время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ружить, надо или жить вместе, или вместе работ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и случилось, он всё равно придё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Зато = 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не очень красива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бра и умн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ись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 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 чему ты годе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так (в значении вводного слов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ы ничего не хотите признав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подготовил уроки,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н поступает уже не первый раз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ичём, притом = в добавлении к этому, к тому ж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 очень умна и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влекательна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чё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ут я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газине работают разные киоск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3040" y="320400"/>
            <a:ext cx="821376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Таблица № 2.</a:t>
            </a:r>
            <a:br>
              <a:rPr sz="1900"/>
            </a:br>
            <a:r>
              <a:rPr b="0" i="1" lang="ru-RU" sz="1900" spc="-1" strike="noStrike">
                <a:solidFill>
                  <a:srgbClr val="006633"/>
                </a:solidFill>
                <a:latin typeface="Garamond"/>
              </a:rPr>
              <a:t>Данную таблицу учащиеся составляют сами по аналогии с таблицей № 1.</a:t>
            </a:r>
            <a:br>
              <a:rPr sz="1900"/>
            </a:b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ЗАПОМНИ.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219320"/>
          <a:ext cx="8610480" cy="541152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ЮЗЫ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Я СЛОВ С ДРУГИМИ ЧАСТЯМИ РЕЧ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врал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то фантазирова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 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лка бьют, что овцу съел (предлог + местоимение в винитель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варищи, начнём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 так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о каждый день (наречие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обрадовались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тог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то пришл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т тог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ма ничего не осталось.(предлог + местоимение в родительном падеже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акрыл глаза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тому чт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вет ярко вспыхну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тому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ты делаешь, можно понять и цель твою. (предлог + местоимение в датель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не ужинал без Авдотьи, она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е ужинала без него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 же как 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ньше, посещает занятия (наречи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оданчик был грубый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анерны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было ещё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 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иректоре (предлог + местоимение в предложном падеж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хочу жить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ыслить и страд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 не решили, я всё равно уеду (местоимение в винительном падеж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сел в машину, </a:t>
                      </a: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ехать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 б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думать, чтобы не было скучно (местоимение в винительном падеже + част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Garamond"/>
              </a:rPr>
              <a:t>Таблица № 3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295280"/>
          <a:ext cx="8229600" cy="431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  О   Ю   З   Ы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с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, но, есл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ста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будто, так как, потому чт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ч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ед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к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ак 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отив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, зато = но, однако, да = 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Раздел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ил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[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ил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〇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]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дчи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  , (потому что …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 , (когда …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   ], (чтобы 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26920" y="2146320"/>
          <a:ext cx="7783560" cy="3467160"/>
        </p:xfrm>
        <a:graphic>
          <a:graphicData uri="http://schemas.openxmlformats.org/drawingml/2006/table">
            <a:tbl>
              <a:tblPr/>
              <a:tblGrid>
                <a:gridCol w="1811520"/>
                <a:gridCol w="2111400"/>
                <a:gridCol w="2190600"/>
                <a:gridCol w="1670040"/>
              </a:tblGrid>
              <a:tr h="35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тель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итель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единени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 – н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же, тож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поставлени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у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того ч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ю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шь толь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х пор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ре того к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е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72"/>
          <p:cNvSpPr/>
          <p:nvPr/>
        </p:nvSpPr>
        <p:spPr>
          <a:xfrm>
            <a:off x="533520" y="304920"/>
            <a:ext cx="815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Таблица № 4.</a:t>
            </a:r>
            <a:br>
              <a:rPr sz="1600"/>
            </a:br>
            <a:r>
              <a:rPr b="0" i="1" lang="ru-RU" sz="1600" spc="-1" strike="noStrike">
                <a:solidFill>
                  <a:srgbClr val="006633"/>
                </a:solidFill>
                <a:latin typeface="Arial"/>
              </a:rPr>
              <a:t> Усвоение определения союза может облегчить данная таблица, на которой учащиеся, прежде всего, увидят различные группы тех слов, которые называются союзами, и осмысливают их значение и роль в предложении на примерах, данных в таблице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СОЮ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33"/>
                </a:solidFill>
                <a:latin typeface="Garamond"/>
              </a:rPr>
              <a:t>Занимательный материал по теме «Союз</a:t>
            </a:r>
            <a:r>
              <a:rPr b="0" lang="ru-RU" sz="2500" spc="-1" strike="noStrike">
                <a:solidFill>
                  <a:srgbClr val="006633"/>
                </a:solidFill>
                <a:latin typeface="Garamond"/>
              </a:rPr>
              <a:t>»</a:t>
            </a:r>
            <a:br>
              <a:rPr sz="2500"/>
            </a:br>
            <a:br>
              <a:rPr sz="1900"/>
            </a:b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br>
              <a:rPr sz="2300"/>
            </a:b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ишите союз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443320"/>
          <a:ext cx="4114800" cy="3503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6633"/>
                </a:solidFill>
                <a:latin typeface="Garamond"/>
              </a:rPr>
              <a:t>Задание № 2</a:t>
            </a:r>
            <a:endParaRPr b="0" lang="en-US" sz="2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ноты, союз,                               Мой первый слог –  на дере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месте – игра,                           Второй мой слог – сою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ую любит                             А в целом я 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ть детвора.                               И на костюм гож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о – ми - но)                                                       (Сук - 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Работы учащихся.</a:t>
            </a:r>
            <a:br>
              <a:rPr sz="2300"/>
            </a:b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Монологическое высказывание на тему </a:t>
            </a:r>
            <a:br>
              <a:rPr sz="2300"/>
            </a:br>
            <a:r>
              <a:rPr b="1" i="1" lang="ru-RU" sz="2300" spc="-1" strike="noStrike">
                <a:solidFill>
                  <a:srgbClr val="006633"/>
                </a:solidFill>
                <a:latin typeface="Garamond"/>
              </a:rPr>
              <a:t>«Язык – душа народа».</a:t>
            </a:r>
            <a:r>
              <a:rPr b="1" lang="ru-RU" sz="2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Задание: в своем выступлении использовать различные виды союзов и их функ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Язык – эта душа наро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зык – эта душа народа. Язык из века в век шел вместе с русским народом. И развивался, и совершенствовался вместе с ним. Какие-то слова появлялись, какие-то исчез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екоторые народы заимствовали слова из нашего языка, так же как мы брали слова из латинского, греческого и других язык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веком открытий в наш язык пришли такие слова, как «механика», «мотор», «машина» и друг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гда в жизнь приходят новые технологии, то в языке появляются новые слова. Одни из них  модернизировались, иные остались, но не часто использ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зык шел и менялся вместе с народом, но если не станет народа, то некому будет на нем говорить. Сейчас судьба русского языка в руках русского народ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ните: пока у народа есть душа, язык жи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Ржавитин Денис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ученик 7А класс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.Учебно-познавательные умени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) опознавать союз по совокупности е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знаков в тексте и отличать его о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наменательных и других частей реч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квалифицировать союз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) определять «общее»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индивидуальн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фференцированное зна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юз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) проводить морфологический разбор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юз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) определять функции союза в текст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) распознавать союзы – синонимы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ии и текс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76560" y="533160"/>
            <a:ext cx="3886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Правописн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различать написание производных союзов от омонимичных  им частей реч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пунктуационно оформлять различные синтаксические конструкции с союз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3. Речев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) правильно употреблять союзы в синтаксических конструкциях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) использовать союзы в качестве средства межфразовой связи и для выражения смысловой зависимости предложений в текст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) употреблять союзы с учётом функционально – стилистической задач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) совершенствовать текст в соответствии с коммуникативной задач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ункции союз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кстообразующ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зительн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леобразующ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Речевые ошибки и недочеты учащихся, вызванные непониманием функции союзов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шибки (употребление союзов, не соответствующих смысловым отношениям в предложении и в текст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лишнее употребление союз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целесообразные повторы союз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отребление союзов, не соответствующих стилю излож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необходимых союз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1 этап – умение находить союзы в данных текстах и определять их роль.</a:t>
            </a:r>
            <a:br>
              <a:rPr sz="3200"/>
            </a:br>
            <a:r>
              <a:rPr b="1" i="1" lang="ru-RU" sz="3200" spc="-1" strike="noStrike" u="sng">
                <a:solidFill>
                  <a:srgbClr val="006633"/>
                </a:solidFill>
                <a:uFillTx/>
                <a:latin typeface="Garamond"/>
              </a:rPr>
              <a:t>Мой город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Ахтубой, где голубые пл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жгучее дыхание вет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ёт мой 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рутом отко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я в зелёном пламени са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мотрит вдаль задорными глаз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просторы атакуют сте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земле, тоскующей ве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метнулась гордо новостроек цеп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Ю. Логин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* * *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когда в прилегающей к озеру степи кочевал бедняк, славившийся на всю округу своей справедливостью и радушием. Всякого заехавшего к нему гостя, будь то знатный бай или бедный чабан, он неизменно сажал на почётное место и угощал всем, что имел.  Часто он и сам посещал своих земляков. И всегда его встречали как дорогого гостя. «Баскунчак», то есть главный гость, - так прозвал народ своего земляка. Так стали называть кочевье, где жил этот уважаемый человек. Позже это название перешло к озеру ,на побережье которого он кочев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Андреева Е.В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SimSun"/>
                <a:ea typeface="SimSun"/>
              </a:rPr>
              <a:t>Ⅱ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тап – творческое списывание текста. Задание: вставьте необходимые союз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люблю на своей великой Родине всё:  … её  печальные тундры, … её реки, где суровый ум ЧЕЛОВЕКА и неутомимые руки воздвигли ажурную красоту шлюзов и плотин, … её новостройки, волшебно оживляющие бе…плодные недавно пустыни, … её дремучие леса, сохр…няющие исконное оч..рование  пр..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ша этой моей любви – «тот уголок земли» на берегу, матушки Волги, … я впервые познал ар..мат цветов … сотового мёда, с..неву весны … золото осени, блеск снега … холодок родниковой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.Смирн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SimSun"/>
                <a:ea typeface="SimSun"/>
              </a:rPr>
              <a:t>Ⅲ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тап – редактирование тек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ль, дающая силы, стала считаться одним из источников жизни. И приравненная по своему значению к огню и солнцу, соль стала священной. Но с другой стороны, человек видел, что на почве, пропитанной солью, не растут и деревья, и травы и что в густосолёной воде не живут рыбы и раковины. Обилие соли уничтожает и жиз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SimSun"/>
                <a:ea typeface="SimSun"/>
              </a:rPr>
              <a:t>Ⅳ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тап – конструирование микротекс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умайте, может ли ответ ученика на уроке географии начинаться с предложения «Наша область также граничит с Калмыкией». Почему? Напиши начало предложения и тек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урбина</cp:lastModifiedBy>
  <dcterms:modified xsi:type="dcterms:W3CDTF">2011-08-14T10:20:2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