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BB1-CBD3-41E5-B4B1-C336AFBA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249-02BC-4E6C-82FF-53D63F34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3AF-2B82-437B-9BA3-6AF432A1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B51-F78D-4A73-9227-8D01980F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D6B2-5F2A-46BA-95BE-3D5E5B9A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A414-A076-4252-B45C-0AF3C110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C437-7C59-4875-9FC0-B281C58D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9434-D809-48CE-8BB3-C3C40062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6B97-F613-4F70-8F8E-528881E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D68B-8742-464B-A06D-FF55E511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CE47-944C-4452-9A88-A63C537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6D9-6626-4BBC-9045-E240E6E2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7A63-A0E7-4DBE-98E7-6802D3E5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F690-3970-419B-B3F8-939E0279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F053-7ABC-4784-84CF-FF90A5D0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CFA1-12F9-4E2D-A1EC-1882C6A5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9816-DAB8-4612-AC83-91B8D1B4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5AE-FF4C-49BA-9B46-79447EB7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18B-9EC3-4521-B5F5-95CC69A8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D06-1728-44BE-AC82-EFEE2780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BAA-27F4-46FC-B82E-48517F26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09C-9F85-4C42-BB8D-62CAD30B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6B5-CE28-4131-875B-3D87135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2DC-10DC-41FA-8668-1C8ECAB5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7C0E-C77A-4664-BBDA-7726EC506B2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CB5D-14A4-46C7-9349-0C7F4BFF4D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6633"/>
                </a:solidFill>
                <a:latin typeface="Garamond"/>
              </a:rPr>
              <a:t>Функционально-стилистический аспект изучения союзов</a:t>
            </a:r>
            <a:endParaRPr b="0" lang="en-US" sz="4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казать, как осуществляется функциональный подход в обучении русскому языку на примере темы «Союз»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чевое упражнение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гра «Корректор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 успехом выступали как исполнители главных ролей, а также все остальные участники спектак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 своем романе Толстой не только рисует картины великих сражений, но и мирный быт семьи Ростов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леша спросил, что сплю я или хочу ли слушать его расска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н купил не только учебники, а также тетра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идактический материа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кончите пословицы, употребляя противительные союз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 Не по словам судят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На взгляд-то он хорош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Мягко стелют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ставьте предложения, в которых были бы слов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то               зат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тем             затем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так               итак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 чего           отчего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ереведите с древнерусского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 Рече же им Ольга, яко мстила уже обид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Бысть гром велик, яко слышали  в избе сидящ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Сдумаша, яко изгонити князя своег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6633"/>
                </a:solidFill>
                <a:latin typeface="Garamond"/>
              </a:rPr>
              <a:t>Таблицы, используемые при изучении теме «Союз».</a:t>
            </a:r>
            <a:br>
              <a:rPr sz="2100"/>
            </a:br>
            <a:r>
              <a:rPr b="1" lang="ru-RU" sz="2100" spc="-1" strike="noStrike">
                <a:solidFill>
                  <a:srgbClr val="006633"/>
                </a:solidFill>
                <a:latin typeface="Garamond"/>
              </a:rPr>
              <a:t>Таблица № 1.</a:t>
            </a:r>
            <a:br>
              <a:rPr sz="2100"/>
            </a:br>
            <a:r>
              <a:rPr b="1" lang="ru-RU" sz="2100" spc="-1" strike="noStrike">
                <a:solidFill>
                  <a:srgbClr val="006633"/>
                </a:solidFill>
                <a:latin typeface="Garamond"/>
              </a:rPr>
              <a:t>РАЗЛИЧАЙТЕ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066680"/>
          <a:ext cx="8610480" cy="57913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Ы ПИШУТСЯ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ОДНО СЛОВ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ИЕ МЕСТОИМЕНИЙ ИЛИ НАРЕЧИЙ С ПРЕДЛОГАМИ И ЧАСТИЦАМИ ПИШУТСЯ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ЗДЕЛЬН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Тоже = также =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же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ыли вчера на спектакле? (= и вы были на спектакле?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 получилось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 же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ое, что было вчер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Также = тоже = 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йте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ж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бросовестн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ок делал всё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 ж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взрослы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Чтоб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ше время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ружить, надо или жить вместе, или вместе работа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 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и случилось, он всё равно придё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то = 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 не очень красива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бра и умн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ись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 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 чему ты годе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Итак (в значении вводного слов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так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ы ничего не хотите признав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не подготовил уроки,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ак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н поступает уже не первый раз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ичём, притом = в добавлении к этому, к тому ж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 очень умна и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то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влекательна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 чё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ут я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 то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газине работают разные киоск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3040" y="320400"/>
            <a:ext cx="821376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Таблица № 2.</a:t>
            </a:r>
            <a:br>
              <a:rPr sz="1900"/>
            </a:br>
            <a:r>
              <a:rPr b="0" i="1" lang="ru-RU" sz="1900" spc="-1" strike="noStrike">
                <a:solidFill>
                  <a:srgbClr val="006633"/>
                </a:solidFill>
                <a:latin typeface="Garamond"/>
              </a:rPr>
              <a:t>Данную таблицу учащиеся составляют сами по аналогии с таблицей № 1.</a:t>
            </a:r>
            <a:br>
              <a:rPr sz="1900"/>
            </a:b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ЗАПОМНИ.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1219320"/>
          <a:ext cx="8610480" cy="541152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ИЯ СЛОВ С ДРУГИМИ ЧАСТЯМИ РЕЧ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не врал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то фантазирова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 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лка бьют, что овцу съел (предлог + местоимение в винительном падеж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так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варищи, начнё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 так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ыло каждый день (наречие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обрадовались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тог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то пришл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 тог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ма ничего не осталось.(предлог + местоимение в родительном падеже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акрыл глаза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тому ч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вет ярко вспыхну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тому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ты делаешь, можно понять и цель твою. (предлог + местоимение в дательном падеж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не ужинал без Авдотьи, она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ж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е ужинала без нег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 же как и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ньше, посещает занятия (наречие + частиц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оданчик был грубый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то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анерны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было ещё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 то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иректоре (предлог + местоимение в предложном падеж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хочу жить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ыслить и страда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 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 не решили, я всё равно уеду (местоимение в винительном падеже + частиц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сел в машину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еха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 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думать, чтобы не было скучно (местоимение в винительном падеже + частиц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Таблица № 3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295280"/>
          <a:ext cx="8229600" cy="4310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  О   Ю   З   Ы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ос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, но, есл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ста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будто, так как, потому ч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чи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еди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к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ак 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отив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, зато = но, однако, да = 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Раздел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ил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л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л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дчи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  ]  , (потому что …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  ] , (когда …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  ], (чтобы 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26920" y="2146320"/>
          <a:ext cx="7783560" cy="3467160"/>
        </p:xfrm>
        <a:graphic>
          <a:graphicData uri="http://schemas.openxmlformats.org/drawingml/2006/table">
            <a:tbl>
              <a:tblPr/>
              <a:tblGrid>
                <a:gridCol w="1811520"/>
                <a:gridCol w="2111400"/>
                <a:gridCol w="2190600"/>
                <a:gridCol w="1670040"/>
              </a:tblGrid>
              <a:tr h="358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итель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итель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ют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единение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 – н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же, тож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ют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поставление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ю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у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му ч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того ч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 ка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ют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шь тольк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ех пор ка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ре того ка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е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72"/>
          <p:cNvSpPr/>
          <p:nvPr/>
        </p:nvSpPr>
        <p:spPr>
          <a:xfrm>
            <a:off x="533520" y="304920"/>
            <a:ext cx="815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Arial"/>
              </a:rPr>
              <a:t>Таблица № 4.</a:t>
            </a:r>
            <a:br>
              <a:rPr sz="1600"/>
            </a:br>
            <a:r>
              <a:rPr b="0" i="1" lang="ru-RU" sz="1600" spc="-1" strike="noStrike">
                <a:solidFill>
                  <a:srgbClr val="006633"/>
                </a:solidFill>
                <a:latin typeface="Arial"/>
              </a:rPr>
              <a:t> Усвоение определения союза может облегчить данная таблица, на которой учащиеся, прежде всего, увидят различные группы тех слов, которые называются союзами, и осмысливают их значение и роль в предложении на примерах, данных в таблице.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Arial"/>
              </a:rPr>
              <a:t>СОЮ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Garamond"/>
              </a:rPr>
              <a:t>Занимательный материал по теме «Союз</a:t>
            </a: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»</a:t>
            </a:r>
            <a:br>
              <a:rPr sz="2500"/>
            </a:br>
            <a:br>
              <a:rPr sz="1900"/>
            </a:br>
            <a:r>
              <a:rPr b="1" lang="ru-RU" sz="23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br>
              <a:rPr sz="2300"/>
            </a:br>
            <a:endParaRPr b="0" lang="en-US" sz="2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пишите союз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2443320"/>
          <a:ext cx="4114800" cy="350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33"/>
                </a:solidFill>
                <a:latin typeface="Garamond"/>
              </a:rPr>
              <a:t>Задание № 2</a:t>
            </a:r>
            <a:endParaRPr b="0" lang="en-US" sz="2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ноты, союз,                               Мой первый слог –  на дере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месте – игра,                           Второй мой слог – сою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ую любит                             А в целом я 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ть детвора.                               И на костюм гожу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о – ми - но)                                                       (Сук - 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6633"/>
                </a:solidFill>
                <a:latin typeface="Garamond"/>
              </a:rPr>
              <a:t>Работы учащихся.</a:t>
            </a:r>
            <a:br>
              <a:rPr sz="2300"/>
            </a:br>
            <a:r>
              <a:rPr b="1" i="1" lang="ru-RU" sz="2300" spc="-1" strike="noStrike">
                <a:solidFill>
                  <a:srgbClr val="006633"/>
                </a:solidFill>
                <a:latin typeface="Garamond"/>
              </a:rPr>
              <a:t>Монологическое высказывание на тему </a:t>
            </a:r>
            <a:br>
              <a:rPr sz="2300"/>
            </a:br>
            <a:r>
              <a:rPr b="1" i="1" lang="ru-RU" sz="2300" spc="-1" strike="noStrike">
                <a:solidFill>
                  <a:srgbClr val="006633"/>
                </a:solidFill>
                <a:latin typeface="Garamond"/>
              </a:rPr>
              <a:t>«Язык – душа народа».</a:t>
            </a:r>
            <a:r>
              <a:rPr b="1" lang="ru-RU" sz="2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Задание: в своем выступлении использовать различные виды союзов и их функ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Язык – эта душа наро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Язык – эта душа народа. Язык из века в век шел вместе с русским народом. И развивался, и совершенствовался вместе с ним. Какие-то слова появлялись, какие-то исчез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екоторые народы заимствовали слова из нашего языка, так же как мы брали слова из латинского, греческого и других язык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веком открытий в наш язык пришли такие слова, как «механика», «мотор», «машина» и друг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гда в жизнь приходят новые технологии, то в языке появляются новые слова. Одни из них  модернизировались, иные остались, но не часто использ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Язык шел и менялся вместе с народом, но если не станет народа, то некому будет на нем говорить. Сейчас судьба русского языка в руках русского народ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мните: пока у народа есть душа, язык жи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Ржавитин Денис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ученик 7А класс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.Учебно-познавательные умени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) опознавать союз по совокупности е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знаков в тексте и отличать его о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наменательных и других частей реч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) квалифицировать союзы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) определять «общее»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индивидуальн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фференцированное зна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юзо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) проводить морфологический разбор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юзо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) определять функции союза в текст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) распознавать союзы – синонимы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дложении и текс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76560" y="533160"/>
            <a:ext cx="38862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 Правописны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 различать написание производных союзов от омонимичных  им частей реч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) пунктуационно оформлять различные синтаксические конструкции с союз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3. Речевы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 правильно употреблять союзы в синтаксических конструкциях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) использовать союзы в качестве средства межфразовой связи и для выражения смысловой зависимости предложений в текст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) употреблять союзы с учётом функционально – стилистической задач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) совершенствовать текст в соответствии с коммуникативной задач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ункции союз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кстообразующ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зитель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леобразующ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Речевые ошибки и недочеты учащихся, вызванные непониманием функции союзов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ошибки (употребление союзов, не соответствующих смысловым отношениям в предложении и в текст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лишнее употребление союз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целесообразные повторы союз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отребление союзов, не соответствующих стилю излож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необходимых союз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1 этап – умение находить союзы в данных текстах и определять их роль.</a:t>
            </a:r>
            <a:br>
              <a:rPr sz="3200"/>
            </a:br>
            <a:r>
              <a:rPr b="1" i="1" lang="ru-RU" sz="3200" spc="-1" strike="noStrike" u="sng">
                <a:solidFill>
                  <a:srgbClr val="006633"/>
                </a:solidFill>
                <a:uFillTx/>
                <a:latin typeface="Garamond"/>
              </a:rPr>
              <a:t>Мой город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 Ахтубой, где голубые пле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жгучее дыхание ветр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ёт мой 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рутом откос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я в зелёном пламени са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мотрит вдаль задорными глаз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просторы атакуют степ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а земле, тоскующей ве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метнулась гордо новостроек цеп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Ю. Логин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* * *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когда в прилегающей к озеру степи кочевал бедняк, славившийся на всю округу своей справедливостью и радушием. Всякого заехавшего к нему гостя, будь то знатный бай или бедный чабан, он неизменно сажал на почётное место и угощал всем, что имел.  Часто он и сам посещал своих земляков. И всегда его встречали как дорогого гостя. «Баскунчак», то есть главный гость, - так прозвал народ своего земляка. Так стали называть кочевье, где жил этот уважаемый человек. Позже это название перешло к озеру ,на побережье которого он кочева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Андреева Е.В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SimSun"/>
                <a:ea typeface="SimSun"/>
              </a:rPr>
              <a:t>Ⅱ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тап – творческое списывание текста. Задание: вставьте необходимые союз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 люблю на своей великой Родине всё:  … её  печальные тундры, … её реки, где суровый ум ЧЕЛОВЕКА и неутомимые руки воздвигли ажурную красоту шлюзов и плотин, … её новостройки, волшебно оживляющие бе…плодные недавно пустыни, … её дремучие леса, сохр…няющие исконное оч..рование  пр..р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уша этой моей любви – «тот уголок земли» на берегу, матушки Волги, … я впервые познал ар..мат цветов … сотового мёда, с..неву весны … золото осени, блеск снега … холодок родниковой 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.Смирн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SimSun"/>
                <a:ea typeface="SimSun"/>
              </a:rPr>
              <a:t>Ⅲ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тап – редактирование текс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ль, дающая силы, стала считаться одним из источников жизни. И приравненная по своему значению к огню и солнцу, соль стала священной. Но с другой стороны, человек видел, что на почве, пропитанной солью, не растут и деревья, и травы и что в густосолёной воде не живут рыбы и раковины. Обилие соли уничтожает и жиз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SimSun"/>
                <a:ea typeface="SimSun"/>
              </a:rPr>
              <a:t>Ⅳ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тап – конструирование микротекст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умайте, может ли ответ ученика на уроке географии начинаться с предложения «Наша область также граничит с Калмыкией». Почему? Напиши начало предложения и текс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урбина</cp:lastModifiedBy>
  <dcterms:modified xsi:type="dcterms:W3CDTF">2011-08-14T10:20:2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