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E7B-DC7F-41C7-A62E-785CD1F3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B8A-14D2-48EC-A7C7-E4EEDA74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BA7-76B9-403A-96AA-6373DA13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E6A-7D39-4E0D-8790-1584E1D0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C30-6FAC-4873-9C1B-7A4BF382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5E27-0524-41BD-8EB2-9B28FCC9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CE6D-A95A-4536-9CC2-8595DCE9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D72E-EE02-47B9-AB64-4F8679B1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6529-62F6-481C-93B0-E008344B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5B36-C044-491B-A817-B3DA11B1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B2B4-D7C5-4A24-99E7-C28AEFB3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2B0-9126-4ECD-B99C-CB66B424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BCAD-2785-452A-80F1-AC0CEF7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C3C6-0C20-46DF-A715-A145885B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63CF-5D4D-4ABB-8EB1-E6FDC1EB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4DC0-032F-4F6A-AD00-1D887DEF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F4CC-C0BD-41FB-B865-DEE3669E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C00-5764-4806-B4F6-734D00F9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2EF-D538-4703-802C-1248AD07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427-29E5-47B9-BFEC-9B01627B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3D8-01A0-4AA7-B318-723F0B87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8DD-ACFA-45A7-8F8C-9974F3C2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9C9-FFD8-4ED7-BA56-5FE11EB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C3F-DCE6-48CF-8D01-63CDF7D0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B627-05FD-4E59-9E90-60DA1860A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E8E4-91F2-4B31-B78C-EF2EAB0BA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31.xml"/><Relationship Id="rId10" Type="http://schemas.openxmlformats.org/officeDocument/2006/relationships/slide" Target="slide32.xml"/><Relationship Id="rId11" Type="http://schemas.openxmlformats.org/officeDocument/2006/relationships/slide" Target="slide23.xml"/><Relationship Id="rId12" Type="http://schemas.openxmlformats.org/officeDocument/2006/relationships/slide" Target="slide24.xml"/><Relationship Id="rId13" Type="http://schemas.openxmlformats.org/officeDocument/2006/relationships/slide" Target="slide25.xml"/><Relationship Id="rId14" Type="http://schemas.openxmlformats.org/officeDocument/2006/relationships/slide" Target="slide26.xml"/><Relationship Id="rId15" Type="http://schemas.openxmlformats.org/officeDocument/2006/relationships/slide" Target="slide2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14.xml"/><Relationship Id="rId22" Type="http://schemas.openxmlformats.org/officeDocument/2006/relationships/slide" Target="slide13.xml"/><Relationship Id="rId23" Type="http://schemas.openxmlformats.org/officeDocument/2006/relationships/slide" Target="slide15.xml"/><Relationship Id="rId24" Type="http://schemas.openxmlformats.org/officeDocument/2006/relationships/slide" Target="slide16.xml"/><Relationship Id="rId25" Type="http://schemas.openxmlformats.org/officeDocument/2006/relationships/slide" Target="slide17.xml"/><Relationship Id="rId26" Type="http://schemas.openxmlformats.org/officeDocument/2006/relationships/slide" Target="slide12.xml"/><Relationship Id="rId27" Type="http://schemas.openxmlformats.org/officeDocument/2006/relationships/slide" Target="slide11.xml"/><Relationship Id="rId28" Type="http://schemas.openxmlformats.org/officeDocument/2006/relationships/slide" Target="slide10.xml"/><Relationship Id="rId29" Type="http://schemas.openxmlformats.org/officeDocument/2006/relationships/slide" Target="slide8.xml"/><Relationship Id="rId30" Type="http://schemas.openxmlformats.org/officeDocument/2006/relationships/slide" Target="slide9.xml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16000" y="260280"/>
            <a:ext cx="71629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ff79ff"/>
                </a:solidFill>
                <a:latin typeface="Impact"/>
              </a:rPr>
              <a:t>СВОЯ ИГРА</a:t>
            </a:r>
            <a:endParaRPr b="0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ff79ff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229360"/>
            <a:ext cx="698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4797360"/>
            <a:ext cx="6480000" cy="520560"/>
          </a:xfrm>
          <a:prstGeom prst="rect">
            <a:avLst/>
          </a:prstGeom>
          <a:solidFill>
            <a:srgbClr val="3366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</a:rPr>
              <a:t>обществозн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21463800">
            <a:off x="2987640" y="1989000"/>
            <a:ext cx="3241800" cy="2246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551664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85080" y="29242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551664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300640"/>
            <a:ext cx="91440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9000"/>
            <a:ext cx="914400" cy="91440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56720" y="476280"/>
            <a:ext cx="914400" cy="914400"/>
          </a:xfrm>
          <a:prstGeom prst="irregularSeal1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5653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134136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Объясните разницу между понятиями «индивид», «Индивидуальность», «Личность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620640"/>
            <a:ext cx="85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Специфически человеческая форма активного отношения к окружающему миру, направленная на его целесообразное изменение и преобраз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4437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732720" y="443700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003640" y="4005360"/>
            <a:ext cx="367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рациональ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588000" y="422100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19280" y="1844640"/>
            <a:ext cx="56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1520" y="1844640"/>
            <a:ext cx="786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Формами какого вида познания являются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понятие, суждение и умозаключ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105264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ак называется процесс усвоения человеком социальных норм, правил, ценностей и идеал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4437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социализ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1197000"/>
            <a:ext cx="88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804000" y="393372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71640" y="198900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Назовите виды социальных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1628640"/>
            <a:ext cx="85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0" y="443700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Племя, народность, н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516720" y="407664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1773360"/>
            <a:ext cx="87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зовите этапы формирования эт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1341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4 вида социальных санкц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2781360"/>
            <a:ext cx="3962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Формальные пози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Формальные нег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еформальные пози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еформальные нег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227640" y="3500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1413000"/>
            <a:ext cx="85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2 главных отличия семьи от других социальных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3933720"/>
            <a:ext cx="316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общность бы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Рождение детей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1052640"/>
            <a:ext cx="85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8720" y="393372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12000" y="350028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39640" y="17748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Что такое политика? (определени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1052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Из чего состоит форма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8720" y="3213000"/>
            <a:ext cx="3168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Форма 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Форма гос.устр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Политический режим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940360" y="3500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248436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8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12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06064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997360"/>
            <a:ext cx="2160720" cy="8632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олит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ф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93372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486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580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Духов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ф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41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385128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521964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6588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7920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248436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385128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8" action="ppaction://hlinksldjump"/>
          </p:cNvPr>
          <p:cNvSpPr/>
          <p:nvPr/>
        </p:nvSpPr>
        <p:spPr>
          <a:xfrm>
            <a:off x="521964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9" action="ppaction://hlinksldjump"/>
          </p:cNvPr>
          <p:cNvSpPr/>
          <p:nvPr/>
        </p:nvSpPr>
        <p:spPr>
          <a:xfrm>
            <a:off x="658800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0" action="ppaction://hlinksldjump"/>
          </p:cNvPr>
          <p:cNvSpPr/>
          <p:nvPr/>
        </p:nvSpPr>
        <p:spPr>
          <a:xfrm>
            <a:off x="792000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11" action="ppaction://hlinksldjump"/>
          </p:cNvPr>
          <p:cNvSpPr/>
          <p:nvPr/>
        </p:nvSpPr>
        <p:spPr>
          <a:xfrm>
            <a:off x="248436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12" action="ppaction://hlinksldjump"/>
          </p:cNvPr>
          <p:cNvSpPr/>
          <p:nvPr/>
        </p:nvSpPr>
        <p:spPr>
          <a:xfrm>
            <a:off x="385128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3" action="ppaction://hlinksldjump"/>
          </p:cNvPr>
          <p:cNvSpPr/>
          <p:nvPr/>
        </p:nvSpPr>
        <p:spPr>
          <a:xfrm>
            <a:off x="521964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4" action="ppaction://hlinksldjump"/>
          </p:cNvPr>
          <p:cNvSpPr/>
          <p:nvPr/>
        </p:nvSpPr>
        <p:spPr>
          <a:xfrm>
            <a:off x="6588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5" action="ppaction://hlinksldjump"/>
          </p:cNvPr>
          <p:cNvSpPr/>
          <p:nvPr/>
        </p:nvSpPr>
        <p:spPr>
          <a:xfrm>
            <a:off x="7920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6" action="ppaction://hlinksldjump"/>
          </p:cNvPr>
          <p:cNvSpPr/>
          <p:nvPr/>
        </p:nvSpPr>
        <p:spPr>
          <a:xfrm>
            <a:off x="248436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7" action="ppaction://hlinksldjump"/>
          </p:cNvPr>
          <p:cNvSpPr/>
          <p:nvPr/>
        </p:nvSpPr>
        <p:spPr>
          <a:xfrm>
            <a:off x="385128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18" action="ppaction://hlinksldjump"/>
          </p:cNvPr>
          <p:cNvSpPr/>
          <p:nvPr/>
        </p:nvSpPr>
        <p:spPr>
          <a:xfrm>
            <a:off x="521964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9" action="ppaction://hlinksldjump"/>
          </p:cNvPr>
          <p:cNvSpPr/>
          <p:nvPr/>
        </p:nvSpPr>
        <p:spPr>
          <a:xfrm>
            <a:off x="6588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20" action="ppaction://hlinksldjump"/>
          </p:cNvPr>
          <p:cNvSpPr/>
          <p:nvPr/>
        </p:nvSpPr>
        <p:spPr>
          <a:xfrm>
            <a:off x="7920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1" action="ppaction://hlinksldjump"/>
          </p:cNvPr>
          <p:cNvSpPr/>
          <p:nvPr/>
        </p:nvSpPr>
        <p:spPr>
          <a:xfrm>
            <a:off x="248436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2" action="ppaction://hlinksldjump"/>
          </p:cNvPr>
          <p:cNvSpPr/>
          <p:nvPr/>
        </p:nvSpPr>
        <p:spPr>
          <a:xfrm>
            <a:off x="385128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3" action="ppaction://hlinksldjump"/>
          </p:cNvPr>
          <p:cNvSpPr/>
          <p:nvPr/>
        </p:nvSpPr>
        <p:spPr>
          <a:xfrm>
            <a:off x="521964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4" action="ppaction://hlinksldjump"/>
          </p:cNvPr>
          <p:cNvSpPr/>
          <p:nvPr/>
        </p:nvSpPr>
        <p:spPr>
          <a:xfrm>
            <a:off x="6588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25" action="ppaction://hlinksldjump"/>
          </p:cNvPr>
          <p:cNvSpPr/>
          <p:nvPr/>
        </p:nvSpPr>
        <p:spPr>
          <a:xfrm>
            <a:off x="7920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26" action="ppaction://hlinksldjump"/>
          </p:cNvPr>
          <p:cNvSpPr/>
          <p:nvPr/>
        </p:nvSpPr>
        <p:spPr>
          <a:xfrm>
            <a:off x="7920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27" action="ppaction://hlinksldjump"/>
          </p:cNvPr>
          <p:cNvSpPr/>
          <p:nvPr/>
        </p:nvSpPr>
        <p:spPr>
          <a:xfrm>
            <a:off x="6588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8" action="ppaction://hlinksldjump"/>
          </p:cNvPr>
          <p:cNvSpPr/>
          <p:nvPr/>
        </p:nvSpPr>
        <p:spPr>
          <a:xfrm>
            <a:off x="521964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9" action="ppaction://hlinksldjump"/>
          </p:cNvPr>
          <p:cNvSpPr/>
          <p:nvPr/>
        </p:nvSpPr>
        <p:spPr>
          <a:xfrm>
            <a:off x="385128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30" action="ppaction://hlinksldjump"/>
          </p:cNvPr>
          <p:cNvSpPr/>
          <p:nvPr/>
        </p:nvSpPr>
        <p:spPr>
          <a:xfrm>
            <a:off x="248436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22408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оциальная сф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9280" y="112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форму государственного устройства в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08720" y="3933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федерация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940360" y="3716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9810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ак называется избирательная система в РФ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акие еще виды избирательных систем вам известны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59280" y="4005360"/>
            <a:ext cx="38894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Пропорциональная (в РФ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Мажоритар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смешанная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052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Что такое демократия? Назовите две ее  форм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3933720"/>
            <a:ext cx="410508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представите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012000" y="350028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125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основные отрасли материального пр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2708280"/>
            <a:ext cx="4033800" cy="39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Конституцио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Граждан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Уголо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Администрати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Трудов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семейное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443640" y="3573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125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Что возникает с 18 лет: правоспособность или дееспособнос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3933720"/>
            <a:ext cx="338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Дееспособн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280" y="549360"/>
            <a:ext cx="871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Охарактеризуйте принцип разделения властей в РФ, назвав органы, представляющие каждую ветвь вла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3141720"/>
            <a:ext cx="6048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Законодательная – Федеральное Собрание (СФ и Г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Исполнительная – правительство во главе с премьер-минис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Судебная – Конституционный, Верховный, Высший арбитражный с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0526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правомочия собствен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3716280"/>
            <a:ext cx="4465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Владеть, пользоваться, распоряжать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98100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 какой отрасли права будет отнесен вопрос об авторских правах на стихотворение 14-летнего подростка, опубликованное в городской газ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869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Граждан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372360" y="465300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70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основные вопросы эконом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3716280"/>
            <a:ext cx="432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Как производ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Что производ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Для кого производ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4720" y="1413000"/>
            <a:ext cx="9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572436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77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типы экономических сист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3716280"/>
            <a:ext cx="338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Коман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084720" y="3789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26920" y="1268280"/>
            <a:ext cx="792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443700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Тоффлер и Бе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84720" y="465300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1280" y="62064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Кто из ученых предложил деление общества на 3 типа: доиндустриальное, индустриальное, постиндустриально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16286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Фрикционная, структурная, циклическая, сезонная и др. являются видами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Безработ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516720" y="3933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«Отцом» экономики считаю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35640" y="4076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Адама Сми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50920" y="112536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 какой организационно-правовой форме фирм и предприятий относятся ООО, ОДО, АО, ЗАО, ОА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393372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Хозяйственное общ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67280" y="1484280"/>
            <a:ext cx="93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867280" y="3789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50920" y="765000"/>
            <a:ext cx="864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Исторически определенный уровень развития общества, выраженный в типах и формах жизнедеятельности людей, а так же в созданных ими материальных и духовных ценностях- 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5157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588000" y="4724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141300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 какой разновидности культуры относится поп-музыка, развлекательные журналы, сериалы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08720" y="4292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масс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50920" y="1413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Что означает понятие «Диалог культур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429264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Взаимообогащение культур разных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стран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нар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95280" y="765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Форма самоконтро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Сове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5280" y="105264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Перечислите исторические формы религ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1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 rot="21463800">
            <a:off x="1896840" y="820440"/>
            <a:ext cx="5410080" cy="439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443640" y="189000"/>
            <a:ext cx="647640" cy="576000"/>
          </a:xfrm>
          <a:prstGeom prst="irregularSeal1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43280" y="5229360"/>
            <a:ext cx="648000" cy="576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260280"/>
            <a:ext cx="647640" cy="576360"/>
          </a:xfrm>
          <a:prstGeom prst="irregularSeal1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85080" y="1052640"/>
            <a:ext cx="647640" cy="57600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496360" y="256536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24720" y="2060640"/>
            <a:ext cx="647640" cy="576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0464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628640"/>
            <a:ext cx="647640" cy="576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19640" y="189000"/>
            <a:ext cx="647640" cy="57600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63640" y="5734080"/>
            <a:ext cx="647640" cy="5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96360" y="3500280"/>
            <a:ext cx="647640" cy="5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189000"/>
            <a:ext cx="647640" cy="576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87280" y="1916280"/>
            <a:ext cx="648000" cy="57600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386064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6021360"/>
            <a:ext cx="647640" cy="57636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4941720"/>
            <a:ext cx="647640" cy="57636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885080" y="580536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885080" y="458136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9280" y="2997360"/>
            <a:ext cx="647640" cy="57600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32720" y="5157720"/>
            <a:ext cx="647640" cy="57636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34520" y="5661000"/>
            <a:ext cx="55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Comic Sans MS"/>
              </a:rPr>
              <a:t>Спасибо за игр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549360"/>
            <a:ext cx="8532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Что является противоположностью прогрессу в историческом развитии обще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4437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регр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13687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08000" y="5493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entury Gothic"/>
              </a:rPr>
              <a:t>Для какого типа общества характерен низкий уровень образования, социальной мобильности, господство натурального хозяйства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4437000"/>
            <a:ext cx="381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Доиндустриальное (традиционное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67280" y="4653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9280" y="62064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Процесс, стирающий традиционные границы, сближающий нации и народы и постепенно превращающий человечество в единую политическую систему?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4437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Глобализ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443640" y="4365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1341360"/>
            <a:ext cx="889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Дайте 2 определения понятия «общест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19700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Объясните понятие – «Человек-биосоциальное сущест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3933720"/>
            <a:ext cx="287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В нем присутствуют биологические и социальные чер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16720" y="4365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119700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Перечислите потребности человека (по пирамиде А.Масло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3645000"/>
            <a:ext cx="3851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физиологические, экзистенциальные, социальные, престижные, дух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05:39Z</dcterms:created>
  <dc:creator>USER</dc:creator>
  <dc:description/>
  <dc:language>en-US</dc:language>
  <cp:lastModifiedBy>History</cp:lastModifiedBy>
  <dcterms:modified xsi:type="dcterms:W3CDTF">2011-05-19T15:42:30Z</dcterms:modified>
  <cp:revision>40</cp:revision>
  <dc:subject/>
  <dc:title>Слайд 1</dc:title>
</cp:coreProperties>
</file>