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46F-C148-40F2-8ED8-B04B9337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8C3-E797-46EB-8E07-4F9829FF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0DC-FFA3-4F48-B0B3-F102ADAE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6BA-4D1C-4CF2-A080-79819B52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7AAF-B1B6-4DA0-A873-258D4895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CE63-1A59-4F06-8205-4BC34B31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C711-8C4C-4701-98B5-BF178196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440C-A9E5-4157-8091-360E6E26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E86A-BD31-4694-9BF9-A0C501BB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E848-66E7-44EF-BC33-FD3785A4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C575-150D-4900-94D2-BEEC465E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F5A-89B9-49B2-AC75-9F7596DC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17EC-AE79-4971-99DE-3A6C5D84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3F18-EF7F-4489-8D8A-96C70DC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0288-9FD1-41FB-A307-0E5BAF4B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7611-7F95-464E-BA80-F8AEC425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17F8-C622-47DF-A4C9-86BB0299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765-E4E2-49AE-ACB7-461E95E7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6B1-8380-41E0-812D-C8354CAA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CE4-E7BE-4CD5-9FD7-4D05CBD1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B92-58C3-4223-B986-93C253D0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05E-374F-4283-B98D-29F6128F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D3B-6091-4BD9-90A2-9BCD37B1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9D7-0B21-4164-BE04-C9694A46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AB28-6B91-40E5-A1DD-5F59D5784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F835-A002-43BB-B5EB-8312C06B1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31.xml"/><Relationship Id="rId10" Type="http://schemas.openxmlformats.org/officeDocument/2006/relationships/slide" Target="slide32.xml"/><Relationship Id="rId11" Type="http://schemas.openxmlformats.org/officeDocument/2006/relationships/slide" Target="slide23.xml"/><Relationship Id="rId12" Type="http://schemas.openxmlformats.org/officeDocument/2006/relationships/slide" Target="slide24.xml"/><Relationship Id="rId13" Type="http://schemas.openxmlformats.org/officeDocument/2006/relationships/slide" Target="slide25.xml"/><Relationship Id="rId14" Type="http://schemas.openxmlformats.org/officeDocument/2006/relationships/slide" Target="slide26.xml"/><Relationship Id="rId15" Type="http://schemas.openxmlformats.org/officeDocument/2006/relationships/slide" Target="slide2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14.xml"/><Relationship Id="rId22" Type="http://schemas.openxmlformats.org/officeDocument/2006/relationships/slide" Target="slide13.xml"/><Relationship Id="rId23" Type="http://schemas.openxmlformats.org/officeDocument/2006/relationships/slide" Target="slide15.xml"/><Relationship Id="rId24" Type="http://schemas.openxmlformats.org/officeDocument/2006/relationships/slide" Target="slide16.xml"/><Relationship Id="rId25" Type="http://schemas.openxmlformats.org/officeDocument/2006/relationships/slide" Target="slide17.xml"/><Relationship Id="rId26" Type="http://schemas.openxmlformats.org/officeDocument/2006/relationships/slide" Target="slide12.xml"/><Relationship Id="rId27" Type="http://schemas.openxmlformats.org/officeDocument/2006/relationships/slide" Target="slide11.xml"/><Relationship Id="rId28" Type="http://schemas.openxmlformats.org/officeDocument/2006/relationships/slide" Target="slide10.xml"/><Relationship Id="rId29" Type="http://schemas.openxmlformats.org/officeDocument/2006/relationships/slide" Target="slide8.xml"/><Relationship Id="rId30" Type="http://schemas.openxmlformats.org/officeDocument/2006/relationships/slide" Target="slide9.xml"/><Relationship Id="rId3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16000" y="260280"/>
            <a:ext cx="71629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ff79ff"/>
                </a:solidFill>
                <a:latin typeface="Impact"/>
              </a:rPr>
              <a:t>СВОЯ ИГРА</a:t>
            </a:r>
            <a:endParaRPr b="0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ff79ff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5229360"/>
            <a:ext cx="698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4797360"/>
            <a:ext cx="6480000" cy="520560"/>
          </a:xfrm>
          <a:prstGeom prst="rect">
            <a:avLst/>
          </a:prstGeom>
          <a:solidFill>
            <a:srgbClr val="3366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</a:rPr>
              <a:t>обществозн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21463800">
            <a:off x="2987640" y="1989000"/>
            <a:ext cx="3241800" cy="2246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11640" y="5516640"/>
            <a:ext cx="914400" cy="91440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85080" y="29242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85080" y="551664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300640"/>
            <a:ext cx="914400" cy="91440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9000"/>
            <a:ext cx="914400" cy="91440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56720" y="476280"/>
            <a:ext cx="914400" cy="914400"/>
          </a:xfrm>
          <a:prstGeom prst="irregularSeal1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565360"/>
            <a:ext cx="91440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9280" y="134136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Объясните разницу между понятиями «индивид», «Индивидуальность», «Личность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084720" y="4221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620640"/>
            <a:ext cx="85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Специфически человеческая форма активного отношения к окружающему миру, направленная на его целесообразное изменение и преобраз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4437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732720" y="443700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003640" y="4005360"/>
            <a:ext cx="367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рациональ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588000" y="422100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19280" y="1844640"/>
            <a:ext cx="56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1520" y="1844640"/>
            <a:ext cx="786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Формами какого вида познания являются </a:t>
            </a: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понятие, суждение и умозаключ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1052640"/>
            <a:ext cx="85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Как называется процесс усвоения человеком социальных норм, правил, ценностей и идеалов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3640" y="4437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социализ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1197000"/>
            <a:ext cx="889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804000" y="393372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71640" y="1989000"/>
            <a:ext cx="74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Назовите виды социальных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1628640"/>
            <a:ext cx="85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6000" y="443700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Племя, народность, н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516720" y="407664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1773360"/>
            <a:ext cx="87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зовите этапы формирования эт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134136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4 вида социальных санкц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2781360"/>
            <a:ext cx="3962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Формальные пози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Формальные нег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еформальные пози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еформальные нег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227640" y="350028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1413000"/>
            <a:ext cx="8532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2 главных отличия семьи от других социальных гру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3933720"/>
            <a:ext cx="316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общность бы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Рождение детей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1052640"/>
            <a:ext cx="85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8720" y="393372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012000" y="3500280"/>
            <a:ext cx="1366560" cy="1460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39640" y="17748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Что такое политика? (определени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10526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Из чего состоит форма государ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08720" y="3213000"/>
            <a:ext cx="3168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Форма 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Форма гос.устр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Политический режим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940360" y="350028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248436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8900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12536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06064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997360"/>
            <a:ext cx="2160720" cy="8632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Полит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сф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93372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486900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580536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Духов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сф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3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41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385128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521964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658800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7920000" y="18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20000" y="580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248436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7" action="ppaction://hlinksldjump"/>
          </p:cNvPr>
          <p:cNvSpPr/>
          <p:nvPr/>
        </p:nvSpPr>
        <p:spPr>
          <a:xfrm>
            <a:off x="385128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8" action="ppaction://hlinksldjump"/>
          </p:cNvPr>
          <p:cNvSpPr/>
          <p:nvPr/>
        </p:nvSpPr>
        <p:spPr>
          <a:xfrm>
            <a:off x="521964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9" action="ppaction://hlinksldjump"/>
          </p:cNvPr>
          <p:cNvSpPr/>
          <p:nvPr/>
        </p:nvSpPr>
        <p:spPr>
          <a:xfrm>
            <a:off x="658800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0" action="ppaction://hlinksldjump"/>
          </p:cNvPr>
          <p:cNvSpPr/>
          <p:nvPr/>
        </p:nvSpPr>
        <p:spPr>
          <a:xfrm>
            <a:off x="7920000" y="4869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11" action="ppaction://hlinksldjump"/>
          </p:cNvPr>
          <p:cNvSpPr/>
          <p:nvPr/>
        </p:nvSpPr>
        <p:spPr>
          <a:xfrm>
            <a:off x="248436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12" action="ppaction://hlinksldjump"/>
          </p:cNvPr>
          <p:cNvSpPr/>
          <p:nvPr/>
        </p:nvSpPr>
        <p:spPr>
          <a:xfrm>
            <a:off x="385128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3" action="ppaction://hlinksldjump"/>
          </p:cNvPr>
          <p:cNvSpPr/>
          <p:nvPr/>
        </p:nvSpPr>
        <p:spPr>
          <a:xfrm>
            <a:off x="521964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4" action="ppaction://hlinksldjump"/>
          </p:cNvPr>
          <p:cNvSpPr/>
          <p:nvPr/>
        </p:nvSpPr>
        <p:spPr>
          <a:xfrm>
            <a:off x="658800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5" action="ppaction://hlinksldjump"/>
          </p:cNvPr>
          <p:cNvSpPr/>
          <p:nvPr/>
        </p:nvSpPr>
        <p:spPr>
          <a:xfrm>
            <a:off x="7920000" y="39337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6" action="ppaction://hlinksldjump"/>
          </p:cNvPr>
          <p:cNvSpPr/>
          <p:nvPr/>
        </p:nvSpPr>
        <p:spPr>
          <a:xfrm>
            <a:off x="248436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7" action="ppaction://hlinksldjump"/>
          </p:cNvPr>
          <p:cNvSpPr/>
          <p:nvPr/>
        </p:nvSpPr>
        <p:spPr>
          <a:xfrm>
            <a:off x="385128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18" action="ppaction://hlinksldjump"/>
          </p:cNvPr>
          <p:cNvSpPr/>
          <p:nvPr/>
        </p:nvSpPr>
        <p:spPr>
          <a:xfrm>
            <a:off x="521964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9" action="ppaction://hlinksldjump"/>
          </p:cNvPr>
          <p:cNvSpPr/>
          <p:nvPr/>
        </p:nvSpPr>
        <p:spPr>
          <a:xfrm>
            <a:off x="658800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20" action="ppaction://hlinksldjump"/>
          </p:cNvPr>
          <p:cNvSpPr/>
          <p:nvPr/>
        </p:nvSpPr>
        <p:spPr>
          <a:xfrm>
            <a:off x="7920000" y="2997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21" action="ppaction://hlinksldjump"/>
          </p:cNvPr>
          <p:cNvSpPr/>
          <p:nvPr/>
        </p:nvSpPr>
        <p:spPr>
          <a:xfrm>
            <a:off x="248436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22" action="ppaction://hlinksldjump"/>
          </p:cNvPr>
          <p:cNvSpPr/>
          <p:nvPr/>
        </p:nvSpPr>
        <p:spPr>
          <a:xfrm>
            <a:off x="385128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3" action="ppaction://hlinksldjump"/>
          </p:cNvPr>
          <p:cNvSpPr/>
          <p:nvPr/>
        </p:nvSpPr>
        <p:spPr>
          <a:xfrm>
            <a:off x="521964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4" action="ppaction://hlinksldjump"/>
          </p:cNvPr>
          <p:cNvSpPr/>
          <p:nvPr/>
        </p:nvSpPr>
        <p:spPr>
          <a:xfrm>
            <a:off x="658800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25" action="ppaction://hlinksldjump"/>
          </p:cNvPr>
          <p:cNvSpPr/>
          <p:nvPr/>
        </p:nvSpPr>
        <p:spPr>
          <a:xfrm>
            <a:off x="7920000" y="2060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26" action="ppaction://hlinksldjump"/>
          </p:cNvPr>
          <p:cNvSpPr/>
          <p:nvPr/>
        </p:nvSpPr>
        <p:spPr>
          <a:xfrm>
            <a:off x="792000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27" action="ppaction://hlinksldjump"/>
          </p:cNvPr>
          <p:cNvSpPr/>
          <p:nvPr/>
        </p:nvSpPr>
        <p:spPr>
          <a:xfrm>
            <a:off x="658800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8" action="ppaction://hlinksldjump"/>
          </p:cNvPr>
          <p:cNvSpPr/>
          <p:nvPr/>
        </p:nvSpPr>
        <p:spPr>
          <a:xfrm>
            <a:off x="521964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9" action="ppaction://hlinksldjump"/>
          </p:cNvPr>
          <p:cNvSpPr/>
          <p:nvPr/>
        </p:nvSpPr>
        <p:spPr>
          <a:xfrm>
            <a:off x="385128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30" action="ppaction://hlinksldjump"/>
          </p:cNvPr>
          <p:cNvSpPr/>
          <p:nvPr/>
        </p:nvSpPr>
        <p:spPr>
          <a:xfrm>
            <a:off x="2484360" y="112536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22408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Социальная сф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9280" y="112536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форму государственного устройства в 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08720" y="3933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федерация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940360" y="371628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9810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Как называется избирательная система в РФ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Какие еще виды избирательных систем вам известны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59280" y="4005360"/>
            <a:ext cx="38894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Пропорциональная (в РФ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Мажоритар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смешанная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227640" y="4221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1052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Что такое демократия? Назовите две ее  форм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8000" y="3933720"/>
            <a:ext cx="410508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Прям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представитель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012000" y="350028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125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основные отрасли материального пр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2708280"/>
            <a:ext cx="4033800" cy="39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Конституцио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Гражданс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Уголо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Административ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Трудов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семейное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443640" y="3573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1253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Что возникает с 18 лет: правоспособность или дееспособнос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08720" y="3933720"/>
            <a:ext cx="338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Дееспособнос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280" y="549360"/>
            <a:ext cx="871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Охарактеризуйте принцип разделения властей в РФ, назвав органы, представляющие каждую ветвь вла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0360" y="3141720"/>
            <a:ext cx="6048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Законодательная – Федеральное Собрание (СФ и Г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Исполнительная – правительство во главе с премьер-минист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Судебная – Конституционный, Верховный, Высший арбитражный с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084720" y="3141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10526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правомочия собствен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3716280"/>
            <a:ext cx="4465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Владеть, пользоваться, распоряжать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98100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К какой отрасли права будет отнесен вопрос об авторских правах на стихотворение 14-летнего подростка, опубликованное в городской газ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869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Граждан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372360" y="465300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170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основные вопросы эконом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3716280"/>
            <a:ext cx="432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Как производ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Что производ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Для кого производ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84720" y="1413000"/>
            <a:ext cx="9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572436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177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Назовите типы экономических сист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5640" y="3716280"/>
            <a:ext cx="338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Традицио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Коман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6084720" y="3789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26920" y="1268280"/>
            <a:ext cx="792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4437000"/>
            <a:ext cx="28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Тоффлер и Бе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84720" y="465300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11280" y="62064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ahoma"/>
              </a:rPr>
              <a:t>Кто из ученых предложил деление общества на 3 типа: доиндустриальное, индустриальное, постиндустриально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162864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Фрикционная, структурная, циклическая, сезонная и др. являются видами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0872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Безработ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516720" y="3933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141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«Отцом» экономики считают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35640" y="4076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Адама Сми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516720" y="3645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50920" y="112536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К какой организационно-правовой форме фирм и предприятий относятся ООО, ОДО, АО, ЗАО, ОА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88000" y="393372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Хозяйственное общ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67280" y="1484280"/>
            <a:ext cx="93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867280" y="3789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50920" y="765000"/>
            <a:ext cx="864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Исторически определенный уровень развития общества, выраженный в типах и формах жизнедеятельности людей, а так же в созданных ими материальных и духовных ценностях- 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2360" y="5157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588000" y="472428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1413000"/>
            <a:ext cx="85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К какой разновидности культуры относится поп-музыка, развлекательные журналы, сериалы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08720" y="4292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массо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136656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50920" y="141300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Что означает понятие «Диалог культур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429264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Взаимообогащение культур разных 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стран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нар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95280" y="76500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Форма самоконтро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Сове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95280" y="105264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Перечислите исторические формы религ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8720" y="429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1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 rot="21463800">
            <a:off x="1896840" y="820440"/>
            <a:ext cx="5410080" cy="439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443640" y="189000"/>
            <a:ext cx="647640" cy="576000"/>
          </a:xfrm>
          <a:prstGeom prst="irregularSeal1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43280" y="5229360"/>
            <a:ext cx="648000" cy="576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72360" y="260280"/>
            <a:ext cx="647640" cy="576360"/>
          </a:xfrm>
          <a:prstGeom prst="irregularSeal1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85080" y="1052640"/>
            <a:ext cx="647640" cy="57600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496360" y="256536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24720" y="2060640"/>
            <a:ext cx="647640" cy="57636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0464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628640"/>
            <a:ext cx="647640" cy="57636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19640" y="189000"/>
            <a:ext cx="647640" cy="57600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63640" y="5734080"/>
            <a:ext cx="647640" cy="57636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96360" y="3500280"/>
            <a:ext cx="647640" cy="57636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189000"/>
            <a:ext cx="647640" cy="576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87280" y="1916280"/>
            <a:ext cx="648000" cy="57600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386064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6021360"/>
            <a:ext cx="647640" cy="57636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8360" y="4941720"/>
            <a:ext cx="647640" cy="576360"/>
          </a:xfrm>
          <a:prstGeom prst="irregularSeal1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885080" y="5805360"/>
            <a:ext cx="647640" cy="5763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885080" y="4581360"/>
            <a:ext cx="647640" cy="576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9280" y="2997360"/>
            <a:ext cx="647640" cy="57600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32720" y="5157720"/>
            <a:ext cx="647640" cy="57636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34520" y="5661000"/>
            <a:ext cx="55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Comic Sans MS"/>
              </a:rPr>
              <a:t>Спасибо за игру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549360"/>
            <a:ext cx="8532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Что является противоположностью прогрессу в историческом развитии обще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44370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регре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227640" y="4221000"/>
            <a:ext cx="136872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08000" y="5493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entury Gothic"/>
              </a:rPr>
              <a:t>Для какого типа общества характерен низкий уровень образования, социальной мобильности, господство натурального хозяйства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4437000"/>
            <a:ext cx="3816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9933"/>
                </a:solidFill>
                <a:latin typeface="Arial"/>
              </a:rPr>
              <a:t>Доиндустриальное (традиционное</a:t>
            </a: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867280" y="465300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9280" y="62064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Процесс, стирающий традиционные границы, сближающий нации и народы и постепенно превращающий человечество в единую политическую систему?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4437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Глобализ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443640" y="4365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1341360"/>
            <a:ext cx="8893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Дайте 2 определения понятия «общест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30072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197000"/>
            <a:ext cx="878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Объясните понятие – «Человек-биосоциальное сущест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3933720"/>
            <a:ext cx="287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В нем присутствуют биологические и социальные чер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16720" y="436572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1280" y="119700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Comic Sans MS"/>
              </a:rPr>
              <a:t>Перечислите потребности человека (по пирамиде А.Масло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3645000"/>
            <a:ext cx="38512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физиологические, экзистенциальные, социальные, престижные, духо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136692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05:39Z</dcterms:created>
  <dc:creator>USER</dc:creator>
  <dc:description/>
  <dc:language>en-US</dc:language>
  <cp:lastModifiedBy>History</cp:lastModifiedBy>
  <dcterms:modified xsi:type="dcterms:W3CDTF">2011-05-19T15:42:30Z</dcterms:modified>
  <cp:revision>40</cp:revision>
  <dc:subject/>
  <dc:title>Слайд 1</dc:title>
</cp:coreProperties>
</file>