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D312-CBC9-4B87-826F-FEE3FB975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2B81-6B26-45E8-96A4-EFB0D2D3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BDB0-BFFE-4293-8F11-78AA91681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148F-3DE8-47C8-B10B-BED1BE37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2F72-41E5-469B-A3DC-BC07FFAF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B78C-7D47-4055-906E-E88CC58A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167B-F11C-4D43-BB92-1B66279E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DABB-79B7-435F-8F97-9AC32EF9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ECD9-1285-4F46-BF34-33240718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7E29-A5A1-4376-A564-92C30B6E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5CFD-DC3A-418B-A502-8B930552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794E-DD27-4F1E-963F-3867992F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9A12-86E6-4B18-9DB9-84C0B99B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4979-9CF8-4BBF-935D-C62F1672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B4FC-7A3B-4CC5-93C4-0ECDAECD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9561-2D81-43DC-B60B-980BA630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F0EC-CEE9-485C-9707-BD8C3822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CEF6-9831-40C4-B694-F45FA9EB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2650-8EB1-464C-B634-D28198B9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28C8-5F74-4279-9E93-26D78D9F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6DDE-C3FB-4B65-888A-0C0C8507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EB0F-E804-4166-BCFF-FFE1181B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855F-8F65-4717-91C0-9C1BACF2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98F7-1F8E-4891-904A-F210ACC5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203E-94FC-4ADA-8328-0EC5C567D54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C1D3-BFD3-47B0-9CBC-F0FC73A6FD6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Niagara Solid"/>
              </a:rPr>
              <a:t>ПРАВОСЛАВИЕ  И ЯЗЫЧЕСТВО  НА  РУС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ыполнила: ученица 4 «А» кла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У «СОШ №43» Соковнина Ан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верил: учитель Белова Е.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Мороз, Снегурочка и Яг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19920" y="457200"/>
            <a:ext cx="2819160" cy="441972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581280" y="2666880"/>
            <a:ext cx="2133720" cy="350532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2666880" cy="457200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76520" y="762120"/>
            <a:ext cx="6324480" cy="487656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СВЯТАЯ РУСЬ!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Храни тебя, храни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495680" y="3429000"/>
            <a:ext cx="4343400" cy="297180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990720" y="1981080"/>
            <a:ext cx="4190760" cy="297504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>
    <p:cover dir="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66320" y="38052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Свято-Русь-земля всем землям мати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 Почему же Свято-Русь-земля всем землям мати?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На ней стоят церквы апостольския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Богомольныя, преосвященныя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Оны молятся Богу распятому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Самому Христу Царю Небесному, —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Потому Свято-Русь-земля всем землям мати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029200" y="4267080"/>
            <a:ext cx="3276720" cy="229896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равослав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352680" y="2057400"/>
            <a:ext cx="5486400" cy="44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952880" cy="3276360"/>
          </a:xfrm>
          <a:prstGeom prst="rect">
            <a:avLst/>
          </a:prstGeom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581280" y="2971800"/>
            <a:ext cx="5334120" cy="3505320"/>
          </a:xfrm>
          <a:prstGeom prst="rect">
            <a:avLst/>
          </a:prstGeom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Язычеств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496040" cy="457200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Многобож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4267080" y="2218320"/>
            <a:ext cx="449604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ысшие божества славя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РОД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отец жизни на земле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МАТЬ-СЫРА-ЗЕМЛЯ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мать жизни.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ЕРУН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бог грома и молнии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ТРИБОР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бог ветра урагана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ДАЖЬБОГ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бог дарующий тепло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ХОРС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бог солнечного диска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ЛАД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богиня любви и согласия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МАКОШЬ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богиня судьбы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ЖИВ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богиня жизни и весны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МОРЁН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богиня смерти и зимы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ЯРИЛО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бог оживающей прир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3352680" cy="220968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133720" y="3200400"/>
            <a:ext cx="2209680" cy="342900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429000" y="506520"/>
            <a:ext cx="54864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изшие божества славя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ДОМОВО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хранитель дома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ЛЕШИ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хранитель леса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ОДЯНО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хранитель реки, озера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БАННИК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хранитель бани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ВИННИК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хранитель скота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КИКИМОР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хранительница болота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РУСАЛКА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хранительница влаги на полях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ДРЕМ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хранительница де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477120" y="3809880"/>
            <a:ext cx="1828800" cy="274320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3200400" cy="464796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4419720" cy="274320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Князь Владимир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010280" y="609480"/>
            <a:ext cx="1892520" cy="292572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38080" y="1523880"/>
            <a:ext cx="3810240" cy="471168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105520" y="3809880"/>
            <a:ext cx="3365280" cy="238788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2921040" cy="426708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343400" y="1447920"/>
            <a:ext cx="4267080" cy="493380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10-11-05T14:51:3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