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AA1-52A1-4663-B21A-094D949C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67E-1A61-40AF-9078-AC2B159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79E-74A7-4D06-9E5C-AB64905D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D64-B82D-4970-AA76-0F5E2B04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4A97-42B7-46DB-B272-A69B69CD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063E-CC8C-4DFB-A6F1-76BBFE90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A05F-5885-4489-98DD-4D16F70D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5F87-A5CA-4782-84C0-77E04C57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7FFA-3710-45A1-AF0C-BD298979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F38D-A83B-4B04-95F2-987B1457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2F31-EDFF-4CC7-BA60-BDA2B24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867-195D-46F6-9FB6-566CC1B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EC03-202D-41ED-960B-12CE0B5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F06A-994A-4BBF-9322-4B22F238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A21C-508A-4E01-817B-8F5B6E4E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B6E-2444-42B8-9EF9-8AEC84CB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BC92-5A3D-4DA5-9A72-CF141BFC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7F8-747A-45A5-8D74-94D1C7E8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283-F503-4C86-A9F7-56CCB9D1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B4C-4FEC-492B-BAF4-71BDD687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733-7686-415A-A326-23F7760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EB2-B4E0-47FE-BAC8-64FF42E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7EC-E878-4CAB-8178-5E67A27C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591-69A3-482A-86E7-5F5FA23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53D2-74E6-4330-A169-B93ECE14BF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635A-6BB5-4F42-845F-50986F36CE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Niagara Solid"/>
              </a:rPr>
              <a:t>ПРАВОСЛАВИЕ  И ЯЗЫЧЕСТВО  НА  РУС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олнила: ученица 4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У «СОШ №43» Соковнина Ан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ерил: учитель Белова Е.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Мороз, Снегурочка и Яг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819160" cy="44197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2133720" cy="35053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2666880" cy="4572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324480" cy="487656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ВЯТАЯ РУСЬ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Храни тебя, храни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343400" cy="29718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4190760" cy="297504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cover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вято-Русь-земля всем землям мати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 Почему же Свято-Русь-земля всем землям мати?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 ней стоят церквы апостольския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огомольныя, преосвященны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ны молятся Богу распятому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амому Христу Царю Небесному, —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тому Свято-Русь-земля всем землям мат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3276720" cy="229896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авослав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4864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52880" cy="327636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81280" y="2971800"/>
            <a:ext cx="5334120" cy="350532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Язычест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496040" cy="4572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ногобож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2218320"/>
            <a:ext cx="4496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сшие божества слав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О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отец жизни на земл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Ь-СЫРА-ЗЕМЛ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мать жизни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УН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бог грома и молни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ИБО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ветра ураган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АЖЬБОГ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дарующий тепло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ХОРС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солнечного диск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А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любви и согласи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КОШ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судьб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ЖИВ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жизни и весн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ОРЁ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иня смерти и зим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ЯРИЛО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бог оживающей при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352680" cy="22096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2209680" cy="34290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29000" y="506520"/>
            <a:ext cx="54864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изшие божества слав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МОВ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дом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ЕШИ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лес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ОДЯ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реки, озе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АН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бан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ВИН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 скот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ИКИМО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ница болот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УСАЛК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хранительница влаги на поля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РЕМ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хранительница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1828800" cy="27432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200400" cy="464796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4419720" cy="27432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нязь Владими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892520" cy="292572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3810240" cy="47116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3365280" cy="23878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921040" cy="426708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4267080" cy="4933800"/>
          </a:xfrm>
          <a:prstGeom prst="rect">
            <a:avLst/>
          </a:prstGeom>
          <a:ln w="22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0-11-05T14:51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