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428D-9C22-4573-A683-3E469FE605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томы водорода , входящие в состав углеводородного радикала в образовании водородной связи участие не принимают, поэтому с увеличением УВ радикала растворимость спиртов уменьш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983-A4DB-423E-B69B-7719A9D6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E91-5733-4416-9F54-8D6E48C7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9F70-92CB-4FFB-98A1-F761D6E6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26C-D5DE-4D36-9A42-4131B26F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9A2-AAD1-4FC9-84E6-07B89C3C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48F-5C6A-4E23-ACE5-E4D80C79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6ED-4214-4D1C-9C06-71229385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FBE8-85CA-42C9-AF69-35F63F2D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EC1-AA41-486B-B7A4-58DD4B99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C82D-E9EA-455A-AEA7-1FA31A01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AD7-88AA-47BD-A197-4AFC4DD2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42F-0738-4E52-A84C-36377BB9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3803-2D87-492B-87FF-F8B185756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ислородосодержащие органические соеди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ирт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лкано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72428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зентацию выполнила Рязанова Ю.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читель хи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У «Средняя общеобразовательная школа № 26» г Воскресен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мологический ряд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дельных одноатомных спи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ОН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анол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метиловый спир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ОН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анол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этиловый спир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ОН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пано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пропиловый спир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ОН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танол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бутиловый спир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ОН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нтанол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амиловый спир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ОН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ксанол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гексиловый спир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752480"/>
            <a:ext cx="3048120" cy="990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n+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8208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79800" y="228600"/>
            <a:ext cx="8382600" cy="6260400"/>
            <a:chOff x="379800" y="228600"/>
            <a:chExt cx="8382600" cy="6260400"/>
          </a:xfrm>
        </p:grpSpPr>
        <p:cxnSp>
          <p:nvCxnSpPr>
            <p:cNvPr id="120" name="_s46085"/>
            <p:cNvCxnSpPr/>
            <p:nvPr/>
          </p:nvCxnSpPr>
          <p:spPr>
            <a:xfrm flipH="1" rot="16200000">
              <a:off x="373680" y="6479640"/>
              <a:ext cx="15840" cy="3240"/>
            </a:xfrm>
            <a:prstGeom prst="bentConnector3">
              <a:avLst>
                <a:gd name="adj1" fmla="val -465116"/>
              </a:avLst>
            </a:prstGeom>
            <a:ln w="0">
              <a:solidFill>
                <a:srgbClr val="000000"/>
              </a:solidFill>
            </a:ln>
          </p:spPr>
        </p:cxnSp>
        <p:cxnSp>
          <p:nvCxnSpPr>
            <p:cNvPr id="121" name="_s46086"/>
            <p:cNvCxnSpPr/>
            <p:nvPr/>
          </p:nvCxnSpPr>
          <p:spPr>
            <a:xfrm rot="5400000">
              <a:off x="3087720" y="2781720"/>
              <a:ext cx="2512800" cy="3960"/>
            </a:xfrm>
            <a:prstGeom prst="bentConnector3">
              <a:avLst>
                <a:gd name="adj1" fmla="val 45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46087"/>
            <p:cNvCxnSpPr/>
            <p:nvPr/>
          </p:nvCxnSpPr>
          <p:spPr>
            <a:xfrm flipV="1">
              <a:off x="3047760" y="2740320"/>
              <a:ext cx="3049200" cy="7920"/>
            </a:xfrm>
            <a:prstGeom prst="bentConnector3">
              <a:avLst>
                <a:gd name="adj1" fmla="val 37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_s46088"/>
            <p:cNvSpPr/>
            <p:nvPr/>
          </p:nvSpPr>
          <p:spPr>
            <a:xfrm>
              <a:off x="2590560" y="228600"/>
              <a:ext cx="3473640" cy="129096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зомерия спир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46089"/>
            <p:cNvSpPr/>
            <p:nvPr/>
          </p:nvSpPr>
          <p:spPr>
            <a:xfrm>
              <a:off x="380880" y="1595520"/>
              <a:ext cx="2628720" cy="250236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Изомер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углеродного скелет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СН</a:t>
              </a:r>
              <a:r>
                <a:rPr b="0" lang="ru-RU" sz="2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- СН</a:t>
              </a:r>
              <a:r>
                <a:rPr b="0" lang="ru-RU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- СН</a:t>
              </a:r>
              <a:r>
                <a:rPr b="0" lang="ru-RU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- ОН            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пропанол -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46090"/>
            <p:cNvSpPr/>
            <p:nvPr/>
          </p:nvSpPr>
          <p:spPr>
            <a:xfrm>
              <a:off x="2665800" y="4039560"/>
              <a:ext cx="3371760" cy="244944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Изомерия полож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функциональной групп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СН</a:t>
              </a:r>
              <a:r>
                <a:rPr b="0" lang="ru-RU" sz="2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- СН - СН</a:t>
              </a:r>
              <a:r>
                <a:rPr b="0" lang="ru-RU" sz="2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ОН                           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пропанол –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46091"/>
            <p:cNvSpPr/>
            <p:nvPr/>
          </p:nvSpPr>
          <p:spPr>
            <a:xfrm>
              <a:off x="6096240" y="1141200"/>
              <a:ext cx="2666160" cy="3344760"/>
            </a:xfrm>
            <a:custGeom>
              <a:avLst/>
              <a:gdLst>
                <a:gd name="textAreaLeft" fmla="*/ 129960 w 2666160"/>
                <a:gd name="textAreaRight" fmla="*/ 2536200 w 2666160"/>
                <a:gd name="textAreaTop" fmla="*/ 129960 h 3344760"/>
                <a:gd name="textAreaBottom" fmla="*/ 3214800 h 3344760"/>
              </a:gdLst>
              <a:ahLst/>
              <a:rect l="textAreaLeft" t="textAreaTop" r="textAreaRight" b="textAreaBottom"/>
              <a:pathLst>
                <a:path w="21600" h="27097">
                  <a:moveTo>
                    <a:pt x="3600" y="0"/>
                  </a:moveTo>
                  <a:arcTo wR="3600" hR="3600" stAng="16200000" swAng="-5400000"/>
                  <a:lnTo>
                    <a:pt x="0" y="23497"/>
                  </a:lnTo>
                  <a:arcTo wR="3600" hR="3600" stAng="10800000" swAng="-5400000"/>
                  <a:lnTo>
                    <a:pt x="18000" y="270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Межклассов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изомер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r>
                <a:rPr b="0" lang="ru-RU" sz="2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СН</a:t>
              </a:r>
              <a:r>
                <a:rPr b="0" lang="ru-RU" sz="2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- О - С</a:t>
              </a:r>
              <a:r>
                <a:rPr b="0" lang="ru-RU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ru-RU" sz="2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Метилэтиловы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эфир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696080" y="6858000"/>
            <a:ext cx="1067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полнит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219320"/>
            <a:ext cx="8001000" cy="51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оединения, формула которог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авьте сокращенные структурные формул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двух изомеров ( с разным типом изомер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двух гомологов ( с меньшим и большим числом атомов углер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76520" y="2286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ие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дельных одноатомных спи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9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 Extra Bold"/>
              </a:rPr>
              <a:t>Физические 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грегатное состоя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жид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твердые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«спиртовой» зап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«сивушный» зап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запаха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к воде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творимость в воде уменьшается с ростом углеводородных атом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сцвет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733560" cy="28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3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одородная связь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вязь между атомами водорода одной молекулы и атомом сильно электроотрицательных элементов (кислорода, фтора) другой молек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304776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…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 - Н …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 … О - Н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            │             │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4800600"/>
            <a:ext cx="76197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разование      …О - Н  …О - Н …О - Н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ссоциато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│            │            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Н            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ие свойства глиц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3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лияние водородной связи на физические свойства соеди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1035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глико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 кип = -8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кип = 78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 кип = 18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050840" y="3114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3520" y="3429000"/>
          <a:ext cx="8229600" cy="1035000"/>
        </p:xfrm>
        <a:graphic>
          <a:graphicData uri="http://schemas.openxmlformats.org/drawingml/2006/table">
            <a:tbl>
              <a:tblPr/>
              <a:tblGrid>
                <a:gridCol w="2666880"/>
                <a:gridCol w="2743200"/>
                <a:gridCol w="2819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анол -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ицер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 кип = - 42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 кип = 9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 кип = 29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445680" y="4943520"/>
            <a:ext cx="23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В и УВ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</p:cNvCxnSpPr>
          <p:nvPr/>
        </p:nvCxnSpPr>
        <p:spPr>
          <a:xfrm flipV="1">
            <a:off x="2811240" y="5181120"/>
            <a:ext cx="618120" cy="2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3567960" y="4943520"/>
            <a:ext cx="228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дноатом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пи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5943240" y="525744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6629400" y="501984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ногоатом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пи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/>
          <p:nvPr/>
        </p:nvCxnSpPr>
        <p:spPr>
          <a:xfrm flipV="1">
            <a:off x="1143000" y="6316200"/>
            <a:ext cx="69732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означ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вание одноатомный спир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означает название предельный спир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ай спирт обладает большей растворимостью в воде бутиловый или октиловы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й спирт лучше растворим в воде: пентанол – 1 или пентандиол – 1,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й из этих двух спиртов будет обладать высокой температурой кип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 стр.63-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 дидактического материала по химии стр.29 в.1 №1, 2 и к веществу 3- метилпентанол – 3 составить изомеры и гом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ь определение спиртам, познакомить с классификацией спиртов. Изучить гомологический ряд, номенклатуру и изомерию предельных одноатомных спир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влияние водородной связи на  физические свойства спир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рганические вещества в состав молекул, которых входят атом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глерода, водорода и кислорода называются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КИСЛОРОДСОДЕРЖАЩ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28600" y="1902960"/>
            <a:ext cx="8673840" cy="3927600"/>
            <a:chOff x="228600" y="1902960"/>
            <a:chExt cx="8673840" cy="3927600"/>
          </a:xfrm>
        </p:grpSpPr>
        <p:cxnSp>
          <p:nvCxnSpPr>
            <p:cNvPr id="55" name="_s4101"/>
            <p:cNvCxnSpPr>
              <a:stCxn id="56" idx="0"/>
              <a:endCxn id="57" idx="2"/>
            </p:cNvCxnSpPr>
            <p:nvPr/>
          </p:nvCxnSpPr>
          <p:spPr>
            <a:xfrm flipH="1" flipV="1" rot="5400000">
              <a:off x="3379680" y="3748680"/>
              <a:ext cx="1934280" cy="169200"/>
            </a:xfrm>
            <a:prstGeom prst="bentConnector3">
              <a:avLst>
                <a:gd name="adj1" fmla="val 59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4102"/>
            <p:cNvCxnSpPr>
              <a:stCxn id="59" idx="0"/>
            </p:cNvCxnSpPr>
            <p:nvPr/>
          </p:nvCxnSpPr>
          <p:spPr>
            <a:xfrm flipV="1" rot="16200000">
              <a:off x="4837320" y="2630880"/>
              <a:ext cx="1902240" cy="3040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4103"/>
            <p:cNvCxnSpPr>
              <a:endCxn id="61" idx="0"/>
            </p:cNvCxnSpPr>
            <p:nvPr/>
          </p:nvCxnSpPr>
          <p:spPr>
            <a:xfrm rot="5400000">
              <a:off x="3043800" y="3502800"/>
              <a:ext cx="610560" cy="6120"/>
            </a:xfrm>
            <a:prstGeom prst="bentConnector3">
              <a:avLst>
                <a:gd name="adj1" fmla="val 187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4104"/>
            <p:cNvCxnSpPr>
              <a:stCxn id="63" idx="0"/>
            </p:cNvCxnSpPr>
            <p:nvPr/>
          </p:nvCxnSpPr>
          <p:spPr>
            <a:xfrm flipV="1" rot="16200000">
              <a:off x="1240200" y="4176720"/>
              <a:ext cx="1982520" cy="30600"/>
            </a:xfrm>
            <a:prstGeom prst="bentConnector3">
              <a:avLst>
                <a:gd name="adj1" fmla="val 57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4105"/>
            <p:cNvCxnSpPr>
              <a:endCxn id="65" idx="0"/>
            </p:cNvCxnSpPr>
            <p:nvPr/>
          </p:nvCxnSpPr>
          <p:spPr>
            <a:xfrm>
              <a:off x="4419720" y="3200400"/>
              <a:ext cx="1715040" cy="683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4106"/>
            <p:cNvCxnSpPr/>
            <p:nvPr/>
          </p:nvCxnSpPr>
          <p:spPr>
            <a:xfrm flipH="1" flipV="1" rot="5400000">
              <a:off x="2283120" y="1753200"/>
              <a:ext cx="644040" cy="3537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" name="_s4107"/>
            <p:cNvSpPr/>
            <p:nvPr/>
          </p:nvSpPr>
          <p:spPr>
            <a:xfrm>
              <a:off x="1981800" y="1902960"/>
              <a:ext cx="4902480" cy="963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ислородсодержащие вещ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4108"/>
            <p:cNvSpPr/>
            <p:nvPr/>
          </p:nvSpPr>
          <p:spPr>
            <a:xfrm>
              <a:off x="228600" y="3810960"/>
              <a:ext cx="1286280" cy="6418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ирты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4109"/>
            <p:cNvSpPr/>
            <p:nvPr/>
          </p:nvSpPr>
          <p:spPr>
            <a:xfrm>
              <a:off x="1599120" y="5182920"/>
              <a:ext cx="1295280" cy="6418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Фенолы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4110"/>
            <p:cNvSpPr/>
            <p:nvPr/>
          </p:nvSpPr>
          <p:spPr>
            <a:xfrm>
              <a:off x="2515320" y="3810960"/>
              <a:ext cx="1662840" cy="5749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льдегиды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4111"/>
            <p:cNvSpPr/>
            <p:nvPr/>
          </p:nvSpPr>
          <p:spPr>
            <a:xfrm>
              <a:off x="5410440" y="3883680"/>
              <a:ext cx="1446480" cy="6433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етоны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4112"/>
            <p:cNvSpPr/>
            <p:nvPr/>
          </p:nvSpPr>
          <p:spPr>
            <a:xfrm>
              <a:off x="5715000" y="5102280"/>
              <a:ext cx="3187440" cy="7282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арбоновые кисл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4113"/>
            <p:cNvSpPr/>
            <p:nvPr/>
          </p:nvSpPr>
          <p:spPr>
            <a:xfrm>
              <a:off x="3582000" y="4800240"/>
              <a:ext cx="1361520" cy="8830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Эфиры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Спирты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это производные углеводородов,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лекулах которых   один или нескольких ато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дорода замещены  гидроксильными группами –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2971800"/>
            <a:ext cx="3352680" cy="10666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ranklin Gothic Demi"/>
              </a:rPr>
              <a:t>  </a:t>
            </a:r>
            <a:r>
              <a:rPr b="1" lang="en-US" sz="2400" spc="-1" strike="noStrike">
                <a:solidFill>
                  <a:srgbClr val="660066"/>
                </a:solidFill>
                <a:latin typeface="Franklin Gothic Demi"/>
              </a:rPr>
              <a:t>- 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гидроксильн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971800"/>
            <a:ext cx="3505320" cy="10666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глеводородный ради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342900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505320" y="4724280"/>
            <a:ext cx="1752480" cy="11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6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5280" y="533520"/>
            <a:ext cx="8686440" cy="6017760"/>
            <a:chOff x="305280" y="533520"/>
            <a:chExt cx="8686440" cy="6017760"/>
          </a:xfrm>
        </p:grpSpPr>
        <p:cxnSp>
          <p:nvCxnSpPr>
            <p:cNvPr id="75" name="_s6149"/>
            <p:cNvCxnSpPr>
              <a:stCxn id="76" idx="0"/>
              <a:endCxn id="77" idx="2"/>
            </p:cNvCxnSpPr>
            <p:nvPr/>
          </p:nvCxnSpPr>
          <p:spPr>
            <a:xfrm flipV="1" rot="16200000">
              <a:off x="5955840" y="622080"/>
              <a:ext cx="431640" cy="2594160"/>
            </a:xfrm>
            <a:prstGeom prst="bentConnector3">
              <a:avLst>
                <a:gd name="adj1" fmla="val 264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6150"/>
            <p:cNvCxnSpPr>
              <a:stCxn id="79" idx="0"/>
              <a:endCxn id="77" idx="2"/>
            </p:cNvCxnSpPr>
            <p:nvPr/>
          </p:nvCxnSpPr>
          <p:spPr>
            <a:xfrm flipH="1" flipV="1" rot="5400000">
              <a:off x="3201120" y="2810160"/>
              <a:ext cx="2781000" cy="567720"/>
            </a:xfrm>
            <a:prstGeom prst="bentConnector3">
              <a:avLst>
                <a:gd name="adj1" fmla="val 46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6151"/>
            <p:cNvCxnSpPr>
              <a:stCxn id="81" idx="0"/>
              <a:endCxn id="77" idx="2"/>
            </p:cNvCxnSpPr>
            <p:nvPr/>
          </p:nvCxnSpPr>
          <p:spPr>
            <a:xfrm flipH="1" flipV="1" rot="5400000">
              <a:off x="3288600" y="283680"/>
              <a:ext cx="166320" cy="3006720"/>
            </a:xfrm>
            <a:prstGeom prst="bentConnector3">
              <a:avLst>
                <a:gd name="adj1" fmla="val 503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7" name="_s6152"/>
            <p:cNvSpPr/>
            <p:nvPr/>
          </p:nvSpPr>
          <p:spPr>
            <a:xfrm>
              <a:off x="3046320" y="533520"/>
              <a:ext cx="3656880" cy="117072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лассификация спир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6153"/>
            <p:cNvSpPr/>
            <p:nvPr/>
          </p:nvSpPr>
          <p:spPr>
            <a:xfrm>
              <a:off x="305280" y="1869840"/>
              <a:ext cx="3123360" cy="253152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.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 характе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глеродного радик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6154"/>
            <p:cNvSpPr/>
            <p:nvPr/>
          </p:nvSpPr>
          <p:spPr>
            <a:xfrm>
              <a:off x="2667600" y="4484520"/>
              <a:ext cx="3278160" cy="206676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I.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 количеств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идроксильных</a:t>
              </a:r>
              <a:r>
                <a:rPr b="1" lang="ru-RU" sz="24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руп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6155"/>
            <p:cNvSpPr/>
            <p:nvPr/>
          </p:nvSpPr>
          <p:spPr>
            <a:xfrm>
              <a:off x="5945760" y="2135160"/>
              <a:ext cx="3045960" cy="288936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II.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 характер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тома углерод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 которым связа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идроксиль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руп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80880" y="762480"/>
            <a:ext cx="8282520" cy="5019480"/>
            <a:chOff x="380880" y="762480"/>
            <a:chExt cx="8282520" cy="5019480"/>
          </a:xfrm>
        </p:grpSpPr>
        <p:cxnSp>
          <p:nvCxnSpPr>
            <p:cNvPr id="83" name="_s7172"/>
            <p:cNvCxnSpPr>
              <a:stCxn id="84" idx="0"/>
              <a:endCxn id="85" idx="2"/>
            </p:cNvCxnSpPr>
            <p:nvPr/>
          </p:nvCxnSpPr>
          <p:spPr>
            <a:xfrm flipV="1" rot="16200000">
              <a:off x="5278680" y="1062000"/>
              <a:ext cx="1303920" cy="2823840"/>
            </a:xfrm>
            <a:prstGeom prst="bentConnector3">
              <a:avLst>
                <a:gd name="adj1" fmla="val 87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7173"/>
            <p:cNvCxnSpPr>
              <a:stCxn id="87" idx="0"/>
              <a:endCxn id="85" idx="2"/>
            </p:cNvCxnSpPr>
            <p:nvPr/>
          </p:nvCxnSpPr>
          <p:spPr>
            <a:xfrm flipV="1" rot="16200000">
              <a:off x="3736440" y="2603880"/>
              <a:ext cx="1599480" cy="35280"/>
            </a:xfrm>
            <a:prstGeom prst="bentConnector3">
              <a:avLst>
                <a:gd name="adj1" fmla="val 7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7174"/>
            <p:cNvCxnSpPr>
              <a:stCxn id="89" idx="0"/>
              <a:endCxn id="85" idx="2"/>
            </p:cNvCxnSpPr>
            <p:nvPr/>
          </p:nvCxnSpPr>
          <p:spPr>
            <a:xfrm flipH="1" flipV="1" rot="5400000">
              <a:off x="2484360" y="1091160"/>
              <a:ext cx="1303920" cy="2766240"/>
            </a:xfrm>
            <a:prstGeom prst="bentConnector3">
              <a:avLst>
                <a:gd name="adj1" fmla="val 87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5" name="_s7175"/>
            <p:cNvSpPr/>
            <p:nvPr/>
          </p:nvSpPr>
          <p:spPr>
            <a:xfrm>
              <a:off x="686880" y="762480"/>
              <a:ext cx="7665120" cy="105984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.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Классификация спиртов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о характеру углеводородного радика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7176"/>
            <p:cNvSpPr/>
            <p:nvPr/>
          </p:nvSpPr>
          <p:spPr>
            <a:xfrm>
              <a:off x="380880" y="3125880"/>
              <a:ext cx="2742480" cy="250524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еде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ОН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панол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пиловый спир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7177"/>
            <p:cNvSpPr/>
            <p:nvPr/>
          </p:nvSpPr>
          <p:spPr>
            <a:xfrm>
              <a:off x="3175200" y="3421440"/>
              <a:ext cx="2756880" cy="236052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епредель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=СН-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ОН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пен-2-ол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ллиловый  спир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7178"/>
            <p:cNvSpPr/>
            <p:nvPr/>
          </p:nvSpPr>
          <p:spPr>
            <a:xfrm>
              <a:off x="6018840" y="3125880"/>
              <a:ext cx="2644560" cy="250524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ромат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Фенилметано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Бензиловый спир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781680" y="4038480"/>
            <a:ext cx="1371240" cy="380880"/>
            <a:chOff x="6781680" y="4038480"/>
            <a:chExt cx="1371240" cy="380880"/>
          </a:xfrm>
        </p:grpSpPr>
        <p:sp>
          <p:nvSpPr>
            <p:cNvPr id="91" name=""/>
            <p:cNvSpPr/>
            <p:nvPr/>
          </p:nvSpPr>
          <p:spPr>
            <a:xfrm>
              <a:off x="6781680" y="4038480"/>
              <a:ext cx="479880" cy="380880"/>
            </a:xfrm>
            <a:prstGeom prst="hexagon">
              <a:avLst>
                <a:gd name="adj" fmla="val 31498"/>
                <a:gd name="vf" fmla="val 1154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18480" y="4114800"/>
              <a:ext cx="20556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61560" y="4190760"/>
              <a:ext cx="13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98720" y="4038480"/>
              <a:ext cx="75420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Н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304920" y="762480"/>
            <a:ext cx="8457120" cy="5390280"/>
            <a:chOff x="304920" y="762480"/>
            <a:chExt cx="8457120" cy="5390280"/>
          </a:xfrm>
        </p:grpSpPr>
        <p:cxnSp>
          <p:nvCxnSpPr>
            <p:cNvPr id="96" name="_s8196"/>
            <p:cNvCxnSpPr/>
            <p:nvPr/>
          </p:nvCxnSpPr>
          <p:spPr>
            <a:xfrm rot="5400000">
              <a:off x="4489920" y="768240"/>
              <a:ext cx="15120" cy="3240"/>
            </a:xfrm>
            <a:prstGeom prst="bentConnector3">
              <a:avLst>
                <a:gd name="adj1" fmla="val 487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8197"/>
            <p:cNvCxnSpPr/>
            <p:nvPr/>
          </p:nvCxnSpPr>
          <p:spPr>
            <a:xfrm flipH="1" flipV="1" rot="5400000">
              <a:off x="3697560" y="2773440"/>
              <a:ext cx="1749960" cy="3240"/>
            </a:xfrm>
            <a:prstGeom prst="bentConnector3">
              <a:avLst>
                <a:gd name="adj1" fmla="val 65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8198"/>
            <p:cNvCxnSpPr>
              <a:stCxn id="99" idx="0"/>
            </p:cNvCxnSpPr>
            <p:nvPr/>
          </p:nvCxnSpPr>
          <p:spPr>
            <a:xfrm flipH="1" flipV="1" rot="5400000">
              <a:off x="2478960" y="1711800"/>
              <a:ext cx="1136160" cy="2741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0" name="_s8199"/>
            <p:cNvSpPr/>
            <p:nvPr/>
          </p:nvSpPr>
          <p:spPr>
            <a:xfrm>
              <a:off x="762480" y="762480"/>
              <a:ext cx="7948800" cy="113832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I.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Классификация спиртов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о числу гидроксильных груп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8200"/>
            <p:cNvSpPr/>
            <p:nvPr/>
          </p:nvSpPr>
          <p:spPr>
            <a:xfrm>
              <a:off x="304920" y="3650400"/>
              <a:ext cx="2744280" cy="228528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дноатом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ru-RU" sz="2400" spc="-1" strike="noStrike">
                  <a:solidFill>
                    <a:srgbClr val="4709a3"/>
                  </a:solidFill>
                  <a:latin typeface="Times New Roman"/>
                </a:rPr>
                <a:t>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панол - 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8201"/>
            <p:cNvSpPr/>
            <p:nvPr/>
          </p:nvSpPr>
          <p:spPr>
            <a:xfrm>
              <a:off x="3198960" y="3650400"/>
              <a:ext cx="2517120" cy="228528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вухатом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  -  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│     │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ru-RU" sz="2400" spc="-1" strike="noStrike">
                  <a:solidFill>
                    <a:srgbClr val="4709a3"/>
                  </a:solidFill>
                  <a:latin typeface="Times New Roman"/>
                </a:rPr>
                <a:t>ОН  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тандиол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,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8202"/>
            <p:cNvSpPr/>
            <p:nvPr/>
          </p:nvSpPr>
          <p:spPr>
            <a:xfrm>
              <a:off x="5943240" y="3650400"/>
              <a:ext cx="2818800" cy="250236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ногоатом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С  -  СН - СН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│     │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4709a3"/>
                  </a:solidFill>
                  <a:latin typeface="Times New Roman"/>
                </a:rPr>
                <a:t>ОН  ОН    ОН</a:t>
              </a:r>
              <a:r>
                <a:rPr b="0" lang="en-US" sz="2400" spc="-1" strike="noStrike">
                  <a:solidFill>
                    <a:srgbClr val="4709a3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ропантриол-1,2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7315200" y="25146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251460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228600" y="606960"/>
            <a:ext cx="8763120" cy="6015600"/>
            <a:chOff x="228600" y="606960"/>
            <a:chExt cx="8763120" cy="6015600"/>
          </a:xfrm>
        </p:grpSpPr>
        <p:cxnSp>
          <p:nvCxnSpPr>
            <p:cNvPr id="106" name="_s9220"/>
            <p:cNvCxnSpPr>
              <a:stCxn id="107" idx="0"/>
            </p:cNvCxnSpPr>
            <p:nvPr/>
          </p:nvCxnSpPr>
          <p:spPr>
            <a:xfrm flipV="1" rot="16200000">
              <a:off x="5905080" y="1409760"/>
              <a:ext cx="304200" cy="297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9221"/>
            <p:cNvCxnSpPr/>
            <p:nvPr/>
          </p:nvCxnSpPr>
          <p:spPr>
            <a:xfrm flipV="1">
              <a:off x="4571280" y="1986480"/>
              <a:ext cx="3960" cy="1503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9222"/>
            <p:cNvCxnSpPr>
              <a:stCxn id="110" idx="0"/>
            </p:cNvCxnSpPr>
            <p:nvPr/>
          </p:nvCxnSpPr>
          <p:spPr>
            <a:xfrm flipH="1" flipV="1" rot="5400000">
              <a:off x="2916360" y="1392840"/>
              <a:ext cx="304200" cy="300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1" name="_s9223"/>
            <p:cNvSpPr/>
            <p:nvPr/>
          </p:nvSpPr>
          <p:spPr>
            <a:xfrm>
              <a:off x="306360" y="606960"/>
              <a:ext cx="8456400" cy="139248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II.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Классификация спиртов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о характеру атома углерода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с которым связана гидроксильная групп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9224"/>
            <p:cNvSpPr/>
            <p:nvPr/>
          </p:nvSpPr>
          <p:spPr>
            <a:xfrm>
              <a:off x="228600" y="3048480"/>
              <a:ext cx="2674440" cy="2954520"/>
            </a:xfrm>
            <a:custGeom>
              <a:avLst/>
              <a:gdLst>
                <a:gd name="textAreaLeft" fmla="*/ 130320 w 2674440"/>
                <a:gd name="textAreaRight" fmla="*/ 2544120 w 2674440"/>
                <a:gd name="textAreaTop" fmla="*/ 130320 h 2954520"/>
                <a:gd name="textAreaBottom" fmla="*/ 2824200 h 2954520"/>
              </a:gdLst>
              <a:ahLst/>
              <a:rect l="textAreaLeft" t="textAreaTop" r="textAreaRight" b="textAreaBottom"/>
              <a:pathLst>
                <a:path w="21600" h="23862">
                  <a:moveTo>
                    <a:pt x="3600" y="0"/>
                  </a:moveTo>
                  <a:arcTo wR="3600" hR="3600" stAng="16200000" swAng="-5400000"/>
                  <a:lnTo>
                    <a:pt x="0" y="20262"/>
                  </a:lnTo>
                  <a:arcTo wR="3600" hR="3600" stAng="10800000" swAng="-5400000"/>
                  <a:lnTo>
                    <a:pt x="18000" y="238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ервич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 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lang="ru-RU" sz="2400" spc="-1" strike="noStrike">
                  <a:solidFill>
                    <a:srgbClr val="4709a3"/>
                  </a:solidFill>
                  <a:latin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 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панол - 1</a:t>
              </a:r>
              <a:r>
                <a:rPr b="0" lang="ru-RU" sz="23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9225"/>
            <p:cNvSpPr/>
            <p:nvPr/>
          </p:nvSpPr>
          <p:spPr>
            <a:xfrm>
              <a:off x="3048840" y="3505320"/>
              <a:ext cx="2946600" cy="3117240"/>
            </a:xfrm>
            <a:custGeom>
              <a:avLst/>
              <a:gdLst>
                <a:gd name="textAreaLeft" fmla="*/ 143640 w 2946600"/>
                <a:gd name="textAreaRight" fmla="*/ 2802960 w 2946600"/>
                <a:gd name="textAreaTop" fmla="*/ 143640 h 3117240"/>
                <a:gd name="textAreaBottom" fmla="*/ 2973600 h 3117240"/>
              </a:gdLst>
              <a:ahLst/>
              <a:rect l="textAreaLeft" t="textAreaTop" r="textAreaRight" b="textAreaBottom"/>
              <a:pathLst>
                <a:path w="21600" h="22851">
                  <a:moveTo>
                    <a:pt x="3600" y="0"/>
                  </a:moveTo>
                  <a:arcTo wR="3600" hR="3600" stAng="16200000" swAng="-5400000"/>
                  <a:lnTo>
                    <a:pt x="0" y="19251"/>
                  </a:lnTo>
                  <a:arcTo wR="3600" hR="3600" stAng="10800000" swAng="-5400000"/>
                  <a:lnTo>
                    <a:pt x="18000" y="22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торич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lang="ru-RU" sz="2400" spc="-1" strike="noStrike">
                  <a:solidFill>
                    <a:srgbClr val="4709a3"/>
                  </a:solidFill>
                  <a:latin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 - 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│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панол - 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9226"/>
            <p:cNvSpPr/>
            <p:nvPr/>
          </p:nvSpPr>
          <p:spPr>
            <a:xfrm>
              <a:off x="6094800" y="3048480"/>
              <a:ext cx="2896920" cy="3423960"/>
            </a:xfrm>
            <a:custGeom>
              <a:avLst/>
              <a:gdLst>
                <a:gd name="textAreaLeft" fmla="*/ 141120 w 2896920"/>
                <a:gd name="textAreaRight" fmla="*/ 2755800 w 2896920"/>
                <a:gd name="textAreaTop" fmla="*/ 141120 h 3423960"/>
                <a:gd name="textAreaBottom" fmla="*/ 3282840 h 3423960"/>
              </a:gdLst>
              <a:ahLst/>
              <a:rect l="textAreaLeft" t="textAreaTop" r="textAreaRight" b="textAreaBottom"/>
              <a:pathLst>
                <a:path w="21600" h="25529">
                  <a:moveTo>
                    <a:pt x="3600" y="0"/>
                  </a:moveTo>
                  <a:arcTo wR="3600" hR="3600" stAng="16200000" swAng="-5400000"/>
                  <a:lnTo>
                    <a:pt x="0" y="21929"/>
                  </a:lnTo>
                  <a:arcTo wR="3600" hR="3600" stAng="10800000" swAng="-5400000"/>
                  <a:lnTo>
                    <a:pt x="18000" y="255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ретич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Н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СН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lang="en-US" sz="2400" spc="-1" strike="noStrike">
                  <a:solidFill>
                    <a:srgbClr val="4709a3"/>
                  </a:solidFill>
                  <a:latin typeface="Times New Roman"/>
                </a:rPr>
                <a:t>С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СН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Н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-метилпропанол -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оменкл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381880" cy="3962520"/>
          </a:xfrm>
          <a:prstGeom prst="rect">
            <a:avLst/>
          </a:prstGeom>
          <a:solidFill>
            <a:srgbClr val="66ff66"/>
          </a:solidFill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звание углеводородного радик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фикс + суффикс – о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ожени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уппы в углеродной цеп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казывают цифр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1-12T19:25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