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B01-5E00-4D01-A72B-D7DE3FB4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BC3-7D22-4E35-B100-1C0EDBFB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781-B44E-463F-9F00-4C8292B8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36F-E978-4AC5-9AAB-0B8C5DC8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6410-AF35-4D6C-8B41-E2C9B4CF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D4C-4FB0-4749-BE0F-FC8074A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57CD-5198-49C2-A8AF-94015A9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148-B8BB-4377-B8E8-F6DA5A8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7080-78D8-42FF-B857-019C367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3ADE-2981-4735-B970-63EB1708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11DF-0133-4B5C-86E6-8A2EF95C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60F-DF1A-4BE3-A5EF-4AACA3BA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6016-9A42-483E-95D9-9126921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F87C-0145-4376-9575-A6B5A65E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63BA-72DC-47EC-9D87-52EA2043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AB3C-55A2-4BC5-B3E6-594067F1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7F49-53B0-412F-8595-C8EC8017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330-6BED-470F-93BF-11C9F724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750-BFF0-4909-A92E-B9E8E87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56C-2927-4748-AF18-C7835F88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012-E43C-4162-819E-EA1A1BB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8D2-1939-474E-BCB2-CD2674C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11F-5C2E-44F5-ADAD-C1D7887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758-C4D6-4B98-8BC0-B81266A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AB83-9817-40B5-AF59-14610A47FE5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01AE-A252-41DC-9E64-ABDD10A54F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844640"/>
            <a:ext cx="7488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Виды швов ручной вышивки </a:t>
            </a:r>
            <a:br>
              <a:rPr sz="4000"/>
            </a:b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мереж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ыполнение мережки «столбик» и «перевив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6" descr="3"/>
          <p:cNvPicPr/>
          <p:nvPr/>
        </p:nvPicPr>
        <p:blipFill>
          <a:blip r:embed="rId1"/>
          <a:stretch/>
        </p:blipFill>
        <p:spPr>
          <a:xfrm>
            <a:off x="1116000" y="2708280"/>
            <a:ext cx="2879640" cy="221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9"/>
          <p:cNvPicPr/>
          <p:nvPr/>
        </p:nvPicPr>
        <p:blipFill>
          <a:blip r:embed="rId2"/>
          <a:stretch/>
        </p:blipFill>
        <p:spPr>
          <a:xfrm>
            <a:off x="5435640" y="2349360"/>
            <a:ext cx="2571840" cy="2697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0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а техники безопас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71640" y="2249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асности в рабо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реждение пальцев иглой или булавк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вма руки ножн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вма гл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сделать до начала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читать количество иголок и булавок в игольниц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ить инструменты и приспособления в отведённое для них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6">
            <a:hlinkClick r:id="" action="ppaction://hlinkshowjump?jump=previousslide"/>
          </p:cNvPr>
          <p:cNvSpPr/>
          <p:nvPr/>
        </p:nvSpPr>
        <p:spPr>
          <a:xfrm>
            <a:off x="824400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258920" y="2133720"/>
            <a:ext cx="748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делать во время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ть внимательной к рабо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евать напёрсток на средний палец правой руки, чтобы не уколоть палец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калывать иглы и булавки только в игольниц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ть ножницы справа с сомкнутыми лезвиями, направленными от себ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вать ножницы только с сомкнутыми лезвиями и кольцами вперё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сделать по окончании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читать количество игл и булавок в игольниц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рать рабоче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71640" y="549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равила техники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Русский народный костюм Новгородчи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Picture 5" descr="10185140MES"/>
          <p:cNvPicPr/>
          <p:nvPr/>
        </p:nvPicPr>
        <p:blipFill>
          <a:blip r:embed="rId1"/>
          <a:stretch/>
        </p:blipFill>
        <p:spPr>
          <a:xfrm>
            <a:off x="5219640" y="1700280"/>
            <a:ext cx="2139840" cy="487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vi_kostnovg_xx"/>
          <p:cNvPicPr/>
          <p:nvPr/>
        </p:nvPicPr>
        <p:blipFill>
          <a:blip r:embed="rId2"/>
          <a:stretch/>
        </p:blipFill>
        <p:spPr>
          <a:xfrm>
            <a:off x="1403280" y="1916280"/>
            <a:ext cx="2286000" cy="432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9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Полотенца и столешн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5" descr="R026250"/>
          <p:cNvPicPr/>
          <p:nvPr/>
        </p:nvPicPr>
        <p:blipFill>
          <a:blip r:embed="rId1"/>
          <a:stretch/>
        </p:blipFill>
        <p:spPr>
          <a:xfrm>
            <a:off x="1403280" y="2205000"/>
            <a:ext cx="2405160" cy="400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vish2"/>
          <p:cNvPicPr/>
          <p:nvPr/>
        </p:nvPicPr>
        <p:blipFill>
          <a:blip r:embed="rId2"/>
          <a:stretch/>
        </p:blipFill>
        <p:spPr>
          <a:xfrm>
            <a:off x="4859280" y="2565360"/>
            <a:ext cx="3457800" cy="2789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Фрагменты вышивки русского костю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5" descr="imag"/>
          <p:cNvPicPr/>
          <p:nvPr/>
        </p:nvPicPr>
        <p:blipFill>
          <a:blip r:embed="rId1"/>
          <a:stretch/>
        </p:blipFill>
        <p:spPr>
          <a:xfrm>
            <a:off x="468360" y="256536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00337-000366S"/>
          <p:cNvPicPr/>
          <p:nvPr/>
        </p:nvPicPr>
        <p:blipFill>
          <a:blip r:embed="rId2"/>
          <a:stretch/>
        </p:blipFill>
        <p:spPr>
          <a:xfrm>
            <a:off x="4932360" y="1989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Счетные шв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5" descr="1772440mfq"/>
          <p:cNvPicPr/>
          <p:nvPr/>
        </p:nvPicPr>
        <p:blipFill>
          <a:blip r:embed="rId1"/>
          <a:stretch/>
        </p:blipFill>
        <p:spPr>
          <a:xfrm>
            <a:off x="250920" y="2708280"/>
            <a:ext cx="4066920" cy="322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20081211102117"/>
          <p:cNvPicPr/>
          <p:nvPr/>
        </p:nvPicPr>
        <p:blipFill>
          <a:blip r:embed="rId2"/>
          <a:stretch/>
        </p:blipFill>
        <p:spPr>
          <a:xfrm>
            <a:off x="4500720" y="2708280"/>
            <a:ext cx="4464000" cy="33577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ерховые шв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5" descr="43961795_maki_b"/>
          <p:cNvPicPr/>
          <p:nvPr/>
        </p:nvPicPr>
        <p:blipFill>
          <a:blip r:embed="rId1"/>
          <a:stretch/>
        </p:blipFill>
        <p:spPr>
          <a:xfrm>
            <a:off x="1042920" y="1989000"/>
            <a:ext cx="3027600" cy="427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vish1"/>
          <p:cNvPicPr/>
          <p:nvPr/>
        </p:nvPicPr>
        <p:blipFill>
          <a:blip r:embed="rId2"/>
          <a:stretch/>
        </p:blipFill>
        <p:spPr>
          <a:xfrm>
            <a:off x="5148360" y="1989000"/>
            <a:ext cx="2747880" cy="4183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Строчевая вышивка мереж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Picture 5" descr="440a22c48649"/>
          <p:cNvPicPr/>
          <p:nvPr/>
        </p:nvPicPr>
        <p:blipFill>
          <a:blip r:embed="rId1"/>
          <a:srcRect l="0" t="7199" r="0" b="9643"/>
          <a:stretch/>
        </p:blipFill>
        <p:spPr>
          <a:xfrm>
            <a:off x="2050920" y="1916280"/>
            <a:ext cx="4449960" cy="4752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Крестецкая строч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20081211102129"/>
          <p:cNvPicPr/>
          <p:nvPr/>
        </p:nvPicPr>
        <p:blipFill>
          <a:blip r:embed="rId1"/>
          <a:stretch/>
        </p:blipFill>
        <p:spPr>
          <a:xfrm>
            <a:off x="1042920" y="2205000"/>
            <a:ext cx="293364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20081211102158"/>
          <p:cNvPicPr/>
          <p:nvPr/>
        </p:nvPicPr>
        <p:blipFill>
          <a:blip r:embed="rId2"/>
          <a:srcRect l="0" t="12617" r="0" b="0"/>
          <a:stretch/>
        </p:blipFill>
        <p:spPr>
          <a:xfrm>
            <a:off x="4500720" y="2243160"/>
            <a:ext cx="4392360" cy="40352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ыполнение мережки «снопик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5" descr="1"/>
          <p:cNvPicPr/>
          <p:nvPr/>
        </p:nvPicPr>
        <p:blipFill>
          <a:blip r:embed="rId1"/>
          <a:stretch/>
        </p:blipFill>
        <p:spPr>
          <a:xfrm>
            <a:off x="971640" y="2205000"/>
            <a:ext cx="2952720" cy="225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2"/>
          <p:cNvPicPr/>
          <p:nvPr/>
        </p:nvPicPr>
        <p:blipFill>
          <a:blip r:embed="rId2"/>
          <a:stretch/>
        </p:blipFill>
        <p:spPr>
          <a:xfrm>
            <a:off x="4716360" y="2249640"/>
            <a:ext cx="2880000" cy="22748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5:37:03Z</dcterms:created>
  <dc:creator>Пользователь</dc:creator>
  <dc:description/>
  <dc:language>en-US</dc:language>
  <cp:lastModifiedBy>Admin</cp:lastModifiedBy>
  <dcterms:modified xsi:type="dcterms:W3CDTF">2011-08-20T16:32:40Z</dcterms:modified>
  <cp:revision>3</cp:revision>
  <dc:subject/>
  <dc:title>Виды швов ручной вышивки  мережка</dc:title>
</cp:coreProperties>
</file>