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3BE-70BC-45A7-AE5B-37EBDC1F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CA-9239-4A5C-859F-412D65DB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C03-B69A-4DC4-8F7E-8EA8F0C6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EB2-78C0-405F-90B2-0A361096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76A-9BC7-4EE4-8BFA-BA98024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DA4-0CB2-4B85-B6FF-4A0E120A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C3E-A156-456A-B956-CDA1494C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734-766E-4ED7-AE04-8B52B68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899-D543-4520-8C01-BF56EBD5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A64-E3E2-4A29-A8F1-DCA9B70A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144-E617-4E1B-BCC5-85401E2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E9F-E8F3-4E71-9594-2CA0AB5A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C24-DEDD-480A-B074-A9D417138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3030480" cy="3095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3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28216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1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3308400" cy="3528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1704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172728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95280" y="176004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201080" cy="54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6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024360" cy="2847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76720" y="161568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708360" y="161568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8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782316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7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4751280" cy="3752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21480" y="1125000"/>
            <a:ext cx="2762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Ш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0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993080" cy="60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68360" y="90684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БА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3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234640" cy="55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34:46Z</dcterms:created>
  <dc:creator>User</dc:creator>
  <dc:description/>
  <dc:language>en-US</dc:language>
  <cp:lastModifiedBy>PRIVAT</cp:lastModifiedBy>
  <dcterms:modified xsi:type="dcterms:W3CDTF">2011-08-21T19:55:06Z</dcterms:modified>
  <cp:revision>42</cp:revision>
  <dc:subject/>
  <dc:title>Слайд 1</dc:title>
</cp:coreProperties>
</file>