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811-A350-4B06-A119-ECDB6876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1091-7590-4BF7-8C9F-78B31442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4B3F6-12E1-4961-9C9D-329F3997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B6E6E-BE29-4F93-A839-2480E792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5BDEC-0670-4426-82BD-203401B1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02387-9C85-445D-90BA-528CEFBA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D1C0B-A7A3-4AFD-9FA3-0CAF2D4F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DF280-DF00-4626-8A78-19A42FD1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98372-FFBB-4053-97DF-EDB1C312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26BC5-FE2F-4BA4-8764-F3363F57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B8EBD-59B5-41BA-8665-0E7154960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081E-2A76-43FA-A611-FC52984F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4BB-24DC-4DAF-8E68-17C4DFEA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F686-4F86-459D-9FAF-0A6A1CD6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6594-2D95-4696-A9D2-223316FC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E28F-3F86-4C03-8CA0-8C32D5A3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98F8-4BE1-45E0-9BA6-47C7A9BF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BAF3-30EE-4A2D-9462-44BD062B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ECD4-9BA9-418C-A2A5-6990A56E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3CF1-AF95-4AAF-9E6B-0655EE30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675-7E74-4251-AB24-0B3EAB0C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2748-426F-4461-9AF5-EDEF5A63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CFD9-D5A7-4905-84E1-75BC9773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3BBE-FF56-4EA1-BE01-B08F2315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28B4-75D0-4A0E-A025-C5F7DDA1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BCD9-FE61-4F6C-A155-786361D3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395C2-077C-466F-A116-A7BAC52C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C4A49-693B-43BB-B5F1-AC135FB4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5B7C9-734F-4E18-8819-A8681CF8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3CF59-D032-43F7-A3CF-E3CEA1B1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D8E0A-347D-48A2-AB10-B4AF1354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D99F-6F9B-4511-BE32-353C78BF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540FE-0659-426A-89A9-063AABE3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532FB-3EE7-4DDC-8974-3D329D27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662C7-A656-4071-AF59-01599180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DDC65-4C46-467B-A385-211A5993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F27DB-12CD-4A36-90F1-F2EEBE1C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68806-5637-4C4E-9073-690490E6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3EBDE-AEEB-4791-855B-EB71BC65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743DA-DD58-4895-85E0-6F19E784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8C5FC-1644-414D-8F1F-1EB36154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10747-1FB4-4D9B-9627-0DB98561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AF8F-B3E1-4BA9-96E2-5AFFAF76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850EA-2EF6-452B-B11B-F0601E67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C237A-49EE-4CEF-9574-BCAAFD7C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AC6BB-1304-4C53-8913-D8EB2A34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0F36C-01EA-492C-ACF6-BEBE637E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E0448-11B5-4E51-B38F-B548DEE1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DD3F4-431C-4DB2-AC15-103DC9D6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E95E1-E73C-4DFB-9FA6-6CC89659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79FA1-CC1D-4C33-9E1B-45A4E1D9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499B2-6A04-49E3-8915-1166C5B7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4FCE4-24D5-42AA-BCFA-D53A775D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7A27-DBBF-4225-8C3F-6C92321F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372FE-048C-4C79-85D2-89A6ABE5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B2A7F-8281-4BD5-8984-3C368709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ADC5F-1B9E-4982-B5CD-B3573221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D1F36-9C8E-4E5B-8CF3-6BDE4159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C2E51-8443-4F56-BD50-A4AFC18A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44A6C-5597-4E16-A98F-3B477ED8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B4599-29BC-408F-9631-4B637D1B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59E3C-07E4-4D57-ADCF-BC9464C5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D4C6D-43FB-4969-B764-D1BE1829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3A11B-6130-47AE-846D-A1B7C83D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3B08-E9D9-4259-B2AE-74439AE4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750A6-E014-4538-B756-6D1ADB09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07F5C-7474-489E-9002-161C8E90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F6FDA-ACCE-4F1A-B7C7-5C1DD31E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A7A7F-E743-46FF-96AD-C0095B8B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FFBB3-792F-43DB-80B0-AAEC8FDD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2B702-5E0A-43C2-B29D-57F86307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4133D-3DAE-4283-80A8-BAB3ABCB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0D246-FE2C-4849-94BA-37C106EA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F53E4-6095-4275-83D1-A208932A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AAA31-C173-414E-8E7E-BC85B7BC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932C-5B43-460F-A9F8-7CE7DB39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EA45D-EC2A-486D-93CB-62D764EB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B9509-0822-40DF-9B2D-88904BF2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7366F-A85A-4D4C-85F7-5E895EF0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9EFC7-9323-4AB7-8F55-88332221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BB7BB-7C9C-4754-AC10-E84717C7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5AE26-130F-40E7-AFA6-532AF8CD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91063-E455-4AA4-9FDD-0C1A10EC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7F84E-81C3-4881-9F44-057CD56B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0F4E6-9005-4BF2-A815-D1DA76B2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A7C3E-64F6-4972-A615-7CCF9701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F6FD-CFBC-4857-91E6-B63913F4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6646B-42BD-4409-BE9E-670304C4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78880-AAE6-47F0-90A6-D1C203FB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098E1-8E69-4586-BE6D-5E4E7D4A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A0D08-08C3-49D4-9839-023E73D1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58254-F464-4F7D-8FEE-DFDA9AED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4B148-0C4F-478B-A149-833CEEA8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3C301-1D10-4624-B6D7-EF8889C5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CBE3C-352A-409B-9B9F-B88513A8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69C06-B477-4618-8A0D-FC29019E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A1776-8EF6-4615-A162-07587C02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3193-2089-4884-ADA0-6B644C3E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877CB-BF24-480E-ADE1-9376F915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9AC86-71DB-40EE-AA0E-EF293CBE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F1B32-BA2D-489A-A83D-343168F1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8FE5C-8DA8-4ED9-9468-4C8AAA8C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8F922-8CA3-4D80-ACDB-9EB33055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91BBF-51D0-4115-A9D9-9FAD12A0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8EE79-1D25-4B45-8F17-16045CE4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8570D-DD78-4FA0-8E54-CF09A378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AA0D1-D816-4BA9-8659-0FE14D4B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25B5F-7ED2-4F61-90C7-A74F44F4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E500-94B0-4D3E-BFD2-C7E62BFF193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171E-3AD8-468E-A5D6-7629420D153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7077-7179-4644-8F5E-398C12F045B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02F5-03AE-4277-A0B4-88E661527CD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AE24-0D7E-4E79-ADC7-AF92CE075C1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3B13-7FCC-4511-B6E3-395296C4C40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9E85-6FDB-4E90-B6E5-8EAF059EF41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A184-1FF2-4825-A858-B9E33065CBC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2CAC-FD3D-4512-8D37-FC0043A9B23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Franklin Gothic Book"/>
              </a:rPr>
              <a:t>ЛОГИЧЕСКАЯ ИГРА</a:t>
            </a: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Franklin Gothic Book"/>
              </a:rPr>
              <a:t>«СУДОКУ» </a:t>
            </a:r>
            <a:endParaRPr b="0" lang="en-US" sz="7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2" name=""/>
          <p:cNvGraphicFramePr/>
          <p:nvPr/>
        </p:nvGraphicFramePr>
        <p:xfrm>
          <a:off x="324000" y="1268280"/>
          <a:ext cx="5543280" cy="5040360"/>
        </p:xfrm>
        <a:graphic>
          <a:graphicData uri="http://schemas.openxmlformats.org/drawingml/2006/table">
            <a:tbl>
              <a:tblPr/>
              <a:tblGrid>
                <a:gridCol w="923760"/>
                <a:gridCol w="924120"/>
                <a:gridCol w="923760"/>
                <a:gridCol w="923760"/>
                <a:gridCol w="924120"/>
                <a:gridCol w="923760"/>
              </a:tblGrid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</a:tr>
              <a:tr h="83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3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4" name=""/>
          <p:cNvGraphicFramePr/>
          <p:nvPr/>
        </p:nvGraphicFramePr>
        <p:xfrm>
          <a:off x="468360" y="1197000"/>
          <a:ext cx="5975280" cy="5256360"/>
        </p:xfrm>
        <a:graphic>
          <a:graphicData uri="http://schemas.openxmlformats.org/drawingml/2006/table">
            <a:tbl>
              <a:tblPr/>
              <a:tblGrid>
                <a:gridCol w="663480"/>
                <a:gridCol w="663480"/>
                <a:gridCol w="671760"/>
                <a:gridCol w="657000"/>
                <a:gridCol w="663840"/>
                <a:gridCol w="663480"/>
                <a:gridCol w="665280"/>
                <a:gridCol w="663480"/>
                <a:gridCol w="66348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"/>
          <p:cNvGraphicFramePr/>
          <p:nvPr/>
        </p:nvGraphicFramePr>
        <p:xfrm>
          <a:off x="468360" y="1341360"/>
          <a:ext cx="5543640" cy="5183280"/>
        </p:xfrm>
        <a:graphic>
          <a:graphicData uri="http://schemas.openxmlformats.org/drawingml/2006/table">
            <a:tbl>
              <a:tblPr/>
              <a:tblGrid>
                <a:gridCol w="923760"/>
                <a:gridCol w="924120"/>
                <a:gridCol w="923760"/>
                <a:gridCol w="924120"/>
                <a:gridCol w="923760"/>
                <a:gridCol w="92412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644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3" descr=""/>
          <p:cNvPicPr/>
          <p:nvPr/>
        </p:nvPicPr>
        <p:blipFill>
          <a:blip r:embed="rId1"/>
          <a:stretch/>
        </p:blipFill>
        <p:spPr>
          <a:xfrm>
            <a:off x="298440" y="378000"/>
            <a:ext cx="8699400" cy="11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8" name=""/>
          <p:cNvGraphicFramePr/>
          <p:nvPr/>
        </p:nvGraphicFramePr>
        <p:xfrm>
          <a:off x="457200" y="1197000"/>
          <a:ext cx="5986440" cy="5400720"/>
        </p:xfrm>
        <a:graphic>
          <a:graphicData uri="http://schemas.openxmlformats.org/drawingml/2006/table">
            <a:tbl>
              <a:tblPr/>
              <a:tblGrid>
                <a:gridCol w="665280"/>
                <a:gridCol w="664920"/>
                <a:gridCol w="671760"/>
                <a:gridCol w="658800"/>
                <a:gridCol w="664920"/>
                <a:gridCol w="665280"/>
                <a:gridCol w="665280"/>
                <a:gridCol w="664920"/>
                <a:gridCol w="6652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0e8e6"/>
                          </a:solidFill>
                          <a:latin typeface="Franklin Gothic Book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581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Улыбающееся лицо 3"/>
          <p:cNvSpPr/>
          <p:nvPr/>
        </p:nvSpPr>
        <p:spPr>
          <a:xfrm>
            <a:off x="3419640" y="1700280"/>
            <a:ext cx="1779480" cy="1800000"/>
          </a:xfrm>
          <a:prstGeom prst="smileyFace">
            <a:avLst>
              <a:gd name="adj" fmla="val 9282"/>
            </a:avLst>
          </a:prstGeom>
          <a:solidFill>
            <a:srgbClr val="fbeec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Улыбающееся лицо 6"/>
          <p:cNvSpPr/>
          <p:nvPr/>
        </p:nvSpPr>
        <p:spPr>
          <a:xfrm>
            <a:off x="2411280" y="3284640"/>
            <a:ext cx="1800360" cy="1800000"/>
          </a:xfrm>
          <a:prstGeom prst="smileyFace">
            <a:avLst>
              <a:gd name="adj" fmla="val 889"/>
            </a:avLst>
          </a:prstGeom>
          <a:solidFill>
            <a:srgbClr val="fbeec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Улыбающееся лицо 7"/>
          <p:cNvSpPr/>
          <p:nvPr/>
        </p:nvSpPr>
        <p:spPr>
          <a:xfrm>
            <a:off x="4211640" y="3357720"/>
            <a:ext cx="1873080" cy="1800000"/>
          </a:xfrm>
          <a:prstGeom prst="smileyFace">
            <a:avLst>
              <a:gd name="adj" fmla="val -4652"/>
            </a:avLst>
          </a:prstGeom>
          <a:solidFill>
            <a:srgbClr val="fbeec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6:57:18Z</dcterms:created>
  <dc:creator>Your User Name</dc:creator>
  <dc:description/>
  <dc:language>en-US</dc:language>
  <cp:lastModifiedBy>Your User Name</cp:lastModifiedBy>
  <dcterms:modified xsi:type="dcterms:W3CDTF">2011-04-28T04:02:57Z</dcterms:modified>
  <cp:revision>16</cp:revision>
  <dc:subject/>
  <dc:title>Слайд 1</dc:title>
</cp:coreProperties>
</file>