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47F3-9794-4AB9-B76A-1DCAC8670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0CCE-E247-4847-A3B1-1FA1EF7D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12824-9A5E-407E-BE7D-6607D13D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148E9-128D-4C86-A304-AAEDD17A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8B3D0-EFFC-4EF5-8A27-9B73E69A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2BEEE-B261-42D2-BE32-8436D13E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093AD-05A8-4BEC-81E4-9974AE9A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35B58-8ABB-4B55-A1C7-B8A96CCE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750A9-4571-43A1-AC14-4D80608B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36BCF-4F85-40E0-942C-3CF197542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ED0CA-CCAD-42B1-B821-A1BDE98C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9F65-18CC-47DB-99E5-991B7AC9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AE9A-F649-4E4A-BF35-C16F92B1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AAF4-D8DA-4C97-A74E-9800638EA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9C59-CB5C-4F00-98F4-927C68D7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AA94-E520-40A4-A54C-1B067ACC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19A3-2766-4BA1-AB86-177EE432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02D7-7C22-45A8-AF20-EE9B8449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3F1A-FD8B-4AD8-9E38-BEABF49C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7D7F-C194-4778-AEA5-372D3123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4D0D-3C15-4B88-A3A5-EBBADDE5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68D0-CAF7-4DCB-AA10-B3DCAC95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1100-8F71-4AEA-BB89-1A8402D0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436F-DD0D-4D15-8807-C17A3909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80F4-9ACE-4D84-98F3-77F8F6BD3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E991-BD6F-47E2-9BA5-780F120EB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D4601-912F-4174-AE62-B68E5BC6E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5ECE9-51E5-406A-91F5-ACAD3867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02512-F9E5-4BCC-80CC-C64DC784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A1A9D-C7F0-43F4-B39C-616ED49E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F6BEB-A57D-4287-A01C-22002C18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F062-2969-43FA-8610-4E23A99C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7A2E8-3A7A-437D-B5D8-0EC6C216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66683-9625-43DA-BD76-B7243524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9361F-9D0A-4B79-A70B-A8A7229F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BA79F-07D0-4D1B-98D4-34AF1785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D8E79-736E-4A4F-8D44-AEF1CD29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B49B3-9C22-4011-8C9E-792B7A843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4682A-7B26-4EF4-A3D6-129607DFD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BB756-4C86-403A-9060-E56339E05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B85B7-8E02-48C2-8028-EFF35672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A4EE6-E2E4-4ECF-B6F0-B93167E3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87DE-8CA0-40B2-9B8F-10E2949F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F1C6C-D8E3-4491-A2CE-9F572850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8C304-6862-4C08-A363-15630A94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6BCF0-9E1B-4AFC-B644-816E8A74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1729E-76A2-4A91-A55B-EACCA44A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0BF59-960B-47B1-A168-D2F453A7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BE80E-778B-4F92-AAE2-60A1976B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600F9-0FD6-4AF1-822A-113CB132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BAD88-BA76-4833-A784-CF9E02E7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BAAF1-A4A8-4F92-BE8E-A3389610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4BFA0-A7FE-498D-99A6-71CC071EA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3504-A672-4F0C-A32E-54EF6FAD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58C86-87C7-4442-8896-0C28F13A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7AC88-DBE7-4826-B987-9B7C68D9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B0192-862A-4EF5-A380-799D9E0F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DD9DD-7B62-4E8B-82B8-258E0191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BE343-C966-453B-9C09-4B0A74AF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562FC-D07C-4617-9194-CFB3F76C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D26C1-80A0-467E-BA75-6386CDEC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B7E74-89BC-4D98-A529-DEA436AA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81A55-D8F6-4FB7-A1CD-505C37D1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3FD50-8F55-4B0A-B4E8-964263F95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3F86-F1B3-4353-A684-81003C67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BB965-6568-42DD-92F2-22A32955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252B7-6E52-4FA8-89A0-AE9AB3477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E7790-21B8-4066-8107-ADD9F799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A73B7-6A2F-4F2B-BB1E-D547314F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84537-9388-419E-89BF-0D3444A0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A2D32-A488-44C0-A626-9FBF88C7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A9F58-3E3C-465E-8C2A-8B42D296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789DE-7F0B-4CFD-B1EF-BEE32A69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3270E-D4F7-4659-B781-8BF1E4CC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1E9E7-2A81-494B-94FE-538DD3FA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B5AA-C4F3-402D-8CDA-0F8E421B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37A54-6399-40FC-AD17-8AA5676A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BD582-1BAF-41B3-8B35-FDF02CA3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C5460-D1CB-4253-B3EC-9B6E1483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511EC-328D-47B9-82D6-22A899DF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FD833-B121-4DCC-AE5B-55F7CEB4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83320-C3B8-4CCA-8AAD-67B99C63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BE084-92DB-413D-AD41-66CCEA0D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65CAE-023F-4AE3-9CD5-F61B6E19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9E140-7EC9-4AD1-9E87-A33A4E13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2B2FC-2AE5-498E-8062-355A0620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636E-25B1-4215-A86B-D61D2F58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0703A-DE7F-4445-BA04-6C2D0B3D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4C1CA-9D44-4FE2-AB9F-1706F951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02D83-32DB-4FD6-A72E-EF29E2C6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62F4D-A46A-4FA0-88D3-51C7101C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DF223-AB23-4DB8-9871-4E4671381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80C92-37C8-42FF-B1C7-B6CE757D8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7B98D-254A-444E-9BE7-7856AAB0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EB03F-8B7F-4186-88ED-E02A085B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4F9D7-7E07-4D80-A379-B08A55F0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BE0D5-8A4C-48F1-9E84-DC15672D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C0ED-E9DC-4A36-ABFF-495557B9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D2D70-83BD-4C74-A10F-6DE73409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C24F1-D5E9-41D3-8D18-B3E82EBD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DB967-DFFD-4E1D-BCB6-CD098449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1BB55-917C-4596-BD1B-1A398F34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80C16-231A-4AD4-9CA0-98D9BF43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26711-2D96-465D-9DB8-620839B9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09695-A7B0-4EB2-9039-42102131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2D34C-F003-4CBA-BC91-BEC5DDBC7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741FD-0D0F-41AC-8961-3A7182CA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8225E-90C6-4C34-8436-7EE9BBA0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69E8-F0F9-4125-B325-73D4001E02D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5842-A96F-4DF4-8EA3-F67E9CF6ACE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439E-1A75-4610-BA76-599E9A0A2F6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C5D8-3BC1-44CB-822D-41A00DADA44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932F-BAA1-420D-9A7F-64E647223DC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A6B8-2FEE-4696-A240-D1251FF253D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19AB-34A6-4537-8634-A08F4677C18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DC4A-3509-46C0-A0D0-5ABAA104E08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C8E2-3859-479A-9708-E3DC075E57C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Franklin Gothic Book"/>
              </a:rPr>
              <a:t>ЛОГИЧЕСКАЯ ИГРА</a:t>
            </a:r>
            <a:endParaRPr b="0" lang="en-US" sz="7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Franklin Gothic Book"/>
              </a:rPr>
              <a:t>«СУДОКУ» </a:t>
            </a:r>
            <a:endParaRPr b="0" lang="en-US" sz="7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2" name=""/>
          <p:cNvGraphicFramePr/>
          <p:nvPr/>
        </p:nvGraphicFramePr>
        <p:xfrm>
          <a:off x="324000" y="1268280"/>
          <a:ext cx="5543280" cy="5040360"/>
        </p:xfrm>
        <a:graphic>
          <a:graphicData uri="http://schemas.openxmlformats.org/drawingml/2006/table">
            <a:tbl>
              <a:tblPr/>
              <a:tblGrid>
                <a:gridCol w="923760"/>
                <a:gridCol w="924120"/>
                <a:gridCol w="923760"/>
                <a:gridCol w="923760"/>
                <a:gridCol w="924120"/>
                <a:gridCol w="923760"/>
              </a:tblGrid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</a:tr>
              <a:tr h="83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3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4" name=""/>
          <p:cNvGraphicFramePr/>
          <p:nvPr/>
        </p:nvGraphicFramePr>
        <p:xfrm>
          <a:off x="468360" y="1197000"/>
          <a:ext cx="5975280" cy="5256360"/>
        </p:xfrm>
        <a:graphic>
          <a:graphicData uri="http://schemas.openxmlformats.org/drawingml/2006/table">
            <a:tbl>
              <a:tblPr/>
              <a:tblGrid>
                <a:gridCol w="663480"/>
                <a:gridCol w="663480"/>
                <a:gridCol w="671760"/>
                <a:gridCol w="657000"/>
                <a:gridCol w="663840"/>
                <a:gridCol w="663480"/>
                <a:gridCol w="665280"/>
                <a:gridCol w="663480"/>
                <a:gridCol w="66348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6" name=""/>
          <p:cNvGraphicFramePr/>
          <p:nvPr/>
        </p:nvGraphicFramePr>
        <p:xfrm>
          <a:off x="468360" y="1341360"/>
          <a:ext cx="5543640" cy="5183280"/>
        </p:xfrm>
        <a:graphic>
          <a:graphicData uri="http://schemas.openxmlformats.org/drawingml/2006/table">
            <a:tbl>
              <a:tblPr/>
              <a:tblGrid>
                <a:gridCol w="923760"/>
                <a:gridCol w="924120"/>
                <a:gridCol w="923760"/>
                <a:gridCol w="924120"/>
                <a:gridCol w="923760"/>
                <a:gridCol w="92412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3" descr=""/>
          <p:cNvPicPr/>
          <p:nvPr/>
        </p:nvPicPr>
        <p:blipFill>
          <a:blip r:embed="rId1"/>
          <a:stretch/>
        </p:blipFill>
        <p:spPr>
          <a:xfrm>
            <a:off x="298440" y="378000"/>
            <a:ext cx="8699400" cy="113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8" name=""/>
          <p:cNvGraphicFramePr/>
          <p:nvPr/>
        </p:nvGraphicFramePr>
        <p:xfrm>
          <a:off x="457200" y="1197000"/>
          <a:ext cx="5986440" cy="5400720"/>
        </p:xfrm>
        <a:graphic>
          <a:graphicData uri="http://schemas.openxmlformats.org/drawingml/2006/table">
            <a:tbl>
              <a:tblPr/>
              <a:tblGrid>
                <a:gridCol w="665280"/>
                <a:gridCol w="664920"/>
                <a:gridCol w="671760"/>
                <a:gridCol w="658800"/>
                <a:gridCol w="664920"/>
                <a:gridCol w="665280"/>
                <a:gridCol w="665280"/>
                <a:gridCol w="664920"/>
                <a:gridCol w="66528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Улыбающееся лицо 3"/>
          <p:cNvSpPr/>
          <p:nvPr/>
        </p:nvSpPr>
        <p:spPr>
          <a:xfrm>
            <a:off x="3419640" y="1700280"/>
            <a:ext cx="1779480" cy="1800000"/>
          </a:xfrm>
          <a:prstGeom prst="smileyFace">
            <a:avLst>
              <a:gd name="adj" fmla="val 9282"/>
            </a:avLst>
          </a:prstGeom>
          <a:solidFill>
            <a:srgbClr val="fbeec9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Улыбающееся лицо 6"/>
          <p:cNvSpPr/>
          <p:nvPr/>
        </p:nvSpPr>
        <p:spPr>
          <a:xfrm>
            <a:off x="2411280" y="3284640"/>
            <a:ext cx="1800360" cy="1800000"/>
          </a:xfrm>
          <a:prstGeom prst="smileyFace">
            <a:avLst>
              <a:gd name="adj" fmla="val 889"/>
            </a:avLst>
          </a:prstGeom>
          <a:solidFill>
            <a:srgbClr val="fbeec9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Улыбающееся лицо 7"/>
          <p:cNvSpPr/>
          <p:nvPr/>
        </p:nvSpPr>
        <p:spPr>
          <a:xfrm>
            <a:off x="4211640" y="3357720"/>
            <a:ext cx="1873080" cy="1800000"/>
          </a:xfrm>
          <a:prstGeom prst="smileyFace">
            <a:avLst>
              <a:gd name="adj" fmla="val -4652"/>
            </a:avLst>
          </a:prstGeom>
          <a:solidFill>
            <a:srgbClr val="fbeec9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6:57:18Z</dcterms:created>
  <dc:creator>Your User Name</dc:creator>
  <dc:description/>
  <dc:language>en-US</dc:language>
  <cp:lastModifiedBy>Your User Name</cp:lastModifiedBy>
  <dcterms:modified xsi:type="dcterms:W3CDTF">2011-04-28T04:02:57Z</dcterms:modified>
  <cp:revision>16</cp:revision>
  <dc:subject/>
  <dc:title>Слайд 1</dc:title>
</cp:coreProperties>
</file>