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17.jpeg" ContentType="image/jpeg"/>
  <Override PartName="/ppt/media/image49.gif" ContentType="image/gif"/>
  <Override PartName="/ppt/media/image3.png" ContentType="image/png"/>
  <Override PartName="/ppt/media/image33.png" ContentType="image/png"/>
  <Override PartName="/ppt/media/image25.jpeg" ContentType="image/jpeg"/>
  <Override PartName="/ppt/media/image2.png" ContentType="image/png"/>
  <Override PartName="/ppt/media/image32.jpeg" ContentType="image/jpeg"/>
  <Override PartName="/ppt/media/image35.png" ContentType="image/png"/>
  <Override PartName="/ppt/media/applause.wav" ContentType="audio/x-wav"/>
  <Override PartName="/ppt/media/image27.jpeg" ContentType="image/jpeg"/>
  <Override PartName="/ppt/media/image36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34.png" ContentType="image/png"/>
  <Override PartName="/ppt/media/image43.gif" ContentType="image/gif"/>
  <Override PartName="/ppt/media/image46.png" ContentType="image/png"/>
  <Override PartName="/ppt/media/image45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0.jpeg" ContentType="image/jpeg"/>
  <Override PartName="/ppt/media/image29.jpeg" ContentType="image/jpeg"/>
  <Override PartName="/ppt/media/image10.jpeg" ContentType="image/jpeg"/>
  <Override PartName="/ppt/media/image20.jpeg" ContentType="image/jpeg"/>
  <Override PartName="/ppt/media/image28.jpeg" ContentType="image/jpeg"/>
  <Override PartName="/ppt/media/image38.png" ContentType="image/png"/>
  <Override PartName="/ppt/media/image8.png" ContentType="image/png"/>
  <Override PartName="/ppt/media/image7.jpeg" ContentType="image/jpeg"/>
  <Override PartName="/ppt/media/image5.gif" ContentType="image/gif"/>
  <Override PartName="/ppt/media/image41.jpeg" ContentType="image/jpeg"/>
  <Override PartName="/ppt/media/image14.jpeg" ContentType="image/jpeg"/>
  <Override PartName="/ppt/media/image6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64F-1A8D-4674-9F58-23F2264F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99C5-681A-4117-AD05-66642C66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F1C-E8D9-46C9-9433-C583E31A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E454-06AC-4E9D-A9E5-EC640E32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7D42-5A01-4CB8-A1EF-0B10B85D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1D3B-7CD4-411C-B1FE-1B825BA7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4713-5877-49E7-A43E-77FDE4DE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AE37-88F0-4089-B696-2E6C781C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B39D-E1F5-406E-9A59-F49E22DA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E367-6AC5-4184-B919-ED23F859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DC22-701B-4038-AAA4-10082E72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942E-3A6C-44EE-943A-B40A59F9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800E-A00B-4585-BD3C-365DBEC8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182F-67D1-455E-A45A-12D58611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877A-0663-4BC4-94F3-4EA91917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216E-71F0-493F-999A-5BEA5DF7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F9BF-5BB8-4F79-9B32-46C7ACAD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D411-4F81-4F67-B0A6-03EE1D0A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2C0-4EC8-44E4-84C4-1A810771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B858-3A57-4C3F-B192-9211EBF1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82A-FF16-4D25-BB82-FEDAF2EB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269D-0D77-4113-8844-6025D240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51F2-1CF3-466F-A658-39CE5B35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01A8-8C09-423C-98BC-0D89F4F2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Freeform 19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Freeform 22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Freeform 25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Freeform 28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Freeform 31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Freeform 34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Freeform 37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9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Freeform 40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2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Freeform 43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Group 44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Freeform 45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Freeform 46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8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Freeform 49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Freeform 58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Freeform 61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Freeform 64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Freeform 67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Freeform 70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Freeform 73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Freeform 76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8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Freeform 79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1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Freeform 82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Group 83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Freeform 84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Freeform 85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7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Freeform 88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2BB1-4A9D-4359-B3BE-2DBFD8DBAFA8}" type="slidenum">
              <a:rPr b="0" i="1" lang="ru-RU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3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4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Rectangle 5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Rectangle 6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Rectangle 7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Rectangle 8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Rectangle 9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Rectangle 10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Group 11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12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13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Group 14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5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Freeform 16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Group 17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8"/>
                    <p:cNvGrpSpPr/>
                    <p:nvPr/>
                  </p:nvGrpSpPr>
                  <p:grpSpPr>
                    <a:xfrm>
                      <a:off x="742680" y="3811680"/>
                      <a:ext cx="4643640" cy="177840"/>
                      <a:chOff x="742680" y="3811680"/>
                      <a:chExt cx="4643640" cy="177840"/>
                    </a:xfrm>
                  </p:grpSpPr>
                  <p:grpSp>
                    <p:nvGrpSpPr>
                      <p:cNvPr id="153" name="Group 19"/>
                      <p:cNvGrpSpPr/>
                      <p:nvPr/>
                    </p:nvGrpSpPr>
                    <p:grpSpPr>
                      <a:xfrm>
                        <a:off x="742680" y="3811680"/>
                        <a:ext cx="663480" cy="177840"/>
                        <a:chOff x="742680" y="3811680"/>
                        <a:chExt cx="663480" cy="177840"/>
                      </a:xfrm>
                    </p:grpSpPr>
                    <p:sp>
                      <p:nvSpPr>
                        <p:cNvPr id="154" name="Freeform 20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Freeform 21"/>
                        <p:cNvSpPr/>
                        <p:nvPr/>
                      </p:nvSpPr>
                      <p:spPr>
                        <a:xfrm>
                          <a:off x="107064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22"/>
                      <p:cNvGrpSpPr/>
                      <p:nvPr/>
                    </p:nvGrpSpPr>
                    <p:grpSpPr>
                      <a:xfrm>
                        <a:off x="1406160" y="3811680"/>
                        <a:ext cx="663480" cy="177840"/>
                        <a:chOff x="1406160" y="3811680"/>
                        <a:chExt cx="663480" cy="177840"/>
                      </a:xfrm>
                    </p:grpSpPr>
                    <p:sp>
                      <p:nvSpPr>
                        <p:cNvPr id="157" name="Freeform 23"/>
                        <p:cNvSpPr/>
                        <p:nvPr/>
                      </p:nvSpPr>
                      <p:spPr>
                        <a:xfrm>
                          <a:off x="140616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Freeform 24"/>
                        <p:cNvSpPr/>
                        <p:nvPr/>
                      </p:nvSpPr>
                      <p:spPr>
                        <a:xfrm>
                          <a:off x="17341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5"/>
                      <p:cNvGrpSpPr/>
                      <p:nvPr/>
                    </p:nvGrpSpPr>
                    <p:grpSpPr>
                      <a:xfrm>
                        <a:off x="2069640" y="3811680"/>
                        <a:ext cx="663120" cy="177840"/>
                        <a:chOff x="2069640" y="3811680"/>
                        <a:chExt cx="663120" cy="177840"/>
                      </a:xfrm>
                    </p:grpSpPr>
                    <p:sp>
                      <p:nvSpPr>
                        <p:cNvPr id="160" name="Freeform 26"/>
                        <p:cNvSpPr/>
                        <p:nvPr/>
                      </p:nvSpPr>
                      <p:spPr>
                        <a:xfrm>
                          <a:off x="206964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Freeform 27"/>
                        <p:cNvSpPr/>
                        <p:nvPr/>
                      </p:nvSpPr>
                      <p:spPr>
                        <a:xfrm>
                          <a:off x="239760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8"/>
                      <p:cNvGrpSpPr/>
                      <p:nvPr/>
                    </p:nvGrpSpPr>
                    <p:grpSpPr>
                      <a:xfrm>
                        <a:off x="2733120" y="3811680"/>
                        <a:ext cx="663480" cy="177840"/>
                        <a:chOff x="2733120" y="3811680"/>
                        <a:chExt cx="663480" cy="177840"/>
                      </a:xfrm>
                    </p:grpSpPr>
                    <p:sp>
                      <p:nvSpPr>
                        <p:cNvPr id="163" name="Freeform 29"/>
                        <p:cNvSpPr/>
                        <p:nvPr/>
                      </p:nvSpPr>
                      <p:spPr>
                        <a:xfrm>
                          <a:off x="27331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Freeform 30"/>
                        <p:cNvSpPr/>
                        <p:nvPr/>
                      </p:nvSpPr>
                      <p:spPr>
                        <a:xfrm>
                          <a:off x="30610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31"/>
                      <p:cNvGrpSpPr/>
                      <p:nvPr/>
                    </p:nvGrpSpPr>
                    <p:grpSpPr>
                      <a:xfrm>
                        <a:off x="3395520" y="3811680"/>
                        <a:ext cx="663480" cy="177840"/>
                        <a:chOff x="3395520" y="3811680"/>
                        <a:chExt cx="663480" cy="177840"/>
                      </a:xfrm>
                    </p:grpSpPr>
                    <p:sp>
                      <p:nvSpPr>
                        <p:cNvPr id="166" name="Freeform 32"/>
                        <p:cNvSpPr/>
                        <p:nvPr/>
                      </p:nvSpPr>
                      <p:spPr>
                        <a:xfrm>
                          <a:off x="33955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Freeform 33"/>
                        <p:cNvSpPr/>
                        <p:nvPr/>
                      </p:nvSpPr>
                      <p:spPr>
                        <a:xfrm>
                          <a:off x="37234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4"/>
                      <p:cNvGrpSpPr/>
                      <p:nvPr/>
                    </p:nvGrpSpPr>
                    <p:grpSpPr>
                      <a:xfrm>
                        <a:off x="4059360" y="3811680"/>
                        <a:ext cx="663480" cy="177840"/>
                        <a:chOff x="4059360" y="3811680"/>
                        <a:chExt cx="663480" cy="177840"/>
                      </a:xfrm>
                    </p:grpSpPr>
                    <p:sp>
                      <p:nvSpPr>
                        <p:cNvPr id="169" name="Freeform 35"/>
                        <p:cNvSpPr/>
                        <p:nvPr/>
                      </p:nvSpPr>
                      <p:spPr>
                        <a:xfrm>
                          <a:off x="405936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Freeform 36"/>
                        <p:cNvSpPr/>
                        <p:nvPr/>
                      </p:nvSpPr>
                      <p:spPr>
                        <a:xfrm>
                          <a:off x="43873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7"/>
                      <p:cNvGrpSpPr/>
                      <p:nvPr/>
                    </p:nvGrpSpPr>
                    <p:grpSpPr>
                      <a:xfrm>
                        <a:off x="4722840" y="3811680"/>
                        <a:ext cx="663480" cy="177840"/>
                        <a:chOff x="4722840" y="3811680"/>
                        <a:chExt cx="663480" cy="177840"/>
                      </a:xfrm>
                    </p:grpSpPr>
                    <p:sp>
                      <p:nvSpPr>
                        <p:cNvPr id="172" name="Freeform 38"/>
                        <p:cNvSpPr/>
                        <p:nvPr/>
                      </p:nvSpPr>
                      <p:spPr>
                        <a:xfrm>
                          <a:off x="472284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Freeform 39"/>
                        <p:cNvSpPr/>
                        <p:nvPr/>
                      </p:nvSpPr>
                      <p:spPr>
                        <a:xfrm>
                          <a:off x="505080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40"/>
                    <p:cNvGrpSpPr/>
                    <p:nvPr/>
                  </p:nvGrpSpPr>
                  <p:grpSpPr>
                    <a:xfrm>
                      <a:off x="5391000" y="3810240"/>
                      <a:ext cx="662040" cy="177840"/>
                      <a:chOff x="5391000" y="3810240"/>
                      <a:chExt cx="662040" cy="177840"/>
                    </a:xfrm>
                  </p:grpSpPr>
                  <p:sp>
                    <p:nvSpPr>
                      <p:cNvPr id="175" name="Freeform 41"/>
                      <p:cNvSpPr/>
                      <p:nvPr/>
                    </p:nvSpPr>
                    <p:spPr>
                      <a:xfrm>
                        <a:off x="539100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Freeform 42"/>
                      <p:cNvSpPr/>
                      <p:nvPr/>
                    </p:nvSpPr>
                    <p:spPr>
                      <a:xfrm>
                        <a:off x="571824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Group 43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4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Freeform 45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Group 46"/>
                    <p:cNvGrpSpPr/>
                    <p:nvPr/>
                  </p:nvGrpSpPr>
                  <p:grpSpPr>
                    <a:xfrm>
                      <a:off x="6716520" y="3810240"/>
                      <a:ext cx="661680" cy="177840"/>
                      <a:chOff x="6716520" y="3810240"/>
                      <a:chExt cx="661680" cy="177840"/>
                    </a:xfrm>
                  </p:grpSpPr>
                  <p:sp>
                    <p:nvSpPr>
                      <p:cNvPr id="181" name="Freeform 47"/>
                      <p:cNvSpPr/>
                      <p:nvPr/>
                    </p:nvSpPr>
                    <p:spPr>
                      <a:xfrm>
                        <a:off x="6716520" y="3810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Freeform 48"/>
                      <p:cNvSpPr/>
                      <p:nvPr/>
                    </p:nvSpPr>
                    <p:spPr>
                      <a:xfrm>
                        <a:off x="7043760" y="3810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Group 49"/>
                    <p:cNvGrpSpPr/>
                    <p:nvPr/>
                  </p:nvGrpSpPr>
                  <p:grpSpPr>
                    <a:xfrm>
                      <a:off x="7383240" y="3810240"/>
                      <a:ext cx="662040" cy="177840"/>
                      <a:chOff x="7383240" y="3810240"/>
                      <a:chExt cx="662040" cy="177840"/>
                    </a:xfrm>
                  </p:grpSpPr>
                  <p:sp>
                    <p:nvSpPr>
                      <p:cNvPr id="184" name="Freeform 50"/>
                      <p:cNvSpPr/>
                      <p:nvPr/>
                    </p:nvSpPr>
                    <p:spPr>
                      <a:xfrm>
                        <a:off x="738324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Freeform 51"/>
                      <p:cNvSpPr/>
                      <p:nvPr/>
                    </p:nvSpPr>
                    <p:spPr>
                      <a:xfrm>
                        <a:off x="771048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Freeform 52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Group 53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4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Freeform 55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Group 56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7"/>
                    <p:cNvGrpSpPr/>
                    <p:nvPr/>
                  </p:nvGrpSpPr>
                  <p:grpSpPr>
                    <a:xfrm>
                      <a:off x="726840" y="3809880"/>
                      <a:ext cx="4643640" cy="177840"/>
                      <a:chOff x="726840" y="3809880"/>
                      <a:chExt cx="4643640" cy="177840"/>
                    </a:xfrm>
                  </p:grpSpPr>
                  <p:grpSp>
                    <p:nvGrpSpPr>
                      <p:cNvPr id="192" name="Group 58"/>
                      <p:cNvGrpSpPr/>
                      <p:nvPr/>
                    </p:nvGrpSpPr>
                    <p:grpSpPr>
                      <a:xfrm>
                        <a:off x="726840" y="3809880"/>
                        <a:ext cx="663480" cy="177840"/>
                        <a:chOff x="726840" y="3809880"/>
                        <a:chExt cx="663480" cy="177840"/>
                      </a:xfrm>
                    </p:grpSpPr>
                    <p:sp>
                      <p:nvSpPr>
                        <p:cNvPr id="193" name="Freeform 59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Freeform 60"/>
                        <p:cNvSpPr/>
                        <p:nvPr/>
                      </p:nvSpPr>
                      <p:spPr>
                        <a:xfrm>
                          <a:off x="105480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61"/>
                      <p:cNvGrpSpPr/>
                      <p:nvPr/>
                    </p:nvGrpSpPr>
                    <p:grpSpPr>
                      <a:xfrm>
                        <a:off x="1390320" y="3809880"/>
                        <a:ext cx="663480" cy="177840"/>
                        <a:chOff x="1390320" y="3809880"/>
                        <a:chExt cx="663480" cy="177840"/>
                      </a:xfrm>
                    </p:grpSpPr>
                    <p:sp>
                      <p:nvSpPr>
                        <p:cNvPr id="196" name="Freeform 62"/>
                        <p:cNvSpPr/>
                        <p:nvPr/>
                      </p:nvSpPr>
                      <p:spPr>
                        <a:xfrm>
                          <a:off x="139032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Freeform 63"/>
                        <p:cNvSpPr/>
                        <p:nvPr/>
                      </p:nvSpPr>
                      <p:spPr>
                        <a:xfrm>
                          <a:off x="17182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4"/>
                      <p:cNvGrpSpPr/>
                      <p:nvPr/>
                    </p:nvGrpSpPr>
                    <p:grpSpPr>
                      <a:xfrm>
                        <a:off x="2053800" y="3809880"/>
                        <a:ext cx="663120" cy="177840"/>
                        <a:chOff x="2053800" y="3809880"/>
                        <a:chExt cx="663120" cy="177840"/>
                      </a:xfrm>
                    </p:grpSpPr>
                    <p:sp>
                      <p:nvSpPr>
                        <p:cNvPr id="199" name="Freeform 65"/>
                        <p:cNvSpPr/>
                        <p:nvPr/>
                      </p:nvSpPr>
                      <p:spPr>
                        <a:xfrm>
                          <a:off x="205380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Freeform 66"/>
                        <p:cNvSpPr/>
                        <p:nvPr/>
                      </p:nvSpPr>
                      <p:spPr>
                        <a:xfrm>
                          <a:off x="238176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7"/>
                      <p:cNvGrpSpPr/>
                      <p:nvPr/>
                    </p:nvGrpSpPr>
                    <p:grpSpPr>
                      <a:xfrm>
                        <a:off x="2717280" y="3809880"/>
                        <a:ext cx="663480" cy="177840"/>
                        <a:chOff x="2717280" y="3809880"/>
                        <a:chExt cx="663480" cy="177840"/>
                      </a:xfrm>
                    </p:grpSpPr>
                    <p:sp>
                      <p:nvSpPr>
                        <p:cNvPr id="202" name="Freeform 68"/>
                        <p:cNvSpPr/>
                        <p:nvPr/>
                      </p:nvSpPr>
                      <p:spPr>
                        <a:xfrm>
                          <a:off x="27172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Freeform 69"/>
                        <p:cNvSpPr/>
                        <p:nvPr/>
                      </p:nvSpPr>
                      <p:spPr>
                        <a:xfrm>
                          <a:off x="30452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70"/>
                      <p:cNvGrpSpPr/>
                      <p:nvPr/>
                    </p:nvGrpSpPr>
                    <p:grpSpPr>
                      <a:xfrm>
                        <a:off x="3379680" y="3809880"/>
                        <a:ext cx="663480" cy="177840"/>
                        <a:chOff x="3379680" y="3809880"/>
                        <a:chExt cx="663480" cy="177840"/>
                      </a:xfrm>
                    </p:grpSpPr>
                    <p:sp>
                      <p:nvSpPr>
                        <p:cNvPr id="205" name="Freeform 71"/>
                        <p:cNvSpPr/>
                        <p:nvPr/>
                      </p:nvSpPr>
                      <p:spPr>
                        <a:xfrm>
                          <a:off x="33796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Freeform 72"/>
                        <p:cNvSpPr/>
                        <p:nvPr/>
                      </p:nvSpPr>
                      <p:spPr>
                        <a:xfrm>
                          <a:off x="37076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3"/>
                      <p:cNvGrpSpPr/>
                      <p:nvPr/>
                    </p:nvGrpSpPr>
                    <p:grpSpPr>
                      <a:xfrm>
                        <a:off x="4043520" y="3809880"/>
                        <a:ext cx="663480" cy="177840"/>
                        <a:chOff x="4043520" y="3809880"/>
                        <a:chExt cx="663480" cy="177840"/>
                      </a:xfrm>
                    </p:grpSpPr>
                    <p:sp>
                      <p:nvSpPr>
                        <p:cNvPr id="208" name="Freeform 74"/>
                        <p:cNvSpPr/>
                        <p:nvPr/>
                      </p:nvSpPr>
                      <p:spPr>
                        <a:xfrm>
                          <a:off x="404352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Freeform 75"/>
                        <p:cNvSpPr/>
                        <p:nvPr/>
                      </p:nvSpPr>
                      <p:spPr>
                        <a:xfrm>
                          <a:off x="43714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6"/>
                      <p:cNvGrpSpPr/>
                      <p:nvPr/>
                    </p:nvGrpSpPr>
                    <p:grpSpPr>
                      <a:xfrm>
                        <a:off x="4707000" y="3809880"/>
                        <a:ext cx="663480" cy="177840"/>
                        <a:chOff x="4707000" y="3809880"/>
                        <a:chExt cx="663480" cy="177840"/>
                      </a:xfrm>
                    </p:grpSpPr>
                    <p:sp>
                      <p:nvSpPr>
                        <p:cNvPr id="211" name="Freeform 77"/>
                        <p:cNvSpPr/>
                        <p:nvPr/>
                      </p:nvSpPr>
                      <p:spPr>
                        <a:xfrm>
                          <a:off x="470700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Freeform 78"/>
                        <p:cNvSpPr/>
                        <p:nvPr/>
                      </p:nvSpPr>
                      <p:spPr>
                        <a:xfrm>
                          <a:off x="503496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9"/>
                    <p:cNvGrpSpPr/>
                    <p:nvPr/>
                  </p:nvGrpSpPr>
                  <p:grpSpPr>
                    <a:xfrm>
                      <a:off x="5375160" y="3808440"/>
                      <a:ext cx="662040" cy="177840"/>
                      <a:chOff x="5375160" y="3808440"/>
                      <a:chExt cx="662040" cy="177840"/>
                    </a:xfrm>
                  </p:grpSpPr>
                  <p:sp>
                    <p:nvSpPr>
                      <p:cNvPr id="214" name="Freeform 80"/>
                      <p:cNvSpPr/>
                      <p:nvPr/>
                    </p:nvSpPr>
                    <p:spPr>
                      <a:xfrm>
                        <a:off x="537516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Freeform 81"/>
                      <p:cNvSpPr/>
                      <p:nvPr/>
                    </p:nvSpPr>
                    <p:spPr>
                      <a:xfrm>
                        <a:off x="570240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Group 82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3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Freeform 84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Group 85"/>
                    <p:cNvGrpSpPr/>
                    <p:nvPr/>
                  </p:nvGrpSpPr>
                  <p:grpSpPr>
                    <a:xfrm>
                      <a:off x="6700680" y="3808440"/>
                      <a:ext cx="661680" cy="177840"/>
                      <a:chOff x="6700680" y="3808440"/>
                      <a:chExt cx="661680" cy="177840"/>
                    </a:xfrm>
                  </p:grpSpPr>
                  <p:sp>
                    <p:nvSpPr>
                      <p:cNvPr id="220" name="Freeform 86"/>
                      <p:cNvSpPr/>
                      <p:nvPr/>
                    </p:nvSpPr>
                    <p:spPr>
                      <a:xfrm>
                        <a:off x="6700680" y="38084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Freeform 87"/>
                      <p:cNvSpPr/>
                      <p:nvPr/>
                    </p:nvSpPr>
                    <p:spPr>
                      <a:xfrm>
                        <a:off x="7027920" y="38084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Group 88"/>
                    <p:cNvGrpSpPr/>
                    <p:nvPr/>
                  </p:nvGrpSpPr>
                  <p:grpSpPr>
                    <a:xfrm>
                      <a:off x="7367400" y="3808440"/>
                      <a:ext cx="662040" cy="177840"/>
                      <a:chOff x="7367400" y="3808440"/>
                      <a:chExt cx="662040" cy="177840"/>
                    </a:xfrm>
                  </p:grpSpPr>
                  <p:sp>
                    <p:nvSpPr>
                      <p:cNvPr id="223" name="Freeform 89"/>
                      <p:cNvSpPr/>
                      <p:nvPr/>
                    </p:nvSpPr>
                    <p:spPr>
                      <a:xfrm>
                        <a:off x="736740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Freeform 90"/>
                      <p:cNvSpPr/>
                      <p:nvPr/>
                    </p:nvSpPr>
                    <p:spPr>
                      <a:xfrm>
                        <a:off x="769464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Freeform 91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Group 92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3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94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Freeform 95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6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97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Rectangle 98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99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0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AutoShape 101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AutoShape 102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103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04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AutoShape 105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AutoShape 106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B993-780B-4AD4-AB61-A9DE02FA7644}" type="slidenum">
              <a:rPr b="0" i="1" lang="ru-RU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6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9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30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31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8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9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1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4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" descr="kv26_0390004"/>
          <p:cNvPicPr/>
          <p:nvPr/>
        </p:nvPicPr>
        <p:blipFill>
          <a:blip r:embed="rId1"/>
          <a:stretch/>
        </p:blipFill>
        <p:spPr>
          <a:xfrm>
            <a:off x="6588000" y="5057640"/>
            <a:ext cx="2232000" cy="1800360"/>
          </a:xfrm>
          <a:prstGeom prst="rect">
            <a:avLst/>
          </a:prstGeom>
          <a:ln w="57240">
            <a:solidFill>
              <a:srgbClr val="deb54e"/>
            </a:solidFill>
            <a:miter/>
          </a:ln>
        </p:spPr>
      </p:pic>
      <p:pic>
        <p:nvPicPr>
          <p:cNvPr id="283" name="Picture 0" descr="line"/>
          <p:cNvPicPr/>
          <p:nvPr/>
        </p:nvPicPr>
        <p:blipFill>
          <a:blip r:embed="rId2"/>
          <a:stretch/>
        </p:blipFill>
        <p:spPr>
          <a:xfrm>
            <a:off x="2556000" y="115920"/>
            <a:ext cx="4392360" cy="576360"/>
          </a:xfrm>
          <a:prstGeom prst="rect">
            <a:avLst/>
          </a:prstGeom>
          <a:ln w="0">
            <a:noFill/>
          </a:ln>
        </p:spPr>
      </p:pic>
      <p:sp>
        <p:nvSpPr>
          <p:cNvPr id="284" name="WordArt 0"/>
          <p:cNvSpPr txBox="1"/>
          <p:nvPr/>
        </p:nvSpPr>
        <p:spPr>
          <a:xfrm>
            <a:off x="2556000" y="11592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285" name="Rectangle 0"/>
          <p:cNvSpPr/>
          <p:nvPr/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edd39f"/>
                </a:solidFill>
                <a:latin typeface="Times New Roman"/>
              </a:rPr>
              <a:t>An intellectual marathon</a:t>
            </a: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990000"/>
                </a:solidFill>
                <a:latin typeface="Monotype Corsiva"/>
              </a:rPr>
              <a:t>“DO YOU  KNOW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Monotype Corsiva"/>
              </a:rPr>
              <a:t>BRITAIN  WELL?”</a:t>
            </a:r>
            <a:r>
              <a:rPr b="1" lang="ru-RU" sz="4400" spc="-1" strike="noStrike">
                <a:solidFill>
                  <a:srgbClr val="990000"/>
                </a:solidFill>
                <a:latin typeface="Monotype Corsiva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6" name="Picture 0" descr="london_towerbridge"/>
          <p:cNvPicPr/>
          <p:nvPr/>
        </p:nvPicPr>
        <p:blipFill>
          <a:blip r:embed="rId3"/>
          <a:stretch/>
        </p:blipFill>
        <p:spPr>
          <a:xfrm>
            <a:off x="755640" y="3789360"/>
            <a:ext cx="2679840" cy="3068640"/>
          </a:xfrm>
          <a:prstGeom prst="rect">
            <a:avLst/>
          </a:prstGeom>
          <a:ln w="57240">
            <a:solidFill>
              <a:srgbClr val="deb54e"/>
            </a:solidFill>
            <a:miter/>
          </a:ln>
          <a:effectLst>
            <a:outerShdw dist="17819" dir="2700000" blurRad="0" rotWithShape="0">
              <a:srgbClr val="88826c"/>
            </a:outerShdw>
          </a:effectLst>
        </p:spPr>
      </p:pic>
      <p:pic>
        <p:nvPicPr>
          <p:cNvPr id="287" name="Picture 1" descr="london-XX1XX-1125346687-8561"/>
          <p:cNvPicPr/>
          <p:nvPr/>
        </p:nvPicPr>
        <p:blipFill>
          <a:blip r:embed="rId4"/>
          <a:stretch/>
        </p:blipFill>
        <p:spPr>
          <a:xfrm>
            <a:off x="3706920" y="4653000"/>
            <a:ext cx="2665440" cy="2205000"/>
          </a:xfrm>
          <a:prstGeom prst="rect">
            <a:avLst/>
          </a:prstGeom>
          <a:ln w="57240">
            <a:solidFill>
              <a:srgbClr val="deb54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. Sir Christopher Wren was</a:t>
            </a:r>
            <a:r>
              <a:rPr b="0" lang="en-US" sz="44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edd39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n artist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write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compose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an architect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23" name="AutoShape 0">
            <a:hlinkClick r:id="rId5" action="ppaction://hlinksldjump"/>
          </p:cNvPr>
          <p:cNvSpPr/>
          <p:nvPr/>
        </p:nvSpPr>
        <p:spPr>
          <a:xfrm>
            <a:off x="8244000" y="6165720"/>
            <a:ext cx="649080" cy="609840"/>
          </a:xfrm>
          <a:custGeom>
            <a:avLst/>
            <a:gdLst>
              <a:gd name="textAreaLeft" fmla="*/ 39240 w 649080"/>
              <a:gd name="textAreaRight" fmla="*/ 609840 w 649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2989" h="21600">
                <a:moveTo>
                  <a:pt x="0" y="0"/>
                </a:moveTo>
                <a:lnTo>
                  <a:pt x="22989" y="0"/>
                </a:lnTo>
                <a:lnTo>
                  <a:pt x="22989" y="21600"/>
                </a:lnTo>
                <a:lnTo>
                  <a:pt x="0" y="21600"/>
                </a:lnTo>
                <a:close/>
              </a:path>
              <a:path fill="lightenLess" w="22989" h="21600">
                <a:moveTo>
                  <a:pt x="0" y="0"/>
                </a:moveTo>
                <a:lnTo>
                  <a:pt x="22989" y="0"/>
                </a:lnTo>
                <a:lnTo>
                  <a:pt x="21589" y="1400"/>
                </a:lnTo>
                <a:lnTo>
                  <a:pt x="1400" y="1400"/>
                </a:lnTo>
                <a:close/>
              </a:path>
              <a:path fill="darken" w="22989" h="21600">
                <a:moveTo>
                  <a:pt x="22989" y="0"/>
                </a:moveTo>
                <a:lnTo>
                  <a:pt x="22989" y="21600"/>
                </a:lnTo>
                <a:lnTo>
                  <a:pt x="21589" y="20200"/>
                </a:lnTo>
                <a:lnTo>
                  <a:pt x="21589" y="1400"/>
                </a:lnTo>
                <a:close/>
              </a:path>
              <a:path fill="darkenLess" w="22989" h="21600">
                <a:moveTo>
                  <a:pt x="22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89" y="20200"/>
                </a:lnTo>
                <a:close/>
              </a:path>
              <a:path fill="lighten" w="22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89" h="21600">
                <a:moveTo>
                  <a:pt x="1149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989" h="21600">
                <a:moveTo>
                  <a:pt x="12600" y="14281"/>
                </a:moveTo>
                <a:lnTo>
                  <a:pt x="12600" y="12323"/>
                </a:lnTo>
                <a:cubicBezTo>
                  <a:pt x="12600" y="11496"/>
                  <a:pt x="12931" y="10800"/>
                  <a:pt x="13531" y="10800"/>
                </a:cubicBezTo>
                <a:cubicBezTo>
                  <a:pt x="14663" y="10800"/>
                  <a:pt x="15559" y="9434"/>
                  <a:pt x="15559" y="7849"/>
                </a:cubicBezTo>
                <a:cubicBezTo>
                  <a:pt x="15559" y="5534"/>
                  <a:pt x="13705" y="3794"/>
                  <a:pt x="11495" y="3794"/>
                </a:cubicBezTo>
                <a:cubicBezTo>
                  <a:pt x="9284" y="3794"/>
                  <a:pt x="7613" y="5534"/>
                  <a:pt x="7613" y="7849"/>
                </a:cubicBezTo>
                <a:lnTo>
                  <a:pt x="9467" y="7849"/>
                </a:lnTo>
                <a:cubicBezTo>
                  <a:pt x="9467" y="6709"/>
                  <a:pt x="10389" y="5821"/>
                  <a:pt x="11495" y="5821"/>
                </a:cubicBezTo>
                <a:cubicBezTo>
                  <a:pt x="12600" y="5821"/>
                  <a:pt x="13531" y="6709"/>
                  <a:pt x="13531" y="7849"/>
                </a:cubicBezTo>
                <a:cubicBezTo>
                  <a:pt x="13531" y="8589"/>
                  <a:pt x="13061" y="9320"/>
                  <a:pt x="12600" y="9320"/>
                </a:cubicBezTo>
                <a:cubicBezTo>
                  <a:pt x="11495" y="9320"/>
                  <a:pt x="10389" y="10800"/>
                  <a:pt x="10389" y="12323"/>
                </a:cubicBezTo>
                <a:lnTo>
                  <a:pt x="10389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.</a:t>
            </a:r>
            <a:r>
              <a:rPr b="0" lang="en-US" sz="40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Admiral Nelson defeated the French at the Battle of Trafalgar in</a:t>
            </a:r>
            <a:r>
              <a:rPr b="0" lang="ru-RU" sz="40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805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875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905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795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27" name="AutoShape 0">
            <a:hlinkClick r:id="rId5" action="ppaction://hlinksldjump"/>
          </p:cNvPr>
          <p:cNvSpPr/>
          <p:nvPr/>
        </p:nvSpPr>
        <p:spPr>
          <a:xfrm>
            <a:off x="8317080" y="6237360"/>
            <a:ext cx="610920" cy="539640"/>
          </a:xfrm>
          <a:custGeom>
            <a:avLst/>
            <a:gdLst>
              <a:gd name="textAreaLeft" fmla="*/ 34920 w 610920"/>
              <a:gd name="textAreaRight" fmla="*/ 576000 w 610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4451" h="21600">
                <a:moveTo>
                  <a:pt x="0" y="0"/>
                </a:moveTo>
                <a:lnTo>
                  <a:pt x="24451" y="0"/>
                </a:lnTo>
                <a:lnTo>
                  <a:pt x="24451" y="21600"/>
                </a:lnTo>
                <a:lnTo>
                  <a:pt x="0" y="21600"/>
                </a:lnTo>
                <a:close/>
              </a:path>
              <a:path fill="lightenLess" w="24451" h="21600">
                <a:moveTo>
                  <a:pt x="0" y="0"/>
                </a:moveTo>
                <a:lnTo>
                  <a:pt x="24451" y="0"/>
                </a:lnTo>
                <a:lnTo>
                  <a:pt x="23051" y="1400"/>
                </a:lnTo>
                <a:lnTo>
                  <a:pt x="1400" y="1400"/>
                </a:lnTo>
                <a:close/>
              </a:path>
              <a:path fill="darken" w="24451" h="21600">
                <a:moveTo>
                  <a:pt x="24451" y="0"/>
                </a:moveTo>
                <a:lnTo>
                  <a:pt x="24451" y="21600"/>
                </a:lnTo>
                <a:lnTo>
                  <a:pt x="23051" y="20200"/>
                </a:lnTo>
                <a:lnTo>
                  <a:pt x="23051" y="1400"/>
                </a:lnTo>
                <a:close/>
              </a:path>
              <a:path fill="darkenLess" w="24451" h="21600">
                <a:moveTo>
                  <a:pt x="24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1" y="20200"/>
                </a:lnTo>
                <a:close/>
              </a:path>
              <a:path fill="lighten" w="24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51" h="21600">
                <a:moveTo>
                  <a:pt x="1222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51" h="21600">
                <a:moveTo>
                  <a:pt x="13331" y="14281"/>
                </a:moveTo>
                <a:lnTo>
                  <a:pt x="13331" y="12323"/>
                </a:lnTo>
                <a:cubicBezTo>
                  <a:pt x="13331" y="11496"/>
                  <a:pt x="13662" y="10800"/>
                  <a:pt x="14262" y="10800"/>
                </a:cubicBezTo>
                <a:cubicBezTo>
                  <a:pt x="15394" y="10800"/>
                  <a:pt x="16290" y="9434"/>
                  <a:pt x="16290" y="7849"/>
                </a:cubicBezTo>
                <a:cubicBezTo>
                  <a:pt x="16290" y="5534"/>
                  <a:pt x="14436" y="3794"/>
                  <a:pt x="12226" y="3794"/>
                </a:cubicBezTo>
                <a:cubicBezTo>
                  <a:pt x="10015" y="3794"/>
                  <a:pt x="8344" y="5534"/>
                  <a:pt x="8344" y="7849"/>
                </a:cubicBezTo>
                <a:lnTo>
                  <a:pt x="10198" y="7849"/>
                </a:lnTo>
                <a:cubicBezTo>
                  <a:pt x="10198" y="6709"/>
                  <a:pt x="11120" y="5821"/>
                  <a:pt x="12226" y="5821"/>
                </a:cubicBezTo>
                <a:cubicBezTo>
                  <a:pt x="13331" y="5821"/>
                  <a:pt x="14262" y="6709"/>
                  <a:pt x="14262" y="7849"/>
                </a:cubicBezTo>
                <a:cubicBezTo>
                  <a:pt x="14262" y="8589"/>
                  <a:pt x="13792" y="9320"/>
                  <a:pt x="13331" y="9320"/>
                </a:cubicBezTo>
                <a:cubicBezTo>
                  <a:pt x="12226" y="9320"/>
                  <a:pt x="11120" y="10800"/>
                  <a:pt x="11120" y="12323"/>
                </a:cubicBezTo>
                <a:lnTo>
                  <a:pt x="11120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.The British money is</a:t>
            </a:r>
            <a:endParaRPr b="0" lang="en-US" sz="48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dollar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poun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cent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the frank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31" name="AutoShape 0">
            <a:hlinkClick r:id="rId5" action="ppaction://hlinksldjump"/>
          </p:cNvPr>
          <p:cNvSpPr/>
          <p:nvPr/>
        </p:nvSpPr>
        <p:spPr>
          <a:xfrm>
            <a:off x="8317080" y="6308640"/>
            <a:ext cx="647640" cy="54144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25834" h="21600">
                <a:moveTo>
                  <a:pt x="0" y="0"/>
                </a:moveTo>
                <a:lnTo>
                  <a:pt x="25834" y="0"/>
                </a:lnTo>
                <a:lnTo>
                  <a:pt x="25834" y="21600"/>
                </a:lnTo>
                <a:lnTo>
                  <a:pt x="0" y="21600"/>
                </a:lnTo>
                <a:close/>
              </a:path>
              <a:path fill="lightenLess" w="25834" h="21600">
                <a:moveTo>
                  <a:pt x="0" y="0"/>
                </a:moveTo>
                <a:lnTo>
                  <a:pt x="25834" y="0"/>
                </a:lnTo>
                <a:lnTo>
                  <a:pt x="24434" y="1400"/>
                </a:lnTo>
                <a:lnTo>
                  <a:pt x="1400" y="1400"/>
                </a:lnTo>
                <a:close/>
              </a:path>
              <a:path fill="darken" w="25834" h="21600">
                <a:moveTo>
                  <a:pt x="25834" y="0"/>
                </a:moveTo>
                <a:lnTo>
                  <a:pt x="25834" y="21600"/>
                </a:lnTo>
                <a:lnTo>
                  <a:pt x="24434" y="20200"/>
                </a:lnTo>
                <a:lnTo>
                  <a:pt x="24434" y="1400"/>
                </a:lnTo>
                <a:close/>
              </a:path>
              <a:path fill="darkenLess" w="25834" h="21600">
                <a:moveTo>
                  <a:pt x="25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34" y="20200"/>
                </a:lnTo>
                <a:close/>
              </a:path>
              <a:path fill="lighten" w="25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34" h="21600">
                <a:moveTo>
                  <a:pt x="1291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834" h="21600">
                <a:moveTo>
                  <a:pt x="14022" y="14281"/>
                </a:moveTo>
                <a:lnTo>
                  <a:pt x="14022" y="12323"/>
                </a:lnTo>
                <a:cubicBezTo>
                  <a:pt x="14022" y="11496"/>
                  <a:pt x="14353" y="10800"/>
                  <a:pt x="14954" y="10800"/>
                </a:cubicBezTo>
                <a:cubicBezTo>
                  <a:pt x="16085" y="10800"/>
                  <a:pt x="16982" y="9434"/>
                  <a:pt x="16982" y="7849"/>
                </a:cubicBezTo>
                <a:cubicBezTo>
                  <a:pt x="16982" y="5534"/>
                  <a:pt x="15128" y="3794"/>
                  <a:pt x="12917" y="3794"/>
                </a:cubicBezTo>
                <a:cubicBezTo>
                  <a:pt x="10706" y="3794"/>
                  <a:pt x="9035" y="5534"/>
                  <a:pt x="9035" y="7849"/>
                </a:cubicBezTo>
                <a:lnTo>
                  <a:pt x="10889" y="7849"/>
                </a:lnTo>
                <a:cubicBezTo>
                  <a:pt x="10889" y="6709"/>
                  <a:pt x="11812" y="5821"/>
                  <a:pt x="12917" y="5821"/>
                </a:cubicBezTo>
                <a:cubicBezTo>
                  <a:pt x="14022" y="5821"/>
                  <a:pt x="14954" y="6709"/>
                  <a:pt x="14954" y="7849"/>
                </a:cubicBezTo>
                <a:cubicBezTo>
                  <a:pt x="14954" y="8589"/>
                  <a:pt x="14484" y="9320"/>
                  <a:pt x="14022" y="9320"/>
                </a:cubicBezTo>
                <a:cubicBezTo>
                  <a:pt x="12917" y="9320"/>
                  <a:pt x="11812" y="10800"/>
                  <a:pt x="11812" y="12323"/>
                </a:cubicBezTo>
                <a:lnTo>
                  <a:pt x="11812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</a:t>
            </a:r>
            <a:r>
              <a:rPr b="0" lang="en-US" sz="44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For good luck in the New Year  people bring 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lantern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cracke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fortune tre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a piece of coal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35" name="AutoShape 0">
            <a:hlinkClick r:id="rId5" action="ppaction://hlinksldjump"/>
          </p:cNvPr>
          <p:cNvSpPr/>
          <p:nvPr/>
        </p:nvSpPr>
        <p:spPr>
          <a:xfrm>
            <a:off x="8317080" y="6308640"/>
            <a:ext cx="609480" cy="505080"/>
          </a:xfrm>
          <a:custGeom>
            <a:avLst/>
            <a:gdLst>
              <a:gd name="textAreaLeft" fmla="*/ 32760 w 609480"/>
              <a:gd name="textAreaRight" fmla="*/ 577080 w 60948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6062" h="21600">
                <a:moveTo>
                  <a:pt x="0" y="0"/>
                </a:moveTo>
                <a:lnTo>
                  <a:pt x="26062" y="0"/>
                </a:lnTo>
                <a:lnTo>
                  <a:pt x="26062" y="21600"/>
                </a:lnTo>
                <a:lnTo>
                  <a:pt x="0" y="21600"/>
                </a:lnTo>
                <a:close/>
              </a:path>
              <a:path fill="lightenLess" w="26062" h="21600">
                <a:moveTo>
                  <a:pt x="0" y="0"/>
                </a:moveTo>
                <a:lnTo>
                  <a:pt x="26062" y="0"/>
                </a:lnTo>
                <a:lnTo>
                  <a:pt x="24662" y="1400"/>
                </a:lnTo>
                <a:lnTo>
                  <a:pt x="1400" y="1400"/>
                </a:lnTo>
                <a:close/>
              </a:path>
              <a:path fill="darken" w="26062" h="21600">
                <a:moveTo>
                  <a:pt x="26062" y="0"/>
                </a:moveTo>
                <a:lnTo>
                  <a:pt x="26062" y="21600"/>
                </a:lnTo>
                <a:lnTo>
                  <a:pt x="24662" y="20200"/>
                </a:lnTo>
                <a:lnTo>
                  <a:pt x="24662" y="1400"/>
                </a:lnTo>
                <a:close/>
              </a:path>
              <a:path fill="darkenLess" w="26062" h="21600">
                <a:moveTo>
                  <a:pt x="26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2" y="20200"/>
                </a:lnTo>
                <a:close/>
              </a:path>
              <a:path fill="lighten" w="26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62" h="21600">
                <a:moveTo>
                  <a:pt x="1303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062" h="21600">
                <a:moveTo>
                  <a:pt x="14136" y="14281"/>
                </a:moveTo>
                <a:lnTo>
                  <a:pt x="14136" y="12323"/>
                </a:lnTo>
                <a:cubicBezTo>
                  <a:pt x="14136" y="11496"/>
                  <a:pt x="14467" y="10800"/>
                  <a:pt x="15067" y="10800"/>
                </a:cubicBezTo>
                <a:cubicBezTo>
                  <a:pt x="16199" y="10800"/>
                  <a:pt x="17095" y="9434"/>
                  <a:pt x="17095" y="7849"/>
                </a:cubicBezTo>
                <a:cubicBezTo>
                  <a:pt x="17095" y="5534"/>
                  <a:pt x="15242" y="3794"/>
                  <a:pt x="13031" y="3794"/>
                </a:cubicBezTo>
                <a:cubicBezTo>
                  <a:pt x="10820" y="3794"/>
                  <a:pt x="9149" y="5534"/>
                  <a:pt x="9149" y="7849"/>
                </a:cubicBezTo>
                <a:lnTo>
                  <a:pt x="11003" y="7849"/>
                </a:lnTo>
                <a:cubicBezTo>
                  <a:pt x="11003" y="6709"/>
                  <a:pt x="11925" y="5821"/>
                  <a:pt x="13031" y="5821"/>
                </a:cubicBezTo>
                <a:cubicBezTo>
                  <a:pt x="14136" y="5821"/>
                  <a:pt x="15067" y="6709"/>
                  <a:pt x="15067" y="7849"/>
                </a:cubicBezTo>
                <a:cubicBezTo>
                  <a:pt x="15067" y="8589"/>
                  <a:pt x="14597" y="9320"/>
                  <a:pt x="14136" y="9320"/>
                </a:cubicBezTo>
                <a:cubicBezTo>
                  <a:pt x="13031" y="9320"/>
                  <a:pt x="11925" y="10800"/>
                  <a:pt x="11925" y="12323"/>
                </a:cubicBezTo>
                <a:lnTo>
                  <a:pt x="11925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.Covent Garden is</a:t>
            </a:r>
            <a:endParaRPr b="0" lang="en-US" sz="48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royal park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London street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vegetable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arke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 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 tourist shopping centr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39" name="AutoShape 0">
            <a:hlinkClick r:id="rId5" action="ppaction://hlinksldjump"/>
          </p:cNvPr>
          <p:cNvSpPr/>
          <p:nvPr/>
        </p:nvSpPr>
        <p:spPr>
          <a:xfrm>
            <a:off x="8317080" y="6165720"/>
            <a:ext cx="609480" cy="6112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11280"/>
              <a:gd name="textAreaBottom" fmla="*/ 572040 h 611280"/>
            </a:gdLst>
            <a:ahLst/>
            <a:rect l="textAreaLeft" t="textAreaTop" r="textAreaRight" b="textAreaBottom"/>
            <a:pathLst>
              <a:path w="21600" h="21664">
                <a:moveTo>
                  <a:pt x="0" y="0"/>
                </a:moveTo>
                <a:lnTo>
                  <a:pt x="21600" y="0"/>
                </a:lnTo>
                <a:lnTo>
                  <a:pt x="21600" y="21664"/>
                </a:lnTo>
                <a:lnTo>
                  <a:pt x="0" y="21664"/>
                </a:lnTo>
                <a:close/>
              </a:path>
              <a:path fill="lightenLess" w="21600" h="21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4">
                <a:moveTo>
                  <a:pt x="21600" y="0"/>
                </a:moveTo>
                <a:lnTo>
                  <a:pt x="21600" y="21664"/>
                </a:lnTo>
                <a:lnTo>
                  <a:pt x="20200" y="20264"/>
                </a:lnTo>
                <a:lnTo>
                  <a:pt x="20200" y="1400"/>
                </a:lnTo>
                <a:close/>
              </a:path>
              <a:path fill="darkenLess" w="21600" h="21664">
                <a:moveTo>
                  <a:pt x="21600" y="21664"/>
                </a:moveTo>
                <a:lnTo>
                  <a:pt x="0" y="21664"/>
                </a:lnTo>
                <a:lnTo>
                  <a:pt x="1400" y="20264"/>
                </a:lnTo>
                <a:lnTo>
                  <a:pt x="20200" y="20264"/>
                </a:lnTo>
                <a:close/>
              </a:path>
              <a:path fill="lighten" w="21600" h="21664">
                <a:moveTo>
                  <a:pt x="0" y="21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4"/>
                </a:lnTo>
                <a:close/>
              </a:path>
              <a:path fill="darken" w="21600" h="21664">
                <a:moveTo>
                  <a:pt x="10800" y="1483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64">
                <a:moveTo>
                  <a:pt x="11905" y="14313"/>
                </a:moveTo>
                <a:lnTo>
                  <a:pt x="11905" y="12355"/>
                </a:lnTo>
                <a:cubicBezTo>
                  <a:pt x="11905" y="11528"/>
                  <a:pt x="12236" y="10832"/>
                  <a:pt x="12837" y="10832"/>
                </a:cubicBezTo>
                <a:cubicBezTo>
                  <a:pt x="13968" y="10832"/>
                  <a:pt x="14865" y="9465"/>
                  <a:pt x="14865" y="7881"/>
                </a:cubicBezTo>
                <a:cubicBezTo>
                  <a:pt x="14865" y="5566"/>
                  <a:pt x="13011" y="3825"/>
                  <a:pt x="10800" y="3825"/>
                </a:cubicBezTo>
                <a:cubicBezTo>
                  <a:pt x="8589" y="3825"/>
                  <a:pt x="6918" y="5566"/>
                  <a:pt x="6918" y="7881"/>
                </a:cubicBezTo>
                <a:lnTo>
                  <a:pt x="8772" y="7881"/>
                </a:lnTo>
                <a:cubicBezTo>
                  <a:pt x="8772" y="6741"/>
                  <a:pt x="9695" y="5853"/>
                  <a:pt x="10800" y="5853"/>
                </a:cubicBezTo>
                <a:cubicBezTo>
                  <a:pt x="11905" y="5853"/>
                  <a:pt x="12837" y="6741"/>
                  <a:pt x="12837" y="7881"/>
                </a:cubicBezTo>
                <a:cubicBezTo>
                  <a:pt x="12837" y="8621"/>
                  <a:pt x="12367" y="9352"/>
                  <a:pt x="11905" y="9352"/>
                </a:cubicBezTo>
                <a:cubicBezTo>
                  <a:pt x="10800" y="9352"/>
                  <a:pt x="9695" y="10832"/>
                  <a:pt x="9695" y="12355"/>
                </a:cubicBezTo>
                <a:lnTo>
                  <a:pt x="9695" y="14313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.You can see the Raven Master in</a:t>
            </a:r>
            <a:r>
              <a:rPr b="0" lang="ru-RU" sz="4400" spc="-1" strike="noStrike">
                <a:solidFill>
                  <a:srgbClr val="edd39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Tower of Londo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Houses of Parliamen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National Gallery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itish Museum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43" name="AutoShape 0">
            <a:hlinkClick r:id="rId5" action="ppaction://hlinksldjump"/>
          </p:cNvPr>
          <p:cNvSpPr/>
          <p:nvPr/>
        </p:nvSpPr>
        <p:spPr>
          <a:xfrm>
            <a:off x="8317080" y="6237360"/>
            <a:ext cx="610920" cy="538200"/>
          </a:xfrm>
          <a:custGeom>
            <a:avLst/>
            <a:gdLst>
              <a:gd name="textAreaLeft" fmla="*/ 34560 w 610920"/>
              <a:gd name="textAreaRight" fmla="*/ 576360 w 610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17" h="21600">
                <a:moveTo>
                  <a:pt x="0" y="0"/>
                </a:moveTo>
                <a:lnTo>
                  <a:pt x="24517" y="0"/>
                </a:lnTo>
                <a:lnTo>
                  <a:pt x="24517" y="21600"/>
                </a:lnTo>
                <a:lnTo>
                  <a:pt x="0" y="21600"/>
                </a:lnTo>
                <a:close/>
              </a:path>
              <a:path fill="lightenLess" w="24517" h="21600">
                <a:moveTo>
                  <a:pt x="0" y="0"/>
                </a:moveTo>
                <a:lnTo>
                  <a:pt x="24517" y="0"/>
                </a:lnTo>
                <a:lnTo>
                  <a:pt x="23117" y="1400"/>
                </a:lnTo>
                <a:lnTo>
                  <a:pt x="1400" y="1400"/>
                </a:lnTo>
                <a:close/>
              </a:path>
              <a:path fill="darken" w="24517" h="21600">
                <a:moveTo>
                  <a:pt x="24517" y="0"/>
                </a:moveTo>
                <a:lnTo>
                  <a:pt x="24517" y="21600"/>
                </a:lnTo>
                <a:lnTo>
                  <a:pt x="23117" y="20200"/>
                </a:lnTo>
                <a:lnTo>
                  <a:pt x="23117" y="1400"/>
                </a:lnTo>
                <a:close/>
              </a:path>
              <a:path fill="darkenLess" w="24517" h="21600">
                <a:moveTo>
                  <a:pt x="24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7" y="20200"/>
                </a:lnTo>
                <a:close/>
              </a:path>
              <a:path fill="lighten" w="24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7" h="21600">
                <a:moveTo>
                  <a:pt x="1225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517" h="21600">
                <a:moveTo>
                  <a:pt x="13364" y="14281"/>
                </a:moveTo>
                <a:lnTo>
                  <a:pt x="13364" y="12323"/>
                </a:lnTo>
                <a:cubicBezTo>
                  <a:pt x="13364" y="11496"/>
                  <a:pt x="13694" y="10800"/>
                  <a:pt x="14295" y="10800"/>
                </a:cubicBezTo>
                <a:cubicBezTo>
                  <a:pt x="15426" y="10800"/>
                  <a:pt x="16323" y="9434"/>
                  <a:pt x="16323" y="7849"/>
                </a:cubicBezTo>
                <a:cubicBezTo>
                  <a:pt x="16323" y="5534"/>
                  <a:pt x="14469" y="3794"/>
                  <a:pt x="12258" y="3794"/>
                </a:cubicBezTo>
                <a:cubicBezTo>
                  <a:pt x="10048" y="3794"/>
                  <a:pt x="8376" y="5534"/>
                  <a:pt x="8376" y="7849"/>
                </a:cubicBezTo>
                <a:lnTo>
                  <a:pt x="10230" y="7849"/>
                </a:lnTo>
                <a:cubicBezTo>
                  <a:pt x="10230" y="6709"/>
                  <a:pt x="11153" y="5821"/>
                  <a:pt x="12258" y="5821"/>
                </a:cubicBezTo>
                <a:cubicBezTo>
                  <a:pt x="13364" y="5821"/>
                  <a:pt x="14295" y="6709"/>
                  <a:pt x="14295" y="7849"/>
                </a:cubicBezTo>
                <a:cubicBezTo>
                  <a:pt x="14295" y="8589"/>
                  <a:pt x="13825" y="9320"/>
                  <a:pt x="13364" y="9320"/>
                </a:cubicBezTo>
                <a:cubicBezTo>
                  <a:pt x="12258" y="9320"/>
                  <a:pt x="11153" y="10800"/>
                  <a:pt x="11153" y="12323"/>
                </a:cubicBezTo>
                <a:lnTo>
                  <a:pt x="11153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680" y="10666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The most democratic </a:t>
            </a:r>
            <a:r>
              <a:rPr b="0" lang="ru-RU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place is</a:t>
            </a:r>
            <a:endParaRPr b="0" lang="en-US" sz="48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Houses of Parliamen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adame Tussaud’s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yde Park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iccadilly Circus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47" name="AutoShape 0">
            <a:hlinkClick r:id="rId5" action="ppaction://hlinksldjump"/>
          </p:cNvPr>
          <p:cNvSpPr/>
          <p:nvPr/>
        </p:nvSpPr>
        <p:spPr>
          <a:xfrm>
            <a:off x="8244000" y="6237360"/>
            <a:ext cx="612720" cy="576360"/>
          </a:xfrm>
          <a:custGeom>
            <a:avLst/>
            <a:gdLst>
              <a:gd name="textAreaLeft" fmla="*/ 37080 w 612720"/>
              <a:gd name="textAreaRight" fmla="*/ 575640 w 612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2962" h="21600">
                <a:moveTo>
                  <a:pt x="0" y="0"/>
                </a:moveTo>
                <a:lnTo>
                  <a:pt x="22962" y="0"/>
                </a:lnTo>
                <a:lnTo>
                  <a:pt x="22962" y="21600"/>
                </a:lnTo>
                <a:lnTo>
                  <a:pt x="0" y="21600"/>
                </a:lnTo>
                <a:close/>
              </a:path>
              <a:path fill="lightenLess" w="22962" h="21600">
                <a:moveTo>
                  <a:pt x="0" y="0"/>
                </a:moveTo>
                <a:lnTo>
                  <a:pt x="22962" y="0"/>
                </a:lnTo>
                <a:lnTo>
                  <a:pt x="21562" y="1400"/>
                </a:lnTo>
                <a:lnTo>
                  <a:pt x="1400" y="1400"/>
                </a:lnTo>
                <a:close/>
              </a:path>
              <a:path fill="darken" w="22962" h="21600">
                <a:moveTo>
                  <a:pt x="22962" y="0"/>
                </a:moveTo>
                <a:lnTo>
                  <a:pt x="22962" y="21600"/>
                </a:lnTo>
                <a:lnTo>
                  <a:pt x="21562" y="20200"/>
                </a:lnTo>
                <a:lnTo>
                  <a:pt x="21562" y="1400"/>
                </a:lnTo>
                <a:close/>
              </a:path>
              <a:path fill="darkenLess" w="22962" h="21600">
                <a:moveTo>
                  <a:pt x="229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62" y="20200"/>
                </a:lnTo>
                <a:close/>
              </a:path>
              <a:path fill="lighten" w="229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62" h="21600">
                <a:moveTo>
                  <a:pt x="1148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962" h="21600">
                <a:moveTo>
                  <a:pt x="12586" y="14281"/>
                </a:moveTo>
                <a:lnTo>
                  <a:pt x="12586" y="12323"/>
                </a:lnTo>
                <a:cubicBezTo>
                  <a:pt x="12586" y="11496"/>
                  <a:pt x="12917" y="10800"/>
                  <a:pt x="13518" y="10800"/>
                </a:cubicBezTo>
                <a:cubicBezTo>
                  <a:pt x="14649" y="10800"/>
                  <a:pt x="15546" y="9434"/>
                  <a:pt x="15546" y="7849"/>
                </a:cubicBezTo>
                <a:cubicBezTo>
                  <a:pt x="15546" y="5534"/>
                  <a:pt x="13692" y="3794"/>
                  <a:pt x="11481" y="3794"/>
                </a:cubicBezTo>
                <a:cubicBezTo>
                  <a:pt x="9270" y="3794"/>
                  <a:pt x="7599" y="5534"/>
                  <a:pt x="7599" y="7849"/>
                </a:cubicBezTo>
                <a:lnTo>
                  <a:pt x="9453" y="7849"/>
                </a:lnTo>
                <a:cubicBezTo>
                  <a:pt x="9453" y="6709"/>
                  <a:pt x="10376" y="5821"/>
                  <a:pt x="11481" y="5821"/>
                </a:cubicBezTo>
                <a:cubicBezTo>
                  <a:pt x="12586" y="5821"/>
                  <a:pt x="13518" y="6709"/>
                  <a:pt x="13518" y="7849"/>
                </a:cubicBezTo>
                <a:cubicBezTo>
                  <a:pt x="13518" y="8589"/>
                  <a:pt x="13048" y="9320"/>
                  <a:pt x="12586" y="9320"/>
                </a:cubicBezTo>
                <a:cubicBezTo>
                  <a:pt x="11481" y="9320"/>
                  <a:pt x="10376" y="10800"/>
                  <a:pt x="10376" y="12323"/>
                </a:cubicBezTo>
                <a:lnTo>
                  <a:pt x="10376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AutoShape 0">
            <a:hlinkClick r:id="rId1" action="ppaction://hlinksldjump"/>
          </p:cNvPr>
          <p:cNvSpPr/>
          <p:nvPr/>
        </p:nvSpPr>
        <p:spPr>
          <a:xfrm>
            <a:off x="8317080" y="6237360"/>
            <a:ext cx="610920" cy="538200"/>
          </a:xfrm>
          <a:custGeom>
            <a:avLst/>
            <a:gdLst>
              <a:gd name="textAreaLeft" fmla="*/ 34560 w 610920"/>
              <a:gd name="textAreaRight" fmla="*/ 576360 w 610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17" h="21600">
                <a:moveTo>
                  <a:pt x="0" y="0"/>
                </a:moveTo>
                <a:lnTo>
                  <a:pt x="24517" y="0"/>
                </a:lnTo>
                <a:lnTo>
                  <a:pt x="24517" y="21600"/>
                </a:lnTo>
                <a:lnTo>
                  <a:pt x="0" y="21600"/>
                </a:lnTo>
                <a:close/>
              </a:path>
              <a:path fill="lightenLess" w="24517" h="21600">
                <a:moveTo>
                  <a:pt x="0" y="0"/>
                </a:moveTo>
                <a:lnTo>
                  <a:pt x="24517" y="0"/>
                </a:lnTo>
                <a:lnTo>
                  <a:pt x="23117" y="1400"/>
                </a:lnTo>
                <a:lnTo>
                  <a:pt x="1400" y="1400"/>
                </a:lnTo>
                <a:close/>
              </a:path>
              <a:path fill="darken" w="24517" h="21600">
                <a:moveTo>
                  <a:pt x="24517" y="0"/>
                </a:moveTo>
                <a:lnTo>
                  <a:pt x="24517" y="21600"/>
                </a:lnTo>
                <a:lnTo>
                  <a:pt x="23117" y="20200"/>
                </a:lnTo>
                <a:lnTo>
                  <a:pt x="23117" y="1400"/>
                </a:lnTo>
                <a:close/>
              </a:path>
              <a:path fill="darkenLess" w="24517" h="21600">
                <a:moveTo>
                  <a:pt x="24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7" y="20200"/>
                </a:lnTo>
                <a:close/>
              </a:path>
              <a:path fill="lighten" w="24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7" h="21600">
                <a:moveTo>
                  <a:pt x="5252" y="7493"/>
                </a:moveTo>
                <a:lnTo>
                  <a:pt x="8759" y="7493"/>
                </a:lnTo>
                <a:lnTo>
                  <a:pt x="8759" y="12828"/>
                </a:lnTo>
                <a:cubicBezTo>
                  <a:pt x="8759" y="13751"/>
                  <a:pt x="9560" y="14482"/>
                  <a:pt x="10596" y="14482"/>
                </a:cubicBezTo>
                <a:lnTo>
                  <a:pt x="12258" y="14482"/>
                </a:lnTo>
                <a:cubicBezTo>
                  <a:pt x="13294" y="14482"/>
                  <a:pt x="14095" y="13751"/>
                  <a:pt x="14095" y="12828"/>
                </a:cubicBezTo>
                <a:lnTo>
                  <a:pt x="14095" y="7493"/>
                </a:lnTo>
                <a:lnTo>
                  <a:pt x="12258" y="7493"/>
                </a:lnTo>
                <a:lnTo>
                  <a:pt x="15766" y="3985"/>
                </a:lnTo>
                <a:lnTo>
                  <a:pt x="19439" y="7493"/>
                </a:lnTo>
                <a:lnTo>
                  <a:pt x="17602" y="7493"/>
                </a:lnTo>
                <a:lnTo>
                  <a:pt x="17602" y="12828"/>
                </a:lnTo>
                <a:cubicBezTo>
                  <a:pt x="17602" y="15596"/>
                  <a:pt x="15026" y="18155"/>
                  <a:pt x="12258" y="18155"/>
                </a:cubicBezTo>
                <a:lnTo>
                  <a:pt x="10596" y="18155"/>
                </a:lnTo>
                <a:cubicBezTo>
                  <a:pt x="7828" y="18155"/>
                  <a:pt x="5252" y="15596"/>
                  <a:pt x="5252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9" name="Picture 0" descr="GreatBritain_2"/>
          <p:cNvPicPr/>
          <p:nvPr/>
        </p:nvPicPr>
        <p:blipFill>
          <a:blip r:embed="rId2"/>
          <a:stretch/>
        </p:blipFill>
        <p:spPr>
          <a:xfrm>
            <a:off x="1042920" y="836640"/>
            <a:ext cx="4753080" cy="5761080"/>
          </a:xfrm>
          <a:prstGeom prst="rect">
            <a:avLst/>
          </a:prstGeom>
          <a:ln cap="rnd" w="76320">
            <a:solidFill>
              <a:srgbClr val="eaeaea"/>
            </a:solidFill>
            <a:miter/>
          </a:ln>
        </p:spPr>
      </p:pic>
      <p:sp>
        <p:nvSpPr>
          <p:cNvPr id="350" name="Text Box 3"/>
          <p:cNvSpPr/>
          <p:nvPr/>
        </p:nvSpPr>
        <p:spPr>
          <a:xfrm>
            <a:off x="3184560" y="16495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otla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 rot="2317200">
            <a:off x="3660120" y="34999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ngla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195720" y="50338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1619640" y="314172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.Irela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WordArt 7"/>
          <p:cNvSpPr txBox="1"/>
          <p:nvPr/>
        </p:nvSpPr>
        <p:spPr>
          <a:xfrm>
            <a:off x="6018120" y="1700280"/>
            <a:ext cx="2514600" cy="280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The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United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Kingdom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of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Great Britain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Northern Ireland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56" name="AutoShape 0">
            <a:hlinkClick r:id="rId1" action="ppaction://hlinksldjump"/>
          </p:cNvPr>
          <p:cNvSpPr/>
          <p:nvPr/>
        </p:nvSpPr>
        <p:spPr>
          <a:xfrm>
            <a:off x="8244000" y="6165720"/>
            <a:ext cx="649080" cy="609840"/>
          </a:xfrm>
          <a:custGeom>
            <a:avLst/>
            <a:gdLst>
              <a:gd name="textAreaLeft" fmla="*/ 39240 w 649080"/>
              <a:gd name="textAreaRight" fmla="*/ 609840 w 649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2989" h="21600">
                <a:moveTo>
                  <a:pt x="0" y="0"/>
                </a:moveTo>
                <a:lnTo>
                  <a:pt x="22989" y="0"/>
                </a:lnTo>
                <a:lnTo>
                  <a:pt x="22989" y="21600"/>
                </a:lnTo>
                <a:lnTo>
                  <a:pt x="0" y="21600"/>
                </a:lnTo>
                <a:close/>
              </a:path>
              <a:path fill="lightenLess" w="22989" h="21600">
                <a:moveTo>
                  <a:pt x="0" y="0"/>
                </a:moveTo>
                <a:lnTo>
                  <a:pt x="22989" y="0"/>
                </a:lnTo>
                <a:lnTo>
                  <a:pt x="21589" y="1400"/>
                </a:lnTo>
                <a:lnTo>
                  <a:pt x="1400" y="1400"/>
                </a:lnTo>
                <a:close/>
              </a:path>
              <a:path fill="darken" w="22989" h="21600">
                <a:moveTo>
                  <a:pt x="22989" y="0"/>
                </a:moveTo>
                <a:lnTo>
                  <a:pt x="22989" y="21600"/>
                </a:lnTo>
                <a:lnTo>
                  <a:pt x="21589" y="20200"/>
                </a:lnTo>
                <a:lnTo>
                  <a:pt x="21589" y="1400"/>
                </a:lnTo>
                <a:close/>
              </a:path>
              <a:path fill="darkenLess" w="22989" h="21600">
                <a:moveTo>
                  <a:pt x="22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89" y="20200"/>
                </a:lnTo>
                <a:close/>
              </a:path>
              <a:path fill="lighten" w="22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89" h="21600">
                <a:moveTo>
                  <a:pt x="4488" y="7493"/>
                </a:moveTo>
                <a:lnTo>
                  <a:pt x="7996" y="7493"/>
                </a:lnTo>
                <a:lnTo>
                  <a:pt x="7996" y="12828"/>
                </a:lnTo>
                <a:cubicBezTo>
                  <a:pt x="7996" y="13751"/>
                  <a:pt x="8796" y="14482"/>
                  <a:pt x="9832" y="14482"/>
                </a:cubicBezTo>
                <a:lnTo>
                  <a:pt x="11495" y="14482"/>
                </a:lnTo>
                <a:cubicBezTo>
                  <a:pt x="12530" y="14482"/>
                  <a:pt x="13331" y="13751"/>
                  <a:pt x="13331" y="12828"/>
                </a:cubicBezTo>
                <a:lnTo>
                  <a:pt x="13331" y="7493"/>
                </a:lnTo>
                <a:lnTo>
                  <a:pt x="11495" y="7493"/>
                </a:lnTo>
                <a:lnTo>
                  <a:pt x="15002" y="3985"/>
                </a:lnTo>
                <a:lnTo>
                  <a:pt x="18675" y="7493"/>
                </a:lnTo>
                <a:lnTo>
                  <a:pt x="16839" y="7493"/>
                </a:lnTo>
                <a:lnTo>
                  <a:pt x="16839" y="12828"/>
                </a:lnTo>
                <a:cubicBezTo>
                  <a:pt x="16839" y="15596"/>
                  <a:pt x="14262" y="18155"/>
                  <a:pt x="11495" y="18155"/>
                </a:cubicBezTo>
                <a:lnTo>
                  <a:pt x="9832" y="18155"/>
                </a:lnTo>
                <a:cubicBezTo>
                  <a:pt x="7064" y="18155"/>
                  <a:pt x="4488" y="15596"/>
                  <a:pt x="4488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7" name="Picture 0" descr="buck"/>
          <p:cNvPicPr/>
          <p:nvPr/>
        </p:nvPicPr>
        <p:blipFill>
          <a:blip r:embed="rId2"/>
          <a:stretch/>
        </p:blipFill>
        <p:spPr>
          <a:xfrm>
            <a:off x="826920" y="981000"/>
            <a:ext cx="3529080" cy="396072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  <p:pic>
        <p:nvPicPr>
          <p:cNvPr id="358" name="Picture 1" descr="buckingham_palace"/>
          <p:cNvPicPr/>
          <p:nvPr/>
        </p:nvPicPr>
        <p:blipFill>
          <a:blip r:embed="rId3"/>
          <a:stretch/>
        </p:blipFill>
        <p:spPr>
          <a:xfrm>
            <a:off x="4716360" y="981000"/>
            <a:ext cx="3600720" cy="396072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  <p:sp>
        <p:nvSpPr>
          <p:cNvPr id="359" name="WordArt 2"/>
          <p:cNvSpPr txBox="1"/>
          <p:nvPr/>
        </p:nvSpPr>
        <p:spPr>
          <a:xfrm>
            <a:off x="2548080" y="5661000"/>
            <a:ext cx="40478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>
                    <a:alpha val="83000"/>
                  </a:srgbClr>
                </a:solidFill>
                <a:latin typeface="Arial"/>
              </a:rPr>
              <a:t>Buckingham Palac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>
                  <a:alpha val="83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0" descr="451b"/>
          <p:cNvPicPr/>
          <p:nvPr/>
        </p:nvPicPr>
        <p:blipFill>
          <a:blip r:embed="rId1"/>
          <a:stretch/>
        </p:blipFill>
        <p:spPr>
          <a:xfrm>
            <a:off x="826920" y="907920"/>
            <a:ext cx="7848720" cy="4418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emblemen"/>
          <p:cNvPicPr/>
          <p:nvPr/>
        </p:nvPicPr>
        <p:blipFill>
          <a:blip r:embed="rId2"/>
          <a:stretch/>
        </p:blipFill>
        <p:spPr>
          <a:xfrm>
            <a:off x="826920" y="469728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362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63" name="AutoShape 0">
            <a:hlinkClick r:id="rId3" action="ppaction://hlinksldjump"/>
          </p:cNvPr>
          <p:cNvSpPr/>
          <p:nvPr/>
        </p:nvSpPr>
        <p:spPr>
          <a:xfrm>
            <a:off x="8282160" y="6093000"/>
            <a:ext cx="682560" cy="6919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91920"/>
              <a:gd name="textAreaBottom" fmla="*/ 648000 h 691920"/>
            </a:gdLst>
            <a:ahLst/>
            <a:rect l="textAreaLeft" t="textAreaTop" r="textAreaRight" b="textAreaBottom"/>
            <a:pathLst>
              <a:path w="21600" h="21896">
                <a:moveTo>
                  <a:pt x="0" y="0"/>
                </a:moveTo>
                <a:lnTo>
                  <a:pt x="21600" y="0"/>
                </a:lnTo>
                <a:lnTo>
                  <a:pt x="21600" y="21896"/>
                </a:lnTo>
                <a:lnTo>
                  <a:pt x="0" y="21896"/>
                </a:lnTo>
                <a:close/>
              </a:path>
              <a:path fill="lightenLess" w="21600" h="218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96">
                <a:moveTo>
                  <a:pt x="21600" y="0"/>
                </a:moveTo>
                <a:lnTo>
                  <a:pt x="21600" y="21896"/>
                </a:lnTo>
                <a:lnTo>
                  <a:pt x="20200" y="20496"/>
                </a:lnTo>
                <a:lnTo>
                  <a:pt x="20200" y="1400"/>
                </a:lnTo>
                <a:close/>
              </a:path>
              <a:path fill="darkenLess" w="21600" h="21896">
                <a:moveTo>
                  <a:pt x="21600" y="21896"/>
                </a:moveTo>
                <a:lnTo>
                  <a:pt x="0" y="21896"/>
                </a:lnTo>
                <a:lnTo>
                  <a:pt x="1400" y="20496"/>
                </a:lnTo>
                <a:lnTo>
                  <a:pt x="20200" y="20496"/>
                </a:lnTo>
                <a:close/>
              </a:path>
              <a:path fill="lighten" w="21600" h="21896">
                <a:moveTo>
                  <a:pt x="0" y="218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96"/>
                </a:lnTo>
                <a:close/>
              </a:path>
              <a:path fill="darken" w="21600" h="21896">
                <a:moveTo>
                  <a:pt x="3794" y="7641"/>
                </a:moveTo>
                <a:lnTo>
                  <a:pt x="7301" y="7641"/>
                </a:lnTo>
                <a:lnTo>
                  <a:pt x="7301" y="12976"/>
                </a:lnTo>
                <a:cubicBezTo>
                  <a:pt x="7301" y="13899"/>
                  <a:pt x="8102" y="14630"/>
                  <a:pt x="9138" y="14630"/>
                </a:cubicBezTo>
                <a:lnTo>
                  <a:pt x="10800" y="14630"/>
                </a:lnTo>
                <a:cubicBezTo>
                  <a:pt x="11836" y="14630"/>
                  <a:pt x="12636" y="13899"/>
                  <a:pt x="12636" y="12976"/>
                </a:cubicBezTo>
                <a:lnTo>
                  <a:pt x="12636" y="7641"/>
                </a:lnTo>
                <a:lnTo>
                  <a:pt x="10800" y="7641"/>
                </a:lnTo>
                <a:lnTo>
                  <a:pt x="14308" y="4133"/>
                </a:lnTo>
                <a:lnTo>
                  <a:pt x="17981" y="7641"/>
                </a:lnTo>
                <a:lnTo>
                  <a:pt x="16144" y="7641"/>
                </a:lnTo>
                <a:lnTo>
                  <a:pt x="16144" y="12976"/>
                </a:lnTo>
                <a:cubicBezTo>
                  <a:pt x="16144" y="15744"/>
                  <a:pt x="13568" y="18303"/>
                  <a:pt x="10800" y="18303"/>
                </a:cubicBezTo>
                <a:lnTo>
                  <a:pt x="9138" y="18303"/>
                </a:lnTo>
                <a:cubicBezTo>
                  <a:pt x="6370" y="18303"/>
                  <a:pt x="3794" y="15744"/>
                  <a:pt x="3794" y="12976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WordArt 0"/>
          <p:cNvSpPr txBox="1"/>
          <p:nvPr/>
        </p:nvSpPr>
        <p:spPr>
          <a:xfrm>
            <a:off x="3564000" y="6021360"/>
            <a:ext cx="3171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The Union Jack</a:t>
            </a:r>
            <a:endParaRPr b="0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. What country is not a part of the United Kingdom?</a:t>
            </a:r>
            <a:r>
              <a:rPr b="0" lang="ru-RU" sz="44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Englan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Scotlan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Wales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Canad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WordArt 2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291" name="AutoShape 4">
            <a:hlinkClick r:id="rId5" action="ppaction://hlinksldjump"/>
          </p:cNvPr>
          <p:cNvSpPr/>
          <p:nvPr/>
        </p:nvSpPr>
        <p:spPr>
          <a:xfrm>
            <a:off x="8244000" y="6237360"/>
            <a:ext cx="649080" cy="576360"/>
          </a:xfrm>
          <a:custGeom>
            <a:avLst/>
            <a:gdLst>
              <a:gd name="textAreaLeft" fmla="*/ 37080 w 649080"/>
              <a:gd name="textAreaRight" fmla="*/ 612000 w 649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324" h="21600">
                <a:moveTo>
                  <a:pt x="0" y="0"/>
                </a:moveTo>
                <a:lnTo>
                  <a:pt x="24324" y="0"/>
                </a:lnTo>
                <a:lnTo>
                  <a:pt x="24324" y="21600"/>
                </a:lnTo>
                <a:lnTo>
                  <a:pt x="0" y="21600"/>
                </a:lnTo>
                <a:close/>
              </a:path>
              <a:path fill="lightenLess" w="24324" h="21600">
                <a:moveTo>
                  <a:pt x="0" y="0"/>
                </a:moveTo>
                <a:lnTo>
                  <a:pt x="24324" y="0"/>
                </a:lnTo>
                <a:lnTo>
                  <a:pt x="22924" y="1400"/>
                </a:lnTo>
                <a:lnTo>
                  <a:pt x="1400" y="1400"/>
                </a:lnTo>
                <a:close/>
              </a:path>
              <a:path fill="darken" w="24324" h="21600">
                <a:moveTo>
                  <a:pt x="24324" y="0"/>
                </a:moveTo>
                <a:lnTo>
                  <a:pt x="24324" y="21600"/>
                </a:lnTo>
                <a:lnTo>
                  <a:pt x="22924" y="20200"/>
                </a:lnTo>
                <a:lnTo>
                  <a:pt x="22924" y="1400"/>
                </a:lnTo>
                <a:close/>
              </a:path>
              <a:path fill="darkenLess" w="24324" h="21600">
                <a:moveTo>
                  <a:pt x="24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24" y="20200"/>
                </a:lnTo>
                <a:close/>
              </a:path>
              <a:path fill="lighten" w="24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24" h="21600">
                <a:moveTo>
                  <a:pt x="121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324" h="21600">
                <a:moveTo>
                  <a:pt x="13267" y="14281"/>
                </a:moveTo>
                <a:lnTo>
                  <a:pt x="13267" y="12323"/>
                </a:lnTo>
                <a:cubicBezTo>
                  <a:pt x="13267" y="11496"/>
                  <a:pt x="13598" y="10800"/>
                  <a:pt x="14198" y="10800"/>
                </a:cubicBezTo>
                <a:cubicBezTo>
                  <a:pt x="15330" y="10800"/>
                  <a:pt x="16226" y="9434"/>
                  <a:pt x="16226" y="7849"/>
                </a:cubicBezTo>
                <a:cubicBezTo>
                  <a:pt x="16226" y="5534"/>
                  <a:pt x="14373" y="3794"/>
                  <a:pt x="12162" y="3794"/>
                </a:cubicBezTo>
                <a:cubicBezTo>
                  <a:pt x="9951" y="3794"/>
                  <a:pt x="8280" y="5534"/>
                  <a:pt x="8280" y="7849"/>
                </a:cubicBezTo>
                <a:lnTo>
                  <a:pt x="10134" y="7849"/>
                </a:lnTo>
                <a:cubicBezTo>
                  <a:pt x="10134" y="6709"/>
                  <a:pt x="11056" y="5821"/>
                  <a:pt x="12162" y="5821"/>
                </a:cubicBezTo>
                <a:cubicBezTo>
                  <a:pt x="13267" y="5821"/>
                  <a:pt x="14198" y="6709"/>
                  <a:pt x="14198" y="7849"/>
                </a:cubicBezTo>
                <a:cubicBezTo>
                  <a:pt x="14198" y="8589"/>
                  <a:pt x="13728" y="9320"/>
                  <a:pt x="13267" y="9320"/>
                </a:cubicBezTo>
                <a:cubicBezTo>
                  <a:pt x="12162" y="9320"/>
                  <a:pt x="11056" y="10800"/>
                  <a:pt x="11056" y="12323"/>
                </a:cubicBezTo>
                <a:lnTo>
                  <a:pt x="11056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66" name="AutoShape 0">
            <a:hlinkClick r:id="rId1" action="ppaction://hlinksldjump"/>
          </p:cNvPr>
          <p:cNvSpPr/>
          <p:nvPr/>
        </p:nvSpPr>
        <p:spPr>
          <a:xfrm>
            <a:off x="8244000" y="6165720"/>
            <a:ext cx="649080" cy="619200"/>
          </a:xfrm>
          <a:custGeom>
            <a:avLst/>
            <a:gdLst>
              <a:gd name="textAreaLeft" fmla="*/ 39960 w 649080"/>
              <a:gd name="textAreaRight" fmla="*/ 609120 w 649080"/>
              <a:gd name="textAreaTop" fmla="*/ 39960 h 619200"/>
              <a:gd name="textAreaBottom" fmla="*/ 579240 h 619200"/>
            </a:gdLst>
            <a:ahLst/>
            <a:rect l="textAreaLeft" t="textAreaTop" r="textAreaRight" b="textAreaBottom"/>
            <a:pathLst>
              <a:path w="22642" h="21600">
                <a:moveTo>
                  <a:pt x="0" y="0"/>
                </a:moveTo>
                <a:lnTo>
                  <a:pt x="22642" y="0"/>
                </a:lnTo>
                <a:lnTo>
                  <a:pt x="22642" y="21600"/>
                </a:lnTo>
                <a:lnTo>
                  <a:pt x="0" y="21600"/>
                </a:lnTo>
                <a:close/>
              </a:path>
              <a:path fill="lightenLess" w="22642" h="21600">
                <a:moveTo>
                  <a:pt x="0" y="0"/>
                </a:moveTo>
                <a:lnTo>
                  <a:pt x="22642" y="0"/>
                </a:lnTo>
                <a:lnTo>
                  <a:pt x="21242" y="1400"/>
                </a:lnTo>
                <a:lnTo>
                  <a:pt x="1400" y="1400"/>
                </a:lnTo>
                <a:close/>
              </a:path>
              <a:path fill="darken" w="22642" h="21600">
                <a:moveTo>
                  <a:pt x="22642" y="0"/>
                </a:moveTo>
                <a:lnTo>
                  <a:pt x="22642" y="21600"/>
                </a:lnTo>
                <a:lnTo>
                  <a:pt x="21242" y="20200"/>
                </a:lnTo>
                <a:lnTo>
                  <a:pt x="21242" y="1400"/>
                </a:lnTo>
                <a:close/>
              </a:path>
              <a:path fill="darkenLess" w="22642" h="21600">
                <a:moveTo>
                  <a:pt x="22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42" y="20200"/>
                </a:lnTo>
                <a:close/>
              </a:path>
              <a:path fill="lighten" w="22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42" h="21600">
                <a:moveTo>
                  <a:pt x="4314" y="7493"/>
                </a:moveTo>
                <a:lnTo>
                  <a:pt x="7822" y="7493"/>
                </a:lnTo>
                <a:lnTo>
                  <a:pt x="7822" y="12828"/>
                </a:lnTo>
                <a:cubicBezTo>
                  <a:pt x="7822" y="13751"/>
                  <a:pt x="8623" y="14482"/>
                  <a:pt x="9658" y="14482"/>
                </a:cubicBezTo>
                <a:lnTo>
                  <a:pt x="11321" y="14482"/>
                </a:lnTo>
                <a:cubicBezTo>
                  <a:pt x="12357" y="14482"/>
                  <a:pt x="13157" y="13751"/>
                  <a:pt x="13157" y="12828"/>
                </a:cubicBezTo>
                <a:lnTo>
                  <a:pt x="13157" y="7493"/>
                </a:lnTo>
                <a:lnTo>
                  <a:pt x="11321" y="7493"/>
                </a:lnTo>
                <a:lnTo>
                  <a:pt x="14828" y="3985"/>
                </a:lnTo>
                <a:lnTo>
                  <a:pt x="18501" y="7493"/>
                </a:lnTo>
                <a:lnTo>
                  <a:pt x="16665" y="7493"/>
                </a:lnTo>
                <a:lnTo>
                  <a:pt x="16665" y="12828"/>
                </a:lnTo>
                <a:cubicBezTo>
                  <a:pt x="16665" y="15596"/>
                  <a:pt x="14089" y="18155"/>
                  <a:pt x="11321" y="18155"/>
                </a:cubicBezTo>
                <a:lnTo>
                  <a:pt x="9658" y="18155"/>
                </a:lnTo>
                <a:cubicBezTo>
                  <a:pt x="6891" y="18155"/>
                  <a:pt x="4314" y="15596"/>
                  <a:pt x="4314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WordArt 0"/>
          <p:cNvSpPr txBox="1"/>
          <p:nvPr/>
        </p:nvSpPr>
        <p:spPr>
          <a:xfrm>
            <a:off x="1116000" y="5713560"/>
            <a:ext cx="67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2844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first English people in Russia</a:t>
            </a:r>
            <a:endParaRPr b="0" i="1" lang="en-US" sz="2000" spc="1" strike="noStrike">
              <a:ln w="28440">
                <a:solidFill>
                  <a:srgbClr val="ffcc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68" name="Picture 0" descr="отношен"/>
          <p:cNvPicPr/>
          <p:nvPr/>
        </p:nvPicPr>
        <p:blipFill>
          <a:blip r:embed="rId2"/>
          <a:stretch/>
        </p:blipFill>
        <p:spPr>
          <a:xfrm>
            <a:off x="1547640" y="1197000"/>
            <a:ext cx="6048720" cy="372276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  <p:sp>
        <p:nvSpPr>
          <p:cNvPr id="369" name="Text Box 1"/>
          <p:cNvSpPr/>
          <p:nvPr/>
        </p:nvSpPr>
        <p:spPr>
          <a:xfrm>
            <a:off x="1959120" y="1469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5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71" name="AutoShape 0">
            <a:hlinkClick r:id="rId1" action="ppaction://hlinksldjump"/>
          </p:cNvPr>
          <p:cNvSpPr/>
          <p:nvPr/>
        </p:nvSpPr>
        <p:spPr>
          <a:xfrm>
            <a:off x="8317080" y="616572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7499"/>
                </a:moveTo>
                <a:lnTo>
                  <a:pt x="7301" y="7499"/>
                </a:lnTo>
                <a:lnTo>
                  <a:pt x="7301" y="12834"/>
                </a:lnTo>
                <a:cubicBezTo>
                  <a:pt x="7301" y="13757"/>
                  <a:pt x="8102" y="14488"/>
                  <a:pt x="9138" y="14488"/>
                </a:cubicBezTo>
                <a:lnTo>
                  <a:pt x="10800" y="14488"/>
                </a:lnTo>
                <a:cubicBezTo>
                  <a:pt x="11836" y="14488"/>
                  <a:pt x="12636" y="13757"/>
                  <a:pt x="12636" y="12834"/>
                </a:cubicBezTo>
                <a:lnTo>
                  <a:pt x="12636" y="7499"/>
                </a:lnTo>
                <a:lnTo>
                  <a:pt x="10800" y="7499"/>
                </a:lnTo>
                <a:lnTo>
                  <a:pt x="14308" y="3991"/>
                </a:lnTo>
                <a:lnTo>
                  <a:pt x="17981" y="7499"/>
                </a:lnTo>
                <a:lnTo>
                  <a:pt x="16144" y="7499"/>
                </a:lnTo>
                <a:lnTo>
                  <a:pt x="16144" y="12834"/>
                </a:lnTo>
                <a:cubicBezTo>
                  <a:pt x="16144" y="15602"/>
                  <a:pt x="13568" y="18161"/>
                  <a:pt x="10800" y="18161"/>
                </a:cubicBezTo>
                <a:lnTo>
                  <a:pt x="9138" y="18161"/>
                </a:lnTo>
                <a:cubicBezTo>
                  <a:pt x="6370" y="18161"/>
                  <a:pt x="3794" y="15602"/>
                  <a:pt x="3794" y="12834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2" name="Picture 0" descr="08"/>
          <p:cNvPicPr/>
          <p:nvPr/>
        </p:nvPicPr>
        <p:blipFill>
          <a:blip r:embed="rId2"/>
          <a:stretch/>
        </p:blipFill>
        <p:spPr>
          <a:xfrm>
            <a:off x="900000" y="907920"/>
            <a:ext cx="5184720" cy="5051520"/>
          </a:xfrm>
          <a:prstGeom prst="rect">
            <a:avLst/>
          </a:prstGeom>
          <a:ln w="76320">
            <a:solidFill>
              <a:srgbClr val="6666ff"/>
            </a:solidFill>
            <a:miter/>
          </a:ln>
        </p:spPr>
      </p:pic>
      <p:sp>
        <p:nvSpPr>
          <p:cNvPr id="373" name="Text Box 2"/>
          <p:cNvSpPr/>
          <p:nvPr/>
        </p:nvSpPr>
        <p:spPr>
          <a:xfrm>
            <a:off x="1804680" y="635652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Graham Children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Rectangle 0"/>
          <p:cNvSpPr/>
          <p:nvPr/>
        </p:nvSpPr>
        <p:spPr>
          <a:xfrm>
            <a:off x="468360" y="6934320"/>
            <a:ext cx="4824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" name="WordArt 0"/>
          <p:cNvSpPr txBox="1"/>
          <p:nvPr/>
        </p:nvSpPr>
        <p:spPr>
          <a:xfrm>
            <a:off x="6659640" y="4108320"/>
            <a:ext cx="18730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>
                    <a:alpha val="50000"/>
                  </a:srgbClr>
                </a:solidFill>
                <a:effectLst>
                  <a:outerShdw dist="17819" dir="2700000" blurRad="0" rotWithShape="0">
                    <a:srgbClr val="7a0000"/>
                  </a:outerShdw>
                </a:effectLst>
                <a:latin typeface="Arial"/>
              </a:rPr>
              <a:t>William Hogarth</a:t>
            </a:r>
            <a:endParaRPr b="0" lang="en-US" sz="2800" spc="1" strike="noStrike">
              <a:ln w="0">
                <a:noFill/>
              </a:ln>
              <a:solidFill>
                <a:srgbClr val="cc0000">
                  <a:alpha val="50000"/>
                </a:srgbClr>
              </a:solidFill>
              <a:effectLst>
                <a:outerShdw dist="17819" dir="2700000" blurRad="0" rotWithShape="0">
                  <a:srgbClr val="7a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76" name="WordArt 1"/>
          <p:cNvSpPr txBox="1"/>
          <p:nvPr/>
        </p:nvSpPr>
        <p:spPr>
          <a:xfrm>
            <a:off x="7047000" y="4568760"/>
            <a:ext cx="981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6666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697-1764</a:t>
            </a:r>
            <a:endParaRPr b="0" lang="en-US" sz="1600" spc="1" strike="noStrike">
              <a:ln w="9360">
                <a:solidFill>
                  <a:srgbClr val="6666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377" name="Picture 0" descr="hogarth33"/>
          <p:cNvPicPr/>
          <p:nvPr/>
        </p:nvPicPr>
        <p:blipFill>
          <a:blip r:embed="rId3"/>
          <a:stretch/>
        </p:blipFill>
        <p:spPr>
          <a:xfrm>
            <a:off x="6372360" y="907920"/>
            <a:ext cx="2165040" cy="2808360"/>
          </a:xfrm>
          <a:prstGeom prst="rect">
            <a:avLst/>
          </a:prstGeom>
          <a:ln w="57240">
            <a:solidFill>
              <a:srgbClr val="33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0" descr="33-domesday-book-1804x972"/>
          <p:cNvPicPr/>
          <p:nvPr/>
        </p:nvPicPr>
        <p:blipFill>
          <a:blip r:embed="rId1"/>
          <a:stretch/>
        </p:blipFill>
        <p:spPr>
          <a:xfrm>
            <a:off x="1547640" y="907920"/>
            <a:ext cx="6121440" cy="329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79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80" name="AutoShape 0">
            <a:hlinkClick r:id="rId2" action="ppaction://hlinksldjump"/>
          </p:cNvPr>
          <p:cNvSpPr/>
          <p:nvPr/>
        </p:nvSpPr>
        <p:spPr>
          <a:xfrm>
            <a:off x="8244000" y="6237360"/>
            <a:ext cx="649080" cy="611280"/>
          </a:xfrm>
          <a:custGeom>
            <a:avLst/>
            <a:gdLst>
              <a:gd name="textAreaLeft" fmla="*/ 39600 w 649080"/>
              <a:gd name="textAreaRight" fmla="*/ 609480 w 6490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4461" y="7493"/>
                </a:moveTo>
                <a:lnTo>
                  <a:pt x="7969" y="7493"/>
                </a:lnTo>
                <a:lnTo>
                  <a:pt x="7969" y="12828"/>
                </a:lnTo>
                <a:cubicBezTo>
                  <a:pt x="7969" y="13751"/>
                  <a:pt x="8769" y="14482"/>
                  <a:pt x="9805" y="14482"/>
                </a:cubicBezTo>
                <a:lnTo>
                  <a:pt x="11467" y="14482"/>
                </a:lnTo>
                <a:cubicBezTo>
                  <a:pt x="12503" y="14482"/>
                  <a:pt x="13304" y="13751"/>
                  <a:pt x="13304" y="12828"/>
                </a:cubicBezTo>
                <a:lnTo>
                  <a:pt x="13304" y="7493"/>
                </a:lnTo>
                <a:lnTo>
                  <a:pt x="11467" y="7493"/>
                </a:lnTo>
                <a:lnTo>
                  <a:pt x="14975" y="3985"/>
                </a:lnTo>
                <a:lnTo>
                  <a:pt x="18648" y="7493"/>
                </a:lnTo>
                <a:lnTo>
                  <a:pt x="16812" y="7493"/>
                </a:lnTo>
                <a:lnTo>
                  <a:pt x="16812" y="12828"/>
                </a:lnTo>
                <a:cubicBezTo>
                  <a:pt x="16812" y="15596"/>
                  <a:pt x="14235" y="18155"/>
                  <a:pt x="11467" y="18155"/>
                </a:cubicBezTo>
                <a:lnTo>
                  <a:pt x="9805" y="18155"/>
                </a:lnTo>
                <a:cubicBezTo>
                  <a:pt x="7037" y="18155"/>
                  <a:pt x="4461" y="15596"/>
                  <a:pt x="4461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1" name="Picture 0" descr="бук"/>
          <p:cNvPicPr/>
          <p:nvPr/>
        </p:nvPicPr>
        <p:blipFill>
          <a:blip r:embed="rId3"/>
          <a:stretch/>
        </p:blipFill>
        <p:spPr>
          <a:xfrm>
            <a:off x="4284720" y="4581360"/>
            <a:ext cx="3222720" cy="1970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82" name="WordArt 3"/>
          <p:cNvSpPr txBox="1"/>
          <p:nvPr/>
        </p:nvSpPr>
        <p:spPr>
          <a:xfrm>
            <a:off x="1093680" y="4788000"/>
            <a:ext cx="26146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 DOMESDAY 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3" name="WordArt 4"/>
          <p:cNvSpPr txBox="1"/>
          <p:nvPr/>
        </p:nvSpPr>
        <p:spPr>
          <a:xfrm>
            <a:off x="2268360" y="5724360"/>
            <a:ext cx="1000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OOK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8" descr="toymart_3996_01big"/>
          <p:cNvPicPr/>
          <p:nvPr/>
        </p:nvPicPr>
        <p:blipFill>
          <a:blip r:embed="rId1"/>
          <a:stretch/>
        </p:blipFill>
        <p:spPr>
          <a:xfrm>
            <a:off x="900000" y="981000"/>
            <a:ext cx="5256360" cy="56880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385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86" name="AutoShape 0"/>
          <p:cNvSpPr/>
          <p:nvPr/>
        </p:nvSpPr>
        <p:spPr>
          <a:xfrm>
            <a:off x="8317080" y="623736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7" name="Picture 5" descr="boy_kak_santa"/>
          <p:cNvPicPr/>
          <p:nvPr/>
        </p:nvPicPr>
        <p:blipFill>
          <a:blip r:embed="rId2"/>
          <a:stretch/>
        </p:blipFill>
        <p:spPr>
          <a:xfrm>
            <a:off x="6419880" y="5084640"/>
            <a:ext cx="1608120" cy="15130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388" name="WordArt 0"/>
          <p:cNvSpPr txBox="1"/>
          <p:nvPr/>
        </p:nvSpPr>
        <p:spPr>
          <a:xfrm>
            <a:off x="6300720" y="3429000"/>
            <a:ext cx="219096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Merry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Christmas!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9" name="Picture 0" descr="indeyka"/>
          <p:cNvPicPr/>
          <p:nvPr/>
        </p:nvPicPr>
        <p:blipFill>
          <a:blip r:embed="rId3"/>
          <a:stretch/>
        </p:blipFill>
        <p:spPr>
          <a:xfrm>
            <a:off x="6300720" y="981000"/>
            <a:ext cx="2087640" cy="2089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0" descr="queen2"/>
          <p:cNvPicPr/>
          <p:nvPr/>
        </p:nvPicPr>
        <p:blipFill>
          <a:blip r:embed="rId1"/>
          <a:stretch/>
        </p:blipFill>
        <p:spPr>
          <a:xfrm>
            <a:off x="5869080" y="5084640"/>
            <a:ext cx="3024000" cy="177336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  <p:pic>
        <p:nvPicPr>
          <p:cNvPr id="391" name="Picture 3" descr="with_queen"/>
          <p:cNvPicPr/>
          <p:nvPr/>
        </p:nvPicPr>
        <p:blipFill>
          <a:blip r:embed="rId2"/>
          <a:stretch/>
        </p:blipFill>
        <p:spPr>
          <a:xfrm>
            <a:off x="179280" y="3500280"/>
            <a:ext cx="2068560" cy="179892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  <p:pic>
        <p:nvPicPr>
          <p:cNvPr id="392" name="Picture 4" descr="troop"/>
          <p:cNvPicPr/>
          <p:nvPr/>
        </p:nvPicPr>
        <p:blipFill>
          <a:blip r:embed="rId3"/>
          <a:stretch/>
        </p:blipFill>
        <p:spPr>
          <a:xfrm>
            <a:off x="179280" y="5084640"/>
            <a:ext cx="2089080" cy="177336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  <p:pic>
        <p:nvPicPr>
          <p:cNvPr id="393" name="Picture 0" descr="семья"/>
          <p:cNvPicPr/>
          <p:nvPr/>
        </p:nvPicPr>
        <p:blipFill>
          <a:blip r:embed="rId4"/>
          <a:stretch/>
        </p:blipFill>
        <p:spPr>
          <a:xfrm>
            <a:off x="179280" y="909720"/>
            <a:ext cx="2089080" cy="143964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  <p:pic>
        <p:nvPicPr>
          <p:cNvPr id="394" name="Picture 1" descr="charles2"/>
          <p:cNvPicPr/>
          <p:nvPr/>
        </p:nvPicPr>
        <p:blipFill>
          <a:blip r:embed="rId5"/>
          <a:stretch/>
        </p:blipFill>
        <p:spPr>
          <a:xfrm>
            <a:off x="179280" y="2344680"/>
            <a:ext cx="2089080" cy="122868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  <p:pic>
        <p:nvPicPr>
          <p:cNvPr id="395" name="Picture 1" descr="family"/>
          <p:cNvPicPr/>
          <p:nvPr/>
        </p:nvPicPr>
        <p:blipFill>
          <a:blip r:embed="rId6"/>
          <a:stretch/>
        </p:blipFill>
        <p:spPr>
          <a:xfrm>
            <a:off x="3348000" y="5084640"/>
            <a:ext cx="2592360" cy="177336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  <p:pic>
        <p:nvPicPr>
          <p:cNvPr id="396" name="Picture 0" descr="009"/>
          <p:cNvPicPr/>
          <p:nvPr/>
        </p:nvPicPr>
        <p:blipFill>
          <a:blip r:embed="rId7"/>
          <a:stretch/>
        </p:blipFill>
        <p:spPr>
          <a:xfrm>
            <a:off x="2484360" y="907920"/>
            <a:ext cx="6408720" cy="388944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sp>
        <p:nvSpPr>
          <p:cNvPr id="397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98" name="AutoShape 0"/>
          <p:cNvSpPr/>
          <p:nvPr/>
        </p:nvSpPr>
        <p:spPr>
          <a:xfrm>
            <a:off x="8388360" y="6237360"/>
            <a:ext cx="504720" cy="620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620640"/>
              <a:gd name="textAreaBottom" fmla="*/ 588240 h 620640"/>
            </a:gdLst>
            <a:ahLst/>
            <a:rect l="textAreaLeft" t="textAreaTop" r="textAreaRight" b="textAreaBottom"/>
            <a:pathLst>
              <a:path w="21600" h="26557">
                <a:moveTo>
                  <a:pt x="0" y="0"/>
                </a:moveTo>
                <a:lnTo>
                  <a:pt x="21600" y="0"/>
                </a:lnTo>
                <a:lnTo>
                  <a:pt x="21600" y="26557"/>
                </a:lnTo>
                <a:lnTo>
                  <a:pt x="0" y="26557"/>
                </a:lnTo>
                <a:close/>
              </a:path>
              <a:path fill="lightenLess" w="21600" h="265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57">
                <a:moveTo>
                  <a:pt x="21600" y="0"/>
                </a:moveTo>
                <a:lnTo>
                  <a:pt x="21600" y="26557"/>
                </a:lnTo>
                <a:lnTo>
                  <a:pt x="20200" y="25157"/>
                </a:lnTo>
                <a:lnTo>
                  <a:pt x="20200" y="1400"/>
                </a:lnTo>
                <a:close/>
              </a:path>
              <a:path fill="darkenLess" w="21600" h="26557">
                <a:moveTo>
                  <a:pt x="21600" y="26557"/>
                </a:moveTo>
                <a:lnTo>
                  <a:pt x="0" y="26557"/>
                </a:lnTo>
                <a:lnTo>
                  <a:pt x="1400" y="25157"/>
                </a:lnTo>
                <a:lnTo>
                  <a:pt x="20200" y="25157"/>
                </a:lnTo>
                <a:close/>
              </a:path>
              <a:path fill="lighten" w="21600" h="26557">
                <a:moveTo>
                  <a:pt x="0" y="265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57"/>
                </a:lnTo>
                <a:close/>
              </a:path>
              <a:path fill="darken" w="21600" h="26557">
                <a:moveTo>
                  <a:pt x="3794" y="9971"/>
                </a:moveTo>
                <a:lnTo>
                  <a:pt x="7301" y="9971"/>
                </a:lnTo>
                <a:lnTo>
                  <a:pt x="7301" y="15307"/>
                </a:lnTo>
                <a:cubicBezTo>
                  <a:pt x="7301" y="16229"/>
                  <a:pt x="8102" y="16960"/>
                  <a:pt x="9138" y="16960"/>
                </a:cubicBezTo>
                <a:lnTo>
                  <a:pt x="10800" y="16960"/>
                </a:lnTo>
                <a:cubicBezTo>
                  <a:pt x="11836" y="16960"/>
                  <a:pt x="12636" y="16229"/>
                  <a:pt x="12636" y="15307"/>
                </a:cubicBezTo>
                <a:lnTo>
                  <a:pt x="12636" y="9971"/>
                </a:lnTo>
                <a:lnTo>
                  <a:pt x="10800" y="9971"/>
                </a:lnTo>
                <a:lnTo>
                  <a:pt x="14308" y="6464"/>
                </a:lnTo>
                <a:lnTo>
                  <a:pt x="17981" y="9971"/>
                </a:lnTo>
                <a:lnTo>
                  <a:pt x="16144" y="9971"/>
                </a:lnTo>
                <a:lnTo>
                  <a:pt x="16144" y="15307"/>
                </a:lnTo>
                <a:cubicBezTo>
                  <a:pt x="16144" y="18074"/>
                  <a:pt x="13568" y="20633"/>
                  <a:pt x="10800" y="20633"/>
                </a:cubicBezTo>
                <a:lnTo>
                  <a:pt x="9138" y="20633"/>
                </a:lnTo>
                <a:cubicBezTo>
                  <a:pt x="6370" y="20633"/>
                  <a:pt x="3794" y="18074"/>
                  <a:pt x="3794" y="15307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9" name="Picture 2" descr="короли"/>
          <p:cNvPicPr/>
          <p:nvPr/>
        </p:nvPicPr>
        <p:blipFill>
          <a:blip r:embed="rId8"/>
          <a:stretch/>
        </p:blipFill>
        <p:spPr>
          <a:xfrm>
            <a:off x="2268360" y="5084640"/>
            <a:ext cx="1082880" cy="177336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  <p:pic>
        <p:nvPicPr>
          <p:cNvPr id="400" name="Picture 3" descr="кор"/>
          <p:cNvPicPr/>
          <p:nvPr/>
        </p:nvPicPr>
        <p:blipFill>
          <a:blip r:embed="rId9"/>
          <a:stretch/>
        </p:blipFill>
        <p:spPr>
          <a:xfrm>
            <a:off x="8028000" y="981000"/>
            <a:ext cx="72216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grpSp>
        <p:nvGrpSpPr>
          <p:cNvPr id="402" name="Group 0"/>
          <p:cNvGrpSpPr/>
          <p:nvPr/>
        </p:nvGrpSpPr>
        <p:grpSpPr>
          <a:xfrm>
            <a:off x="642960" y="714240"/>
            <a:ext cx="7729200" cy="5540400"/>
            <a:chOff x="642960" y="714240"/>
            <a:chExt cx="7729200" cy="5540400"/>
          </a:xfrm>
        </p:grpSpPr>
        <p:pic>
          <p:nvPicPr>
            <p:cNvPr id="403" name="Picture 0" descr="свпав"/>
            <p:cNvPicPr/>
            <p:nvPr/>
          </p:nvPicPr>
          <p:blipFill>
            <a:blip r:embed="rId1"/>
            <a:stretch/>
          </p:blipFill>
          <p:spPr>
            <a:xfrm>
              <a:off x="6501240" y="714240"/>
              <a:ext cx="1870920" cy="2305080"/>
            </a:xfrm>
            <a:prstGeom prst="rect">
              <a:avLst/>
            </a:prstGeom>
            <a:ln w="38160">
              <a:solidFill>
                <a:srgbClr val="eaeaea"/>
              </a:solidFill>
              <a:miter/>
            </a:ln>
          </p:spPr>
        </p:pic>
        <p:pic>
          <p:nvPicPr>
            <p:cNvPr id="404" name="Picture 8" descr="stpauls2"/>
            <p:cNvPicPr/>
            <p:nvPr/>
          </p:nvPicPr>
          <p:blipFill>
            <a:blip r:embed="rId2"/>
            <a:stretch/>
          </p:blipFill>
          <p:spPr>
            <a:xfrm>
              <a:off x="642960" y="714240"/>
              <a:ext cx="3287160" cy="2319480"/>
            </a:xfrm>
            <a:prstGeom prst="rect">
              <a:avLst/>
            </a:prstGeom>
            <a:ln w="38160">
              <a:solidFill>
                <a:srgbClr val="eaeaea"/>
              </a:solidFill>
              <a:miter/>
            </a:ln>
          </p:spPr>
        </p:pic>
        <p:pic>
          <p:nvPicPr>
            <p:cNvPr id="405" name="Picture 1" descr="st_paul"/>
            <p:cNvPicPr/>
            <p:nvPr/>
          </p:nvPicPr>
          <p:blipFill>
            <a:blip r:embed="rId3"/>
            <a:stretch/>
          </p:blipFill>
          <p:spPr>
            <a:xfrm>
              <a:off x="3715560" y="714240"/>
              <a:ext cx="2927880" cy="2343240"/>
            </a:xfrm>
            <a:prstGeom prst="rect">
              <a:avLst/>
            </a:prstGeom>
            <a:ln w="38160">
              <a:solidFill>
                <a:srgbClr val="eaeaea"/>
              </a:solidFill>
              <a:miter/>
            </a:ln>
          </p:spPr>
        </p:pic>
        <p:pic>
          <p:nvPicPr>
            <p:cNvPr id="406" name="Picture 2" descr="top_204"/>
            <p:cNvPicPr/>
            <p:nvPr/>
          </p:nvPicPr>
          <p:blipFill>
            <a:blip r:embed="rId4"/>
            <a:stretch/>
          </p:blipFill>
          <p:spPr>
            <a:xfrm>
              <a:off x="642960" y="3071880"/>
              <a:ext cx="3000240" cy="3182760"/>
            </a:xfrm>
            <a:prstGeom prst="rect">
              <a:avLst/>
            </a:prstGeom>
            <a:ln w="38160">
              <a:solidFill>
                <a:srgbClr val="eaeaea"/>
              </a:solidFill>
              <a:miter/>
            </a:ln>
          </p:spPr>
        </p:pic>
      </p:grpSp>
      <p:sp>
        <p:nvSpPr>
          <p:cNvPr id="407" name="AutoShape 0"/>
          <p:cNvSpPr/>
          <p:nvPr/>
        </p:nvSpPr>
        <p:spPr>
          <a:xfrm>
            <a:off x="8244000" y="6093000"/>
            <a:ext cx="610920" cy="649080"/>
          </a:xfrm>
          <a:custGeom>
            <a:avLst/>
            <a:gdLst>
              <a:gd name="textAreaLeft" fmla="*/ 39600 w 610920"/>
              <a:gd name="textAreaRight" fmla="*/ 571320 w 610920"/>
              <a:gd name="textAreaTop" fmla="*/ 39600 h 649080"/>
              <a:gd name="textAreaBottom" fmla="*/ 609480 h 649080"/>
            </a:gdLst>
            <a:ahLst/>
            <a:rect l="textAreaLeft" t="textAreaTop" r="textAreaRight" b="textAreaBottom"/>
            <a:pathLst>
              <a:path w="21600" h="22948">
                <a:moveTo>
                  <a:pt x="0" y="0"/>
                </a:moveTo>
                <a:lnTo>
                  <a:pt x="21600" y="0"/>
                </a:lnTo>
                <a:lnTo>
                  <a:pt x="21600" y="22948"/>
                </a:lnTo>
                <a:lnTo>
                  <a:pt x="0" y="22948"/>
                </a:lnTo>
                <a:close/>
              </a:path>
              <a:path fill="lightenLess" w="21600" h="229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48">
                <a:moveTo>
                  <a:pt x="21600" y="0"/>
                </a:moveTo>
                <a:lnTo>
                  <a:pt x="21600" y="22948"/>
                </a:lnTo>
                <a:lnTo>
                  <a:pt x="20200" y="21548"/>
                </a:lnTo>
                <a:lnTo>
                  <a:pt x="20200" y="1400"/>
                </a:lnTo>
                <a:close/>
              </a:path>
              <a:path fill="darkenLess" w="21600" h="22948">
                <a:moveTo>
                  <a:pt x="21600" y="22948"/>
                </a:moveTo>
                <a:lnTo>
                  <a:pt x="0" y="22948"/>
                </a:lnTo>
                <a:lnTo>
                  <a:pt x="1400" y="21548"/>
                </a:lnTo>
                <a:lnTo>
                  <a:pt x="20200" y="21548"/>
                </a:lnTo>
                <a:close/>
              </a:path>
              <a:path fill="lighten" w="21600" h="22948">
                <a:moveTo>
                  <a:pt x="0" y="229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48"/>
                </a:lnTo>
                <a:close/>
              </a:path>
              <a:path fill="darken" w="21600" h="22948">
                <a:moveTo>
                  <a:pt x="3794" y="8167"/>
                </a:moveTo>
                <a:lnTo>
                  <a:pt x="7301" y="8167"/>
                </a:lnTo>
                <a:lnTo>
                  <a:pt x="7301" y="13502"/>
                </a:lnTo>
                <a:cubicBezTo>
                  <a:pt x="7301" y="14425"/>
                  <a:pt x="8102" y="15156"/>
                  <a:pt x="9138" y="15156"/>
                </a:cubicBezTo>
                <a:lnTo>
                  <a:pt x="10800" y="15156"/>
                </a:lnTo>
                <a:cubicBezTo>
                  <a:pt x="11836" y="15156"/>
                  <a:pt x="12636" y="14425"/>
                  <a:pt x="12636" y="13502"/>
                </a:cubicBezTo>
                <a:lnTo>
                  <a:pt x="12636" y="8167"/>
                </a:lnTo>
                <a:lnTo>
                  <a:pt x="10800" y="8167"/>
                </a:lnTo>
                <a:lnTo>
                  <a:pt x="14308" y="4659"/>
                </a:lnTo>
                <a:lnTo>
                  <a:pt x="17981" y="8167"/>
                </a:lnTo>
                <a:lnTo>
                  <a:pt x="16144" y="8167"/>
                </a:lnTo>
                <a:lnTo>
                  <a:pt x="16144" y="13502"/>
                </a:lnTo>
                <a:cubicBezTo>
                  <a:pt x="16144" y="16270"/>
                  <a:pt x="13568" y="18829"/>
                  <a:pt x="10800" y="18829"/>
                </a:cubicBezTo>
                <a:lnTo>
                  <a:pt x="9138" y="18829"/>
                </a:lnTo>
                <a:cubicBezTo>
                  <a:pt x="6370" y="18829"/>
                  <a:pt x="3794" y="16270"/>
                  <a:pt x="3794" y="13502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08" name="TextBox 13" descr=""/>
          <p:cNvPicPr/>
          <p:nvPr/>
        </p:nvPicPr>
        <p:blipFill>
          <a:blip r:embed="rId5"/>
          <a:stretch/>
        </p:blipFill>
        <p:spPr>
          <a:xfrm>
            <a:off x="3578400" y="5078520"/>
            <a:ext cx="5419440" cy="852480"/>
          </a:xfrm>
          <a:prstGeom prst="rect">
            <a:avLst/>
          </a:prstGeom>
          <a:ln w="0">
            <a:noFill/>
          </a:ln>
        </p:spPr>
      </p:pic>
      <p:pic>
        <p:nvPicPr>
          <p:cNvPr id="409" name="TextBox 14" descr=""/>
          <p:cNvPicPr/>
          <p:nvPr/>
        </p:nvPicPr>
        <p:blipFill>
          <a:blip r:embed="rId6"/>
          <a:stretch/>
        </p:blipFill>
        <p:spPr>
          <a:xfrm>
            <a:off x="5095800" y="3060720"/>
            <a:ext cx="35416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0" descr="1447_picture"/>
          <p:cNvPicPr/>
          <p:nvPr/>
        </p:nvPicPr>
        <p:blipFill>
          <a:blip r:embed="rId1"/>
          <a:stretch/>
        </p:blipFill>
        <p:spPr>
          <a:xfrm>
            <a:off x="826920" y="981000"/>
            <a:ext cx="4681800" cy="4464000"/>
          </a:xfrm>
          <a:prstGeom prst="rect">
            <a:avLst/>
          </a:prstGeom>
          <a:ln w="76320">
            <a:solidFill>
              <a:srgbClr val="a78b3d"/>
            </a:solidFill>
            <a:miter/>
          </a:ln>
        </p:spPr>
      </p:pic>
      <p:sp>
        <p:nvSpPr>
          <p:cNvPr id="411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412" name="AutoShape 0"/>
          <p:cNvSpPr/>
          <p:nvPr/>
        </p:nvSpPr>
        <p:spPr>
          <a:xfrm>
            <a:off x="8244000" y="6165720"/>
            <a:ext cx="649080" cy="611280"/>
          </a:xfrm>
          <a:custGeom>
            <a:avLst/>
            <a:gdLst>
              <a:gd name="textAreaLeft" fmla="*/ 39600 w 649080"/>
              <a:gd name="textAreaRight" fmla="*/ 609480 w 6490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4461" y="7493"/>
                </a:moveTo>
                <a:lnTo>
                  <a:pt x="7969" y="7493"/>
                </a:lnTo>
                <a:lnTo>
                  <a:pt x="7969" y="12828"/>
                </a:lnTo>
                <a:cubicBezTo>
                  <a:pt x="7969" y="13751"/>
                  <a:pt x="8769" y="14482"/>
                  <a:pt x="9805" y="14482"/>
                </a:cubicBezTo>
                <a:lnTo>
                  <a:pt x="11467" y="14482"/>
                </a:lnTo>
                <a:cubicBezTo>
                  <a:pt x="12503" y="14482"/>
                  <a:pt x="13304" y="13751"/>
                  <a:pt x="13304" y="12828"/>
                </a:cubicBezTo>
                <a:lnTo>
                  <a:pt x="13304" y="7493"/>
                </a:lnTo>
                <a:lnTo>
                  <a:pt x="11467" y="7493"/>
                </a:lnTo>
                <a:lnTo>
                  <a:pt x="14975" y="3985"/>
                </a:lnTo>
                <a:lnTo>
                  <a:pt x="18648" y="7493"/>
                </a:lnTo>
                <a:lnTo>
                  <a:pt x="16812" y="7493"/>
                </a:lnTo>
                <a:lnTo>
                  <a:pt x="16812" y="12828"/>
                </a:lnTo>
                <a:cubicBezTo>
                  <a:pt x="16812" y="15596"/>
                  <a:pt x="14235" y="18155"/>
                  <a:pt x="11467" y="18155"/>
                </a:cubicBezTo>
                <a:lnTo>
                  <a:pt x="9805" y="18155"/>
                </a:lnTo>
                <a:cubicBezTo>
                  <a:pt x="7037" y="18155"/>
                  <a:pt x="4461" y="15596"/>
                  <a:pt x="4461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13" name="Picture 2" descr="1111"/>
          <p:cNvPicPr/>
          <p:nvPr/>
        </p:nvPicPr>
        <p:blipFill>
          <a:blip r:embed="rId2"/>
          <a:stretch/>
        </p:blipFill>
        <p:spPr>
          <a:xfrm>
            <a:off x="6084720" y="981000"/>
            <a:ext cx="2062440" cy="3181320"/>
          </a:xfrm>
          <a:prstGeom prst="rect">
            <a:avLst/>
          </a:prstGeom>
          <a:ln w="38160">
            <a:solidFill>
              <a:srgbClr val="a78b3d"/>
            </a:solidFill>
            <a:miter/>
          </a:ln>
        </p:spPr>
      </p:pic>
      <p:sp>
        <p:nvSpPr>
          <p:cNvPr id="414" name="WordArt 0"/>
          <p:cNvSpPr txBox="1"/>
          <p:nvPr/>
        </p:nvSpPr>
        <p:spPr>
          <a:xfrm>
            <a:off x="2505240" y="5738760"/>
            <a:ext cx="469584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e Battle of Trafalgar</a:t>
            </a:r>
            <a:endParaRPr b="0" lang="en-US" sz="40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5" name="WordArt 1"/>
          <p:cNvSpPr txBox="1"/>
          <p:nvPr/>
        </p:nvSpPr>
        <p:spPr>
          <a:xfrm>
            <a:off x="6783480" y="4648320"/>
            <a:ext cx="10285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1805</a:t>
            </a:r>
            <a:endParaRPr b="0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0" descr="ден"/>
          <p:cNvPicPr/>
          <p:nvPr/>
        </p:nvPicPr>
        <p:blipFill>
          <a:blip r:embed="rId1"/>
          <a:stretch/>
        </p:blipFill>
        <p:spPr>
          <a:xfrm>
            <a:off x="901800" y="5300640"/>
            <a:ext cx="6191280" cy="9367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деньги"/>
          <p:cNvPicPr/>
          <p:nvPr/>
        </p:nvPicPr>
        <p:blipFill>
          <a:blip r:embed="rId2"/>
          <a:stretch/>
        </p:blipFill>
        <p:spPr>
          <a:xfrm>
            <a:off x="5508720" y="907920"/>
            <a:ext cx="2800080" cy="3164040"/>
          </a:xfrm>
          <a:prstGeom prst="rect">
            <a:avLst/>
          </a:prstGeom>
          <a:ln w="0">
            <a:noFill/>
          </a:ln>
        </p:spPr>
      </p:pic>
      <p:sp>
        <p:nvSpPr>
          <p:cNvPr id="418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419" name="AutoShape 0"/>
          <p:cNvSpPr/>
          <p:nvPr/>
        </p:nvSpPr>
        <p:spPr>
          <a:xfrm>
            <a:off x="8172360" y="6237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20" name="Picture 0" descr="20ф"/>
          <p:cNvPicPr/>
          <p:nvPr/>
        </p:nvPicPr>
        <p:blipFill>
          <a:blip r:embed="rId3"/>
          <a:stretch/>
        </p:blipFill>
        <p:spPr>
          <a:xfrm>
            <a:off x="1476360" y="2708280"/>
            <a:ext cx="2808360" cy="1386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" descr="5f-r"/>
          <p:cNvPicPr/>
          <p:nvPr/>
        </p:nvPicPr>
        <p:blipFill>
          <a:blip r:embed="rId4"/>
          <a:stretch/>
        </p:blipFill>
        <p:spPr>
          <a:xfrm>
            <a:off x="1476360" y="1052640"/>
            <a:ext cx="2827440" cy="1427040"/>
          </a:xfrm>
          <a:prstGeom prst="rect">
            <a:avLst/>
          </a:prstGeom>
          <a:ln w="0">
            <a:noFill/>
          </a:ln>
        </p:spPr>
      </p:pic>
      <p:sp>
        <p:nvSpPr>
          <p:cNvPr id="422" name="WordArt 2"/>
          <p:cNvSpPr txBox="1"/>
          <p:nvPr/>
        </p:nvSpPr>
        <p:spPr>
          <a:xfrm>
            <a:off x="3124080" y="4417920"/>
            <a:ext cx="2895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cc00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British pounds</a:t>
            </a:r>
            <a:endParaRPr b="0" lang="en-US" sz="2000" spc="1" strike="noStrike">
              <a:ln w="12600">
                <a:solidFill>
                  <a:srgbClr val="cc00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0" descr="новгод"/>
          <p:cNvPicPr/>
          <p:nvPr/>
        </p:nvPicPr>
        <p:blipFill>
          <a:blip r:embed="rId1"/>
          <a:stretch/>
        </p:blipFill>
        <p:spPr>
          <a:xfrm>
            <a:off x="2124000" y="981000"/>
            <a:ext cx="5113440" cy="36529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424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pic>
        <p:nvPicPr>
          <p:cNvPr id="425" name="Picture 0" descr="9m5"/>
          <p:cNvPicPr/>
          <p:nvPr/>
        </p:nvPicPr>
        <p:blipFill>
          <a:blip r:embed="rId2"/>
          <a:stretch/>
        </p:blipFill>
        <p:spPr>
          <a:xfrm rot="21418200">
            <a:off x="1403280" y="5454720"/>
            <a:ext cx="5062680" cy="1143000"/>
          </a:xfrm>
          <a:prstGeom prst="rect">
            <a:avLst/>
          </a:prstGeom>
          <a:ln w="0">
            <a:noFill/>
          </a:ln>
        </p:spPr>
      </p:pic>
      <p:sp>
        <p:nvSpPr>
          <p:cNvPr id="426" name="AutoShape 0"/>
          <p:cNvSpPr/>
          <p:nvPr/>
        </p:nvSpPr>
        <p:spPr>
          <a:xfrm>
            <a:off x="8244000" y="6093000"/>
            <a:ext cx="649080" cy="64908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0" descr="_Covent_Garden_c"/>
          <p:cNvPicPr/>
          <p:nvPr/>
        </p:nvPicPr>
        <p:blipFill>
          <a:blip r:embed="rId1"/>
          <a:stretch/>
        </p:blipFill>
        <p:spPr>
          <a:xfrm>
            <a:off x="1116000" y="1052640"/>
            <a:ext cx="6278400" cy="470844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sp>
        <p:nvSpPr>
          <p:cNvPr id="428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429" name="AutoShape 0"/>
          <p:cNvSpPr/>
          <p:nvPr/>
        </p:nvSpPr>
        <p:spPr>
          <a:xfrm>
            <a:off x="8172360" y="6237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WordArt 0"/>
          <p:cNvSpPr txBox="1"/>
          <p:nvPr/>
        </p:nvSpPr>
        <p:spPr>
          <a:xfrm>
            <a:off x="2843280" y="5950080"/>
            <a:ext cx="316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Covent Garden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The London home of the Queen is</a:t>
            </a:r>
            <a:r>
              <a:rPr b="0" lang="ru-RU" sz="36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estminster Abbey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ower of London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Buckingham Palace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Houses of Parliament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WordArt 0"/>
          <p:cNvSpPr txBox="1"/>
          <p:nvPr/>
        </p:nvSpPr>
        <p:spPr>
          <a:xfrm>
            <a:off x="2635200" y="18900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295" name="AutoShape 1">
            <a:hlinkClick r:id="rId5" action="ppaction://hlinksldjump"/>
          </p:cNvPr>
          <p:cNvSpPr/>
          <p:nvPr/>
        </p:nvSpPr>
        <p:spPr>
          <a:xfrm>
            <a:off x="8244000" y="6237360"/>
            <a:ext cx="684000" cy="576360"/>
          </a:xfrm>
          <a:custGeom>
            <a:avLst/>
            <a:gdLst>
              <a:gd name="textAreaLeft" fmla="*/ 37080 w 684000"/>
              <a:gd name="textAreaRight" fmla="*/ 646920 w 68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5631" h="21600">
                <a:moveTo>
                  <a:pt x="0" y="0"/>
                </a:moveTo>
                <a:lnTo>
                  <a:pt x="25631" y="0"/>
                </a:lnTo>
                <a:lnTo>
                  <a:pt x="25631" y="21600"/>
                </a:lnTo>
                <a:lnTo>
                  <a:pt x="0" y="21600"/>
                </a:lnTo>
                <a:close/>
              </a:path>
              <a:path fill="lightenLess" w="25631" h="21600">
                <a:moveTo>
                  <a:pt x="0" y="0"/>
                </a:moveTo>
                <a:lnTo>
                  <a:pt x="25631" y="0"/>
                </a:lnTo>
                <a:lnTo>
                  <a:pt x="24231" y="1400"/>
                </a:lnTo>
                <a:lnTo>
                  <a:pt x="1400" y="1400"/>
                </a:lnTo>
                <a:close/>
              </a:path>
              <a:path fill="darken" w="25631" h="21600">
                <a:moveTo>
                  <a:pt x="25631" y="0"/>
                </a:moveTo>
                <a:lnTo>
                  <a:pt x="25631" y="21600"/>
                </a:lnTo>
                <a:lnTo>
                  <a:pt x="24231" y="20200"/>
                </a:lnTo>
                <a:lnTo>
                  <a:pt x="24231" y="1400"/>
                </a:lnTo>
                <a:close/>
              </a:path>
              <a:path fill="darkenLess" w="25631" h="21600">
                <a:moveTo>
                  <a:pt x="25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31" y="20200"/>
                </a:lnTo>
                <a:close/>
              </a:path>
              <a:path fill="lighten" w="25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31" h="21600">
                <a:moveTo>
                  <a:pt x="1281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631" h="21600">
                <a:moveTo>
                  <a:pt x="13921" y="14281"/>
                </a:moveTo>
                <a:lnTo>
                  <a:pt x="13921" y="12323"/>
                </a:lnTo>
                <a:cubicBezTo>
                  <a:pt x="13921" y="11496"/>
                  <a:pt x="14252" y="10800"/>
                  <a:pt x="14852" y="10800"/>
                </a:cubicBezTo>
                <a:cubicBezTo>
                  <a:pt x="15984" y="10800"/>
                  <a:pt x="16880" y="9434"/>
                  <a:pt x="16880" y="7849"/>
                </a:cubicBezTo>
                <a:cubicBezTo>
                  <a:pt x="16880" y="5534"/>
                  <a:pt x="15026" y="3794"/>
                  <a:pt x="12816" y="3794"/>
                </a:cubicBezTo>
                <a:cubicBezTo>
                  <a:pt x="10605" y="3794"/>
                  <a:pt x="8934" y="5534"/>
                  <a:pt x="8934" y="7849"/>
                </a:cubicBezTo>
                <a:lnTo>
                  <a:pt x="10788" y="7849"/>
                </a:lnTo>
                <a:cubicBezTo>
                  <a:pt x="10788" y="6709"/>
                  <a:pt x="11710" y="5821"/>
                  <a:pt x="12816" y="5821"/>
                </a:cubicBezTo>
                <a:cubicBezTo>
                  <a:pt x="13921" y="5821"/>
                  <a:pt x="14852" y="6709"/>
                  <a:pt x="14852" y="7849"/>
                </a:cubicBezTo>
                <a:cubicBezTo>
                  <a:pt x="14852" y="8589"/>
                  <a:pt x="14382" y="9320"/>
                  <a:pt x="13921" y="9320"/>
                </a:cubicBezTo>
                <a:cubicBezTo>
                  <a:pt x="12816" y="9320"/>
                  <a:pt x="11710" y="10800"/>
                  <a:pt x="11710" y="12323"/>
                </a:cubicBezTo>
                <a:lnTo>
                  <a:pt x="11710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0" descr="030"/>
          <p:cNvPicPr/>
          <p:nvPr/>
        </p:nvPicPr>
        <p:blipFill>
          <a:blip r:embed="rId1"/>
          <a:stretch/>
        </p:blipFill>
        <p:spPr>
          <a:xfrm>
            <a:off x="3924360" y="1181160"/>
            <a:ext cx="4535280" cy="39034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pic>
        <p:nvPicPr>
          <p:cNvPr id="432" name="Picture 0" descr="вор"/>
          <p:cNvPicPr/>
          <p:nvPr/>
        </p:nvPicPr>
        <p:blipFill>
          <a:blip r:embed="rId2"/>
          <a:stretch/>
        </p:blipFill>
        <p:spPr>
          <a:xfrm>
            <a:off x="1116000" y="1341360"/>
            <a:ext cx="1973160" cy="20163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433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434" name="AutoShape 0"/>
          <p:cNvSpPr/>
          <p:nvPr/>
        </p:nvSpPr>
        <p:spPr>
          <a:xfrm>
            <a:off x="831708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7493"/>
                </a:moveTo>
                <a:lnTo>
                  <a:pt x="9232" y="7493"/>
                </a:lnTo>
                <a:lnTo>
                  <a:pt x="9232" y="12828"/>
                </a:lnTo>
                <a:cubicBezTo>
                  <a:pt x="9232" y="13751"/>
                  <a:pt x="10033" y="14482"/>
                  <a:pt x="11068" y="14482"/>
                </a:cubicBezTo>
                <a:lnTo>
                  <a:pt x="12731" y="14482"/>
                </a:lnTo>
                <a:cubicBezTo>
                  <a:pt x="13767" y="14482"/>
                  <a:pt x="14567" y="13751"/>
                  <a:pt x="14567" y="12828"/>
                </a:cubicBezTo>
                <a:lnTo>
                  <a:pt x="14567" y="7493"/>
                </a:lnTo>
                <a:lnTo>
                  <a:pt x="12731" y="7493"/>
                </a:lnTo>
                <a:lnTo>
                  <a:pt x="16238" y="3985"/>
                </a:lnTo>
                <a:lnTo>
                  <a:pt x="19911" y="7493"/>
                </a:lnTo>
                <a:lnTo>
                  <a:pt x="18075" y="7493"/>
                </a:lnTo>
                <a:lnTo>
                  <a:pt x="18075" y="12828"/>
                </a:lnTo>
                <a:cubicBezTo>
                  <a:pt x="18075" y="15596"/>
                  <a:pt x="15499" y="18155"/>
                  <a:pt x="12731" y="18155"/>
                </a:cubicBezTo>
                <a:lnTo>
                  <a:pt x="11068" y="18155"/>
                </a:lnTo>
                <a:cubicBezTo>
                  <a:pt x="8301" y="18155"/>
                  <a:pt x="5724" y="15596"/>
                  <a:pt x="5724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WordArt 4"/>
          <p:cNvSpPr txBox="1"/>
          <p:nvPr/>
        </p:nvSpPr>
        <p:spPr>
          <a:xfrm rot="20454000">
            <a:off x="468360" y="4508640"/>
            <a:ext cx="3238560" cy="90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Monotype Corsiva"/>
              </a:rPr>
              <a:t>The Raven Master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437" name="AutoShape 0"/>
          <p:cNvSpPr/>
          <p:nvPr/>
        </p:nvSpPr>
        <p:spPr>
          <a:xfrm>
            <a:off x="8172360" y="6237360"/>
            <a:ext cx="682560" cy="576360"/>
          </a:xfrm>
          <a:custGeom>
            <a:avLst/>
            <a:gdLst>
              <a:gd name="textAreaLeft" fmla="*/ 37080 w 682560"/>
              <a:gd name="textAreaRight" fmla="*/ 645480 w 6825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5578" h="21600">
                <a:moveTo>
                  <a:pt x="0" y="0"/>
                </a:moveTo>
                <a:lnTo>
                  <a:pt x="25578" y="0"/>
                </a:lnTo>
                <a:lnTo>
                  <a:pt x="25578" y="21600"/>
                </a:lnTo>
                <a:lnTo>
                  <a:pt x="0" y="21600"/>
                </a:lnTo>
                <a:close/>
              </a:path>
              <a:path fill="lightenLess" w="25578" h="21600">
                <a:moveTo>
                  <a:pt x="0" y="0"/>
                </a:moveTo>
                <a:lnTo>
                  <a:pt x="25578" y="0"/>
                </a:lnTo>
                <a:lnTo>
                  <a:pt x="24178" y="1400"/>
                </a:lnTo>
                <a:lnTo>
                  <a:pt x="1400" y="1400"/>
                </a:lnTo>
                <a:close/>
              </a:path>
              <a:path fill="darken" w="25578" h="21600">
                <a:moveTo>
                  <a:pt x="25578" y="0"/>
                </a:moveTo>
                <a:lnTo>
                  <a:pt x="25578" y="21600"/>
                </a:lnTo>
                <a:lnTo>
                  <a:pt x="24178" y="20200"/>
                </a:lnTo>
                <a:lnTo>
                  <a:pt x="24178" y="1400"/>
                </a:lnTo>
                <a:close/>
              </a:path>
              <a:path fill="darkenLess" w="25578" h="21600">
                <a:moveTo>
                  <a:pt x="25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78" y="20200"/>
                </a:lnTo>
                <a:close/>
              </a:path>
              <a:path fill="lighten" w="25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78" h="21600">
                <a:moveTo>
                  <a:pt x="5782" y="7493"/>
                </a:moveTo>
                <a:lnTo>
                  <a:pt x="9290" y="7493"/>
                </a:lnTo>
                <a:lnTo>
                  <a:pt x="9290" y="12828"/>
                </a:lnTo>
                <a:cubicBezTo>
                  <a:pt x="9290" y="13751"/>
                  <a:pt x="10091" y="14482"/>
                  <a:pt x="11126" y="14482"/>
                </a:cubicBezTo>
                <a:lnTo>
                  <a:pt x="12789" y="14482"/>
                </a:lnTo>
                <a:cubicBezTo>
                  <a:pt x="13825" y="14482"/>
                  <a:pt x="14625" y="13751"/>
                  <a:pt x="14625" y="12828"/>
                </a:cubicBezTo>
                <a:lnTo>
                  <a:pt x="14625" y="7493"/>
                </a:lnTo>
                <a:lnTo>
                  <a:pt x="12789" y="7493"/>
                </a:lnTo>
                <a:lnTo>
                  <a:pt x="16296" y="3985"/>
                </a:lnTo>
                <a:lnTo>
                  <a:pt x="19969" y="7493"/>
                </a:lnTo>
                <a:lnTo>
                  <a:pt x="18133" y="7493"/>
                </a:lnTo>
                <a:lnTo>
                  <a:pt x="18133" y="12828"/>
                </a:lnTo>
                <a:cubicBezTo>
                  <a:pt x="18133" y="15596"/>
                  <a:pt x="15557" y="18155"/>
                  <a:pt x="12789" y="18155"/>
                </a:cubicBezTo>
                <a:lnTo>
                  <a:pt x="11126" y="18155"/>
                </a:lnTo>
                <a:cubicBezTo>
                  <a:pt x="8359" y="18155"/>
                  <a:pt x="5782" y="15596"/>
                  <a:pt x="5782" y="12828"/>
                </a:cubicBez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WordArt 3"/>
          <p:cNvSpPr txBox="1"/>
          <p:nvPr/>
        </p:nvSpPr>
        <p:spPr>
          <a:xfrm>
            <a:off x="3492360" y="5362560"/>
            <a:ext cx="236232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YDE  Park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9" name="Picture 0" descr="hypark"/>
          <p:cNvPicPr/>
          <p:nvPr/>
        </p:nvPicPr>
        <p:blipFill>
          <a:blip r:embed="rId1"/>
          <a:stretch/>
        </p:blipFill>
        <p:spPr>
          <a:xfrm>
            <a:off x="900000" y="1052640"/>
            <a:ext cx="3743280" cy="3609720"/>
          </a:xfrm>
          <a:prstGeom prst="rect">
            <a:avLst/>
          </a:prstGeom>
          <a:ln w="76320">
            <a:solidFill>
              <a:srgbClr val="339966"/>
            </a:solidFill>
            <a:miter/>
          </a:ln>
        </p:spPr>
      </p:pic>
      <p:pic>
        <p:nvPicPr>
          <p:cNvPr id="440" name="Picture 1" descr="4"/>
          <p:cNvPicPr/>
          <p:nvPr/>
        </p:nvPicPr>
        <p:blipFill>
          <a:blip r:embed="rId2"/>
          <a:stretch/>
        </p:blipFill>
        <p:spPr>
          <a:xfrm>
            <a:off x="4865760" y="1052640"/>
            <a:ext cx="3378240" cy="3600360"/>
          </a:xfrm>
          <a:prstGeom prst="rect">
            <a:avLst/>
          </a:prstGeom>
          <a:ln w="7632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0" descr="line"/>
          <p:cNvPicPr/>
          <p:nvPr/>
        </p:nvPicPr>
        <p:blipFill>
          <a:blip r:embed="rId1"/>
          <a:stretch/>
        </p:blipFill>
        <p:spPr>
          <a:xfrm>
            <a:off x="2124000" y="144360"/>
            <a:ext cx="4824360" cy="47628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4">
            <a:hlinkClick r:id="" action="ppaction://hlinkshowjump?jump=firstslide"/>
          </p:cNvPr>
          <p:cNvSpPr/>
          <p:nvPr/>
        </p:nvSpPr>
        <p:spPr>
          <a:xfrm>
            <a:off x="7020000" y="6381720"/>
            <a:ext cx="1152360" cy="432000"/>
          </a:xfrm>
          <a:custGeom>
            <a:avLst/>
            <a:gdLst>
              <a:gd name="textAreaLeft" fmla="*/ 27720 w 1152360"/>
              <a:gd name="textAreaRight" fmla="*/ 1124640 w 115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8882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3" name="WordArt 3"/>
          <p:cNvSpPr txBox="1"/>
          <p:nvPr/>
        </p:nvSpPr>
        <p:spPr>
          <a:xfrm>
            <a:off x="2052720" y="1341360"/>
            <a:ext cx="5111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Impact"/>
              </a:rPr>
              <a:t>You are the best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Impact"/>
              <a:ea typeface="Impact"/>
            </a:endParaRPr>
          </a:p>
        </p:txBody>
      </p:sp>
      <p:sp>
        <p:nvSpPr>
          <p:cNvPr id="444" name="Text Box 5">
            <a:hlinkClick r:id="" action="ppaction://hlinkshowjump?jump=firstslide"/>
          </p:cNvPr>
          <p:cNvSpPr/>
          <p:nvPr/>
        </p:nvSpPr>
        <p:spPr>
          <a:xfrm>
            <a:off x="7164360" y="6381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pic>
        <p:nvPicPr>
          <p:cNvPr id="446" name="Picture 1" descr="58082[1]"/>
          <p:cNvPicPr/>
          <p:nvPr/>
        </p:nvPicPr>
        <p:blipFill>
          <a:blip r:embed="rId2"/>
          <a:stretch/>
        </p:blipFill>
        <p:spPr>
          <a:xfrm>
            <a:off x="3635280" y="3862440"/>
            <a:ext cx="2011320" cy="21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 repeatCount="3000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The flag of the UK is</a:t>
            </a:r>
            <a:br>
              <a:rPr sz="4800"/>
            </a:br>
            <a:endParaRPr b="0" lang="en-US" sz="48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ed, white and green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lue, red and yellow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ed, white and blue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hite, blue and green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299" name="AutoShape 0">
            <a:hlinkClick r:id="rId5" action="ppaction://hlinksldjump"/>
          </p:cNvPr>
          <p:cNvSpPr/>
          <p:nvPr/>
        </p:nvSpPr>
        <p:spPr>
          <a:xfrm>
            <a:off x="8244000" y="6308640"/>
            <a:ext cx="649080" cy="540000"/>
          </a:xfrm>
          <a:custGeom>
            <a:avLst/>
            <a:gdLst>
              <a:gd name="textAreaLeft" fmla="*/ 34920 w 649080"/>
              <a:gd name="textAreaRight" fmla="*/ 614160 w 6490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5960" h="21600">
                <a:moveTo>
                  <a:pt x="0" y="0"/>
                </a:moveTo>
                <a:lnTo>
                  <a:pt x="25960" y="0"/>
                </a:lnTo>
                <a:lnTo>
                  <a:pt x="25960" y="21600"/>
                </a:lnTo>
                <a:lnTo>
                  <a:pt x="0" y="21600"/>
                </a:lnTo>
                <a:close/>
              </a:path>
              <a:path fill="lightenLess" w="25960" h="21600">
                <a:moveTo>
                  <a:pt x="0" y="0"/>
                </a:moveTo>
                <a:lnTo>
                  <a:pt x="25960" y="0"/>
                </a:lnTo>
                <a:lnTo>
                  <a:pt x="24560" y="1400"/>
                </a:lnTo>
                <a:lnTo>
                  <a:pt x="1400" y="1400"/>
                </a:lnTo>
                <a:close/>
              </a:path>
              <a:path fill="darken" w="25960" h="21600">
                <a:moveTo>
                  <a:pt x="25960" y="0"/>
                </a:moveTo>
                <a:lnTo>
                  <a:pt x="25960" y="21600"/>
                </a:lnTo>
                <a:lnTo>
                  <a:pt x="24560" y="20200"/>
                </a:lnTo>
                <a:lnTo>
                  <a:pt x="24560" y="1400"/>
                </a:lnTo>
                <a:close/>
              </a:path>
              <a:path fill="darkenLess" w="25960" h="21600">
                <a:moveTo>
                  <a:pt x="25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60" y="20200"/>
                </a:lnTo>
                <a:close/>
              </a:path>
              <a:path fill="lighten" w="25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60" h="21600">
                <a:moveTo>
                  <a:pt x="1298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60" h="21600">
                <a:moveTo>
                  <a:pt x="14086" y="14281"/>
                </a:moveTo>
                <a:lnTo>
                  <a:pt x="14086" y="12323"/>
                </a:lnTo>
                <a:cubicBezTo>
                  <a:pt x="14086" y="11496"/>
                  <a:pt x="14416" y="10800"/>
                  <a:pt x="15017" y="10800"/>
                </a:cubicBezTo>
                <a:cubicBezTo>
                  <a:pt x="16148" y="10800"/>
                  <a:pt x="17045" y="9434"/>
                  <a:pt x="17045" y="7849"/>
                </a:cubicBezTo>
                <a:cubicBezTo>
                  <a:pt x="17045" y="5534"/>
                  <a:pt x="15191" y="3794"/>
                  <a:pt x="12980" y="3794"/>
                </a:cubicBezTo>
                <a:cubicBezTo>
                  <a:pt x="10769" y="3794"/>
                  <a:pt x="9098" y="5534"/>
                  <a:pt x="9098" y="7849"/>
                </a:cubicBezTo>
                <a:lnTo>
                  <a:pt x="10952" y="7849"/>
                </a:lnTo>
                <a:cubicBezTo>
                  <a:pt x="10952" y="6709"/>
                  <a:pt x="11875" y="5821"/>
                  <a:pt x="12980" y="5821"/>
                </a:cubicBezTo>
                <a:cubicBezTo>
                  <a:pt x="14086" y="5821"/>
                  <a:pt x="15017" y="6709"/>
                  <a:pt x="15017" y="7849"/>
                </a:cubicBezTo>
                <a:cubicBezTo>
                  <a:pt x="15017" y="8589"/>
                  <a:pt x="14547" y="9320"/>
                  <a:pt x="14086" y="9320"/>
                </a:cubicBezTo>
                <a:cubicBezTo>
                  <a:pt x="12980" y="9320"/>
                  <a:pt x="11875" y="10800"/>
                  <a:pt x="11875" y="12323"/>
                </a:cubicBezTo>
                <a:lnTo>
                  <a:pt x="11875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.Richard Chancellor visited Russia in</a:t>
            </a:r>
            <a:r>
              <a:rPr b="0" lang="ru-RU" sz="40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495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553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615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734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03" name="AutoShape 0">
            <a:hlinkClick r:id="rId5" action="ppaction://hlinksldjump"/>
          </p:cNvPr>
          <p:cNvSpPr/>
          <p:nvPr/>
        </p:nvSpPr>
        <p:spPr>
          <a:xfrm>
            <a:off x="8317080" y="6308640"/>
            <a:ext cx="610920" cy="540000"/>
          </a:xfrm>
          <a:custGeom>
            <a:avLst/>
            <a:gdLst>
              <a:gd name="textAreaLeft" fmla="*/ 34920 w 610920"/>
              <a:gd name="textAreaRight" fmla="*/ 576000 w 610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4435" h="21600">
                <a:moveTo>
                  <a:pt x="0" y="0"/>
                </a:moveTo>
                <a:lnTo>
                  <a:pt x="24435" y="0"/>
                </a:lnTo>
                <a:lnTo>
                  <a:pt x="24435" y="21600"/>
                </a:lnTo>
                <a:lnTo>
                  <a:pt x="0" y="21600"/>
                </a:lnTo>
                <a:close/>
              </a:path>
              <a:path fill="lightenLess" w="24435" h="21600">
                <a:moveTo>
                  <a:pt x="0" y="0"/>
                </a:moveTo>
                <a:lnTo>
                  <a:pt x="24435" y="0"/>
                </a:lnTo>
                <a:lnTo>
                  <a:pt x="23035" y="1400"/>
                </a:lnTo>
                <a:lnTo>
                  <a:pt x="1400" y="1400"/>
                </a:lnTo>
                <a:close/>
              </a:path>
              <a:path fill="darken" w="24435" h="21600">
                <a:moveTo>
                  <a:pt x="24435" y="0"/>
                </a:moveTo>
                <a:lnTo>
                  <a:pt x="24435" y="21600"/>
                </a:lnTo>
                <a:lnTo>
                  <a:pt x="23035" y="20200"/>
                </a:lnTo>
                <a:lnTo>
                  <a:pt x="23035" y="1400"/>
                </a:lnTo>
                <a:close/>
              </a:path>
              <a:path fill="darkenLess" w="24435" h="21600">
                <a:moveTo>
                  <a:pt x="244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35" y="20200"/>
                </a:lnTo>
                <a:close/>
              </a:path>
              <a:path fill="lighten" w="244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35" h="21600">
                <a:moveTo>
                  <a:pt x="1221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35" h="21600">
                <a:moveTo>
                  <a:pt x="13323" y="14281"/>
                </a:moveTo>
                <a:lnTo>
                  <a:pt x="13323" y="12323"/>
                </a:lnTo>
                <a:cubicBezTo>
                  <a:pt x="13323" y="11496"/>
                  <a:pt x="13654" y="10800"/>
                  <a:pt x="14254" y="10800"/>
                </a:cubicBezTo>
                <a:cubicBezTo>
                  <a:pt x="15386" y="10800"/>
                  <a:pt x="16282" y="9434"/>
                  <a:pt x="16282" y="7849"/>
                </a:cubicBezTo>
                <a:cubicBezTo>
                  <a:pt x="16282" y="5534"/>
                  <a:pt x="14428" y="3794"/>
                  <a:pt x="12217" y="3794"/>
                </a:cubicBezTo>
                <a:cubicBezTo>
                  <a:pt x="10007" y="3794"/>
                  <a:pt x="8336" y="5534"/>
                  <a:pt x="8336" y="7849"/>
                </a:cubicBezTo>
                <a:lnTo>
                  <a:pt x="10189" y="7849"/>
                </a:lnTo>
                <a:cubicBezTo>
                  <a:pt x="10189" y="6709"/>
                  <a:pt x="11112" y="5821"/>
                  <a:pt x="12217" y="5821"/>
                </a:cubicBezTo>
                <a:cubicBezTo>
                  <a:pt x="13323" y="5821"/>
                  <a:pt x="14254" y="6709"/>
                  <a:pt x="14254" y="7849"/>
                </a:cubicBezTo>
                <a:cubicBezTo>
                  <a:pt x="14254" y="8589"/>
                  <a:pt x="13784" y="9320"/>
                  <a:pt x="13323" y="9320"/>
                </a:cubicBezTo>
                <a:cubicBezTo>
                  <a:pt x="12217" y="9320"/>
                  <a:pt x="11112" y="10800"/>
                  <a:pt x="11112" y="12323"/>
                </a:cubicBezTo>
                <a:lnTo>
                  <a:pt x="11112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. The picture “</a:t>
            </a:r>
            <a:r>
              <a:rPr b="0" i="1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The Graham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r>
              <a:rPr b="0" i="1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Children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” was painted by</a:t>
            </a:r>
            <a:r>
              <a:rPr b="0" lang="ru-RU" sz="40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illiam Hogarth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onathan Swift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ary Tudor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illiam Shakespeare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07" name="AutoShape 0">
            <a:hlinkClick r:id="rId5" action="ppaction://hlinksldjump"/>
          </p:cNvPr>
          <p:cNvSpPr/>
          <p:nvPr/>
        </p:nvSpPr>
        <p:spPr>
          <a:xfrm>
            <a:off x="8317080" y="6237360"/>
            <a:ext cx="610920" cy="611280"/>
          </a:xfrm>
          <a:custGeom>
            <a:avLst/>
            <a:gdLst>
              <a:gd name="textAreaLeft" fmla="*/ 39600 w 610920"/>
              <a:gd name="textAreaRight" fmla="*/ 571320 w 610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10800" y="1481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3">
                <a:moveTo>
                  <a:pt x="11905" y="14288"/>
                </a:moveTo>
                <a:lnTo>
                  <a:pt x="11905" y="12330"/>
                </a:lnTo>
                <a:cubicBezTo>
                  <a:pt x="11905" y="11503"/>
                  <a:pt x="12236" y="10806"/>
                  <a:pt x="12837" y="10806"/>
                </a:cubicBezTo>
                <a:cubicBezTo>
                  <a:pt x="13968" y="10806"/>
                  <a:pt x="14865" y="9440"/>
                  <a:pt x="14865" y="7856"/>
                </a:cubicBezTo>
                <a:cubicBezTo>
                  <a:pt x="14865" y="5541"/>
                  <a:pt x="13011" y="3800"/>
                  <a:pt x="10800" y="3800"/>
                </a:cubicBezTo>
                <a:cubicBezTo>
                  <a:pt x="8589" y="3800"/>
                  <a:pt x="6918" y="5541"/>
                  <a:pt x="6918" y="7856"/>
                </a:cubicBezTo>
                <a:lnTo>
                  <a:pt x="8772" y="7856"/>
                </a:lnTo>
                <a:cubicBezTo>
                  <a:pt x="8772" y="6716"/>
                  <a:pt x="9695" y="5828"/>
                  <a:pt x="10800" y="5828"/>
                </a:cubicBezTo>
                <a:cubicBezTo>
                  <a:pt x="11905" y="5828"/>
                  <a:pt x="12837" y="6716"/>
                  <a:pt x="12837" y="7856"/>
                </a:cubicBezTo>
                <a:cubicBezTo>
                  <a:pt x="12837" y="8596"/>
                  <a:pt x="12367" y="9327"/>
                  <a:pt x="11905" y="9327"/>
                </a:cubicBezTo>
                <a:cubicBezTo>
                  <a:pt x="10800" y="9327"/>
                  <a:pt x="9695" y="10806"/>
                  <a:pt x="9695" y="12330"/>
                </a:cubicBezTo>
                <a:lnTo>
                  <a:pt x="9695" y="14288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The Domesday Book is information about</a:t>
            </a:r>
            <a:r>
              <a:rPr b="0" lang="ru-RU" sz="40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cooking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England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museums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London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11" name="AutoShape 0">
            <a:hlinkClick r:id="rId5" action="ppaction://hlinksldjump"/>
          </p:cNvPr>
          <p:cNvSpPr/>
          <p:nvPr/>
        </p:nvSpPr>
        <p:spPr>
          <a:xfrm>
            <a:off x="8244000" y="6165720"/>
            <a:ext cx="649080" cy="611280"/>
          </a:xfrm>
          <a:custGeom>
            <a:avLst/>
            <a:gdLst>
              <a:gd name="textAreaLeft" fmla="*/ 39600 w 649080"/>
              <a:gd name="textAreaRight" fmla="*/ 609480 w 6490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935" h="21600">
                <a:moveTo>
                  <a:pt x="0" y="0"/>
                </a:moveTo>
                <a:lnTo>
                  <a:pt x="22935" y="0"/>
                </a:lnTo>
                <a:lnTo>
                  <a:pt x="22935" y="21600"/>
                </a:lnTo>
                <a:lnTo>
                  <a:pt x="0" y="21600"/>
                </a:lnTo>
                <a:close/>
              </a:path>
              <a:path fill="lightenLess" w="22935" h="21600">
                <a:moveTo>
                  <a:pt x="0" y="0"/>
                </a:moveTo>
                <a:lnTo>
                  <a:pt x="22935" y="0"/>
                </a:lnTo>
                <a:lnTo>
                  <a:pt x="21535" y="1400"/>
                </a:lnTo>
                <a:lnTo>
                  <a:pt x="1400" y="1400"/>
                </a:lnTo>
                <a:close/>
              </a:path>
              <a:path fill="darken" w="22935" h="21600">
                <a:moveTo>
                  <a:pt x="22935" y="0"/>
                </a:moveTo>
                <a:lnTo>
                  <a:pt x="22935" y="21600"/>
                </a:lnTo>
                <a:lnTo>
                  <a:pt x="21535" y="20200"/>
                </a:lnTo>
                <a:lnTo>
                  <a:pt x="21535" y="1400"/>
                </a:lnTo>
                <a:close/>
              </a:path>
              <a:path fill="darkenLess" w="22935" h="21600">
                <a:moveTo>
                  <a:pt x="22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5" y="20200"/>
                </a:lnTo>
                <a:close/>
              </a:path>
              <a:path fill="lighten" w="22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5" h="21600">
                <a:moveTo>
                  <a:pt x="1146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935" h="21600">
                <a:moveTo>
                  <a:pt x="12573" y="14281"/>
                </a:moveTo>
                <a:lnTo>
                  <a:pt x="12573" y="12323"/>
                </a:lnTo>
                <a:cubicBezTo>
                  <a:pt x="12573" y="11496"/>
                  <a:pt x="12904" y="10800"/>
                  <a:pt x="13504" y="10800"/>
                </a:cubicBezTo>
                <a:cubicBezTo>
                  <a:pt x="14636" y="10800"/>
                  <a:pt x="15532" y="9434"/>
                  <a:pt x="15532" y="7849"/>
                </a:cubicBezTo>
                <a:cubicBezTo>
                  <a:pt x="15532" y="5534"/>
                  <a:pt x="13678" y="3794"/>
                  <a:pt x="11467" y="3794"/>
                </a:cubicBezTo>
                <a:cubicBezTo>
                  <a:pt x="9257" y="3794"/>
                  <a:pt x="7586" y="5534"/>
                  <a:pt x="7586" y="7849"/>
                </a:cubicBezTo>
                <a:lnTo>
                  <a:pt x="9439" y="7849"/>
                </a:lnTo>
                <a:cubicBezTo>
                  <a:pt x="9439" y="6709"/>
                  <a:pt x="10362" y="5821"/>
                  <a:pt x="11467" y="5821"/>
                </a:cubicBezTo>
                <a:cubicBezTo>
                  <a:pt x="12573" y="5821"/>
                  <a:pt x="13504" y="6709"/>
                  <a:pt x="13504" y="7849"/>
                </a:cubicBezTo>
                <a:cubicBezTo>
                  <a:pt x="13504" y="8589"/>
                  <a:pt x="13034" y="9320"/>
                  <a:pt x="12573" y="9320"/>
                </a:cubicBezTo>
                <a:cubicBezTo>
                  <a:pt x="11467" y="9320"/>
                  <a:pt x="10362" y="10800"/>
                  <a:pt x="10362" y="12323"/>
                </a:cubicBezTo>
                <a:lnTo>
                  <a:pt x="10362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</a:t>
            </a:r>
            <a:r>
              <a:rPr b="0" lang="en-US" sz="48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A traditional Christmas meal is</a:t>
            </a:r>
            <a:r>
              <a:rPr b="0" lang="ru-RU" sz="40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pizza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roast turkey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hot cross buns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chocolate eggs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15" name="AutoShape 0">
            <a:hlinkClick r:id="rId5" action="ppaction://hlinksldjump"/>
          </p:cNvPr>
          <p:cNvSpPr/>
          <p:nvPr/>
        </p:nvSpPr>
        <p:spPr>
          <a:xfrm>
            <a:off x="8317080" y="6237360"/>
            <a:ext cx="610920" cy="538200"/>
          </a:xfrm>
          <a:custGeom>
            <a:avLst/>
            <a:gdLst>
              <a:gd name="textAreaLeft" fmla="*/ 34560 w 610920"/>
              <a:gd name="textAreaRight" fmla="*/ 576360 w 610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17" h="21600">
                <a:moveTo>
                  <a:pt x="0" y="0"/>
                </a:moveTo>
                <a:lnTo>
                  <a:pt x="24517" y="0"/>
                </a:lnTo>
                <a:lnTo>
                  <a:pt x="24517" y="21600"/>
                </a:lnTo>
                <a:lnTo>
                  <a:pt x="0" y="21600"/>
                </a:lnTo>
                <a:close/>
              </a:path>
              <a:path fill="lightenLess" w="24517" h="21600">
                <a:moveTo>
                  <a:pt x="0" y="0"/>
                </a:moveTo>
                <a:lnTo>
                  <a:pt x="24517" y="0"/>
                </a:lnTo>
                <a:lnTo>
                  <a:pt x="23117" y="1400"/>
                </a:lnTo>
                <a:lnTo>
                  <a:pt x="1400" y="1400"/>
                </a:lnTo>
                <a:close/>
              </a:path>
              <a:path fill="darken" w="24517" h="21600">
                <a:moveTo>
                  <a:pt x="24517" y="0"/>
                </a:moveTo>
                <a:lnTo>
                  <a:pt x="24517" y="21600"/>
                </a:lnTo>
                <a:lnTo>
                  <a:pt x="23117" y="20200"/>
                </a:lnTo>
                <a:lnTo>
                  <a:pt x="23117" y="1400"/>
                </a:lnTo>
                <a:close/>
              </a:path>
              <a:path fill="darkenLess" w="24517" h="21600">
                <a:moveTo>
                  <a:pt x="24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7" y="20200"/>
                </a:lnTo>
                <a:close/>
              </a:path>
              <a:path fill="lighten" w="24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17" h="21600">
                <a:moveTo>
                  <a:pt x="1225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517" h="21600">
                <a:moveTo>
                  <a:pt x="13364" y="14281"/>
                </a:moveTo>
                <a:lnTo>
                  <a:pt x="13364" y="12323"/>
                </a:lnTo>
                <a:cubicBezTo>
                  <a:pt x="13364" y="11496"/>
                  <a:pt x="13694" y="10800"/>
                  <a:pt x="14295" y="10800"/>
                </a:cubicBezTo>
                <a:cubicBezTo>
                  <a:pt x="15426" y="10800"/>
                  <a:pt x="16323" y="9434"/>
                  <a:pt x="16323" y="7849"/>
                </a:cubicBezTo>
                <a:cubicBezTo>
                  <a:pt x="16323" y="5534"/>
                  <a:pt x="14469" y="3794"/>
                  <a:pt x="12258" y="3794"/>
                </a:cubicBezTo>
                <a:cubicBezTo>
                  <a:pt x="10048" y="3794"/>
                  <a:pt x="8376" y="5534"/>
                  <a:pt x="8376" y="7849"/>
                </a:cubicBezTo>
                <a:lnTo>
                  <a:pt x="10230" y="7849"/>
                </a:lnTo>
                <a:cubicBezTo>
                  <a:pt x="10230" y="6709"/>
                  <a:pt x="11153" y="5821"/>
                  <a:pt x="12258" y="5821"/>
                </a:cubicBezTo>
                <a:cubicBezTo>
                  <a:pt x="13364" y="5821"/>
                  <a:pt x="14295" y="6709"/>
                  <a:pt x="14295" y="7849"/>
                </a:cubicBezTo>
                <a:cubicBezTo>
                  <a:pt x="14295" y="8589"/>
                  <a:pt x="13825" y="9320"/>
                  <a:pt x="13364" y="9320"/>
                </a:cubicBezTo>
                <a:cubicBezTo>
                  <a:pt x="12258" y="9320"/>
                  <a:pt x="11153" y="10800"/>
                  <a:pt x="11153" y="12323"/>
                </a:cubicBezTo>
                <a:lnTo>
                  <a:pt x="11153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0" lang="en-US" sz="44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. When the flag is flying on the top of the Buckingham palace</a:t>
            </a:r>
            <a:r>
              <a:rPr b="0" lang="en-US" sz="40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edd39f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British people have a holid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royal family has a holiday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Queen has her birthday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Queen is at home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WordArt 0"/>
          <p:cNvSpPr txBox="1"/>
          <p:nvPr/>
        </p:nvSpPr>
        <p:spPr>
          <a:xfrm>
            <a:off x="2419200" y="115920"/>
            <a:ext cx="430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800000"/>
                </a:solidFill>
                <a:latin typeface="Monotype Corsiva"/>
              </a:rPr>
              <a:t>BE THE BEST!</a:t>
            </a:r>
            <a:endParaRPr b="0" lang="en-US" sz="2000" spc="1" strike="noStrike">
              <a:ln w="0">
                <a:noFill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19" name="AutoShape 0">
            <a:hlinkClick r:id="rId5" action="ppaction://hlinksldjump"/>
          </p:cNvPr>
          <p:cNvSpPr/>
          <p:nvPr/>
        </p:nvSpPr>
        <p:spPr>
          <a:xfrm>
            <a:off x="8244000" y="623736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17" h="21600">
                <a:moveTo>
                  <a:pt x="120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117" h="21600">
                <a:moveTo>
                  <a:pt x="13164" y="14281"/>
                </a:moveTo>
                <a:lnTo>
                  <a:pt x="13164" y="12323"/>
                </a:lnTo>
                <a:cubicBezTo>
                  <a:pt x="13164" y="11496"/>
                  <a:pt x="13495" y="10800"/>
                  <a:pt x="14095" y="10800"/>
                </a:cubicBezTo>
                <a:cubicBezTo>
                  <a:pt x="15227" y="10800"/>
                  <a:pt x="16123" y="9434"/>
                  <a:pt x="16123" y="7849"/>
                </a:cubicBezTo>
                <a:cubicBezTo>
                  <a:pt x="16123" y="5534"/>
                  <a:pt x="14269" y="3794"/>
                  <a:pt x="12059" y="3794"/>
                </a:cubicBezTo>
                <a:cubicBezTo>
                  <a:pt x="9848" y="3794"/>
                  <a:pt x="8177" y="5534"/>
                  <a:pt x="8177" y="7849"/>
                </a:cubicBezTo>
                <a:lnTo>
                  <a:pt x="10031" y="7849"/>
                </a:lnTo>
                <a:cubicBezTo>
                  <a:pt x="10031" y="6709"/>
                  <a:pt x="10953" y="5821"/>
                  <a:pt x="12059" y="5821"/>
                </a:cubicBezTo>
                <a:cubicBezTo>
                  <a:pt x="13164" y="5821"/>
                  <a:pt x="14095" y="6709"/>
                  <a:pt x="14095" y="7849"/>
                </a:cubicBezTo>
                <a:cubicBezTo>
                  <a:pt x="14095" y="8589"/>
                  <a:pt x="13625" y="9320"/>
                  <a:pt x="13164" y="9320"/>
                </a:cubicBezTo>
                <a:cubicBezTo>
                  <a:pt x="12059" y="9320"/>
                  <a:pt x="10953" y="10800"/>
                  <a:pt x="10953" y="12323"/>
                </a:cubicBezTo>
                <a:lnTo>
                  <a:pt x="10953" y="14281"/>
                </a:lnTo>
                <a:close/>
              </a:path>
            </a:pathLst>
          </a:custGeom>
          <a:solidFill>
            <a:srgbClr val="c9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09-02-14T17:02:16Z</dcterms:modified>
  <cp:revision>241</cp:revision>
  <dc:subject/>
  <dc:title>PowerPoint Presentation</dc:title>
</cp:coreProperties>
</file>