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6.jpeg" ContentType="image/jpeg"/>
  <Override PartName="/ppt/media/type.wav" ContentType="audio/x-wav"/>
  <Override PartName="/ppt/media/image45.jpeg" ContentType="image/jpeg"/>
  <Override PartName="/ppt/media/image55.png" ContentType="image/png"/>
  <Override PartName="/ppt/media/image34.jpeg" ContentType="image/jpeg"/>
  <Override PartName="/ppt/media/image28.jpeg" ContentType="image/jpeg"/>
  <Override PartName="/ppt/media/image47.jpeg" ContentType="image/jpeg"/>
  <Override PartName="/ppt/media/image50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31.png" ContentType="image/png"/>
  <Override PartName="/ppt/media/image30.jpeg" ContentType="image/jpeg"/>
  <Override PartName="/ppt/media/image52.jpeg" ContentType="image/jpeg"/>
  <Override PartName="/ppt/media/image29.jpeg" ContentType="image/jpeg"/>
  <Override PartName="/ppt/media/image9.jpeg" ContentType="image/jpeg"/>
  <Override PartName="/ppt/media/image7.jpeg" ContentType="image/jpeg"/>
  <Override PartName="/ppt/media/image35.gif" ContentType="image/gif"/>
  <Override PartName="/ppt/media/image39.jpeg" ContentType="image/jpeg"/>
  <Override PartName="/ppt/media/image8.png" ContentType="image/png"/>
  <Override PartName="/ppt/media/image38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CE37-23AC-434D-87DA-ED2DD803BBF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25AC-8149-4960-825D-6DFED4C60A7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положить в порядке возрас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A458-564F-4928-8F7F-F79D35C37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D0EA-BAD3-4960-8F47-2601E75A7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564A-016B-4A34-9504-A9E20DC39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200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3892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44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200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3892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C83C-348B-464B-B4E7-476EE705B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38CE-2C24-4BE9-80AF-1DBF26BAD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64DF-5727-4151-B6D4-21D80EE07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2958-9CB3-445D-A678-CB46A19DA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9D7C-888B-4AE1-86A3-A474E9A0B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43DE-A7B4-4BFF-8836-BC8638E86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440" y="6922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A2E8-B013-4464-BA7B-D705BC0863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25CC-FD13-4DD0-BD75-C4C0EF7C8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0FED-3A5E-438D-B309-F803A01FC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5DF9-B7A8-4F2E-B94B-762988A2F2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919A-A719-4BD1-B63B-286C60529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BE7C-BD1D-4348-88E3-6B4D553245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8244-50F4-47FB-B50A-7DFD94F550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200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3892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44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200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3892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F5A4-A716-4646-B98C-BA85653AF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89AC-A292-453E-9F70-873685652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0618-15CC-4D05-A2FA-6B49417E1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91C1-1E40-49A0-AB65-C2E1F2D2F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6922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846C-CD8D-4306-971C-E53131F1B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2E56-304D-4EC0-B06B-A79741BEE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941B-3F29-48AB-BC28-C63D2D6FB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68C5-81DF-401F-9B00-0AB4DE766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0280" cy="21304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88480" cy="14940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5360" cy="685476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5360" cy="685476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0280" cy="21304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3520" cy="961920"/>
                <a:chOff x="12600" y="50760"/>
                <a:chExt cx="9083520" cy="9619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1760" cy="758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2320" cy="8568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4160" cy="176040"/>
                  <a:chOff x="431640" y="635040"/>
                  <a:chExt cx="8264160" cy="17604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3640" y="642960"/>
                    <a:ext cx="36180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2160" cy="16488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3040" y="635040"/>
                    <a:ext cx="7635960" cy="176040"/>
                    <a:chOff x="743040" y="635040"/>
                    <a:chExt cx="7635960" cy="17604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3040" y="636480"/>
                      <a:ext cx="4645080" cy="174600"/>
                      <a:chOff x="743040" y="636480"/>
                      <a:chExt cx="4645080" cy="17460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3040" y="636480"/>
                        <a:ext cx="660240" cy="174600"/>
                        <a:chOff x="743040" y="636480"/>
                        <a:chExt cx="660240" cy="17460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304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72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0240" cy="174600"/>
                        <a:chOff x="1406520" y="636480"/>
                        <a:chExt cx="660240" cy="17460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520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000" y="636480"/>
                        <a:ext cx="660600" cy="174600"/>
                        <a:chOff x="2070000" y="636480"/>
                        <a:chExt cx="660600" cy="17460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00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868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0240" cy="174600"/>
                        <a:chOff x="2735280" y="636480"/>
                        <a:chExt cx="660240" cy="17460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96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760" y="636480"/>
                        <a:ext cx="660600" cy="174600"/>
                        <a:chOff x="3398760" y="636480"/>
                        <a:chExt cx="660600" cy="17460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76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744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240" y="636480"/>
                        <a:ext cx="660240" cy="174600"/>
                        <a:chOff x="4062240" y="636480"/>
                        <a:chExt cx="660240" cy="17460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240" y="6364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89840" y="6364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7520" y="636480"/>
                        <a:ext cx="660600" cy="174600"/>
                        <a:chOff x="4727520" y="636480"/>
                        <a:chExt cx="660600" cy="17460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752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620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0600" cy="174600"/>
                      <a:chOff x="5391000" y="635040"/>
                      <a:chExt cx="660600" cy="17460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968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840" y="635040"/>
                      <a:ext cx="662040" cy="174600"/>
                      <a:chOff x="6054840" y="635040"/>
                      <a:chExt cx="662040" cy="17460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840" y="6350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160" y="635040"/>
                        <a:ext cx="3337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0600" cy="174600"/>
                      <a:chOff x="6719760" y="635040"/>
                      <a:chExt cx="660600" cy="17460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844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600" y="635040"/>
                      <a:ext cx="660240" cy="174600"/>
                      <a:chOff x="7383600" y="635040"/>
                      <a:chExt cx="660240" cy="17460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600" y="6350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92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1920" cy="17460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4160" cy="176400"/>
                  <a:chOff x="415800" y="633240"/>
                  <a:chExt cx="8264160" cy="17640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7800" y="641520"/>
                    <a:ext cx="361800" cy="16488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2160" cy="165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7200" y="633240"/>
                    <a:ext cx="7635600" cy="176400"/>
                    <a:chOff x="727200" y="633240"/>
                    <a:chExt cx="7635600" cy="17640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7200" y="635040"/>
                      <a:ext cx="4645080" cy="174600"/>
                      <a:chOff x="727200" y="635040"/>
                      <a:chExt cx="4645080" cy="17460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7200" y="635040"/>
                        <a:ext cx="660240" cy="174600"/>
                        <a:chOff x="727200" y="635040"/>
                        <a:chExt cx="660240" cy="17460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720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52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5040"/>
                        <a:ext cx="660240" cy="174600"/>
                        <a:chOff x="1390680" y="635040"/>
                        <a:chExt cx="660240" cy="17460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36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160" y="635040"/>
                        <a:ext cx="660600" cy="174600"/>
                        <a:chOff x="2054160" y="635040"/>
                        <a:chExt cx="660600" cy="17460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16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284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5040"/>
                        <a:ext cx="660240" cy="174600"/>
                        <a:chOff x="2719440" y="635040"/>
                        <a:chExt cx="660240" cy="17460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812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920" y="635040"/>
                        <a:ext cx="660600" cy="174600"/>
                        <a:chOff x="3382920" y="635040"/>
                        <a:chExt cx="660600" cy="17460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92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160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400" y="635040"/>
                        <a:ext cx="660240" cy="174600"/>
                        <a:chOff x="4046400" y="635040"/>
                        <a:chExt cx="660240" cy="17460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400" y="63504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4360" y="635040"/>
                          <a:ext cx="33228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1680" y="635040"/>
                        <a:ext cx="660600" cy="174600"/>
                        <a:chOff x="4711680" y="635040"/>
                        <a:chExt cx="660600" cy="17460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168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4036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0600" cy="174960"/>
                      <a:chOff x="5375160" y="633240"/>
                      <a:chExt cx="660600" cy="17496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84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9000" y="633240"/>
                      <a:ext cx="661680" cy="174960"/>
                      <a:chOff x="6039000" y="633240"/>
                      <a:chExt cx="661680" cy="17496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9000" y="633240"/>
                        <a:ext cx="3333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320" y="633240"/>
                        <a:ext cx="3333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0600" cy="174960"/>
                      <a:chOff x="6703920" y="633240"/>
                      <a:chExt cx="660600" cy="17496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260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760" y="633240"/>
                      <a:ext cx="660240" cy="174960"/>
                      <a:chOff x="7367760" y="633240"/>
                      <a:chExt cx="660240" cy="17496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760" y="633240"/>
                        <a:ext cx="3315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608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1560" cy="17496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898560" cy="961920"/>
                  <a:chOff x="12600" y="50760"/>
                  <a:chExt cx="898560" cy="9619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79480" cy="92700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79480" cy="92700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6280" y="85680"/>
                  <a:ext cx="879480" cy="92700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200" y="50760"/>
                  <a:ext cx="879480" cy="92700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2320" cy="8568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4560" cy="301680"/>
            </a:xfrm>
            <a:prstGeom prst="rect">
              <a:avLst/>
            </a:prstGeom>
            <a:gradFill rotWithShape="0">
              <a:gsLst>
                <a:gs pos="0">
                  <a:srgbClr val="88826c"/>
                </a:gs>
                <a:gs pos="100000">
                  <a:srgbClr val="6e69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6552720" y="631944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7D362-238D-4E63-80D6-B93B4958D594}" type="slidenum"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0760" cy="3959280"/>
            <a:chOff x="0" y="2895480"/>
            <a:chExt cx="9140760" cy="395928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0760" cy="3959280"/>
              <a:chOff x="0" y="2895480"/>
              <a:chExt cx="9140760" cy="395928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0280" cy="167328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0280" cy="167328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0280" cy="16732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0760" cy="454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5360" cy="357804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5360" cy="35020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0280" cy="16732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3520" cy="961920"/>
                <a:chOff x="12600" y="3225960"/>
                <a:chExt cx="9083520" cy="961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1760" cy="75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3760"/>
                  <a:ext cx="8302320" cy="8604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09880"/>
                  <a:ext cx="8264160" cy="176400"/>
                  <a:chOff x="431640" y="3809880"/>
                  <a:chExt cx="8264160" cy="1764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3640" y="3817800"/>
                    <a:ext cx="36180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040"/>
                    <a:ext cx="36216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3040" y="3809880"/>
                    <a:ext cx="7635960" cy="176400"/>
                    <a:chOff x="743040" y="3809880"/>
                    <a:chExt cx="7635960" cy="17640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3040" y="3811680"/>
                      <a:ext cx="4638600" cy="174600"/>
                      <a:chOff x="743040" y="3811680"/>
                      <a:chExt cx="4638600" cy="17460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3040" y="3811680"/>
                        <a:ext cx="658800" cy="174600"/>
                        <a:chOff x="743040" y="3811680"/>
                        <a:chExt cx="658800" cy="17460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3040" y="38116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699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58800" cy="174600"/>
                        <a:chOff x="1406520" y="3811680"/>
                        <a:chExt cx="658800" cy="1746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340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68560" y="3811680"/>
                        <a:ext cx="660240" cy="174600"/>
                        <a:chOff x="2068560" y="3811680"/>
                        <a:chExt cx="660240" cy="1746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6856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868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2040" y="3811680"/>
                        <a:ext cx="658800" cy="174600"/>
                        <a:chOff x="2732040" y="3811680"/>
                        <a:chExt cx="658800" cy="174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204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072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5520" y="3811680"/>
                        <a:ext cx="658800" cy="174600"/>
                        <a:chOff x="3395520" y="3811680"/>
                        <a:chExt cx="658800" cy="17460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55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2760" y="38116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0800" y="3811680"/>
                        <a:ext cx="658440" cy="174600"/>
                        <a:chOff x="4060800" y="3811680"/>
                        <a:chExt cx="658440" cy="17460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0800" y="38116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86600" y="38116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2840" y="3811680"/>
                        <a:ext cx="658800" cy="174600"/>
                        <a:chOff x="4722840" y="3811680"/>
                        <a:chExt cx="658800" cy="17460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284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152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09880"/>
                      <a:ext cx="658800" cy="174600"/>
                      <a:chOff x="5391000" y="3809880"/>
                      <a:chExt cx="658800" cy="17460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24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840" y="3809880"/>
                      <a:ext cx="662040" cy="174600"/>
                      <a:chOff x="6054840" y="3809880"/>
                      <a:chExt cx="662040" cy="17460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840" y="380988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160" y="3809880"/>
                        <a:ext cx="3337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6880" y="3809880"/>
                      <a:ext cx="658800" cy="174600"/>
                      <a:chOff x="6716880" y="3809880"/>
                      <a:chExt cx="658800" cy="1746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688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376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600" y="3809880"/>
                      <a:ext cx="658800" cy="174600"/>
                      <a:chOff x="7383600" y="3809880"/>
                      <a:chExt cx="658800" cy="17460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60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048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09880"/>
                      <a:ext cx="331920" cy="17460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4160" cy="176040"/>
                  <a:chOff x="415800" y="3808440"/>
                  <a:chExt cx="8264160" cy="176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7800" y="3816360"/>
                    <a:ext cx="361800" cy="165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2160" cy="16488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7200" y="3808440"/>
                    <a:ext cx="7635600" cy="176040"/>
                    <a:chOff x="727200" y="3808440"/>
                    <a:chExt cx="7635600" cy="17604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7200" y="3809880"/>
                      <a:ext cx="4638600" cy="174600"/>
                      <a:chOff x="727200" y="3809880"/>
                      <a:chExt cx="4638600" cy="17460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7200" y="3809880"/>
                        <a:ext cx="658800" cy="174600"/>
                        <a:chOff x="727200" y="3809880"/>
                        <a:chExt cx="658800" cy="17460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7200" y="38098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408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58800" cy="174600"/>
                        <a:chOff x="1390680" y="3809880"/>
                        <a:chExt cx="658800" cy="17460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756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160" y="3809880"/>
                        <a:ext cx="660600" cy="174600"/>
                        <a:chOff x="2054160" y="3809880"/>
                        <a:chExt cx="660600" cy="17460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16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284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6200" y="3809880"/>
                        <a:ext cx="658800" cy="174600"/>
                        <a:chOff x="2716200" y="3809880"/>
                        <a:chExt cx="658800" cy="17460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620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488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79680" y="3809880"/>
                        <a:ext cx="658440" cy="174600"/>
                        <a:chOff x="3379680" y="3809880"/>
                        <a:chExt cx="658440" cy="17460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79680" y="3809880"/>
                          <a:ext cx="3308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07280" y="3809880"/>
                          <a:ext cx="3308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4960" y="3809880"/>
                        <a:ext cx="658440" cy="174600"/>
                        <a:chOff x="4044960" y="3809880"/>
                        <a:chExt cx="658440" cy="17460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4960" y="38098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0760" y="38098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07000" y="3809880"/>
                        <a:ext cx="658800" cy="174600"/>
                        <a:chOff x="4707000" y="3809880"/>
                        <a:chExt cx="658800" cy="17460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0700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568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58800" cy="174600"/>
                      <a:chOff x="5375160" y="3808440"/>
                      <a:chExt cx="658800" cy="17460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240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9000" y="3808440"/>
                      <a:ext cx="661680" cy="174600"/>
                      <a:chOff x="6039000" y="3808440"/>
                      <a:chExt cx="661680" cy="1746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9000" y="38084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320" y="38084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0680" y="3808440"/>
                      <a:ext cx="658800" cy="174600"/>
                      <a:chOff x="6700680" y="3808440"/>
                      <a:chExt cx="658800" cy="17460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068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2792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760" y="3808440"/>
                      <a:ext cx="658800" cy="174600"/>
                      <a:chOff x="7367760" y="3808440"/>
                      <a:chExt cx="658800" cy="17460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76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464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1560" cy="17460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898560" cy="961920"/>
                  <a:chOff x="12600" y="3225960"/>
                  <a:chExt cx="898560" cy="9619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79480" cy="92700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79480" cy="92700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6280" y="3260880"/>
                  <a:ext cx="879480" cy="92700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200" y="3225960"/>
                  <a:ext cx="879480" cy="92700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2320" cy="8568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4560" cy="3016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77640" cy="1825560"/>
              <a:chOff x="304920" y="4114800"/>
              <a:chExt cx="377640" cy="182556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1800" cy="1825560"/>
              </a:xfrm>
              <a:custGeom>
                <a:avLst/>
                <a:gdLst>
                  <a:gd name="textAreaLeft" fmla="*/ 13320 w 91800"/>
                  <a:gd name="textAreaRight" fmla="*/ 78480 w 9180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7950">
                    <a:moveTo>
                      <a:pt x="10800" y="0"/>
                    </a:moveTo>
                    <a:arcTo wR="10800" hR="10800" stAng="16200000" swAng="-5400000"/>
                    <a:lnTo>
                      <a:pt x="0" y="417150"/>
                    </a:lnTo>
                    <a:arcTo wR="10800" hR="10800" stAng="10800000" swAng="-5400000"/>
                    <a:lnTo>
                      <a:pt x="10800" y="4279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840" y="4114800"/>
                <a:ext cx="91800" cy="1825560"/>
              </a:xfrm>
              <a:custGeom>
                <a:avLst/>
                <a:gdLst>
                  <a:gd name="textAreaLeft" fmla="*/ 13320 w 91800"/>
                  <a:gd name="textAreaRight" fmla="*/ 78480 w 9180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7950">
                    <a:moveTo>
                      <a:pt x="10800" y="0"/>
                    </a:moveTo>
                    <a:arcTo wR="10800" hR="10800" stAng="16200000" swAng="-5400000"/>
                    <a:lnTo>
                      <a:pt x="0" y="417150"/>
                    </a:lnTo>
                    <a:arcTo wR="10800" hR="10800" stAng="10800000" swAng="-5400000"/>
                    <a:lnTo>
                      <a:pt x="10800" y="4279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78000" cy="1825560"/>
              <a:chOff x="8458200" y="4114800"/>
              <a:chExt cx="378000" cy="182556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112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404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0DF489-6308-460E-83E3-E1F8C73C623E}" type="slidenum">
              <a:rPr b="0" i="1" lang="ru-RU" sz="1400" spc="-1" strike="noStrike">
                <a:solidFill>
                  <a:srgbClr val="edd39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6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8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6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4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" Target="slide15.xml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7.xm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244440"/>
            <a:ext cx="7772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dd39f"/>
                </a:solidFill>
                <a:latin typeface="Times New Roman"/>
              </a:rPr>
              <a:t>An intellectual</a:t>
            </a:r>
            <a:r>
              <a:rPr b="1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contest</a:t>
            </a:r>
            <a:r>
              <a:rPr b="1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for the 8-th formers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O YOU KNOW</a:t>
            </a: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RITAIN WELL?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"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411280" y="117360"/>
            <a:ext cx="4749840" cy="644760"/>
            <a:chOff x="2411280" y="117360"/>
            <a:chExt cx="4749840" cy="64476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2411280" y="117360"/>
              <a:ext cx="4749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411280" y="117360"/>
              <a:ext cx="47498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248436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THE B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26920" y="3789360"/>
            <a:ext cx="5973840" cy="2876400"/>
            <a:chOff x="826920" y="3789360"/>
            <a:chExt cx="5973840" cy="287640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826920" y="3789360"/>
              <a:ext cx="1890720" cy="132228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1619280" y="5445000"/>
              <a:ext cx="3120840" cy="119376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826920" y="5084640"/>
              <a:ext cx="1400400" cy="150840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2195640" y="4292640"/>
              <a:ext cx="1147680" cy="114948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4716360" y="5084640"/>
              <a:ext cx="2084400" cy="158112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tretch/>
          </p:blipFill>
          <p:spPr>
            <a:xfrm>
              <a:off x="3348000" y="4581360"/>
              <a:ext cx="1365120" cy="107640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8" name="typ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A hot cross bun is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a traditional meal 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Hallowe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.Valentine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 Year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8" name="">
            <a:hlinkClick r:id="rId5" action="ppaction://hlinksldjump"/>
          </p:cNvPr>
          <p:cNvSpPr/>
          <p:nvPr/>
        </p:nvSpPr>
        <p:spPr>
          <a:xfrm>
            <a:off x="8244000" y="6237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The London Zoo i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 Regent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in St.James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Hyd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reen Park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42" name="">
            <a:hlinkClick r:id="rId5" action="ppaction://hlinksldjump"/>
          </p:cNvPr>
          <p:cNvSpPr/>
          <p:nvPr/>
        </p:nvSpPr>
        <p:spPr>
          <a:xfrm>
            <a:off x="8244000" y="6202440"/>
            <a:ext cx="576000" cy="611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11280"/>
              <a:gd name="textAreaBottom" fmla="*/ 574200 h 611280"/>
            </a:gdLst>
            <a:ahLst/>
            <a:rect l="textAreaLeft" t="textAreaTop" r="textAreaRight" b="textAreaBottom"/>
            <a:pathLst>
              <a:path w="21600" h="22922">
                <a:moveTo>
                  <a:pt x="0" y="0"/>
                </a:moveTo>
                <a:lnTo>
                  <a:pt x="21600" y="0"/>
                </a:lnTo>
                <a:lnTo>
                  <a:pt x="21600" y="22922"/>
                </a:lnTo>
                <a:lnTo>
                  <a:pt x="0" y="22922"/>
                </a:lnTo>
                <a:close/>
              </a:path>
              <a:path fill="lightenLess" w="21600" h="22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2">
                <a:moveTo>
                  <a:pt x="21600" y="0"/>
                </a:moveTo>
                <a:lnTo>
                  <a:pt x="21600" y="22922"/>
                </a:lnTo>
                <a:lnTo>
                  <a:pt x="20200" y="21522"/>
                </a:lnTo>
                <a:lnTo>
                  <a:pt x="20200" y="1400"/>
                </a:lnTo>
                <a:close/>
              </a:path>
              <a:path fill="darkenLess" w="21600" h="22922">
                <a:moveTo>
                  <a:pt x="21600" y="22922"/>
                </a:moveTo>
                <a:lnTo>
                  <a:pt x="0" y="22922"/>
                </a:lnTo>
                <a:lnTo>
                  <a:pt x="1400" y="21522"/>
                </a:lnTo>
                <a:lnTo>
                  <a:pt x="20200" y="21522"/>
                </a:lnTo>
                <a:close/>
              </a:path>
              <a:path fill="lighten" w="21600" h="22922">
                <a:moveTo>
                  <a:pt x="0" y="22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2"/>
                </a:lnTo>
                <a:close/>
              </a:path>
              <a:path fill="darken" w="21600" h="22922">
                <a:moveTo>
                  <a:pt x="10800" y="1546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922">
                <a:moveTo>
                  <a:pt x="11905" y="14943"/>
                </a:moveTo>
                <a:lnTo>
                  <a:pt x="11905" y="12984"/>
                </a:lnTo>
                <a:cubicBezTo>
                  <a:pt x="11905" y="12157"/>
                  <a:pt x="12236" y="11461"/>
                  <a:pt x="12837" y="11461"/>
                </a:cubicBezTo>
                <a:cubicBezTo>
                  <a:pt x="13968" y="11461"/>
                  <a:pt x="14865" y="10095"/>
                  <a:pt x="14865" y="8511"/>
                </a:cubicBezTo>
                <a:cubicBezTo>
                  <a:pt x="14865" y="6195"/>
                  <a:pt x="13011" y="4455"/>
                  <a:pt x="10800" y="4455"/>
                </a:cubicBezTo>
                <a:cubicBezTo>
                  <a:pt x="8589" y="4455"/>
                  <a:pt x="6918" y="6195"/>
                  <a:pt x="6918" y="8511"/>
                </a:cubicBezTo>
                <a:lnTo>
                  <a:pt x="8772" y="8511"/>
                </a:lnTo>
                <a:cubicBezTo>
                  <a:pt x="8772" y="7370"/>
                  <a:pt x="9695" y="6483"/>
                  <a:pt x="10800" y="6483"/>
                </a:cubicBezTo>
                <a:cubicBezTo>
                  <a:pt x="11905" y="6483"/>
                  <a:pt x="12837" y="7370"/>
                  <a:pt x="12837" y="8511"/>
                </a:cubicBezTo>
                <a:cubicBezTo>
                  <a:pt x="12837" y="9250"/>
                  <a:pt x="12367" y="9981"/>
                  <a:pt x="11905" y="9981"/>
                </a:cubicBezTo>
                <a:cubicBezTo>
                  <a:pt x="10800" y="9981"/>
                  <a:pt x="9695" y="11461"/>
                  <a:pt x="9695" y="12984"/>
                </a:cubicBezTo>
                <a:lnTo>
                  <a:pt x="9695" y="1494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1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The Tower of London is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 fortres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royal palac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pris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46" name="">
            <a:hlinkClick r:id="rId5" action="ppaction://hlinksldjump"/>
          </p:cNvPr>
          <p:cNvSpPr/>
          <p:nvPr/>
        </p:nvSpPr>
        <p:spPr>
          <a:xfrm>
            <a:off x="8028000" y="6093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88" h="21600">
                <a:moveTo>
                  <a:pt x="13099" y="14281"/>
                </a:moveTo>
                <a:lnTo>
                  <a:pt x="13099" y="12323"/>
                </a:lnTo>
                <a:cubicBezTo>
                  <a:pt x="13099" y="11496"/>
                  <a:pt x="13430" y="10800"/>
                  <a:pt x="14031" y="10800"/>
                </a:cubicBezTo>
                <a:cubicBezTo>
                  <a:pt x="15162" y="10800"/>
                  <a:pt x="16059" y="9434"/>
                  <a:pt x="16059" y="7849"/>
                </a:cubicBezTo>
                <a:cubicBezTo>
                  <a:pt x="16059" y="5534"/>
                  <a:pt x="14205" y="3794"/>
                  <a:pt x="11994" y="3794"/>
                </a:cubicBezTo>
                <a:cubicBezTo>
                  <a:pt x="9783" y="3794"/>
                  <a:pt x="8112" y="5534"/>
                  <a:pt x="8112" y="7849"/>
                </a:cubicBezTo>
                <a:lnTo>
                  <a:pt x="9966" y="7849"/>
                </a:lnTo>
                <a:cubicBezTo>
                  <a:pt x="9966" y="6709"/>
                  <a:pt x="10889" y="5821"/>
                  <a:pt x="11994" y="5821"/>
                </a:cubicBezTo>
                <a:cubicBezTo>
                  <a:pt x="13099" y="5821"/>
                  <a:pt x="14031" y="6709"/>
                  <a:pt x="14031" y="7849"/>
                </a:cubicBezTo>
                <a:cubicBezTo>
                  <a:pt x="14031" y="8589"/>
                  <a:pt x="13561" y="9320"/>
                  <a:pt x="13099" y="9320"/>
                </a:cubicBezTo>
                <a:cubicBezTo>
                  <a:pt x="11994" y="9320"/>
                  <a:pt x="10889" y="10800"/>
                  <a:pt x="10889" y="12323"/>
                </a:cubicBezTo>
                <a:lnTo>
                  <a:pt x="1088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2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A fine collection of European paintings is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 British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the National Galle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vent Gard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Tow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0" name="">
            <a:hlinkClick r:id="rId5" action="ppaction://hlinksldjump"/>
          </p:cNvPr>
          <p:cNvSpPr/>
          <p:nvPr/>
        </p:nvSpPr>
        <p:spPr>
          <a:xfrm>
            <a:off x="8101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7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13.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</a:rPr>
              <a:t> “Many happy returns of the day”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is a greeting f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Christma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Birth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 Year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4" name="">
            <a:hlinkClick r:id="rId5" action="ppaction://hlinksldjump"/>
          </p:cNvPr>
          <p:cNvSpPr/>
          <p:nvPr/>
        </p:nvSpPr>
        <p:spPr>
          <a:xfrm>
            <a:off x="8244000" y="6210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Changing the Guard happens every day nea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Buckingham Palac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Westminster Abbe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uses of Parliamen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.Paul’s Cathedra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8101080" y="616572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10800" y="1614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283">
                <a:moveTo>
                  <a:pt x="11905" y="15623"/>
                </a:moveTo>
                <a:lnTo>
                  <a:pt x="11905" y="13665"/>
                </a:lnTo>
                <a:cubicBezTo>
                  <a:pt x="11905" y="12838"/>
                  <a:pt x="12236" y="12142"/>
                  <a:pt x="12837" y="12142"/>
                </a:cubicBezTo>
                <a:cubicBezTo>
                  <a:pt x="13968" y="12142"/>
                  <a:pt x="14865" y="10775"/>
                  <a:pt x="14865" y="9191"/>
                </a:cubicBezTo>
                <a:cubicBezTo>
                  <a:pt x="14865" y="6876"/>
                  <a:pt x="13011" y="5135"/>
                  <a:pt x="10800" y="5135"/>
                </a:cubicBezTo>
                <a:cubicBezTo>
                  <a:pt x="8589" y="5135"/>
                  <a:pt x="6918" y="6876"/>
                  <a:pt x="6918" y="9191"/>
                </a:cubicBezTo>
                <a:lnTo>
                  <a:pt x="8772" y="9191"/>
                </a:lnTo>
                <a:cubicBezTo>
                  <a:pt x="8772" y="8051"/>
                  <a:pt x="9695" y="7163"/>
                  <a:pt x="10800" y="7163"/>
                </a:cubicBezTo>
                <a:cubicBezTo>
                  <a:pt x="11905" y="7163"/>
                  <a:pt x="12837" y="8051"/>
                  <a:pt x="12837" y="9191"/>
                </a:cubicBezTo>
                <a:cubicBezTo>
                  <a:pt x="12837" y="9931"/>
                  <a:pt x="12367" y="10662"/>
                  <a:pt x="11905" y="10662"/>
                </a:cubicBezTo>
                <a:cubicBezTo>
                  <a:pt x="10800" y="10662"/>
                  <a:pt x="9695" y="12142"/>
                  <a:pt x="9695" y="13665"/>
                </a:cubicBezTo>
                <a:lnTo>
                  <a:pt x="9695" y="1562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Piccadilly Circus is the meeting point  o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7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62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155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88">
                <a:moveTo>
                  <a:pt x="11905" y="15025"/>
                </a:moveTo>
                <a:lnTo>
                  <a:pt x="11905" y="13067"/>
                </a:lnTo>
                <a:cubicBezTo>
                  <a:pt x="11905" y="12240"/>
                  <a:pt x="12236" y="11544"/>
                  <a:pt x="12837" y="11544"/>
                </a:cubicBezTo>
                <a:cubicBezTo>
                  <a:pt x="13968" y="11544"/>
                  <a:pt x="14865" y="10178"/>
                  <a:pt x="14865" y="8593"/>
                </a:cubicBezTo>
                <a:cubicBezTo>
                  <a:pt x="14865" y="6278"/>
                  <a:pt x="13011" y="4538"/>
                  <a:pt x="10800" y="4538"/>
                </a:cubicBezTo>
                <a:cubicBezTo>
                  <a:pt x="8589" y="4538"/>
                  <a:pt x="6918" y="6278"/>
                  <a:pt x="6918" y="8593"/>
                </a:cubicBezTo>
                <a:lnTo>
                  <a:pt x="8772" y="8593"/>
                </a:lnTo>
                <a:cubicBezTo>
                  <a:pt x="8772" y="7453"/>
                  <a:pt x="9695" y="6565"/>
                  <a:pt x="10800" y="6565"/>
                </a:cubicBezTo>
                <a:cubicBezTo>
                  <a:pt x="11905" y="6565"/>
                  <a:pt x="12837" y="7453"/>
                  <a:pt x="12837" y="8593"/>
                </a:cubicBezTo>
                <a:cubicBezTo>
                  <a:pt x="12837" y="9333"/>
                  <a:pt x="12367" y="10064"/>
                  <a:pt x="11905" y="10064"/>
                </a:cubicBezTo>
                <a:cubicBezTo>
                  <a:pt x="10800" y="10064"/>
                  <a:pt x="9695" y="11544"/>
                  <a:pt x="9695" y="13067"/>
                </a:cubicBezTo>
                <a:lnTo>
                  <a:pt x="9695" y="15025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On what holiday people dress as witches and ghost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hristma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allowe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.Valentine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8066160" y="6165720"/>
            <a:ext cx="753840" cy="648000"/>
          </a:xfrm>
          <a:custGeom>
            <a:avLst/>
            <a:gdLst>
              <a:gd name="textAreaLeft" fmla="*/ 41760 w 753840"/>
              <a:gd name="textAreaRight" fmla="*/ 712080 w 7538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5126" h="21600">
                <a:moveTo>
                  <a:pt x="0" y="0"/>
                </a:moveTo>
                <a:lnTo>
                  <a:pt x="25126" y="0"/>
                </a:lnTo>
                <a:lnTo>
                  <a:pt x="25126" y="21600"/>
                </a:lnTo>
                <a:lnTo>
                  <a:pt x="0" y="21600"/>
                </a:lnTo>
                <a:close/>
              </a:path>
              <a:path fill="lightenLess" w="25126" h="21600">
                <a:moveTo>
                  <a:pt x="0" y="0"/>
                </a:moveTo>
                <a:lnTo>
                  <a:pt x="25126" y="0"/>
                </a:lnTo>
                <a:lnTo>
                  <a:pt x="23726" y="1400"/>
                </a:lnTo>
                <a:lnTo>
                  <a:pt x="1400" y="1400"/>
                </a:lnTo>
                <a:close/>
              </a:path>
              <a:path fill="darken" w="25126" h="21600">
                <a:moveTo>
                  <a:pt x="25126" y="0"/>
                </a:moveTo>
                <a:lnTo>
                  <a:pt x="25126" y="21600"/>
                </a:lnTo>
                <a:lnTo>
                  <a:pt x="23726" y="20200"/>
                </a:lnTo>
                <a:lnTo>
                  <a:pt x="23726" y="1400"/>
                </a:lnTo>
                <a:close/>
              </a:path>
              <a:path fill="darkenLess" w="25126" h="21600">
                <a:moveTo>
                  <a:pt x="25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26" y="20200"/>
                </a:lnTo>
                <a:close/>
              </a:path>
              <a:path fill="lighten" w="25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26" h="21600">
                <a:moveTo>
                  <a:pt x="1256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26" h="21600">
                <a:moveTo>
                  <a:pt x="13668" y="14281"/>
                </a:moveTo>
                <a:lnTo>
                  <a:pt x="13668" y="12323"/>
                </a:lnTo>
                <a:cubicBezTo>
                  <a:pt x="13668" y="11496"/>
                  <a:pt x="13999" y="10800"/>
                  <a:pt x="14600" y="10800"/>
                </a:cubicBezTo>
                <a:cubicBezTo>
                  <a:pt x="15731" y="10800"/>
                  <a:pt x="16628" y="9434"/>
                  <a:pt x="16628" y="7849"/>
                </a:cubicBezTo>
                <a:cubicBezTo>
                  <a:pt x="16628" y="5534"/>
                  <a:pt x="14774" y="3794"/>
                  <a:pt x="12563" y="3794"/>
                </a:cubicBezTo>
                <a:cubicBezTo>
                  <a:pt x="10352" y="3794"/>
                  <a:pt x="8681" y="5534"/>
                  <a:pt x="8681" y="7849"/>
                </a:cubicBezTo>
                <a:lnTo>
                  <a:pt x="10535" y="7849"/>
                </a:lnTo>
                <a:cubicBezTo>
                  <a:pt x="10535" y="6709"/>
                  <a:pt x="11458" y="5821"/>
                  <a:pt x="12563" y="5821"/>
                </a:cubicBezTo>
                <a:cubicBezTo>
                  <a:pt x="13668" y="5821"/>
                  <a:pt x="14600" y="6709"/>
                  <a:pt x="14600" y="7849"/>
                </a:cubicBezTo>
                <a:cubicBezTo>
                  <a:pt x="14600" y="8589"/>
                  <a:pt x="14130" y="9320"/>
                  <a:pt x="13668" y="9320"/>
                </a:cubicBezTo>
                <a:cubicBezTo>
                  <a:pt x="12563" y="9320"/>
                  <a:pt x="11458" y="10800"/>
                  <a:pt x="11458" y="12323"/>
                </a:cubicBezTo>
                <a:lnTo>
                  <a:pt x="11458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name of the Queen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f the UK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y Tudo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Victori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izabeth 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izabeth I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0" name="">
            <a:hlinkClick r:id="rId5" action="ppaction://hlinksldjump"/>
          </p:cNvPr>
          <p:cNvSpPr/>
          <p:nvPr/>
        </p:nvSpPr>
        <p:spPr>
          <a:xfrm>
            <a:off x="8244000" y="6235560"/>
            <a:ext cx="576000" cy="6494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52">
                <a:moveTo>
                  <a:pt x="0" y="0"/>
                </a:moveTo>
                <a:lnTo>
                  <a:pt x="21600" y="0"/>
                </a:lnTo>
                <a:lnTo>
                  <a:pt x="21600" y="24352"/>
                </a:lnTo>
                <a:lnTo>
                  <a:pt x="0" y="24352"/>
                </a:lnTo>
                <a:close/>
              </a:path>
              <a:path fill="lightenLess" w="21600" h="243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2">
                <a:moveTo>
                  <a:pt x="21600" y="0"/>
                </a:moveTo>
                <a:lnTo>
                  <a:pt x="21600" y="24352"/>
                </a:lnTo>
                <a:lnTo>
                  <a:pt x="20200" y="22952"/>
                </a:lnTo>
                <a:lnTo>
                  <a:pt x="20200" y="1400"/>
                </a:lnTo>
                <a:close/>
              </a:path>
              <a:path fill="darkenLess" w="21600" h="24352">
                <a:moveTo>
                  <a:pt x="21600" y="24352"/>
                </a:moveTo>
                <a:lnTo>
                  <a:pt x="0" y="24352"/>
                </a:lnTo>
                <a:lnTo>
                  <a:pt x="1400" y="22952"/>
                </a:lnTo>
                <a:lnTo>
                  <a:pt x="20200" y="22952"/>
                </a:lnTo>
                <a:close/>
              </a:path>
              <a:path fill="lighten" w="21600" h="24352">
                <a:moveTo>
                  <a:pt x="0" y="243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2"/>
                </a:lnTo>
                <a:close/>
              </a:path>
              <a:path fill="darken" w="21600" h="24352">
                <a:moveTo>
                  <a:pt x="10800" y="1618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352">
                <a:moveTo>
                  <a:pt x="11905" y="15658"/>
                </a:moveTo>
                <a:lnTo>
                  <a:pt x="11905" y="13699"/>
                </a:lnTo>
                <a:cubicBezTo>
                  <a:pt x="11905" y="12872"/>
                  <a:pt x="12236" y="12176"/>
                  <a:pt x="12837" y="12176"/>
                </a:cubicBezTo>
                <a:cubicBezTo>
                  <a:pt x="13968" y="12176"/>
                  <a:pt x="14865" y="10810"/>
                  <a:pt x="14865" y="9226"/>
                </a:cubicBezTo>
                <a:cubicBezTo>
                  <a:pt x="14865" y="6910"/>
                  <a:pt x="13011" y="5170"/>
                  <a:pt x="10800" y="5170"/>
                </a:cubicBezTo>
                <a:cubicBezTo>
                  <a:pt x="8589" y="5170"/>
                  <a:pt x="6918" y="6910"/>
                  <a:pt x="6918" y="9226"/>
                </a:cubicBezTo>
                <a:lnTo>
                  <a:pt x="8772" y="9226"/>
                </a:lnTo>
                <a:cubicBezTo>
                  <a:pt x="8772" y="8085"/>
                  <a:pt x="9695" y="7198"/>
                  <a:pt x="10800" y="7198"/>
                </a:cubicBezTo>
                <a:cubicBezTo>
                  <a:pt x="11905" y="7198"/>
                  <a:pt x="12837" y="8085"/>
                  <a:pt x="12837" y="9226"/>
                </a:cubicBezTo>
                <a:cubicBezTo>
                  <a:pt x="12837" y="9965"/>
                  <a:pt x="12367" y="10697"/>
                  <a:pt x="11905" y="10697"/>
                </a:cubicBezTo>
                <a:cubicBezTo>
                  <a:pt x="10800" y="10697"/>
                  <a:pt x="9695" y="12176"/>
                  <a:pt x="9695" y="13699"/>
                </a:cubicBezTo>
                <a:lnTo>
                  <a:pt x="9695" y="1565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Who wrote the book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“Winnie- the-Poor”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wis Carro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lan Miln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dyard Kipl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atrix Pot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77472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How many countries are there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in the U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06" name="">
            <a:hlinkClick r:id="rId5" action="ppaction://hlinksldjump"/>
          </p:cNvPr>
          <p:cNvSpPr/>
          <p:nvPr/>
        </p:nvSpPr>
        <p:spPr>
          <a:xfrm>
            <a:off x="8207280" y="623736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9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Where can you see pelicans and duck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St.James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Hyd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the Tow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Covent Gard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8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London is on the rive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il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ssissip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a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maz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82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155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88">
                <a:moveTo>
                  <a:pt x="11905" y="15025"/>
                </a:moveTo>
                <a:lnTo>
                  <a:pt x="11905" y="13067"/>
                </a:lnTo>
                <a:cubicBezTo>
                  <a:pt x="11905" y="12240"/>
                  <a:pt x="12236" y="11544"/>
                  <a:pt x="12837" y="11544"/>
                </a:cubicBezTo>
                <a:cubicBezTo>
                  <a:pt x="13968" y="11544"/>
                  <a:pt x="14865" y="10178"/>
                  <a:pt x="14865" y="8593"/>
                </a:cubicBezTo>
                <a:cubicBezTo>
                  <a:pt x="14865" y="6278"/>
                  <a:pt x="13011" y="4538"/>
                  <a:pt x="10800" y="4538"/>
                </a:cubicBezTo>
                <a:cubicBezTo>
                  <a:pt x="8589" y="4538"/>
                  <a:pt x="6918" y="6278"/>
                  <a:pt x="6918" y="8593"/>
                </a:cubicBezTo>
                <a:lnTo>
                  <a:pt x="8772" y="8593"/>
                </a:lnTo>
                <a:cubicBezTo>
                  <a:pt x="8772" y="7453"/>
                  <a:pt x="9695" y="6565"/>
                  <a:pt x="10800" y="6565"/>
                </a:cubicBezTo>
                <a:cubicBezTo>
                  <a:pt x="11905" y="6565"/>
                  <a:pt x="12837" y="7453"/>
                  <a:pt x="12837" y="8593"/>
                </a:cubicBezTo>
                <a:cubicBezTo>
                  <a:pt x="12837" y="9333"/>
                  <a:pt x="12367" y="10064"/>
                  <a:pt x="11905" y="10064"/>
                </a:cubicBezTo>
                <a:cubicBezTo>
                  <a:pt x="10800" y="10064"/>
                  <a:pt x="9695" y="11544"/>
                  <a:pt x="9695" y="13067"/>
                </a:cubicBezTo>
                <a:lnTo>
                  <a:pt x="9695" y="15025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960720" cy="56167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024360" cy="36007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596360" y="4724280"/>
            <a:ext cx="688680" cy="20894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387" name="">
            <a:hlinkClick r:id="rId4" action="ppaction://hlinksldjump"/>
          </p:cNvPr>
          <p:cNvSpPr/>
          <p:nvPr/>
        </p:nvSpPr>
        <p:spPr>
          <a:xfrm>
            <a:off x="8531280" y="623736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8447"/>
                </a:moveTo>
                <a:lnTo>
                  <a:pt x="7301" y="8447"/>
                </a:lnTo>
                <a:lnTo>
                  <a:pt x="7301" y="13782"/>
                </a:lnTo>
                <a:cubicBezTo>
                  <a:pt x="7301" y="14705"/>
                  <a:pt x="8102" y="15436"/>
                  <a:pt x="9138" y="15436"/>
                </a:cubicBezTo>
                <a:lnTo>
                  <a:pt x="10800" y="15436"/>
                </a:lnTo>
                <a:cubicBezTo>
                  <a:pt x="11836" y="15436"/>
                  <a:pt x="12636" y="14705"/>
                  <a:pt x="12636" y="13782"/>
                </a:cubicBezTo>
                <a:lnTo>
                  <a:pt x="12636" y="8447"/>
                </a:lnTo>
                <a:lnTo>
                  <a:pt x="10800" y="8447"/>
                </a:lnTo>
                <a:lnTo>
                  <a:pt x="14308" y="4940"/>
                </a:lnTo>
                <a:lnTo>
                  <a:pt x="17981" y="8447"/>
                </a:lnTo>
                <a:lnTo>
                  <a:pt x="16144" y="8447"/>
                </a:lnTo>
                <a:lnTo>
                  <a:pt x="16144" y="13782"/>
                </a:lnTo>
                <a:cubicBezTo>
                  <a:pt x="16144" y="16550"/>
                  <a:pt x="13568" y="19109"/>
                  <a:pt x="10800" y="19109"/>
                </a:cubicBezTo>
                <a:lnTo>
                  <a:pt x="9138" y="19109"/>
                </a:lnTo>
                <a:cubicBezTo>
                  <a:pt x="6370" y="19109"/>
                  <a:pt x="3794" y="16550"/>
                  <a:pt x="3794" y="1378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4572000" y="4535640"/>
            <a:ext cx="3395520" cy="18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560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4319640" cy="3517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91" name=""/>
          <p:cNvSpPr txBox="1"/>
          <p:nvPr/>
        </p:nvSpPr>
        <p:spPr>
          <a:xfrm rot="20880000">
            <a:off x="4163760" y="5226120"/>
            <a:ext cx="4600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6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COME to BRITA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6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8459640" y="6192720"/>
            <a:ext cx="611280" cy="62100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1000"/>
              <a:gd name="textAreaBottom" fmla="*/ 581400 h 621000"/>
            </a:gdLst>
            <a:ahLst/>
            <a:rect l="textAreaLeft" t="textAreaTop" r="textAreaRight" b="textAreaBottom"/>
            <a:pathLst>
              <a:path w="21600" h="21943">
                <a:moveTo>
                  <a:pt x="0" y="0"/>
                </a:moveTo>
                <a:lnTo>
                  <a:pt x="21600" y="0"/>
                </a:lnTo>
                <a:lnTo>
                  <a:pt x="21600" y="21943"/>
                </a:lnTo>
                <a:lnTo>
                  <a:pt x="0" y="21943"/>
                </a:lnTo>
                <a:close/>
              </a:path>
              <a:path fill="lightenLess" w="21600" h="21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43">
                <a:moveTo>
                  <a:pt x="21600" y="0"/>
                </a:moveTo>
                <a:lnTo>
                  <a:pt x="21600" y="21943"/>
                </a:lnTo>
                <a:lnTo>
                  <a:pt x="20200" y="20543"/>
                </a:lnTo>
                <a:lnTo>
                  <a:pt x="20200" y="1400"/>
                </a:lnTo>
                <a:close/>
              </a:path>
              <a:path fill="darkenLess" w="21600" h="21943">
                <a:moveTo>
                  <a:pt x="21600" y="21943"/>
                </a:moveTo>
                <a:lnTo>
                  <a:pt x="0" y="21943"/>
                </a:lnTo>
                <a:lnTo>
                  <a:pt x="1400" y="20543"/>
                </a:lnTo>
                <a:lnTo>
                  <a:pt x="20200" y="20543"/>
                </a:lnTo>
                <a:close/>
              </a:path>
              <a:path fill="lighten" w="21600" h="21943">
                <a:moveTo>
                  <a:pt x="0" y="21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43"/>
                </a:lnTo>
                <a:close/>
              </a:path>
              <a:path fill="darken" w="21600" h="21943">
                <a:moveTo>
                  <a:pt x="3794" y="7664"/>
                </a:moveTo>
                <a:lnTo>
                  <a:pt x="7301" y="7664"/>
                </a:lnTo>
                <a:lnTo>
                  <a:pt x="7301" y="13000"/>
                </a:lnTo>
                <a:cubicBezTo>
                  <a:pt x="7301" y="13922"/>
                  <a:pt x="8102" y="14653"/>
                  <a:pt x="9138" y="14653"/>
                </a:cubicBezTo>
                <a:lnTo>
                  <a:pt x="10800" y="14653"/>
                </a:lnTo>
                <a:cubicBezTo>
                  <a:pt x="11836" y="14653"/>
                  <a:pt x="12636" y="13922"/>
                  <a:pt x="12636" y="13000"/>
                </a:cubicBezTo>
                <a:lnTo>
                  <a:pt x="12636" y="7664"/>
                </a:lnTo>
                <a:lnTo>
                  <a:pt x="10800" y="7664"/>
                </a:lnTo>
                <a:lnTo>
                  <a:pt x="14308" y="4157"/>
                </a:lnTo>
                <a:lnTo>
                  <a:pt x="17981" y="7664"/>
                </a:lnTo>
                <a:lnTo>
                  <a:pt x="16144" y="7664"/>
                </a:lnTo>
                <a:lnTo>
                  <a:pt x="16144" y="13000"/>
                </a:lnTo>
                <a:cubicBezTo>
                  <a:pt x="16144" y="15767"/>
                  <a:pt x="13568" y="18326"/>
                  <a:pt x="10800" y="18326"/>
                </a:cubicBezTo>
                <a:lnTo>
                  <a:pt x="9138" y="18326"/>
                </a:lnTo>
                <a:cubicBezTo>
                  <a:pt x="6370" y="18326"/>
                  <a:pt x="3794" y="15767"/>
                  <a:pt x="3794" y="13000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879640" cy="35290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971640" y="4618080"/>
            <a:ext cx="3024000" cy="19796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08360" cy="2737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959280" cy="4681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398" name="">
            <a:hlinkClick r:id="rId3" action="ppaction://hlinksldjump"/>
          </p:cNvPr>
          <p:cNvSpPr/>
          <p:nvPr/>
        </p:nvSpPr>
        <p:spPr>
          <a:xfrm>
            <a:off x="8426520" y="6237360"/>
            <a:ext cx="682560" cy="620640"/>
          </a:xfrm>
          <a:custGeom>
            <a:avLst/>
            <a:gdLst>
              <a:gd name="textAreaLeft" fmla="*/ 39960 w 682560"/>
              <a:gd name="textAreaRight" fmla="*/ 642600 w 6825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754" h="21600">
                <a:moveTo>
                  <a:pt x="0" y="0"/>
                </a:moveTo>
                <a:lnTo>
                  <a:pt x="23754" y="0"/>
                </a:lnTo>
                <a:lnTo>
                  <a:pt x="23754" y="21600"/>
                </a:lnTo>
                <a:lnTo>
                  <a:pt x="0" y="21600"/>
                </a:lnTo>
                <a:close/>
              </a:path>
              <a:path fill="lightenLess" w="23754" h="21600">
                <a:moveTo>
                  <a:pt x="0" y="0"/>
                </a:moveTo>
                <a:lnTo>
                  <a:pt x="23754" y="0"/>
                </a:lnTo>
                <a:lnTo>
                  <a:pt x="22354" y="1400"/>
                </a:lnTo>
                <a:lnTo>
                  <a:pt x="1400" y="1400"/>
                </a:lnTo>
                <a:close/>
              </a:path>
              <a:path fill="darken" w="23754" h="21600">
                <a:moveTo>
                  <a:pt x="23754" y="0"/>
                </a:moveTo>
                <a:lnTo>
                  <a:pt x="23754" y="21600"/>
                </a:lnTo>
                <a:lnTo>
                  <a:pt x="22354" y="20200"/>
                </a:lnTo>
                <a:lnTo>
                  <a:pt x="22354" y="1400"/>
                </a:lnTo>
                <a:close/>
              </a:path>
              <a:path fill="darkenLess" w="23754" h="21600">
                <a:moveTo>
                  <a:pt x="237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4" y="20200"/>
                </a:lnTo>
                <a:close/>
              </a:path>
              <a:path fill="lighten" w="237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4" h="21600">
                <a:moveTo>
                  <a:pt x="4870" y="7493"/>
                </a:moveTo>
                <a:lnTo>
                  <a:pt x="8378" y="7493"/>
                </a:lnTo>
                <a:lnTo>
                  <a:pt x="8378" y="12828"/>
                </a:lnTo>
                <a:cubicBezTo>
                  <a:pt x="8378" y="13751"/>
                  <a:pt x="9179" y="14482"/>
                  <a:pt x="10214" y="14482"/>
                </a:cubicBezTo>
                <a:lnTo>
                  <a:pt x="11877" y="14482"/>
                </a:lnTo>
                <a:cubicBezTo>
                  <a:pt x="12913" y="14482"/>
                  <a:pt x="13713" y="13751"/>
                  <a:pt x="13713" y="12828"/>
                </a:cubicBezTo>
                <a:lnTo>
                  <a:pt x="13713" y="7493"/>
                </a:lnTo>
                <a:lnTo>
                  <a:pt x="11877" y="7493"/>
                </a:lnTo>
                <a:lnTo>
                  <a:pt x="15384" y="3985"/>
                </a:lnTo>
                <a:lnTo>
                  <a:pt x="19057" y="7493"/>
                </a:lnTo>
                <a:lnTo>
                  <a:pt x="17221" y="7493"/>
                </a:lnTo>
                <a:lnTo>
                  <a:pt x="17221" y="12828"/>
                </a:lnTo>
                <a:cubicBezTo>
                  <a:pt x="17221" y="15596"/>
                  <a:pt x="14645" y="18155"/>
                  <a:pt x="11877" y="18155"/>
                </a:cubicBezTo>
                <a:lnTo>
                  <a:pt x="10214" y="18155"/>
                </a:lnTo>
                <a:cubicBezTo>
                  <a:pt x="7447" y="18155"/>
                  <a:pt x="4870" y="15596"/>
                  <a:pt x="4870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292720" y="3833640"/>
            <a:ext cx="2808360" cy="2764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400" name=""/>
          <p:cNvSpPr txBox="1"/>
          <p:nvPr/>
        </p:nvSpPr>
        <p:spPr>
          <a:xfrm>
            <a:off x="1116000" y="5830920"/>
            <a:ext cx="3743280" cy="911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Westminster  Ab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894120" cy="4608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03" name="">
            <a:hlinkClick r:id="rId2" action="ppaction://hlinksldjump"/>
          </p:cNvPr>
          <p:cNvSpPr/>
          <p:nvPr/>
        </p:nvSpPr>
        <p:spPr>
          <a:xfrm>
            <a:off x="8354880" y="6237360"/>
            <a:ext cx="754200" cy="620640"/>
          </a:xfrm>
          <a:custGeom>
            <a:avLst/>
            <a:gdLst>
              <a:gd name="textAreaLeft" fmla="*/ 39960 w 754200"/>
              <a:gd name="textAreaRight" fmla="*/ 714240 w 754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46" h="21600">
                <a:moveTo>
                  <a:pt x="0" y="0"/>
                </a:moveTo>
                <a:lnTo>
                  <a:pt x="26246" y="0"/>
                </a:lnTo>
                <a:lnTo>
                  <a:pt x="26246" y="21600"/>
                </a:lnTo>
                <a:lnTo>
                  <a:pt x="0" y="21600"/>
                </a:lnTo>
                <a:close/>
              </a:path>
              <a:path fill="lightenLess" w="26246" h="21600">
                <a:moveTo>
                  <a:pt x="0" y="0"/>
                </a:moveTo>
                <a:lnTo>
                  <a:pt x="26246" y="0"/>
                </a:lnTo>
                <a:lnTo>
                  <a:pt x="24846" y="1400"/>
                </a:lnTo>
                <a:lnTo>
                  <a:pt x="1400" y="1400"/>
                </a:lnTo>
                <a:close/>
              </a:path>
              <a:path fill="darken" w="26246" h="21600">
                <a:moveTo>
                  <a:pt x="26246" y="0"/>
                </a:moveTo>
                <a:lnTo>
                  <a:pt x="26246" y="21600"/>
                </a:lnTo>
                <a:lnTo>
                  <a:pt x="24846" y="20200"/>
                </a:lnTo>
                <a:lnTo>
                  <a:pt x="24846" y="1400"/>
                </a:lnTo>
                <a:close/>
              </a:path>
              <a:path fill="darkenLess" w="26246" h="21600">
                <a:moveTo>
                  <a:pt x="2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6" y="20200"/>
                </a:lnTo>
                <a:close/>
              </a:path>
              <a:path fill="lighten" w="2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46" h="21600">
                <a:moveTo>
                  <a:pt x="6116" y="7493"/>
                </a:moveTo>
                <a:lnTo>
                  <a:pt x="9624" y="7493"/>
                </a:lnTo>
                <a:lnTo>
                  <a:pt x="9624" y="12828"/>
                </a:lnTo>
                <a:cubicBezTo>
                  <a:pt x="9624" y="13751"/>
                  <a:pt x="10425" y="14482"/>
                  <a:pt x="11460" y="14482"/>
                </a:cubicBezTo>
                <a:lnTo>
                  <a:pt x="13123" y="14482"/>
                </a:lnTo>
                <a:cubicBezTo>
                  <a:pt x="14159" y="14482"/>
                  <a:pt x="14959" y="13751"/>
                  <a:pt x="14959" y="12828"/>
                </a:cubicBezTo>
                <a:lnTo>
                  <a:pt x="14959" y="7493"/>
                </a:lnTo>
                <a:lnTo>
                  <a:pt x="13123" y="7493"/>
                </a:lnTo>
                <a:lnTo>
                  <a:pt x="16630" y="3985"/>
                </a:lnTo>
                <a:lnTo>
                  <a:pt x="20303" y="7493"/>
                </a:lnTo>
                <a:lnTo>
                  <a:pt x="18467" y="7493"/>
                </a:lnTo>
                <a:lnTo>
                  <a:pt x="18467" y="12828"/>
                </a:lnTo>
                <a:cubicBezTo>
                  <a:pt x="18467" y="15596"/>
                  <a:pt x="15891" y="18155"/>
                  <a:pt x="13123" y="18155"/>
                </a:cubicBezTo>
                <a:lnTo>
                  <a:pt x="11460" y="18155"/>
                </a:lnTo>
                <a:cubicBezTo>
                  <a:pt x="8693" y="18155"/>
                  <a:pt x="6116" y="15596"/>
                  <a:pt x="6116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154480" y="1268280"/>
            <a:ext cx="3089520" cy="345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5078520" y="5075280"/>
            <a:ext cx="38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he first English peo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n Russ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11280" y="1268280"/>
            <a:ext cx="93672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4720" y="1268280"/>
            <a:ext cx="57456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1640" y="1268280"/>
            <a:ext cx="43164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71640" y="3141720"/>
            <a:ext cx="144720" cy="273528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5661000"/>
            <a:ext cx="2016000" cy="216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1640" y="4653000"/>
            <a:ext cx="1944720" cy="1224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2565360"/>
            <a:ext cx="1008000" cy="57636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an IV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637000"/>
            <a:ext cx="936720" cy="50472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zabeth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8459640" y="6165720"/>
            <a:ext cx="649440" cy="64800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7493"/>
                </a:moveTo>
                <a:lnTo>
                  <a:pt x="7325" y="7493"/>
                </a:lnTo>
                <a:lnTo>
                  <a:pt x="7325" y="12828"/>
                </a:lnTo>
                <a:cubicBezTo>
                  <a:pt x="7325" y="13751"/>
                  <a:pt x="8126" y="14482"/>
                  <a:pt x="9162" y="14482"/>
                </a:cubicBezTo>
                <a:lnTo>
                  <a:pt x="10824" y="14482"/>
                </a:lnTo>
                <a:cubicBezTo>
                  <a:pt x="11860" y="14482"/>
                  <a:pt x="12660" y="13751"/>
                  <a:pt x="12660" y="12828"/>
                </a:cubicBezTo>
                <a:lnTo>
                  <a:pt x="12660" y="7493"/>
                </a:lnTo>
                <a:lnTo>
                  <a:pt x="10824" y="7493"/>
                </a:lnTo>
                <a:lnTo>
                  <a:pt x="14332" y="3985"/>
                </a:lnTo>
                <a:lnTo>
                  <a:pt x="18005" y="7493"/>
                </a:lnTo>
                <a:lnTo>
                  <a:pt x="16168" y="7493"/>
                </a:lnTo>
                <a:lnTo>
                  <a:pt x="16168" y="12828"/>
                </a:lnTo>
                <a:cubicBezTo>
                  <a:pt x="16168" y="15596"/>
                  <a:pt x="13592" y="18155"/>
                  <a:pt x="10824" y="18155"/>
                </a:cubicBezTo>
                <a:lnTo>
                  <a:pt x="9162" y="18155"/>
                </a:lnTo>
                <a:cubicBezTo>
                  <a:pt x="6394" y="18155"/>
                  <a:pt x="3818" y="15596"/>
                  <a:pt x="381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149480" y="981000"/>
            <a:ext cx="3638520" cy="51847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sp>
        <p:nvSpPr>
          <p:cNvPr id="417" name=""/>
          <p:cNvSpPr/>
          <p:nvPr/>
        </p:nvSpPr>
        <p:spPr>
          <a:xfrm>
            <a:off x="4929120" y="4786200"/>
            <a:ext cx="382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gatha Christi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1891 – 1976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rote 75 detective s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5214960" y="981000"/>
            <a:ext cx="2714760" cy="3805200"/>
          </a:xfrm>
          <a:prstGeom prst="rect">
            <a:avLst/>
          </a:prstGeom>
          <a:ln w="76320">
            <a:solidFill>
              <a:srgbClr val="3cc2c2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8388360" y="6093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042920" y="906480"/>
            <a:ext cx="6912000" cy="5186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3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8426520" y="6203880"/>
            <a:ext cx="682560" cy="60984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174" h="21600">
                <a:moveTo>
                  <a:pt x="0" y="0"/>
                </a:moveTo>
                <a:lnTo>
                  <a:pt x="24174" y="0"/>
                </a:lnTo>
                <a:lnTo>
                  <a:pt x="24174" y="21600"/>
                </a:lnTo>
                <a:lnTo>
                  <a:pt x="0" y="21600"/>
                </a:lnTo>
                <a:close/>
              </a:path>
              <a:path fill="lightenLess" w="24174" h="21600">
                <a:moveTo>
                  <a:pt x="0" y="0"/>
                </a:moveTo>
                <a:lnTo>
                  <a:pt x="24174" y="0"/>
                </a:lnTo>
                <a:lnTo>
                  <a:pt x="22774" y="1400"/>
                </a:lnTo>
                <a:lnTo>
                  <a:pt x="1400" y="1400"/>
                </a:lnTo>
                <a:close/>
              </a:path>
              <a:path fill="darken" w="24174" h="21600">
                <a:moveTo>
                  <a:pt x="24174" y="0"/>
                </a:moveTo>
                <a:lnTo>
                  <a:pt x="24174" y="21600"/>
                </a:lnTo>
                <a:lnTo>
                  <a:pt x="22774" y="20200"/>
                </a:lnTo>
                <a:lnTo>
                  <a:pt x="22774" y="1400"/>
                </a:lnTo>
                <a:close/>
              </a:path>
              <a:path fill="darkenLess" w="24174" h="21600">
                <a:moveTo>
                  <a:pt x="24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4" y="20200"/>
                </a:lnTo>
                <a:close/>
              </a:path>
              <a:path fill="lighten" w="24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4" h="21600">
                <a:moveTo>
                  <a:pt x="5081" y="7493"/>
                </a:moveTo>
                <a:lnTo>
                  <a:pt x="8588" y="7493"/>
                </a:lnTo>
                <a:lnTo>
                  <a:pt x="8588" y="12828"/>
                </a:lnTo>
                <a:cubicBezTo>
                  <a:pt x="8588" y="13751"/>
                  <a:pt x="9389" y="14482"/>
                  <a:pt x="10425" y="14482"/>
                </a:cubicBezTo>
                <a:lnTo>
                  <a:pt x="12087" y="14482"/>
                </a:lnTo>
                <a:cubicBezTo>
                  <a:pt x="13123" y="14482"/>
                  <a:pt x="13924" y="13751"/>
                  <a:pt x="13924" y="12828"/>
                </a:cubicBezTo>
                <a:lnTo>
                  <a:pt x="13924" y="7493"/>
                </a:lnTo>
                <a:lnTo>
                  <a:pt x="12087" y="7493"/>
                </a:lnTo>
                <a:lnTo>
                  <a:pt x="15595" y="3985"/>
                </a:lnTo>
                <a:lnTo>
                  <a:pt x="19268" y="7493"/>
                </a:lnTo>
                <a:lnTo>
                  <a:pt x="17431" y="7493"/>
                </a:lnTo>
                <a:lnTo>
                  <a:pt x="17431" y="12828"/>
                </a:lnTo>
                <a:cubicBezTo>
                  <a:pt x="17431" y="15596"/>
                  <a:pt x="14855" y="18155"/>
                  <a:pt x="12087" y="18155"/>
                </a:cubicBezTo>
                <a:lnTo>
                  <a:pt x="10425" y="18155"/>
                </a:lnTo>
                <a:cubicBezTo>
                  <a:pt x="7657" y="18155"/>
                  <a:pt x="5081" y="15596"/>
                  <a:pt x="508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814320" y="981000"/>
            <a:ext cx="4262400" cy="561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295960" y="981000"/>
            <a:ext cx="3021120" cy="396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26" name=""/>
          <p:cNvSpPr txBox="1"/>
          <p:nvPr/>
        </p:nvSpPr>
        <p:spPr>
          <a:xfrm>
            <a:off x="5364000" y="5229360"/>
            <a:ext cx="28814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CHARLIE CHAPLIN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02560" y="5897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89 – 197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47880" y="1052640"/>
            <a:ext cx="363996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376360" cy="2197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2440080" cy="1820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 rot="5400000">
            <a:off x="2920320" y="3287880"/>
            <a:ext cx="43210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EASTER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3" name="">
            <a:hlinkClick r:id="rId4" action="ppaction://hlinksldjump"/>
          </p:cNvPr>
          <p:cNvSpPr/>
          <p:nvPr/>
        </p:nvSpPr>
        <p:spPr>
          <a:xfrm>
            <a:off x="8426520" y="6165720"/>
            <a:ext cx="682560" cy="69228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92280"/>
              <a:gd name="textAreaBottom" fmla="*/ 648360 h 692280"/>
            </a:gdLst>
            <a:ahLst/>
            <a:rect l="textAreaLeft" t="textAreaTop" r="textAreaRight" b="textAreaBottom"/>
            <a:pathLst>
              <a:path w="21600" h="21907">
                <a:moveTo>
                  <a:pt x="0" y="0"/>
                </a:moveTo>
                <a:lnTo>
                  <a:pt x="21600" y="0"/>
                </a:lnTo>
                <a:lnTo>
                  <a:pt x="21600" y="21907"/>
                </a:lnTo>
                <a:lnTo>
                  <a:pt x="0" y="21907"/>
                </a:lnTo>
                <a:close/>
              </a:path>
              <a:path fill="lightenLess" w="21600" h="21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07">
                <a:moveTo>
                  <a:pt x="21600" y="0"/>
                </a:moveTo>
                <a:lnTo>
                  <a:pt x="21600" y="21907"/>
                </a:lnTo>
                <a:lnTo>
                  <a:pt x="20200" y="20507"/>
                </a:lnTo>
                <a:lnTo>
                  <a:pt x="20200" y="1400"/>
                </a:lnTo>
                <a:close/>
              </a:path>
              <a:path fill="darkenLess" w="21600" h="21907">
                <a:moveTo>
                  <a:pt x="21600" y="21907"/>
                </a:moveTo>
                <a:lnTo>
                  <a:pt x="0" y="21907"/>
                </a:lnTo>
                <a:lnTo>
                  <a:pt x="1400" y="20507"/>
                </a:lnTo>
                <a:lnTo>
                  <a:pt x="20200" y="20507"/>
                </a:lnTo>
                <a:close/>
              </a:path>
              <a:path fill="lighten" w="21600" h="21907">
                <a:moveTo>
                  <a:pt x="0" y="21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07"/>
                </a:lnTo>
                <a:close/>
              </a:path>
              <a:path fill="darken" w="21600" h="21907">
                <a:moveTo>
                  <a:pt x="3794" y="7646"/>
                </a:moveTo>
                <a:lnTo>
                  <a:pt x="7301" y="7646"/>
                </a:lnTo>
                <a:lnTo>
                  <a:pt x="7301" y="12982"/>
                </a:lnTo>
                <a:cubicBezTo>
                  <a:pt x="7301" y="13904"/>
                  <a:pt x="8102" y="14635"/>
                  <a:pt x="9138" y="14635"/>
                </a:cubicBezTo>
                <a:lnTo>
                  <a:pt x="10800" y="14635"/>
                </a:lnTo>
                <a:cubicBezTo>
                  <a:pt x="11836" y="14635"/>
                  <a:pt x="12636" y="13904"/>
                  <a:pt x="12636" y="12982"/>
                </a:cubicBezTo>
                <a:lnTo>
                  <a:pt x="12636" y="7646"/>
                </a:lnTo>
                <a:lnTo>
                  <a:pt x="10800" y="7646"/>
                </a:lnTo>
                <a:lnTo>
                  <a:pt x="14308" y="4139"/>
                </a:lnTo>
                <a:lnTo>
                  <a:pt x="17981" y="7646"/>
                </a:lnTo>
                <a:lnTo>
                  <a:pt x="16144" y="7646"/>
                </a:lnTo>
                <a:lnTo>
                  <a:pt x="16144" y="12982"/>
                </a:lnTo>
                <a:cubicBezTo>
                  <a:pt x="16144" y="15749"/>
                  <a:pt x="13568" y="18308"/>
                  <a:pt x="10800" y="18308"/>
                </a:cubicBezTo>
                <a:lnTo>
                  <a:pt x="9138" y="18308"/>
                </a:lnTo>
                <a:cubicBezTo>
                  <a:pt x="6370" y="18308"/>
                  <a:pt x="3794" y="15749"/>
                  <a:pt x="3794" y="1298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0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3000" fill="hold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3180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Where is the statue to 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dmiral Nelson?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Piccadilly Circus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Trafalgar Square</a:t>
            </a:r>
            <a:r>
              <a:rPr b="0" lang="en-US" sz="5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Oxfor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near Big B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0" name="">
            <a:hlinkClick r:id="rId5" action="ppaction://hlinksldjump"/>
          </p:cNvPr>
          <p:cNvSpPr/>
          <p:nvPr/>
        </p:nvSpPr>
        <p:spPr>
          <a:xfrm>
            <a:off x="8244000" y="6248520"/>
            <a:ext cx="576000" cy="6094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09480"/>
              <a:gd name="textAreaBottom" fmla="*/ 572400 h 609480"/>
            </a:gdLst>
            <a:ahLst/>
            <a:rect l="textAreaLeft" t="textAreaTop" r="textAreaRight" b="textAreaBottom"/>
            <a:pathLst>
              <a:path w="21600" h="22855">
                <a:moveTo>
                  <a:pt x="0" y="0"/>
                </a:moveTo>
                <a:lnTo>
                  <a:pt x="21600" y="0"/>
                </a:lnTo>
                <a:lnTo>
                  <a:pt x="21600" y="22855"/>
                </a:lnTo>
                <a:lnTo>
                  <a:pt x="0" y="22855"/>
                </a:lnTo>
                <a:close/>
              </a:path>
              <a:path fill="lightenLess" w="21600" h="22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55">
                <a:moveTo>
                  <a:pt x="21600" y="0"/>
                </a:moveTo>
                <a:lnTo>
                  <a:pt x="21600" y="22855"/>
                </a:lnTo>
                <a:lnTo>
                  <a:pt x="20200" y="21455"/>
                </a:lnTo>
                <a:lnTo>
                  <a:pt x="20200" y="1400"/>
                </a:lnTo>
                <a:close/>
              </a:path>
              <a:path fill="darkenLess" w="21600" h="22855">
                <a:moveTo>
                  <a:pt x="21600" y="22855"/>
                </a:moveTo>
                <a:lnTo>
                  <a:pt x="0" y="22855"/>
                </a:lnTo>
                <a:lnTo>
                  <a:pt x="1400" y="21455"/>
                </a:lnTo>
                <a:lnTo>
                  <a:pt x="20200" y="21455"/>
                </a:lnTo>
                <a:close/>
              </a:path>
              <a:path fill="lighten" w="21600" h="22855">
                <a:moveTo>
                  <a:pt x="0" y="22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55"/>
                </a:lnTo>
                <a:close/>
              </a:path>
              <a:path fill="darken" w="21600" h="22855">
                <a:moveTo>
                  <a:pt x="10800" y="154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855">
                <a:moveTo>
                  <a:pt x="11905" y="14909"/>
                </a:moveTo>
                <a:lnTo>
                  <a:pt x="11905" y="12951"/>
                </a:lnTo>
                <a:cubicBezTo>
                  <a:pt x="11905" y="12124"/>
                  <a:pt x="12236" y="11427"/>
                  <a:pt x="12837" y="11427"/>
                </a:cubicBezTo>
                <a:cubicBezTo>
                  <a:pt x="13968" y="11427"/>
                  <a:pt x="14865" y="10061"/>
                  <a:pt x="14865" y="8477"/>
                </a:cubicBezTo>
                <a:cubicBezTo>
                  <a:pt x="14865" y="6162"/>
                  <a:pt x="13011" y="4421"/>
                  <a:pt x="10800" y="4421"/>
                </a:cubicBezTo>
                <a:cubicBezTo>
                  <a:pt x="8589" y="4421"/>
                  <a:pt x="6918" y="6162"/>
                  <a:pt x="6918" y="8477"/>
                </a:cubicBezTo>
                <a:lnTo>
                  <a:pt x="8772" y="8477"/>
                </a:lnTo>
                <a:cubicBezTo>
                  <a:pt x="8772" y="7337"/>
                  <a:pt x="9695" y="6449"/>
                  <a:pt x="10800" y="6449"/>
                </a:cubicBezTo>
                <a:cubicBezTo>
                  <a:pt x="11905" y="6449"/>
                  <a:pt x="12837" y="7337"/>
                  <a:pt x="12837" y="8477"/>
                </a:cubicBezTo>
                <a:cubicBezTo>
                  <a:pt x="12837" y="9217"/>
                  <a:pt x="12367" y="9948"/>
                  <a:pt x="11905" y="9948"/>
                </a:cubicBezTo>
                <a:cubicBezTo>
                  <a:pt x="10800" y="9948"/>
                  <a:pt x="9695" y="11427"/>
                  <a:pt x="9695" y="12951"/>
                </a:cubicBezTo>
                <a:lnTo>
                  <a:pt x="9695" y="14909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41128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069920" y="1052640"/>
            <a:ext cx="3214800" cy="43923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1052640"/>
            <a:ext cx="3587760" cy="43923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8317080" y="6237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7493"/>
                </a:moveTo>
                <a:lnTo>
                  <a:pt x="9971" y="7493"/>
                </a:lnTo>
                <a:lnTo>
                  <a:pt x="9971" y="12828"/>
                </a:lnTo>
                <a:cubicBezTo>
                  <a:pt x="9971" y="13751"/>
                  <a:pt x="10772" y="14482"/>
                  <a:pt x="11807" y="14482"/>
                </a:cubicBezTo>
                <a:lnTo>
                  <a:pt x="13470" y="14482"/>
                </a:lnTo>
                <a:cubicBezTo>
                  <a:pt x="14505" y="14482"/>
                  <a:pt x="15306" y="13751"/>
                  <a:pt x="15306" y="12828"/>
                </a:cubicBezTo>
                <a:lnTo>
                  <a:pt x="15306" y="7493"/>
                </a:lnTo>
                <a:lnTo>
                  <a:pt x="13470" y="7493"/>
                </a:lnTo>
                <a:lnTo>
                  <a:pt x="16977" y="3985"/>
                </a:lnTo>
                <a:lnTo>
                  <a:pt x="20650" y="7493"/>
                </a:lnTo>
                <a:lnTo>
                  <a:pt x="18814" y="7493"/>
                </a:lnTo>
                <a:lnTo>
                  <a:pt x="18814" y="12828"/>
                </a:lnTo>
                <a:cubicBezTo>
                  <a:pt x="18814" y="15596"/>
                  <a:pt x="16237" y="18155"/>
                  <a:pt x="13470" y="18155"/>
                </a:cubicBezTo>
                <a:lnTo>
                  <a:pt x="11807" y="18155"/>
                </a:lnTo>
                <a:cubicBezTo>
                  <a:pt x="9039" y="18155"/>
                  <a:pt x="6463" y="15596"/>
                  <a:pt x="646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700360" y="5589720"/>
            <a:ext cx="396252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The Tower of Lond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0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1872000" cy="952560"/>
          </a:xfrm>
          <a:prstGeom prst="rect">
            <a:avLst/>
          </a:prstGeom>
          <a:ln w="0">
            <a:noFill/>
          </a:ln>
        </p:spPr>
      </p:pic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8353440" y="6130800"/>
            <a:ext cx="682560" cy="682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920"/>
              <a:gd name="textAreaBottom" fmla="*/ 639000 h 68292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7498"/>
                </a:moveTo>
                <a:lnTo>
                  <a:pt x="7301" y="7498"/>
                </a:lnTo>
                <a:lnTo>
                  <a:pt x="7301" y="12834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4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1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4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4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067280" y="1052640"/>
            <a:ext cx="4136760" cy="424800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187280" y="2492280"/>
            <a:ext cx="2592720" cy="334332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48436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5041800" cy="362556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728720" cy="1641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380360" y="4941720"/>
            <a:ext cx="647640" cy="628920"/>
          </a:xfrm>
          <a:prstGeom prst="rect">
            <a:avLst/>
          </a:prstGeom>
          <a:ln w="0">
            <a:noFill/>
          </a:ln>
        </p:spPr>
      </p:pic>
      <p:sp>
        <p:nvSpPr>
          <p:cNvPr id="448" name="">
            <a:hlinkClick r:id="rId4" action="ppaction://hlinksldjump"/>
          </p:cNvPr>
          <p:cNvSpPr/>
          <p:nvPr/>
        </p:nvSpPr>
        <p:spPr>
          <a:xfrm>
            <a:off x="8317080" y="616572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7493"/>
                </a:moveTo>
                <a:lnTo>
                  <a:pt x="9971" y="7493"/>
                </a:lnTo>
                <a:lnTo>
                  <a:pt x="9971" y="12828"/>
                </a:lnTo>
                <a:cubicBezTo>
                  <a:pt x="9971" y="13751"/>
                  <a:pt x="10772" y="14482"/>
                  <a:pt x="11807" y="14482"/>
                </a:cubicBezTo>
                <a:lnTo>
                  <a:pt x="13470" y="14482"/>
                </a:lnTo>
                <a:cubicBezTo>
                  <a:pt x="14505" y="14482"/>
                  <a:pt x="15306" y="13751"/>
                  <a:pt x="15306" y="12828"/>
                </a:cubicBezTo>
                <a:lnTo>
                  <a:pt x="15306" y="7493"/>
                </a:lnTo>
                <a:lnTo>
                  <a:pt x="13470" y="7493"/>
                </a:lnTo>
                <a:lnTo>
                  <a:pt x="16977" y="3985"/>
                </a:lnTo>
                <a:lnTo>
                  <a:pt x="20650" y="7493"/>
                </a:lnTo>
                <a:lnTo>
                  <a:pt x="18814" y="7493"/>
                </a:lnTo>
                <a:lnTo>
                  <a:pt x="18814" y="12828"/>
                </a:lnTo>
                <a:cubicBezTo>
                  <a:pt x="18814" y="15596"/>
                  <a:pt x="16237" y="18155"/>
                  <a:pt x="13470" y="18155"/>
                </a:cubicBezTo>
                <a:lnTo>
                  <a:pt x="11807" y="18155"/>
                </a:lnTo>
                <a:cubicBezTo>
                  <a:pt x="9039" y="18155"/>
                  <a:pt x="6463" y="15596"/>
                  <a:pt x="646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7308720" y="4508640"/>
            <a:ext cx="648000" cy="628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6948360" y="4724280"/>
            <a:ext cx="648000" cy="628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257120" y="4797360"/>
            <a:ext cx="481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, happy birthday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0" t="0" r="0" b="11100"/>
          <a:stretch/>
        </p:blipFill>
        <p:spPr>
          <a:xfrm>
            <a:off x="1258920" y="1052640"/>
            <a:ext cx="6697800" cy="4441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1620720" cy="12733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490840" y="5599080"/>
            <a:ext cx="41623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nging the Guard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 Buckingham Palace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8388360" y="6130800"/>
            <a:ext cx="684360" cy="682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46" h="21600">
                <a:moveTo>
                  <a:pt x="0" y="0"/>
                </a:moveTo>
                <a:lnTo>
                  <a:pt x="21646" y="0"/>
                </a:lnTo>
                <a:lnTo>
                  <a:pt x="21646" y="21600"/>
                </a:lnTo>
                <a:lnTo>
                  <a:pt x="0" y="21600"/>
                </a:lnTo>
                <a:close/>
              </a:path>
              <a:path fill="lightenLess" w="21646" h="21600">
                <a:moveTo>
                  <a:pt x="0" y="0"/>
                </a:moveTo>
                <a:lnTo>
                  <a:pt x="21646" y="0"/>
                </a:lnTo>
                <a:lnTo>
                  <a:pt x="20246" y="1400"/>
                </a:lnTo>
                <a:lnTo>
                  <a:pt x="1400" y="1400"/>
                </a:lnTo>
                <a:close/>
              </a:path>
              <a:path fill="darken" w="21646" h="21600">
                <a:moveTo>
                  <a:pt x="21646" y="0"/>
                </a:moveTo>
                <a:lnTo>
                  <a:pt x="21646" y="21600"/>
                </a:lnTo>
                <a:lnTo>
                  <a:pt x="20246" y="20200"/>
                </a:lnTo>
                <a:lnTo>
                  <a:pt x="20246" y="1400"/>
                </a:lnTo>
                <a:close/>
              </a:path>
              <a:path fill="darkenLess" w="21646" h="21600">
                <a:moveTo>
                  <a:pt x="2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6" y="20200"/>
                </a:lnTo>
                <a:close/>
              </a:path>
              <a:path fill="lighten" w="2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6" h="21600">
                <a:moveTo>
                  <a:pt x="3816" y="7493"/>
                </a:moveTo>
                <a:lnTo>
                  <a:pt x="7324" y="7493"/>
                </a:lnTo>
                <a:lnTo>
                  <a:pt x="7324" y="12828"/>
                </a:lnTo>
                <a:cubicBezTo>
                  <a:pt x="7324" y="13751"/>
                  <a:pt x="8125" y="14482"/>
                  <a:pt x="9160" y="14482"/>
                </a:cubicBezTo>
                <a:lnTo>
                  <a:pt x="10823" y="14482"/>
                </a:lnTo>
                <a:cubicBezTo>
                  <a:pt x="11859" y="14482"/>
                  <a:pt x="12659" y="13751"/>
                  <a:pt x="12659" y="12828"/>
                </a:cubicBezTo>
                <a:lnTo>
                  <a:pt x="12659" y="7493"/>
                </a:lnTo>
                <a:lnTo>
                  <a:pt x="10823" y="7493"/>
                </a:lnTo>
                <a:lnTo>
                  <a:pt x="14330" y="3985"/>
                </a:lnTo>
                <a:lnTo>
                  <a:pt x="18003" y="7493"/>
                </a:lnTo>
                <a:lnTo>
                  <a:pt x="16167" y="7493"/>
                </a:lnTo>
                <a:lnTo>
                  <a:pt x="16167" y="12828"/>
                </a:lnTo>
                <a:cubicBezTo>
                  <a:pt x="16167" y="15596"/>
                  <a:pt x="13591" y="18155"/>
                  <a:pt x="10823" y="18155"/>
                </a:cubicBezTo>
                <a:lnTo>
                  <a:pt x="9160" y="18155"/>
                </a:lnTo>
                <a:cubicBezTo>
                  <a:pt x="6393" y="18155"/>
                  <a:pt x="3816" y="15596"/>
                  <a:pt x="3816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248436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 rot="16020000">
            <a:off x="5668200" y="4205880"/>
            <a:ext cx="1800000" cy="19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iccadilly  circus  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682800" cy="4980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460" name="">
            <a:hlinkClick r:id="rId2" action="ppaction://hlinksldjump"/>
          </p:cNvPr>
          <p:cNvSpPr/>
          <p:nvPr/>
        </p:nvSpPr>
        <p:spPr>
          <a:xfrm>
            <a:off x="8389800" y="6093000"/>
            <a:ext cx="719280" cy="64908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35" h="21600">
                <a:moveTo>
                  <a:pt x="0" y="0"/>
                </a:moveTo>
                <a:lnTo>
                  <a:pt x="23935" y="0"/>
                </a:lnTo>
                <a:lnTo>
                  <a:pt x="23935" y="21600"/>
                </a:lnTo>
                <a:lnTo>
                  <a:pt x="0" y="21600"/>
                </a:lnTo>
                <a:close/>
              </a:path>
              <a:path fill="lightenLess" w="23935" h="21600">
                <a:moveTo>
                  <a:pt x="0" y="0"/>
                </a:moveTo>
                <a:lnTo>
                  <a:pt x="23935" y="0"/>
                </a:lnTo>
                <a:lnTo>
                  <a:pt x="22535" y="1400"/>
                </a:lnTo>
                <a:lnTo>
                  <a:pt x="1400" y="1400"/>
                </a:lnTo>
                <a:close/>
              </a:path>
              <a:path fill="darken" w="23935" h="21600">
                <a:moveTo>
                  <a:pt x="23935" y="0"/>
                </a:moveTo>
                <a:lnTo>
                  <a:pt x="23935" y="21600"/>
                </a:lnTo>
                <a:lnTo>
                  <a:pt x="22535" y="20200"/>
                </a:lnTo>
                <a:lnTo>
                  <a:pt x="22535" y="1400"/>
                </a:lnTo>
                <a:close/>
              </a:path>
              <a:path fill="darkenLess" w="23935" h="21600">
                <a:moveTo>
                  <a:pt x="2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5" y="20200"/>
                </a:lnTo>
                <a:close/>
              </a:path>
              <a:path fill="lighten" w="2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5" h="21600">
                <a:moveTo>
                  <a:pt x="4961" y="7493"/>
                </a:moveTo>
                <a:lnTo>
                  <a:pt x="8469" y="7493"/>
                </a:lnTo>
                <a:lnTo>
                  <a:pt x="8469" y="12828"/>
                </a:lnTo>
                <a:cubicBezTo>
                  <a:pt x="8469" y="13751"/>
                  <a:pt x="9269" y="14482"/>
                  <a:pt x="10305" y="14482"/>
                </a:cubicBezTo>
                <a:lnTo>
                  <a:pt x="11967" y="14482"/>
                </a:lnTo>
                <a:cubicBezTo>
                  <a:pt x="13003" y="14482"/>
                  <a:pt x="13804" y="13751"/>
                  <a:pt x="13804" y="12828"/>
                </a:cubicBezTo>
                <a:lnTo>
                  <a:pt x="13804" y="7493"/>
                </a:lnTo>
                <a:lnTo>
                  <a:pt x="11967" y="7493"/>
                </a:lnTo>
                <a:lnTo>
                  <a:pt x="15475" y="3985"/>
                </a:lnTo>
                <a:lnTo>
                  <a:pt x="19148" y="7493"/>
                </a:lnTo>
                <a:lnTo>
                  <a:pt x="17311" y="7493"/>
                </a:lnTo>
                <a:lnTo>
                  <a:pt x="17311" y="12828"/>
                </a:lnTo>
                <a:cubicBezTo>
                  <a:pt x="17311" y="15596"/>
                  <a:pt x="14735" y="18155"/>
                  <a:pt x="11967" y="18155"/>
                </a:cubicBezTo>
                <a:lnTo>
                  <a:pt x="10305" y="18155"/>
                </a:lnTo>
                <a:cubicBezTo>
                  <a:pt x="7537" y="18155"/>
                  <a:pt x="4961" y="15596"/>
                  <a:pt x="49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552840" cy="288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56000" y="16812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414828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4" name=""/>
          <p:cNvSpPr txBox="1"/>
          <p:nvPr/>
        </p:nvSpPr>
        <p:spPr>
          <a:xfrm rot="20700000">
            <a:off x="5721480" y="4727520"/>
            <a:ext cx="286704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afa0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TREAT or TRICK!"</a:t>
            </a:r>
            <a:endParaRPr b="0" lang="en-US" sz="2400" spc="1" strike="noStrike">
              <a:ln w="9360">
                <a:solidFill>
                  <a:srgbClr val="fafa0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508720" y="1238400"/>
            <a:ext cx="2695320" cy="2695320"/>
          </a:xfrm>
          <a:prstGeom prst="rect">
            <a:avLst/>
          </a:prstGeom>
          <a:ln w="0">
            <a:noFill/>
          </a:ln>
        </p:spPr>
      </p:pic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8388360" y="6093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14240" y="1197000"/>
            <a:ext cx="4643640" cy="525636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643720" y="1197000"/>
            <a:ext cx="2313000" cy="316872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8353440" y="6093000"/>
            <a:ext cx="755640" cy="684000"/>
          </a:xfrm>
          <a:custGeom>
            <a:avLst/>
            <a:gdLst>
              <a:gd name="textAreaLeft" fmla="*/ 44280 w 755640"/>
              <a:gd name="textAreaRight" fmla="*/ 711360 w 75564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3861" h="21600">
                <a:moveTo>
                  <a:pt x="0" y="0"/>
                </a:moveTo>
                <a:lnTo>
                  <a:pt x="23861" y="0"/>
                </a:lnTo>
                <a:lnTo>
                  <a:pt x="23861" y="21600"/>
                </a:lnTo>
                <a:lnTo>
                  <a:pt x="0" y="21600"/>
                </a:lnTo>
                <a:close/>
              </a:path>
              <a:path fill="lightenLess" w="23861" h="21600">
                <a:moveTo>
                  <a:pt x="0" y="0"/>
                </a:moveTo>
                <a:lnTo>
                  <a:pt x="23861" y="0"/>
                </a:lnTo>
                <a:lnTo>
                  <a:pt x="22461" y="1400"/>
                </a:lnTo>
                <a:lnTo>
                  <a:pt x="1400" y="1400"/>
                </a:lnTo>
                <a:close/>
              </a:path>
              <a:path fill="darken" w="23861" h="21600">
                <a:moveTo>
                  <a:pt x="23861" y="0"/>
                </a:moveTo>
                <a:lnTo>
                  <a:pt x="23861" y="21600"/>
                </a:lnTo>
                <a:lnTo>
                  <a:pt x="22461" y="20200"/>
                </a:lnTo>
                <a:lnTo>
                  <a:pt x="22461" y="1400"/>
                </a:lnTo>
                <a:close/>
              </a:path>
              <a:path fill="darkenLess" w="23861" h="21600">
                <a:moveTo>
                  <a:pt x="23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61" y="20200"/>
                </a:lnTo>
                <a:close/>
              </a:path>
              <a:path fill="lighten" w="23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61" h="21600">
                <a:moveTo>
                  <a:pt x="4924" y="7493"/>
                </a:moveTo>
                <a:lnTo>
                  <a:pt x="8432" y="7493"/>
                </a:lnTo>
                <a:lnTo>
                  <a:pt x="8432" y="12828"/>
                </a:lnTo>
                <a:cubicBezTo>
                  <a:pt x="8432" y="13751"/>
                  <a:pt x="9232" y="14482"/>
                  <a:pt x="10268" y="14482"/>
                </a:cubicBezTo>
                <a:lnTo>
                  <a:pt x="11931" y="14482"/>
                </a:lnTo>
                <a:cubicBezTo>
                  <a:pt x="12966" y="14482"/>
                  <a:pt x="13767" y="13751"/>
                  <a:pt x="13767" y="12828"/>
                </a:cubicBezTo>
                <a:lnTo>
                  <a:pt x="13767" y="7493"/>
                </a:lnTo>
                <a:lnTo>
                  <a:pt x="11931" y="7493"/>
                </a:lnTo>
                <a:lnTo>
                  <a:pt x="15438" y="3985"/>
                </a:lnTo>
                <a:lnTo>
                  <a:pt x="19111" y="7493"/>
                </a:lnTo>
                <a:lnTo>
                  <a:pt x="17275" y="7493"/>
                </a:lnTo>
                <a:lnTo>
                  <a:pt x="17275" y="12828"/>
                </a:lnTo>
                <a:cubicBezTo>
                  <a:pt x="17275" y="15596"/>
                  <a:pt x="14698" y="18155"/>
                  <a:pt x="11931" y="18155"/>
                </a:cubicBezTo>
                <a:lnTo>
                  <a:pt x="10268" y="18155"/>
                </a:lnTo>
                <a:cubicBezTo>
                  <a:pt x="7500" y="18155"/>
                  <a:pt x="4924" y="15596"/>
                  <a:pt x="492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715000" y="4786200"/>
            <a:ext cx="2238480" cy="925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IZABETH  I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41128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619440" cy="4464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027600" cy="295272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8388360" y="6093000"/>
            <a:ext cx="720720" cy="684000"/>
          </a:xfrm>
          <a:custGeom>
            <a:avLst/>
            <a:gdLst>
              <a:gd name="textAreaLeft" fmla="*/ 44280 w 720720"/>
              <a:gd name="textAreaRight" fmla="*/ 676440 w 72072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2759" h="21600">
                <a:moveTo>
                  <a:pt x="0" y="0"/>
                </a:moveTo>
                <a:lnTo>
                  <a:pt x="22759" y="0"/>
                </a:lnTo>
                <a:lnTo>
                  <a:pt x="22759" y="21600"/>
                </a:lnTo>
                <a:lnTo>
                  <a:pt x="0" y="21600"/>
                </a:lnTo>
                <a:close/>
              </a:path>
              <a:path fill="lightenLess" w="22759" h="21600">
                <a:moveTo>
                  <a:pt x="0" y="0"/>
                </a:moveTo>
                <a:lnTo>
                  <a:pt x="22759" y="0"/>
                </a:lnTo>
                <a:lnTo>
                  <a:pt x="21359" y="1400"/>
                </a:lnTo>
                <a:lnTo>
                  <a:pt x="1400" y="1400"/>
                </a:lnTo>
                <a:close/>
              </a:path>
              <a:path fill="darken" w="22759" h="21600">
                <a:moveTo>
                  <a:pt x="22759" y="0"/>
                </a:moveTo>
                <a:lnTo>
                  <a:pt x="22759" y="21600"/>
                </a:lnTo>
                <a:lnTo>
                  <a:pt x="21359" y="20200"/>
                </a:lnTo>
                <a:lnTo>
                  <a:pt x="21359" y="1400"/>
                </a:lnTo>
                <a:close/>
              </a:path>
              <a:path fill="darkenLess" w="22759" h="21600">
                <a:moveTo>
                  <a:pt x="22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9" y="20200"/>
                </a:lnTo>
                <a:close/>
              </a:path>
              <a:path fill="lighten" w="22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9" h="21600">
                <a:moveTo>
                  <a:pt x="4373" y="7493"/>
                </a:moveTo>
                <a:lnTo>
                  <a:pt x="7881" y="7493"/>
                </a:lnTo>
                <a:lnTo>
                  <a:pt x="7881" y="12828"/>
                </a:lnTo>
                <a:cubicBezTo>
                  <a:pt x="7881" y="13751"/>
                  <a:pt x="8681" y="14482"/>
                  <a:pt x="9717" y="14482"/>
                </a:cubicBezTo>
                <a:lnTo>
                  <a:pt x="11379" y="14482"/>
                </a:lnTo>
                <a:cubicBezTo>
                  <a:pt x="12415" y="14482"/>
                  <a:pt x="13216" y="13751"/>
                  <a:pt x="13216" y="12828"/>
                </a:cubicBezTo>
                <a:lnTo>
                  <a:pt x="13216" y="7493"/>
                </a:lnTo>
                <a:lnTo>
                  <a:pt x="11379" y="7493"/>
                </a:lnTo>
                <a:lnTo>
                  <a:pt x="14887" y="3985"/>
                </a:lnTo>
                <a:lnTo>
                  <a:pt x="18560" y="7493"/>
                </a:lnTo>
                <a:lnTo>
                  <a:pt x="16724" y="7493"/>
                </a:lnTo>
                <a:lnTo>
                  <a:pt x="16724" y="12828"/>
                </a:lnTo>
                <a:cubicBezTo>
                  <a:pt x="16724" y="15596"/>
                  <a:pt x="14147" y="18155"/>
                  <a:pt x="11379" y="18155"/>
                </a:cubicBezTo>
                <a:lnTo>
                  <a:pt x="9717" y="18155"/>
                </a:lnTo>
                <a:cubicBezTo>
                  <a:pt x="6949" y="18155"/>
                  <a:pt x="4373" y="15596"/>
                  <a:pt x="437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5516640"/>
            <a:ext cx="2644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a0c"/>
                </a:solidFill>
                <a:latin typeface="Times New Roman"/>
              </a:rPr>
              <a:t>Alan Milne</a:t>
            </a:r>
            <a:r>
              <a:rPr b="0" lang="en-US" sz="2800" spc="-1" strike="noStrike">
                <a:solidFill>
                  <a:srgbClr val="fffa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1882-1956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2720" y="44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innie-the-Poo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92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5560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4392720" cy="32781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37636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850840" cy="2448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82" name="">
            <a:hlinkClick r:id="rId4" action="ppaction://hlinksldjump"/>
          </p:cNvPr>
          <p:cNvSpPr/>
          <p:nvPr/>
        </p:nvSpPr>
        <p:spPr>
          <a:xfrm>
            <a:off x="8388360" y="6173640"/>
            <a:ext cx="755640" cy="684360"/>
          </a:xfrm>
          <a:custGeom>
            <a:avLst/>
            <a:gdLst>
              <a:gd name="textAreaLeft" fmla="*/ 44280 w 755640"/>
              <a:gd name="textAreaRight" fmla="*/ 711360 w 75564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23849" h="21600">
                <a:moveTo>
                  <a:pt x="0" y="0"/>
                </a:moveTo>
                <a:lnTo>
                  <a:pt x="23849" y="0"/>
                </a:lnTo>
                <a:lnTo>
                  <a:pt x="23849" y="21600"/>
                </a:lnTo>
                <a:lnTo>
                  <a:pt x="0" y="21600"/>
                </a:lnTo>
                <a:close/>
              </a:path>
              <a:path fill="lightenLess" w="23849" h="21600">
                <a:moveTo>
                  <a:pt x="0" y="0"/>
                </a:moveTo>
                <a:lnTo>
                  <a:pt x="23849" y="0"/>
                </a:lnTo>
                <a:lnTo>
                  <a:pt x="22449" y="1400"/>
                </a:lnTo>
                <a:lnTo>
                  <a:pt x="1400" y="1400"/>
                </a:lnTo>
                <a:close/>
              </a:path>
              <a:path fill="darken" w="23849" h="21600">
                <a:moveTo>
                  <a:pt x="23849" y="0"/>
                </a:moveTo>
                <a:lnTo>
                  <a:pt x="23849" y="21600"/>
                </a:lnTo>
                <a:lnTo>
                  <a:pt x="22449" y="20200"/>
                </a:lnTo>
                <a:lnTo>
                  <a:pt x="22449" y="1400"/>
                </a:lnTo>
                <a:close/>
              </a:path>
              <a:path fill="darkenLess" w="23849" h="21600">
                <a:moveTo>
                  <a:pt x="23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9" y="20200"/>
                </a:lnTo>
                <a:close/>
              </a:path>
              <a:path fill="lighten" w="23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9" h="21600">
                <a:moveTo>
                  <a:pt x="4918" y="7493"/>
                </a:moveTo>
                <a:lnTo>
                  <a:pt x="8425" y="7493"/>
                </a:lnTo>
                <a:lnTo>
                  <a:pt x="8425" y="12828"/>
                </a:lnTo>
                <a:cubicBezTo>
                  <a:pt x="8425" y="13751"/>
                  <a:pt x="9226" y="14482"/>
                  <a:pt x="10262" y="14482"/>
                </a:cubicBezTo>
                <a:lnTo>
                  <a:pt x="11924" y="14482"/>
                </a:lnTo>
                <a:cubicBezTo>
                  <a:pt x="12960" y="14482"/>
                  <a:pt x="13761" y="13751"/>
                  <a:pt x="13761" y="12828"/>
                </a:cubicBezTo>
                <a:lnTo>
                  <a:pt x="13761" y="7493"/>
                </a:lnTo>
                <a:lnTo>
                  <a:pt x="11924" y="7493"/>
                </a:lnTo>
                <a:lnTo>
                  <a:pt x="15432" y="3985"/>
                </a:lnTo>
                <a:lnTo>
                  <a:pt x="19105" y="7493"/>
                </a:lnTo>
                <a:lnTo>
                  <a:pt x="17268" y="7493"/>
                </a:lnTo>
                <a:lnTo>
                  <a:pt x="17268" y="12828"/>
                </a:lnTo>
                <a:cubicBezTo>
                  <a:pt x="17268" y="15596"/>
                  <a:pt x="14692" y="18155"/>
                  <a:pt x="11924" y="18155"/>
                </a:cubicBezTo>
                <a:lnTo>
                  <a:pt x="10262" y="18155"/>
                </a:lnTo>
                <a:cubicBezTo>
                  <a:pt x="7494" y="18155"/>
                  <a:pt x="4918" y="15596"/>
                  <a:pt x="491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64280" y="543096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t. James’s Pa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248436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258920" y="1052640"/>
            <a:ext cx="2805120" cy="3525840"/>
            <a:chOff x="1258920" y="1052640"/>
            <a:chExt cx="2805120" cy="3525840"/>
          </a:xfrm>
        </p:grpSpPr>
        <p:pic>
          <p:nvPicPr>
            <p:cNvPr id="486" name="" descr=""/>
            <p:cNvPicPr/>
            <p:nvPr/>
          </p:nvPicPr>
          <p:blipFill>
            <a:blip r:embed="rId1"/>
            <a:stretch/>
          </p:blipFill>
          <p:spPr>
            <a:xfrm>
              <a:off x="1258920" y="2975040"/>
              <a:ext cx="2805120" cy="1603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487" name="" descr=""/>
            <p:cNvPicPr/>
            <p:nvPr/>
          </p:nvPicPr>
          <p:blipFill>
            <a:blip r:embed="rId2"/>
            <a:stretch/>
          </p:blipFill>
          <p:spPr>
            <a:xfrm>
              <a:off x="1258920" y="1052640"/>
              <a:ext cx="2805120" cy="19746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3564000" cy="3527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1258920" y="4722840"/>
            <a:ext cx="2808360" cy="151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490" name=""/>
          <p:cNvSpPr txBox="1"/>
          <p:nvPr/>
        </p:nvSpPr>
        <p:spPr>
          <a:xfrm>
            <a:off x="4925880" y="5229360"/>
            <a:ext cx="2238480" cy="61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a0c"/>
                  </a:solidFill>
                  <a:miter/>
                </a:ln>
                <a:solidFill>
                  <a:srgbClr val="fffa0c"/>
                </a:solidFill>
                <a:latin typeface="Times New Roman"/>
              </a:rPr>
              <a:t>The Thames</a:t>
            </a:r>
            <a:endParaRPr b="0" lang="en-US" sz="2400" spc="1" strike="noStrike">
              <a:ln w="9360">
                <a:solidFill>
                  <a:srgbClr val="fffa0c"/>
                </a:solidFill>
                <a:miter/>
              </a:ln>
              <a:solidFill>
                <a:srgbClr val="fffa0c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62040"/>
            <a:ext cx="77724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What colour are the buses and telephone boxes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in Britai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re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ellow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 and blu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lac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4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2340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6956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2495520" y="1557360"/>
            <a:ext cx="42861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at's your score?</a:t>
            </a:r>
            <a:endParaRPr b="0" lang="en-US" sz="24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524720" y="6165720"/>
            <a:ext cx="1224000" cy="432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41128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1368360" cy="8589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33680" y="1052640"/>
            <a:ext cx="20480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E  KE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1700280"/>
            <a:ext cx="5331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39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 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 -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3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4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6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 -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Westminster Abbey i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royal churc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galle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8139240" y="6237360"/>
            <a:ext cx="609480" cy="57636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840" h="21600">
                <a:moveTo>
                  <a:pt x="0" y="0"/>
                </a:moveTo>
                <a:lnTo>
                  <a:pt x="22840" y="0"/>
                </a:lnTo>
                <a:lnTo>
                  <a:pt x="22840" y="21600"/>
                </a:lnTo>
                <a:lnTo>
                  <a:pt x="0" y="21600"/>
                </a:lnTo>
                <a:close/>
              </a:path>
              <a:path fill="lightenLess" w="22840" h="21600">
                <a:moveTo>
                  <a:pt x="0" y="0"/>
                </a:moveTo>
                <a:lnTo>
                  <a:pt x="22840" y="0"/>
                </a:lnTo>
                <a:lnTo>
                  <a:pt x="21440" y="1400"/>
                </a:lnTo>
                <a:lnTo>
                  <a:pt x="1400" y="1400"/>
                </a:lnTo>
                <a:close/>
              </a:path>
              <a:path fill="darken" w="22840" h="21600">
                <a:moveTo>
                  <a:pt x="22840" y="0"/>
                </a:moveTo>
                <a:lnTo>
                  <a:pt x="22840" y="21600"/>
                </a:lnTo>
                <a:lnTo>
                  <a:pt x="21440" y="20200"/>
                </a:lnTo>
                <a:lnTo>
                  <a:pt x="21440" y="1400"/>
                </a:lnTo>
                <a:close/>
              </a:path>
              <a:path fill="darkenLess" w="22840" h="21600">
                <a:moveTo>
                  <a:pt x="2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0" y="20200"/>
                </a:lnTo>
                <a:close/>
              </a:path>
              <a:path fill="lighten" w="2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0" h="21600">
                <a:moveTo>
                  <a:pt x="11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40" h="21600">
                <a:moveTo>
                  <a:pt x="12526" y="14281"/>
                </a:moveTo>
                <a:lnTo>
                  <a:pt x="12526" y="12323"/>
                </a:lnTo>
                <a:cubicBezTo>
                  <a:pt x="12526" y="11496"/>
                  <a:pt x="12856" y="10800"/>
                  <a:pt x="13457" y="10800"/>
                </a:cubicBezTo>
                <a:cubicBezTo>
                  <a:pt x="14588" y="10800"/>
                  <a:pt x="15485" y="9434"/>
                  <a:pt x="15485" y="7849"/>
                </a:cubicBezTo>
                <a:cubicBezTo>
                  <a:pt x="15485" y="5534"/>
                  <a:pt x="13631" y="3794"/>
                  <a:pt x="11420" y="3794"/>
                </a:cubicBezTo>
                <a:cubicBezTo>
                  <a:pt x="9209" y="3794"/>
                  <a:pt x="7538" y="5534"/>
                  <a:pt x="7538" y="7849"/>
                </a:cubicBezTo>
                <a:lnTo>
                  <a:pt x="9392" y="7849"/>
                </a:lnTo>
                <a:cubicBezTo>
                  <a:pt x="9392" y="6709"/>
                  <a:pt x="10315" y="5821"/>
                  <a:pt x="11420" y="5821"/>
                </a:cubicBezTo>
                <a:cubicBezTo>
                  <a:pt x="12526" y="5821"/>
                  <a:pt x="13457" y="6709"/>
                  <a:pt x="13457" y="7849"/>
                </a:cubicBezTo>
                <a:cubicBezTo>
                  <a:pt x="13457" y="8589"/>
                  <a:pt x="12987" y="9320"/>
                  <a:pt x="12526" y="9320"/>
                </a:cubicBezTo>
                <a:cubicBezTo>
                  <a:pt x="11420" y="9320"/>
                  <a:pt x="10315" y="10800"/>
                  <a:pt x="10315" y="12323"/>
                </a:cubicBezTo>
                <a:lnTo>
                  <a:pt x="1031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4360" y="7016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first Englishman in Russia wa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dmiral Nels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Rudyard Kipling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Richard Chancello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William Hogart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22" name="">
            <a:hlinkClick r:id="rId5" action="ppaction://hlinksldjump"/>
          </p:cNvPr>
          <p:cNvSpPr/>
          <p:nvPr/>
        </p:nvSpPr>
        <p:spPr>
          <a:xfrm>
            <a:off x="8170920" y="6210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8" h="21600">
                <a:moveTo>
                  <a:pt x="11929" y="14281"/>
                </a:moveTo>
                <a:lnTo>
                  <a:pt x="11929" y="12323"/>
                </a:lnTo>
                <a:cubicBezTo>
                  <a:pt x="11929" y="11496"/>
                  <a:pt x="12260" y="10800"/>
                  <a:pt x="12861" y="10800"/>
                </a:cubicBezTo>
                <a:cubicBezTo>
                  <a:pt x="13992" y="10800"/>
                  <a:pt x="14889" y="9434"/>
                  <a:pt x="14889" y="7849"/>
                </a:cubicBezTo>
                <a:cubicBezTo>
                  <a:pt x="14889" y="5534"/>
                  <a:pt x="13035" y="3794"/>
                  <a:pt x="10824" y="3794"/>
                </a:cubicBezTo>
                <a:cubicBezTo>
                  <a:pt x="8613" y="3794"/>
                  <a:pt x="6942" y="5534"/>
                  <a:pt x="6942" y="7849"/>
                </a:cubicBezTo>
                <a:lnTo>
                  <a:pt x="8796" y="7849"/>
                </a:lnTo>
                <a:cubicBezTo>
                  <a:pt x="8796" y="6709"/>
                  <a:pt x="9719" y="5821"/>
                  <a:pt x="10824" y="5821"/>
                </a:cubicBezTo>
                <a:cubicBezTo>
                  <a:pt x="11929" y="5821"/>
                  <a:pt x="12861" y="6709"/>
                  <a:pt x="12861" y="7849"/>
                </a:cubicBezTo>
                <a:cubicBezTo>
                  <a:pt x="12861" y="8589"/>
                  <a:pt x="12391" y="9320"/>
                  <a:pt x="11929" y="9320"/>
                </a:cubicBezTo>
                <a:cubicBezTo>
                  <a:pt x="10824" y="9320"/>
                  <a:pt x="9719" y="10800"/>
                  <a:pt x="9719" y="12323"/>
                </a:cubicBezTo>
                <a:lnTo>
                  <a:pt x="971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54144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gatha Christie wrote</a:t>
            </a:r>
            <a:r>
              <a:rPr b="0" lang="en-US" sz="6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…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detective stories</a:t>
            </a:r>
            <a:r>
              <a:rPr b="0" lang="ru-RU" sz="32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5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6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75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26" name="">
            <a:hlinkClick r:id="rId5" action="ppaction://hlinksldjump"/>
          </p:cNvPr>
          <p:cNvSpPr/>
          <p:nvPr/>
        </p:nvSpPr>
        <p:spPr>
          <a:xfrm>
            <a:off x="8172360" y="6237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symbol of England i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shamroc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daffodil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ros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thistle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8170920" y="6210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8" h="21600">
                <a:moveTo>
                  <a:pt x="11929" y="14281"/>
                </a:moveTo>
                <a:lnTo>
                  <a:pt x="11929" y="12323"/>
                </a:lnTo>
                <a:cubicBezTo>
                  <a:pt x="11929" y="11496"/>
                  <a:pt x="12260" y="10800"/>
                  <a:pt x="12861" y="10800"/>
                </a:cubicBezTo>
                <a:cubicBezTo>
                  <a:pt x="13992" y="10800"/>
                  <a:pt x="14889" y="9434"/>
                  <a:pt x="14889" y="7849"/>
                </a:cubicBezTo>
                <a:cubicBezTo>
                  <a:pt x="14889" y="5534"/>
                  <a:pt x="13035" y="3794"/>
                  <a:pt x="10824" y="3794"/>
                </a:cubicBezTo>
                <a:cubicBezTo>
                  <a:pt x="8613" y="3794"/>
                  <a:pt x="6942" y="5534"/>
                  <a:pt x="6942" y="7849"/>
                </a:cubicBezTo>
                <a:lnTo>
                  <a:pt x="8796" y="7849"/>
                </a:lnTo>
                <a:cubicBezTo>
                  <a:pt x="8796" y="6709"/>
                  <a:pt x="9719" y="5821"/>
                  <a:pt x="10824" y="5821"/>
                </a:cubicBezTo>
                <a:cubicBezTo>
                  <a:pt x="11929" y="5821"/>
                  <a:pt x="12861" y="6709"/>
                  <a:pt x="12861" y="7849"/>
                </a:cubicBezTo>
                <a:cubicBezTo>
                  <a:pt x="12861" y="8589"/>
                  <a:pt x="12391" y="9320"/>
                  <a:pt x="11929" y="9320"/>
                </a:cubicBezTo>
                <a:cubicBezTo>
                  <a:pt x="10824" y="9320"/>
                  <a:pt x="9719" y="10800"/>
                  <a:pt x="9719" y="12323"/>
                </a:cubicBezTo>
                <a:lnTo>
                  <a:pt x="971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He was a film actor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thur Conan Doyl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harlie Chapli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saak Newto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lexander Bel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4" name="">
            <a:hlinkClick r:id="rId5" action="ppaction://hlinksldjump"/>
          </p:cNvPr>
          <p:cNvSpPr/>
          <p:nvPr/>
        </p:nvSpPr>
        <p:spPr>
          <a:xfrm>
            <a:off x="8101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09-02-14T16:21:01Z</dcterms:modified>
  <cp:revision>413</cp:revision>
  <dc:subject/>
  <dc:title>PowerPoint Presentation</dc:title>
</cp:coreProperties>
</file>