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2.jpeg" ContentType="image/jpeg"/>
  <Override PartName="/ppt/media/image21.jpeg" ContentType="image/jpeg"/>
  <Override PartName="/ppt/media/image36.gif" ContentType="image/gif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3.jpeg" ContentType="image/jpeg"/>
  <Override PartName="/ppt/media/image40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7.png" ContentType="image/png"/>
  <Override PartName="/ppt/media/image33.jpeg" ContentType="image/jpeg"/>
  <Override PartName="/ppt/media/image1.gif" ContentType="image/gif"/>
  <Override PartName="/ppt/media/image11.jpeg" ContentType="image/jpeg"/>
  <Override PartName="/ppt/media/image4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41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6.jpeg" ContentType="image/jpeg"/>
  <Override PartName="/ppt/media/type.wav" ContentType="audio/x-wav"/>
  <Override PartName="/ppt/media/image45.jpeg" ContentType="image/jpeg"/>
  <Override PartName="/ppt/media/image55.png" ContentType="image/png"/>
  <Override PartName="/ppt/media/image34.jpeg" ContentType="image/jpeg"/>
  <Override PartName="/ppt/media/image28.jpeg" ContentType="image/jpeg"/>
  <Override PartName="/ppt/media/image47.jpeg" ContentType="image/jpeg"/>
  <Override PartName="/ppt/media/image50.jpeg" ContentType="image/jpeg"/>
  <Override PartName="/ppt/media/image48.jpeg" ContentType="image/jpeg"/>
  <Override PartName="/ppt/media/image53.png" ContentType="image/png"/>
  <Override PartName="/ppt/media/image54.jpeg" ContentType="image/jpeg"/>
  <Override PartName="/ppt/media/image49.jpeg" ContentType="image/jpeg"/>
  <Override PartName="/ppt/media/image20.jpeg" ContentType="image/jpeg"/>
  <Override PartName="/ppt/media/image51.png" ContentType="image/png"/>
  <Override PartName="/ppt/media/image31.png" ContentType="image/png"/>
  <Override PartName="/ppt/media/image30.jpeg" ContentType="image/jpeg"/>
  <Override PartName="/ppt/media/image52.jpeg" ContentType="image/jpeg"/>
  <Override PartName="/ppt/media/image29.jpeg" ContentType="image/jpeg"/>
  <Override PartName="/ppt/media/image9.jpeg" ContentType="image/jpeg"/>
  <Override PartName="/ppt/media/image7.jpeg" ContentType="image/jpeg"/>
  <Override PartName="/ppt/media/image35.gif" ContentType="image/gif"/>
  <Override PartName="/ppt/media/image39.jpeg" ContentType="image/jpeg"/>
  <Override PartName="/ppt/media/image8.png" ContentType="image/png"/>
  <Override PartName="/ppt/media/image38.png" ContentType="image/png"/>
  <Override PartName="/ppt/media/image17.png" ContentType="image/png"/>
  <Override PartName="/ppt/media/image3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3"/>
          </p:nvPr>
        </p:nvSpPr>
        <p:spPr>
          <a:xfrm>
            <a:off x="388620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84848-6222-479E-A421-819689861F9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5CBFC-DA84-4553-B4F1-B3B6B6EC713A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Расположить в порядке возраст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D678D-1C3A-4A11-9707-2EBFD4BAE6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440" y="428112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C3256-9885-482F-BD59-C0D17DEF8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6680" y="21333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440" y="428112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6680" y="428112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6945-1DA6-4441-88A4-F15D46167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2000" y="213336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38920" y="213336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440" y="428112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2000" y="428112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38920" y="428112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D0F98-0FBF-47D0-96C8-C11C7BCF8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A54BF-42D5-4F40-9D14-5BA13916CF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440" y="213336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11EA7-32E5-49B5-85DE-1C1C317B82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1E882-9626-4F52-83EA-3FAA79B52B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6680" y="213336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B480F-BD4C-4FFF-BF4F-E5F301B9CE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3B33B-E773-4315-9F96-512825EFE7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440" y="692280"/>
            <a:ext cx="7769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0E928-0088-4D39-A467-6581DE341E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213336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440" y="428112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CB33C-AE75-42DB-A5DF-D1E35B63B1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440" y="213336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016D9-46BB-4D53-A5F1-68EEA1D9C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6680" y="21333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6680" y="428112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CA3A3-FA9A-4822-BE97-AAE7C3C00F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6680" y="21333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440" y="428112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C0A13-D819-4477-9803-3509CA0B86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440" y="428112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EF0E8-4A58-4AD6-B237-2C05F0DA19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6680" y="21333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440" y="428112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6680" y="428112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CE9A1-7F3A-4974-BF04-4B549CE114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2000" y="213336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38920" y="213336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440" y="428112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2000" y="428112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38920" y="4281120"/>
            <a:ext cx="2501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958C2-E79F-49CA-A970-30568E7613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0EBAB-1A38-4D92-8E5B-5E88A5E02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213336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9BD42-72DB-4E22-B992-241300FA1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FB0B7-3A6C-4986-9552-406E08A0F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440" y="692280"/>
            <a:ext cx="7769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63CCD-DED4-4278-8BEC-551831C317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6680" y="213336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440" y="428112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6AD92-F881-4D2B-B0AF-06CCAF41E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791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680" y="21333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6680" y="428112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781B1-11A5-44DA-8378-1B6D654B32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6680" y="2133360"/>
            <a:ext cx="3791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440" y="4281120"/>
            <a:ext cx="77691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0F3BE-7B09-4D24-94F9-D949CD968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0760" cy="6854760"/>
              <a:chOff x="0" y="0"/>
              <a:chExt cx="9140760" cy="6854760"/>
            </a:xfrm>
          </p:grpSpPr>
          <p:sp>
            <p:nvSpPr>
              <p:cNvPr id="2" name=""/>
              <p:cNvSpPr/>
              <p:nvPr/>
            </p:nvSpPr>
            <p:spPr>
              <a:xfrm>
                <a:off x="8381880" y="762120"/>
                <a:ext cx="530280" cy="213048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0"/>
                <a:ext cx="8988480" cy="14940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0"/>
                <a:ext cx="225360" cy="685476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0"/>
                <a:ext cx="225360" cy="685476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" y="762120"/>
                <a:ext cx="530280" cy="213048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2600" y="50760"/>
                <a:ext cx="9083520" cy="961920"/>
                <a:chOff x="12600" y="50760"/>
                <a:chExt cx="9083520" cy="96192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88920" y="50760"/>
                  <a:ext cx="8951760" cy="7588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93840" y="88920"/>
                  <a:ext cx="8302320" cy="8568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"/>
                <p:cNvGrpSpPr/>
                <p:nvPr/>
              </p:nvGrpSpPr>
              <p:grpSpPr>
                <a:xfrm>
                  <a:off x="431640" y="635040"/>
                  <a:ext cx="8264160" cy="176040"/>
                  <a:chOff x="431640" y="635040"/>
                  <a:chExt cx="8264160" cy="17604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 flipH="1">
                    <a:off x="8333640" y="642960"/>
                    <a:ext cx="361800" cy="16524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431640" y="646200"/>
                    <a:ext cx="362160" cy="16488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"/>
                  <p:cNvGrpSpPr/>
                  <p:nvPr/>
                </p:nvGrpSpPr>
                <p:grpSpPr>
                  <a:xfrm>
                    <a:off x="743040" y="635040"/>
                    <a:ext cx="7635960" cy="176040"/>
                    <a:chOff x="743040" y="635040"/>
                    <a:chExt cx="7635960" cy="176040"/>
                  </a:xfrm>
                </p:grpSpPr>
                <p:grpSp>
                  <p:nvGrpSpPr>
                    <p:cNvPr id="14" name=""/>
                    <p:cNvGrpSpPr/>
                    <p:nvPr/>
                  </p:nvGrpSpPr>
                  <p:grpSpPr>
                    <a:xfrm>
                      <a:off x="743040" y="636480"/>
                      <a:ext cx="4645080" cy="174600"/>
                      <a:chOff x="743040" y="636480"/>
                      <a:chExt cx="4645080" cy="174600"/>
                    </a:xfrm>
                  </p:grpSpPr>
                  <p:grpSp>
                    <p:nvGrpSpPr>
                      <p:cNvPr id="15" name=""/>
                      <p:cNvGrpSpPr/>
                      <p:nvPr/>
                    </p:nvGrpSpPr>
                    <p:grpSpPr>
                      <a:xfrm>
                        <a:off x="743040" y="636480"/>
                        <a:ext cx="660240" cy="174600"/>
                        <a:chOff x="743040" y="636480"/>
                        <a:chExt cx="660240" cy="174600"/>
                      </a:xfrm>
                    </p:grpSpPr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>
                          <a:off x="743040" y="636480"/>
                          <a:ext cx="33156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>
                          <a:off x="1071720" y="636480"/>
                          <a:ext cx="33156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"/>
                      <p:cNvGrpSpPr/>
                      <p:nvPr/>
                    </p:nvGrpSpPr>
                    <p:grpSpPr>
                      <a:xfrm>
                        <a:off x="1406520" y="636480"/>
                        <a:ext cx="660240" cy="174600"/>
                        <a:chOff x="1406520" y="636480"/>
                        <a:chExt cx="660240" cy="174600"/>
                      </a:xfrm>
                    </p:grpSpPr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>
                          <a:off x="1406520" y="6364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>
                          <a:off x="1735200" y="636480"/>
                          <a:ext cx="33156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"/>
                      <p:cNvGrpSpPr/>
                      <p:nvPr/>
                    </p:nvGrpSpPr>
                    <p:grpSpPr>
                      <a:xfrm>
                        <a:off x="2070000" y="636480"/>
                        <a:ext cx="660600" cy="174600"/>
                        <a:chOff x="2070000" y="636480"/>
                        <a:chExt cx="660600" cy="174600"/>
                      </a:xfrm>
                    </p:grpSpPr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>
                          <a:off x="2070000" y="6364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>
                          <a:off x="2398680" y="6364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"/>
                      <p:cNvGrpSpPr/>
                      <p:nvPr/>
                    </p:nvGrpSpPr>
                    <p:grpSpPr>
                      <a:xfrm>
                        <a:off x="2735280" y="636480"/>
                        <a:ext cx="660240" cy="174600"/>
                        <a:chOff x="2735280" y="636480"/>
                        <a:chExt cx="660240" cy="174600"/>
                      </a:xfrm>
                    </p:grpSpPr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>
                          <a:off x="2735280" y="6364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>
                          <a:off x="3063960" y="636480"/>
                          <a:ext cx="33156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"/>
                      <p:cNvGrpSpPr/>
                      <p:nvPr/>
                    </p:nvGrpSpPr>
                    <p:grpSpPr>
                      <a:xfrm>
                        <a:off x="3398760" y="636480"/>
                        <a:ext cx="660600" cy="174600"/>
                        <a:chOff x="3398760" y="636480"/>
                        <a:chExt cx="660600" cy="174600"/>
                      </a:xfrm>
                    </p:grpSpPr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>
                          <a:off x="3398760" y="6364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>
                          <a:off x="3727440" y="6364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"/>
                      <p:cNvGrpSpPr/>
                      <p:nvPr/>
                    </p:nvGrpSpPr>
                    <p:grpSpPr>
                      <a:xfrm>
                        <a:off x="4062240" y="636480"/>
                        <a:ext cx="660240" cy="174600"/>
                        <a:chOff x="4062240" y="636480"/>
                        <a:chExt cx="660240" cy="174600"/>
                      </a:xfrm>
                    </p:grpSpPr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4062240" y="636480"/>
                          <a:ext cx="33264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4389840" y="636480"/>
                          <a:ext cx="33264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"/>
                      <p:cNvGrpSpPr/>
                      <p:nvPr/>
                    </p:nvGrpSpPr>
                    <p:grpSpPr>
                      <a:xfrm>
                        <a:off x="4727520" y="636480"/>
                        <a:ext cx="660600" cy="174600"/>
                        <a:chOff x="4727520" y="636480"/>
                        <a:chExt cx="660600" cy="174600"/>
                      </a:xfrm>
                    </p:grpSpPr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4727520" y="6364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5056200" y="6364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"/>
                    <p:cNvGrpSpPr/>
                    <p:nvPr/>
                  </p:nvGrpSpPr>
                  <p:grpSpPr>
                    <a:xfrm>
                      <a:off x="5391000" y="635040"/>
                      <a:ext cx="660600" cy="174600"/>
                      <a:chOff x="5391000" y="635040"/>
                      <a:chExt cx="660600" cy="174600"/>
                    </a:xfrm>
                  </p:grpSpPr>
                  <p:sp>
                    <p:nvSpPr>
                      <p:cNvPr id="37" name=""/>
                      <p:cNvSpPr/>
                      <p:nvPr/>
                    </p:nvSpPr>
                    <p:spPr>
                      <a:xfrm>
                        <a:off x="5391000" y="635040"/>
                        <a:ext cx="331920" cy="17460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"/>
                      <p:cNvSpPr/>
                      <p:nvPr/>
                    </p:nvSpPr>
                    <p:spPr>
                      <a:xfrm>
                        <a:off x="5719680" y="635040"/>
                        <a:ext cx="331920" cy="17460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"/>
                    <p:cNvGrpSpPr/>
                    <p:nvPr/>
                  </p:nvGrpSpPr>
                  <p:grpSpPr>
                    <a:xfrm>
                      <a:off x="6054840" y="635040"/>
                      <a:ext cx="662040" cy="174600"/>
                      <a:chOff x="6054840" y="635040"/>
                      <a:chExt cx="662040" cy="174600"/>
                    </a:xfrm>
                  </p:grpSpPr>
                  <p:sp>
                    <p:nvSpPr>
                      <p:cNvPr id="40" name=""/>
                      <p:cNvSpPr/>
                      <p:nvPr/>
                    </p:nvSpPr>
                    <p:spPr>
                      <a:xfrm>
                        <a:off x="6054840" y="635040"/>
                        <a:ext cx="333360" cy="17460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"/>
                      <p:cNvSpPr/>
                      <p:nvPr/>
                    </p:nvSpPr>
                    <p:spPr>
                      <a:xfrm>
                        <a:off x="6383160" y="635040"/>
                        <a:ext cx="333720" cy="17460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"/>
                    <p:cNvGrpSpPr/>
                    <p:nvPr/>
                  </p:nvGrpSpPr>
                  <p:grpSpPr>
                    <a:xfrm>
                      <a:off x="6719760" y="635040"/>
                      <a:ext cx="660600" cy="174600"/>
                      <a:chOff x="6719760" y="635040"/>
                      <a:chExt cx="660600" cy="174600"/>
                    </a:xfrm>
                  </p:grpSpPr>
                  <p:sp>
                    <p:nvSpPr>
                      <p:cNvPr id="43" name=""/>
                      <p:cNvSpPr/>
                      <p:nvPr/>
                    </p:nvSpPr>
                    <p:spPr>
                      <a:xfrm>
                        <a:off x="6719760" y="635040"/>
                        <a:ext cx="331920" cy="17460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"/>
                      <p:cNvSpPr/>
                      <p:nvPr/>
                    </p:nvSpPr>
                    <p:spPr>
                      <a:xfrm>
                        <a:off x="7048440" y="635040"/>
                        <a:ext cx="331920" cy="17460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"/>
                    <p:cNvGrpSpPr/>
                    <p:nvPr/>
                  </p:nvGrpSpPr>
                  <p:grpSpPr>
                    <a:xfrm>
                      <a:off x="7383600" y="635040"/>
                      <a:ext cx="660240" cy="174600"/>
                      <a:chOff x="7383600" y="635040"/>
                      <a:chExt cx="660240" cy="174600"/>
                    </a:xfrm>
                  </p:grpSpPr>
                  <p:sp>
                    <p:nvSpPr>
                      <p:cNvPr id="46" name=""/>
                      <p:cNvSpPr/>
                      <p:nvPr/>
                    </p:nvSpPr>
                    <p:spPr>
                      <a:xfrm>
                        <a:off x="7383600" y="635040"/>
                        <a:ext cx="331560" cy="17460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"/>
                      <p:cNvSpPr/>
                      <p:nvPr/>
                    </p:nvSpPr>
                    <p:spPr>
                      <a:xfrm>
                        <a:off x="7711920" y="635040"/>
                        <a:ext cx="331920" cy="17460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"/>
                    <p:cNvSpPr/>
                    <p:nvPr/>
                  </p:nvSpPr>
                  <p:spPr>
                    <a:xfrm>
                      <a:off x="8047080" y="635040"/>
                      <a:ext cx="331920" cy="174600"/>
                    </a:xfrm>
                    <a:prstGeom prst="pie">
                      <a:avLst/>
                    </a:pr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"/>
                <p:cNvGrpSpPr/>
                <p:nvPr/>
              </p:nvGrpSpPr>
              <p:grpSpPr>
                <a:xfrm>
                  <a:off x="415800" y="633240"/>
                  <a:ext cx="8264160" cy="176400"/>
                  <a:chOff x="415800" y="633240"/>
                  <a:chExt cx="8264160" cy="17640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 flipH="1">
                    <a:off x="8317800" y="641520"/>
                    <a:ext cx="361800" cy="16488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415800" y="644400"/>
                    <a:ext cx="362160" cy="16524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"/>
                  <p:cNvGrpSpPr/>
                  <p:nvPr/>
                </p:nvGrpSpPr>
                <p:grpSpPr>
                  <a:xfrm>
                    <a:off x="727200" y="633240"/>
                    <a:ext cx="7635600" cy="176400"/>
                    <a:chOff x="727200" y="633240"/>
                    <a:chExt cx="7635600" cy="176400"/>
                  </a:xfrm>
                </p:grpSpPr>
                <p:grpSp>
                  <p:nvGrpSpPr>
                    <p:cNvPr id="53" name=""/>
                    <p:cNvGrpSpPr/>
                    <p:nvPr/>
                  </p:nvGrpSpPr>
                  <p:grpSpPr>
                    <a:xfrm>
                      <a:off x="727200" y="635040"/>
                      <a:ext cx="4645080" cy="174600"/>
                      <a:chOff x="727200" y="635040"/>
                      <a:chExt cx="4645080" cy="174600"/>
                    </a:xfrm>
                  </p:grpSpPr>
                  <p:grpSp>
                    <p:nvGrpSpPr>
                      <p:cNvPr id="54" name=""/>
                      <p:cNvGrpSpPr/>
                      <p:nvPr/>
                    </p:nvGrpSpPr>
                    <p:grpSpPr>
                      <a:xfrm>
                        <a:off x="727200" y="635040"/>
                        <a:ext cx="660240" cy="174600"/>
                        <a:chOff x="727200" y="635040"/>
                        <a:chExt cx="660240" cy="174600"/>
                      </a:xfrm>
                    </p:grpSpPr>
                    <p:sp>
                      <p:nvSpPr>
                        <p:cNvPr id="55" name=""/>
                        <p:cNvSpPr/>
                        <p:nvPr/>
                      </p:nvSpPr>
                      <p:spPr>
                        <a:xfrm>
                          <a:off x="727200" y="635040"/>
                          <a:ext cx="33156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"/>
                        <p:cNvSpPr/>
                        <p:nvPr/>
                      </p:nvSpPr>
                      <p:spPr>
                        <a:xfrm>
                          <a:off x="1055520" y="63504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"/>
                      <p:cNvGrpSpPr/>
                      <p:nvPr/>
                    </p:nvGrpSpPr>
                    <p:grpSpPr>
                      <a:xfrm>
                        <a:off x="1390680" y="635040"/>
                        <a:ext cx="660240" cy="174600"/>
                        <a:chOff x="1390680" y="635040"/>
                        <a:chExt cx="660240" cy="174600"/>
                      </a:xfrm>
                    </p:grpSpPr>
                    <p:sp>
                      <p:nvSpPr>
                        <p:cNvPr id="58" name=""/>
                        <p:cNvSpPr/>
                        <p:nvPr/>
                      </p:nvSpPr>
                      <p:spPr>
                        <a:xfrm>
                          <a:off x="1390680" y="63504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"/>
                        <p:cNvSpPr/>
                        <p:nvPr/>
                      </p:nvSpPr>
                      <p:spPr>
                        <a:xfrm>
                          <a:off x="1719360" y="635040"/>
                          <a:ext cx="33156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"/>
                      <p:cNvGrpSpPr/>
                      <p:nvPr/>
                    </p:nvGrpSpPr>
                    <p:grpSpPr>
                      <a:xfrm>
                        <a:off x="2054160" y="635040"/>
                        <a:ext cx="660600" cy="174600"/>
                        <a:chOff x="2054160" y="635040"/>
                        <a:chExt cx="660600" cy="174600"/>
                      </a:xfrm>
                    </p:grpSpPr>
                    <p:sp>
                      <p:nvSpPr>
                        <p:cNvPr id="61" name=""/>
                        <p:cNvSpPr/>
                        <p:nvPr/>
                      </p:nvSpPr>
                      <p:spPr>
                        <a:xfrm>
                          <a:off x="2054160" y="63504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>
                          <a:off x="2382840" y="63504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"/>
                      <p:cNvGrpSpPr/>
                      <p:nvPr/>
                    </p:nvGrpSpPr>
                    <p:grpSpPr>
                      <a:xfrm>
                        <a:off x="2719440" y="635040"/>
                        <a:ext cx="660240" cy="174600"/>
                        <a:chOff x="2719440" y="635040"/>
                        <a:chExt cx="660240" cy="174600"/>
                      </a:xfrm>
                    </p:grpSpPr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>
                          <a:off x="2719440" y="635040"/>
                          <a:ext cx="33156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>
                          <a:off x="3048120" y="635040"/>
                          <a:ext cx="33156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"/>
                      <p:cNvGrpSpPr/>
                      <p:nvPr/>
                    </p:nvGrpSpPr>
                    <p:grpSpPr>
                      <a:xfrm>
                        <a:off x="3382920" y="635040"/>
                        <a:ext cx="660600" cy="174600"/>
                        <a:chOff x="3382920" y="635040"/>
                        <a:chExt cx="660600" cy="174600"/>
                      </a:xfrm>
                    </p:grpSpPr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>
                          <a:off x="3382920" y="63504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>
                          <a:off x="3711600" y="63504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"/>
                      <p:cNvGrpSpPr/>
                      <p:nvPr/>
                    </p:nvGrpSpPr>
                    <p:grpSpPr>
                      <a:xfrm>
                        <a:off x="4046400" y="635040"/>
                        <a:ext cx="660240" cy="174600"/>
                        <a:chOff x="4046400" y="635040"/>
                        <a:chExt cx="660240" cy="174600"/>
                      </a:xfrm>
                    </p:grpSpPr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>
                          <a:off x="4046400" y="635040"/>
                          <a:ext cx="33264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4374360" y="635040"/>
                          <a:ext cx="33228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"/>
                      <p:cNvGrpSpPr/>
                      <p:nvPr/>
                    </p:nvGrpSpPr>
                    <p:grpSpPr>
                      <a:xfrm>
                        <a:off x="4711680" y="635040"/>
                        <a:ext cx="660600" cy="174600"/>
                        <a:chOff x="4711680" y="635040"/>
                        <a:chExt cx="660600" cy="174600"/>
                      </a:xfrm>
                    </p:grpSpPr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4711680" y="63504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5040360" y="63504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"/>
                    <p:cNvGrpSpPr/>
                    <p:nvPr/>
                  </p:nvGrpSpPr>
                  <p:grpSpPr>
                    <a:xfrm>
                      <a:off x="5375160" y="633240"/>
                      <a:ext cx="660600" cy="174960"/>
                      <a:chOff x="5375160" y="633240"/>
                      <a:chExt cx="660600" cy="174960"/>
                    </a:xfrm>
                  </p:grpSpPr>
                  <p:sp>
                    <p:nvSpPr>
                      <p:cNvPr id="76" name=""/>
                      <p:cNvSpPr/>
                      <p:nvPr/>
                    </p:nvSpPr>
                    <p:spPr>
                      <a:xfrm>
                        <a:off x="5375160" y="633240"/>
                        <a:ext cx="331920" cy="17496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"/>
                      <p:cNvSpPr/>
                      <p:nvPr/>
                    </p:nvSpPr>
                    <p:spPr>
                      <a:xfrm>
                        <a:off x="5703840" y="633240"/>
                        <a:ext cx="331920" cy="17496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"/>
                    <p:cNvGrpSpPr/>
                    <p:nvPr/>
                  </p:nvGrpSpPr>
                  <p:grpSpPr>
                    <a:xfrm>
                      <a:off x="6039000" y="633240"/>
                      <a:ext cx="661680" cy="174960"/>
                      <a:chOff x="6039000" y="633240"/>
                      <a:chExt cx="661680" cy="174960"/>
                    </a:xfrm>
                  </p:grpSpPr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6039000" y="633240"/>
                        <a:ext cx="333360" cy="17496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6367320" y="633240"/>
                        <a:ext cx="333360" cy="17496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"/>
                    <p:cNvGrpSpPr/>
                    <p:nvPr/>
                  </p:nvGrpSpPr>
                  <p:grpSpPr>
                    <a:xfrm>
                      <a:off x="6703920" y="633240"/>
                      <a:ext cx="660600" cy="174960"/>
                      <a:chOff x="6703920" y="633240"/>
                      <a:chExt cx="660600" cy="174960"/>
                    </a:xfrm>
                  </p:grpSpPr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6703920" y="633240"/>
                        <a:ext cx="331920" cy="17496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"/>
                      <p:cNvSpPr/>
                      <p:nvPr/>
                    </p:nvSpPr>
                    <p:spPr>
                      <a:xfrm>
                        <a:off x="7032600" y="633240"/>
                        <a:ext cx="331920" cy="17496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7367760" y="633240"/>
                      <a:ext cx="660240" cy="174960"/>
                      <a:chOff x="7367760" y="633240"/>
                      <a:chExt cx="660240" cy="174960"/>
                    </a:xfrm>
                  </p:grpSpPr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7367760" y="633240"/>
                        <a:ext cx="331560" cy="17496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7696080" y="633240"/>
                        <a:ext cx="331920" cy="17496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8031240" y="633240"/>
                      <a:ext cx="331560" cy="174960"/>
                    </a:xfrm>
                    <a:prstGeom prst="pie">
                      <a:avLst/>
                    </a:pr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12600" y="50760"/>
                  <a:ext cx="898560" cy="961920"/>
                  <a:chOff x="12600" y="50760"/>
                  <a:chExt cx="898560" cy="96192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31680" y="85680"/>
                    <a:ext cx="879480" cy="92700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12600" y="50760"/>
                    <a:ext cx="879480" cy="92700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 flipH="1">
                  <a:off x="8216280" y="85680"/>
                  <a:ext cx="879480" cy="927000"/>
                </a:xfrm>
                <a:prstGeom prst="pie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8197200" y="50760"/>
                  <a:ext cx="879480" cy="927000"/>
                </a:xfrm>
                <a:prstGeom prst="pie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3840" y="50760"/>
                  <a:ext cx="8302320" cy="8568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762120" y="804960"/>
              <a:ext cx="7594560" cy="301680"/>
            </a:xfrm>
            <a:prstGeom prst="rect">
              <a:avLst/>
            </a:prstGeom>
            <a:gradFill rotWithShape="0">
              <a:gsLst>
                <a:gs pos="0">
                  <a:srgbClr val="88826c"/>
                </a:gs>
                <a:gs pos="100000">
                  <a:srgbClr val="6e69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440" y="213336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632160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32160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1"/>
          </p:nvPr>
        </p:nvSpPr>
        <p:spPr>
          <a:xfrm>
            <a:off x="6552720" y="6319440"/>
            <a:ext cx="19018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2A0D2-881C-40B4-B9C9-2401867E73E9}" type="slidenum"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895480"/>
            <a:ext cx="9140760" cy="3959280"/>
            <a:chOff x="0" y="2895480"/>
            <a:chExt cx="9140760" cy="3959280"/>
          </a:xfrm>
        </p:grpSpPr>
        <p:grpSp>
          <p:nvGrpSpPr>
            <p:cNvPr id="137" name=""/>
            <p:cNvGrpSpPr/>
            <p:nvPr/>
          </p:nvGrpSpPr>
          <p:grpSpPr>
            <a:xfrm>
              <a:off x="0" y="2895480"/>
              <a:ext cx="9140760" cy="3959280"/>
              <a:chOff x="0" y="2895480"/>
              <a:chExt cx="9140760" cy="3959280"/>
            </a:xfrm>
          </p:grpSpPr>
          <p:sp>
            <p:nvSpPr>
              <p:cNvPr id="138" name=""/>
              <p:cNvSpPr/>
              <p:nvPr/>
            </p:nvSpPr>
            <p:spPr>
              <a:xfrm>
                <a:off x="8381880" y="5181480"/>
                <a:ext cx="530280" cy="167328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8600" y="5181480"/>
                <a:ext cx="530280" cy="167328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381880" y="3962520"/>
                <a:ext cx="530280" cy="167328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895480"/>
                <a:ext cx="9140760" cy="454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3276720"/>
                <a:ext cx="225360" cy="357804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3352680"/>
                <a:ext cx="225360" cy="35020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8600" y="3962520"/>
                <a:ext cx="530280" cy="167328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2600" y="3225960"/>
                <a:ext cx="9083520" cy="961920"/>
                <a:chOff x="12600" y="3225960"/>
                <a:chExt cx="9083520" cy="9619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88920" y="3225960"/>
                  <a:ext cx="8951760" cy="758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3840" y="3263760"/>
                  <a:ext cx="8302320" cy="8604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"/>
                <p:cNvGrpSpPr/>
                <p:nvPr/>
              </p:nvGrpSpPr>
              <p:grpSpPr>
                <a:xfrm>
                  <a:off x="431640" y="3809880"/>
                  <a:ext cx="8264160" cy="176400"/>
                  <a:chOff x="431640" y="3809880"/>
                  <a:chExt cx="8264160" cy="1764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>
                    <a:off x="8333640" y="3817800"/>
                    <a:ext cx="361800" cy="16524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31640" y="3821040"/>
                    <a:ext cx="362160" cy="16524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743040" y="3809880"/>
                    <a:ext cx="7635960" cy="176400"/>
                    <a:chOff x="743040" y="3809880"/>
                    <a:chExt cx="7635960" cy="176400"/>
                  </a:xfrm>
                </p:grpSpPr>
                <p:grpSp>
                  <p:nvGrpSpPr>
                    <p:cNvPr id="152" name=""/>
                    <p:cNvGrpSpPr/>
                    <p:nvPr/>
                  </p:nvGrpSpPr>
                  <p:grpSpPr>
                    <a:xfrm>
                      <a:off x="743040" y="3811680"/>
                      <a:ext cx="4638600" cy="174600"/>
                      <a:chOff x="743040" y="3811680"/>
                      <a:chExt cx="4638600" cy="174600"/>
                    </a:xfrm>
                  </p:grpSpPr>
                  <p:grpSp>
                    <p:nvGrpSpPr>
                      <p:cNvPr id="153" name=""/>
                      <p:cNvGrpSpPr/>
                      <p:nvPr/>
                    </p:nvGrpSpPr>
                    <p:grpSpPr>
                      <a:xfrm>
                        <a:off x="743040" y="3811680"/>
                        <a:ext cx="658800" cy="174600"/>
                        <a:chOff x="743040" y="3811680"/>
                        <a:chExt cx="658800" cy="174600"/>
                      </a:xfrm>
                    </p:grpSpPr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743040" y="3811680"/>
                          <a:ext cx="33156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"/>
                        <p:cNvSpPr/>
                        <p:nvPr/>
                      </p:nvSpPr>
                      <p:spPr>
                        <a:xfrm>
                          <a:off x="1069920" y="38116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"/>
                      <p:cNvGrpSpPr/>
                      <p:nvPr/>
                    </p:nvGrpSpPr>
                    <p:grpSpPr>
                      <a:xfrm>
                        <a:off x="1406520" y="3811680"/>
                        <a:ext cx="658800" cy="174600"/>
                        <a:chOff x="1406520" y="3811680"/>
                        <a:chExt cx="658800" cy="174600"/>
                      </a:xfrm>
                    </p:grpSpPr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1406520" y="38116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1733400" y="38116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"/>
                      <p:cNvGrpSpPr/>
                      <p:nvPr/>
                    </p:nvGrpSpPr>
                    <p:grpSpPr>
                      <a:xfrm>
                        <a:off x="2068560" y="3811680"/>
                        <a:ext cx="660240" cy="174600"/>
                        <a:chOff x="2068560" y="3811680"/>
                        <a:chExt cx="660240" cy="174600"/>
                      </a:xfrm>
                    </p:grpSpPr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2068560" y="3811680"/>
                          <a:ext cx="3301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2398680" y="3811680"/>
                          <a:ext cx="3301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2732040" y="3811680"/>
                        <a:ext cx="658800" cy="174600"/>
                        <a:chOff x="2732040" y="3811680"/>
                        <a:chExt cx="658800" cy="174600"/>
                      </a:xfrm>
                    </p:grpSpPr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2732040" y="3811680"/>
                          <a:ext cx="3301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3060720" y="3811680"/>
                          <a:ext cx="3301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"/>
                      <p:cNvGrpSpPr/>
                      <p:nvPr/>
                    </p:nvGrpSpPr>
                    <p:grpSpPr>
                      <a:xfrm>
                        <a:off x="3395520" y="3811680"/>
                        <a:ext cx="658800" cy="174600"/>
                        <a:chOff x="3395520" y="3811680"/>
                        <a:chExt cx="658800" cy="174600"/>
                      </a:xfrm>
                    </p:grpSpPr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>
                          <a:off x="3395520" y="38116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3722760" y="3811680"/>
                          <a:ext cx="33156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"/>
                      <p:cNvGrpSpPr/>
                      <p:nvPr/>
                    </p:nvGrpSpPr>
                    <p:grpSpPr>
                      <a:xfrm>
                        <a:off x="4060800" y="3811680"/>
                        <a:ext cx="658440" cy="174600"/>
                        <a:chOff x="4060800" y="3811680"/>
                        <a:chExt cx="658440" cy="174600"/>
                      </a:xfrm>
                    </p:grpSpPr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4060800" y="3811680"/>
                          <a:ext cx="33264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4386600" y="3811680"/>
                          <a:ext cx="33264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"/>
                      <p:cNvGrpSpPr/>
                      <p:nvPr/>
                    </p:nvGrpSpPr>
                    <p:grpSpPr>
                      <a:xfrm>
                        <a:off x="4722840" y="3811680"/>
                        <a:ext cx="658800" cy="174600"/>
                        <a:chOff x="4722840" y="3811680"/>
                        <a:chExt cx="658800" cy="174600"/>
                      </a:xfrm>
                    </p:grpSpPr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4722840" y="3811680"/>
                          <a:ext cx="3301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5051520" y="3811680"/>
                          <a:ext cx="330120" cy="17460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"/>
                    <p:cNvGrpSpPr/>
                    <p:nvPr/>
                  </p:nvGrpSpPr>
                  <p:grpSpPr>
                    <a:xfrm>
                      <a:off x="5391000" y="3809880"/>
                      <a:ext cx="658800" cy="174600"/>
                      <a:chOff x="5391000" y="3809880"/>
                      <a:chExt cx="658800" cy="174600"/>
                    </a:xfrm>
                  </p:grpSpPr>
                  <p:sp>
                    <p:nvSpPr>
                      <p:cNvPr id="175" name=""/>
                      <p:cNvSpPr/>
                      <p:nvPr/>
                    </p:nvSpPr>
                    <p:spPr>
                      <a:xfrm>
                        <a:off x="5391000" y="3809880"/>
                        <a:ext cx="331920" cy="17460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5718240" y="3809880"/>
                        <a:ext cx="331560" cy="17460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6054840" y="3809880"/>
                      <a:ext cx="662040" cy="174600"/>
                      <a:chOff x="6054840" y="3809880"/>
                      <a:chExt cx="662040" cy="174600"/>
                    </a:xfrm>
                  </p:grpSpPr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6054840" y="3809880"/>
                        <a:ext cx="333360" cy="17460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6383160" y="3809880"/>
                        <a:ext cx="333720" cy="17460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6716880" y="3809880"/>
                      <a:ext cx="658800" cy="174600"/>
                      <a:chOff x="6716880" y="3809880"/>
                      <a:chExt cx="658800" cy="17460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6716880" y="3809880"/>
                        <a:ext cx="331560" cy="17460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7043760" y="3809880"/>
                        <a:ext cx="331920" cy="17460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"/>
                    <p:cNvGrpSpPr/>
                    <p:nvPr/>
                  </p:nvGrpSpPr>
                  <p:grpSpPr>
                    <a:xfrm>
                      <a:off x="7383600" y="3809880"/>
                      <a:ext cx="658800" cy="174600"/>
                      <a:chOff x="7383600" y="3809880"/>
                      <a:chExt cx="658800" cy="174600"/>
                    </a:xfrm>
                  </p:grpSpPr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7383600" y="3809880"/>
                        <a:ext cx="331560" cy="17460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7710480" y="3809880"/>
                        <a:ext cx="331920" cy="17460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8047080" y="3809880"/>
                      <a:ext cx="331920" cy="174600"/>
                    </a:xfrm>
                    <a:prstGeom prst="pie">
                      <a:avLst/>
                    </a:pr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415800" y="3808440"/>
                  <a:ext cx="8264160" cy="176040"/>
                  <a:chOff x="415800" y="3808440"/>
                  <a:chExt cx="8264160" cy="1760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>
                    <a:off x="8317800" y="3816360"/>
                    <a:ext cx="361800" cy="16524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15800" y="3819600"/>
                    <a:ext cx="362160" cy="16488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727200" y="3808440"/>
                    <a:ext cx="7635600" cy="176040"/>
                    <a:chOff x="727200" y="3808440"/>
                    <a:chExt cx="7635600" cy="176040"/>
                  </a:xfrm>
                </p:grpSpPr>
                <p:grpSp>
                  <p:nvGrpSpPr>
                    <p:cNvPr id="191" name=""/>
                    <p:cNvGrpSpPr/>
                    <p:nvPr/>
                  </p:nvGrpSpPr>
                  <p:grpSpPr>
                    <a:xfrm>
                      <a:off x="727200" y="3809880"/>
                      <a:ext cx="4638600" cy="174600"/>
                      <a:chOff x="727200" y="3809880"/>
                      <a:chExt cx="4638600" cy="174600"/>
                    </a:xfrm>
                  </p:grpSpPr>
                  <p:grpSp>
                    <p:nvGrpSpPr>
                      <p:cNvPr id="192" name=""/>
                      <p:cNvGrpSpPr/>
                      <p:nvPr/>
                    </p:nvGrpSpPr>
                    <p:grpSpPr>
                      <a:xfrm>
                        <a:off x="727200" y="3809880"/>
                        <a:ext cx="658800" cy="174600"/>
                        <a:chOff x="727200" y="3809880"/>
                        <a:chExt cx="658800" cy="174600"/>
                      </a:xfrm>
                    </p:grpSpPr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727200" y="3809880"/>
                          <a:ext cx="33156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1054080" y="38098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"/>
                      <p:cNvGrpSpPr/>
                      <p:nvPr/>
                    </p:nvGrpSpPr>
                    <p:grpSpPr>
                      <a:xfrm>
                        <a:off x="1390680" y="3809880"/>
                        <a:ext cx="658800" cy="174600"/>
                        <a:chOff x="1390680" y="3809880"/>
                        <a:chExt cx="658800" cy="174600"/>
                      </a:xfrm>
                    </p:grpSpPr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1390680" y="38098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1717560" y="38098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"/>
                      <p:cNvGrpSpPr/>
                      <p:nvPr/>
                    </p:nvGrpSpPr>
                    <p:grpSpPr>
                      <a:xfrm>
                        <a:off x="2054160" y="3809880"/>
                        <a:ext cx="660600" cy="174600"/>
                        <a:chOff x="2054160" y="3809880"/>
                        <a:chExt cx="660600" cy="174600"/>
                      </a:xfrm>
                    </p:grpSpPr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054160" y="38098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382840" y="3809880"/>
                          <a:ext cx="3319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"/>
                      <p:cNvGrpSpPr/>
                      <p:nvPr/>
                    </p:nvGrpSpPr>
                    <p:grpSpPr>
                      <a:xfrm>
                        <a:off x="2716200" y="3809880"/>
                        <a:ext cx="658800" cy="174600"/>
                        <a:chOff x="2716200" y="3809880"/>
                        <a:chExt cx="658800" cy="174600"/>
                      </a:xfrm>
                    </p:grpSpPr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16200" y="3809880"/>
                          <a:ext cx="3301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3044880" y="3809880"/>
                          <a:ext cx="3301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"/>
                      <p:cNvGrpSpPr/>
                      <p:nvPr/>
                    </p:nvGrpSpPr>
                    <p:grpSpPr>
                      <a:xfrm>
                        <a:off x="3379680" y="3809880"/>
                        <a:ext cx="658440" cy="174600"/>
                        <a:chOff x="3379680" y="3809880"/>
                        <a:chExt cx="658440" cy="174600"/>
                      </a:xfrm>
                    </p:grpSpPr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3379680" y="3809880"/>
                          <a:ext cx="33084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3707280" y="3809880"/>
                          <a:ext cx="33084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"/>
                      <p:cNvGrpSpPr/>
                      <p:nvPr/>
                    </p:nvGrpSpPr>
                    <p:grpSpPr>
                      <a:xfrm>
                        <a:off x="4044960" y="3809880"/>
                        <a:ext cx="658440" cy="174600"/>
                        <a:chOff x="4044960" y="3809880"/>
                        <a:chExt cx="658440" cy="174600"/>
                      </a:xfrm>
                    </p:grpSpPr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4044960" y="3809880"/>
                          <a:ext cx="33264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4370760" y="3809880"/>
                          <a:ext cx="33264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"/>
                      <p:cNvGrpSpPr/>
                      <p:nvPr/>
                    </p:nvGrpSpPr>
                    <p:grpSpPr>
                      <a:xfrm>
                        <a:off x="4707000" y="3809880"/>
                        <a:ext cx="658800" cy="174600"/>
                        <a:chOff x="4707000" y="3809880"/>
                        <a:chExt cx="658800" cy="174600"/>
                      </a:xfrm>
                    </p:grpSpPr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>
                          <a:off x="4707000" y="3809880"/>
                          <a:ext cx="3301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5035680" y="3809880"/>
                          <a:ext cx="330120" cy="17460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5375160" y="3808440"/>
                      <a:ext cx="658800" cy="174600"/>
                      <a:chOff x="5375160" y="3808440"/>
                      <a:chExt cx="658800" cy="174600"/>
                    </a:xfrm>
                  </p:grpSpPr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5375160" y="3808440"/>
                        <a:ext cx="331920" cy="17460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5702400" y="3808440"/>
                        <a:ext cx="331560" cy="17460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"/>
                    <p:cNvGrpSpPr/>
                    <p:nvPr/>
                  </p:nvGrpSpPr>
                  <p:grpSpPr>
                    <a:xfrm>
                      <a:off x="6039000" y="3808440"/>
                      <a:ext cx="661680" cy="174600"/>
                      <a:chOff x="6039000" y="3808440"/>
                      <a:chExt cx="661680" cy="174600"/>
                    </a:xfrm>
                  </p:grpSpPr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6039000" y="3808440"/>
                        <a:ext cx="333360" cy="17460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6367320" y="3808440"/>
                        <a:ext cx="333360" cy="17460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"/>
                    <p:cNvGrpSpPr/>
                    <p:nvPr/>
                  </p:nvGrpSpPr>
                  <p:grpSpPr>
                    <a:xfrm>
                      <a:off x="6700680" y="3808440"/>
                      <a:ext cx="658800" cy="174600"/>
                      <a:chOff x="6700680" y="3808440"/>
                      <a:chExt cx="658800" cy="174600"/>
                    </a:xfrm>
                  </p:grpSpPr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6700680" y="3808440"/>
                        <a:ext cx="331920" cy="17460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7027920" y="3808440"/>
                        <a:ext cx="331560" cy="17460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"/>
                    <p:cNvGrpSpPr/>
                    <p:nvPr/>
                  </p:nvGrpSpPr>
                  <p:grpSpPr>
                    <a:xfrm>
                      <a:off x="7367760" y="3808440"/>
                      <a:ext cx="658800" cy="174600"/>
                      <a:chOff x="7367760" y="3808440"/>
                      <a:chExt cx="658800" cy="174600"/>
                    </a:xfrm>
                  </p:grpSpPr>
                  <p:sp>
                    <p:nvSpPr>
                      <p:cNvPr id="223" name=""/>
                      <p:cNvSpPr/>
                      <p:nvPr/>
                    </p:nvSpPr>
                    <p:spPr>
                      <a:xfrm>
                        <a:off x="7367760" y="3808440"/>
                        <a:ext cx="331560" cy="17460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7694640" y="3808440"/>
                        <a:ext cx="331920" cy="17460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8031240" y="3808440"/>
                      <a:ext cx="331560" cy="174600"/>
                    </a:xfrm>
                    <a:prstGeom prst="pie">
                      <a:avLst/>
                    </a:pr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2600" y="3225960"/>
                  <a:ext cx="898560" cy="961920"/>
                  <a:chOff x="12600" y="3225960"/>
                  <a:chExt cx="898560" cy="9619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1680" y="3260880"/>
                    <a:ext cx="879480" cy="92700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2600" y="3225960"/>
                    <a:ext cx="879480" cy="92700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"/>
                <p:cNvSpPr/>
                <p:nvPr/>
              </p:nvSpPr>
              <p:spPr>
                <a:xfrm flipH="1">
                  <a:off x="8216280" y="3260880"/>
                  <a:ext cx="879480" cy="927000"/>
                </a:xfrm>
                <a:prstGeom prst="pie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8197200" y="3225960"/>
                  <a:ext cx="879480" cy="927000"/>
                </a:xfrm>
                <a:prstGeom prst="pie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3840" y="3225960"/>
                  <a:ext cx="8302320" cy="8568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762120" y="3983040"/>
                <a:ext cx="7594560" cy="30168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04920" y="4114800"/>
              <a:ext cx="377640" cy="1825560"/>
              <a:chOff x="304920" y="4114800"/>
              <a:chExt cx="377640" cy="1825560"/>
            </a:xfrm>
          </p:grpSpPr>
          <p:sp>
            <p:nvSpPr>
              <p:cNvPr id="234" name=""/>
              <p:cNvSpPr/>
              <p:nvPr/>
            </p:nvSpPr>
            <p:spPr>
              <a:xfrm>
                <a:off x="304920" y="4114800"/>
                <a:ext cx="91800" cy="1825560"/>
              </a:xfrm>
              <a:custGeom>
                <a:avLst/>
                <a:gdLst>
                  <a:gd name="textAreaLeft" fmla="*/ 13320 w 91800"/>
                  <a:gd name="textAreaRight" fmla="*/ 78480 w 91800"/>
                  <a:gd name="textAreaTop" fmla="*/ 13320 h 1825560"/>
                  <a:gd name="textAreaBottom" fmla="*/ 1812240 h 1825560"/>
                </a:gdLst>
                <a:ahLst/>
                <a:rect l="textAreaLeft" t="textAreaTop" r="textAreaRight" b="textAreaBottom"/>
                <a:pathLst>
                  <a:path w="21600" h="427950">
                    <a:moveTo>
                      <a:pt x="10800" y="0"/>
                    </a:moveTo>
                    <a:arcTo wR="10800" hR="10800" stAng="16200000" swAng="-5400000"/>
                    <a:lnTo>
                      <a:pt x="0" y="417150"/>
                    </a:lnTo>
                    <a:arcTo wR="10800" hR="10800" stAng="10800000" swAng="-5400000"/>
                    <a:lnTo>
                      <a:pt x="10800" y="42795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7840" y="4114800"/>
                <a:ext cx="91800" cy="1825560"/>
              </a:xfrm>
              <a:custGeom>
                <a:avLst/>
                <a:gdLst>
                  <a:gd name="textAreaLeft" fmla="*/ 13320 w 91800"/>
                  <a:gd name="textAreaRight" fmla="*/ 78480 w 91800"/>
                  <a:gd name="textAreaTop" fmla="*/ 13320 h 1825560"/>
                  <a:gd name="textAreaBottom" fmla="*/ 1812240 h 1825560"/>
                </a:gdLst>
                <a:ahLst/>
                <a:rect l="textAreaLeft" t="textAreaTop" r="textAreaRight" b="textAreaBottom"/>
                <a:pathLst>
                  <a:path w="21600" h="427950">
                    <a:moveTo>
                      <a:pt x="10800" y="0"/>
                    </a:moveTo>
                    <a:arcTo wR="10800" hR="10800" stAng="16200000" swAng="-5400000"/>
                    <a:lnTo>
                      <a:pt x="0" y="417150"/>
                    </a:lnTo>
                    <a:arcTo wR="10800" hR="10800" stAng="10800000" swAng="-5400000"/>
                    <a:lnTo>
                      <a:pt x="10800" y="42795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0400" y="4114800"/>
                <a:ext cx="92160" cy="1825560"/>
              </a:xfrm>
              <a:custGeom>
                <a:avLst/>
                <a:gdLst>
                  <a:gd name="textAreaLeft" fmla="*/ 13320 w 92160"/>
                  <a:gd name="textAreaRight" fmla="*/ 78840 w 92160"/>
                  <a:gd name="textAreaTop" fmla="*/ 13320 h 1825560"/>
                  <a:gd name="textAreaBottom" fmla="*/ 1812240 h 1825560"/>
                </a:gdLst>
                <a:ahLst/>
                <a:rect l="textAreaLeft" t="textAreaTop" r="textAreaRight" b="textAreaBottom"/>
                <a:pathLst>
                  <a:path w="21600" h="426285">
                    <a:moveTo>
                      <a:pt x="10800" y="0"/>
                    </a:moveTo>
                    <a:arcTo wR="10800" hR="10800" stAng="16200000" swAng="-5400000"/>
                    <a:lnTo>
                      <a:pt x="0" y="415485"/>
                    </a:lnTo>
                    <a:arcTo wR="10800" hR="10800" stAng="10800000" swAng="-5400000"/>
                    <a:lnTo>
                      <a:pt x="10800" y="426285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8458200" y="4114800"/>
              <a:ext cx="378000" cy="1825560"/>
              <a:chOff x="8458200" y="4114800"/>
              <a:chExt cx="378000" cy="1825560"/>
            </a:xfrm>
          </p:grpSpPr>
          <p:sp>
            <p:nvSpPr>
              <p:cNvPr id="238" name=""/>
              <p:cNvSpPr/>
              <p:nvPr/>
            </p:nvSpPr>
            <p:spPr>
              <a:xfrm>
                <a:off x="8458200" y="4114800"/>
                <a:ext cx="92160" cy="1825560"/>
              </a:xfrm>
              <a:custGeom>
                <a:avLst/>
                <a:gdLst>
                  <a:gd name="textAreaLeft" fmla="*/ 13320 w 92160"/>
                  <a:gd name="textAreaRight" fmla="*/ 78840 w 92160"/>
                  <a:gd name="textAreaTop" fmla="*/ 13320 h 1825560"/>
                  <a:gd name="textAreaBottom" fmla="*/ 1812240 h 1825560"/>
                </a:gdLst>
                <a:ahLst/>
                <a:rect l="textAreaLeft" t="textAreaTop" r="textAreaRight" b="textAreaBottom"/>
                <a:pathLst>
                  <a:path w="21600" h="426285">
                    <a:moveTo>
                      <a:pt x="10800" y="0"/>
                    </a:moveTo>
                    <a:arcTo wR="10800" hR="10800" stAng="16200000" swAng="-5400000"/>
                    <a:lnTo>
                      <a:pt x="0" y="415485"/>
                    </a:lnTo>
                    <a:arcTo wR="10800" hR="10800" stAng="10800000" swAng="-5400000"/>
                    <a:lnTo>
                      <a:pt x="10800" y="426285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601120" y="4114800"/>
                <a:ext cx="92160" cy="1825560"/>
              </a:xfrm>
              <a:custGeom>
                <a:avLst/>
                <a:gdLst>
                  <a:gd name="textAreaLeft" fmla="*/ 13320 w 92160"/>
                  <a:gd name="textAreaRight" fmla="*/ 78840 w 92160"/>
                  <a:gd name="textAreaTop" fmla="*/ 13320 h 1825560"/>
                  <a:gd name="textAreaBottom" fmla="*/ 1812240 h 1825560"/>
                </a:gdLst>
                <a:ahLst/>
                <a:rect l="textAreaLeft" t="textAreaTop" r="textAreaRight" b="textAreaBottom"/>
                <a:pathLst>
                  <a:path w="21600" h="426285">
                    <a:moveTo>
                      <a:pt x="10800" y="0"/>
                    </a:moveTo>
                    <a:arcTo wR="10800" hR="10800" stAng="16200000" swAng="-5400000"/>
                    <a:lnTo>
                      <a:pt x="0" y="415485"/>
                    </a:lnTo>
                    <a:arcTo wR="10800" hR="10800" stAng="10800000" swAng="-5400000"/>
                    <a:lnTo>
                      <a:pt x="10800" y="426285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744040" y="4114800"/>
                <a:ext cx="92160" cy="1825560"/>
              </a:xfrm>
              <a:custGeom>
                <a:avLst/>
                <a:gdLst>
                  <a:gd name="textAreaLeft" fmla="*/ 13320 w 92160"/>
                  <a:gd name="textAreaRight" fmla="*/ 78840 w 92160"/>
                  <a:gd name="textAreaTop" fmla="*/ 13320 h 1825560"/>
                  <a:gd name="textAreaBottom" fmla="*/ 1812240 h 1825560"/>
                </a:gdLst>
                <a:ahLst/>
                <a:rect l="textAreaLeft" t="textAreaTop" r="textAreaRight" b="textAreaBottom"/>
                <a:pathLst>
                  <a:path w="21600" h="426285">
                    <a:moveTo>
                      <a:pt x="10800" y="0"/>
                    </a:moveTo>
                    <a:arcTo wR="10800" hR="10800" stAng="16200000" swAng="-5400000"/>
                    <a:lnTo>
                      <a:pt x="0" y="415485"/>
                    </a:lnTo>
                    <a:arcTo wR="10800" hR="10800" stAng="10800000" swAng="-5400000"/>
                    <a:lnTo>
                      <a:pt x="10800" y="426285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440" y="2133360"/>
            <a:ext cx="7769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2"/>
          </p:nvPr>
        </p:nvSpPr>
        <p:spPr>
          <a:xfrm>
            <a:off x="6552720" y="6324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i="1" lang="ru-RU" sz="1400" spc="-1" strike="noStrike">
                <a:solidFill>
                  <a:srgbClr val="edd39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A5CA97A-AA9F-48DF-951D-CD3C6D711D91}" type="slidenum">
              <a:rPr b="0" i="1" lang="ru-RU" sz="1400" spc="-1" strike="noStrike">
                <a:solidFill>
                  <a:srgbClr val="edd39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29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29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30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31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32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33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34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35.xm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36.xm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37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21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38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" Target="slide4.xm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.xml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" Target="slide6.xm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7.xm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" Target="slide14.xml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gif"/><Relationship Id="rId3" Type="http://schemas.openxmlformats.org/officeDocument/2006/relationships/image" Target="../media/image36.gif"/><Relationship Id="rId4" Type="http://schemas.openxmlformats.org/officeDocument/2006/relationships/slide" Target="slide15.xml"/><Relationship Id="rId5" Type="http://schemas.openxmlformats.org/officeDocument/2006/relationships/image" Target="../media/image36.gif"/><Relationship Id="rId6" Type="http://schemas.openxmlformats.org/officeDocument/2006/relationships/image" Target="../media/image36.gi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slide17.xml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" Target="slide21.xml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24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26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27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85800" y="244440"/>
            <a:ext cx="77724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edd39f"/>
                </a:solidFill>
                <a:latin typeface="Times New Roman"/>
              </a:rPr>
              <a:t>An intellectual</a:t>
            </a:r>
            <a:r>
              <a:rPr b="1" lang="ru-RU" sz="36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contest</a:t>
            </a:r>
            <a:r>
              <a:rPr b="1" lang="ru-RU" sz="36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for the 8-th formers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“</a:t>
            </a:r>
            <a:r>
              <a:rPr b="1" i="1" lang="en-US" sz="3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DO YOU KNOW</a:t>
            </a:r>
            <a:br>
              <a:rPr sz="3600"/>
            </a:br>
            <a:r>
              <a:rPr b="1" i="1" lang="en-US" sz="3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BRITAIN WELL?</a:t>
            </a:r>
            <a:r>
              <a:rPr b="1" i="1" lang="ru-RU" sz="3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"</a:t>
            </a:r>
            <a:br>
              <a:rPr sz="3600"/>
            </a:b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411280" y="117360"/>
            <a:ext cx="4749840" cy="644760"/>
            <a:chOff x="2411280" y="117360"/>
            <a:chExt cx="4749840" cy="644760"/>
          </a:xfrm>
        </p:grpSpPr>
        <p:pic>
          <p:nvPicPr>
            <p:cNvPr id="293" name="" descr=""/>
            <p:cNvPicPr/>
            <p:nvPr/>
          </p:nvPicPr>
          <p:blipFill>
            <a:blip r:embed="rId1"/>
            <a:stretch/>
          </p:blipFill>
          <p:spPr>
            <a:xfrm>
              <a:off x="2411280" y="117360"/>
              <a:ext cx="4749840" cy="6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2411280" y="117360"/>
              <a:ext cx="474984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 txBox="1"/>
          <p:nvPr/>
        </p:nvSpPr>
        <p:spPr>
          <a:xfrm>
            <a:off x="2484360" y="189000"/>
            <a:ext cx="460872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E THE BES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826920" y="3789360"/>
            <a:ext cx="5973840" cy="2876400"/>
            <a:chOff x="826920" y="3789360"/>
            <a:chExt cx="5973840" cy="2876400"/>
          </a:xfrm>
        </p:grpSpPr>
        <p:pic>
          <p:nvPicPr>
            <p:cNvPr id="297" name="" descr=""/>
            <p:cNvPicPr/>
            <p:nvPr/>
          </p:nvPicPr>
          <p:blipFill>
            <a:blip r:embed="rId2"/>
            <a:stretch/>
          </p:blipFill>
          <p:spPr>
            <a:xfrm>
              <a:off x="826920" y="3789360"/>
              <a:ext cx="1890720" cy="1322280"/>
            </a:xfrm>
            <a:prstGeom prst="rect">
              <a:avLst/>
            </a:prstGeom>
            <a:ln w="38160">
              <a:solidFill>
                <a:srgbClr val="deb54e"/>
              </a:solidFill>
              <a:miter/>
            </a:ln>
          </p:spPr>
        </p:pic>
        <p:pic>
          <p:nvPicPr>
            <p:cNvPr id="298" name="" descr=""/>
            <p:cNvPicPr/>
            <p:nvPr/>
          </p:nvPicPr>
          <p:blipFill>
            <a:blip r:embed="rId3"/>
            <a:stretch/>
          </p:blipFill>
          <p:spPr>
            <a:xfrm>
              <a:off x="1619280" y="5445000"/>
              <a:ext cx="3120840" cy="1193760"/>
            </a:xfrm>
            <a:prstGeom prst="rect">
              <a:avLst/>
            </a:prstGeom>
            <a:ln w="38160">
              <a:solidFill>
                <a:srgbClr val="deb54e"/>
              </a:solidFill>
              <a:miter/>
            </a:ln>
          </p:spPr>
        </p:pic>
        <p:pic>
          <p:nvPicPr>
            <p:cNvPr id="299" name="" descr=""/>
            <p:cNvPicPr/>
            <p:nvPr/>
          </p:nvPicPr>
          <p:blipFill>
            <a:blip r:embed="rId4"/>
            <a:stretch/>
          </p:blipFill>
          <p:spPr>
            <a:xfrm>
              <a:off x="826920" y="5084640"/>
              <a:ext cx="1400400" cy="1508400"/>
            </a:xfrm>
            <a:prstGeom prst="rect">
              <a:avLst/>
            </a:prstGeom>
            <a:ln w="38160">
              <a:solidFill>
                <a:srgbClr val="deb54e"/>
              </a:solidFill>
              <a:miter/>
            </a:ln>
          </p:spPr>
        </p:pic>
        <p:pic>
          <p:nvPicPr>
            <p:cNvPr id="300" name="" descr=""/>
            <p:cNvPicPr/>
            <p:nvPr/>
          </p:nvPicPr>
          <p:blipFill>
            <a:blip r:embed="rId5"/>
            <a:stretch/>
          </p:blipFill>
          <p:spPr>
            <a:xfrm>
              <a:off x="2195640" y="4292640"/>
              <a:ext cx="1147680" cy="1149480"/>
            </a:xfrm>
            <a:prstGeom prst="rect">
              <a:avLst/>
            </a:prstGeom>
            <a:ln w="38160">
              <a:solidFill>
                <a:srgbClr val="deb54e"/>
              </a:solidFill>
              <a:miter/>
            </a:ln>
          </p:spPr>
        </p:pic>
        <p:pic>
          <p:nvPicPr>
            <p:cNvPr id="301" name="" descr=""/>
            <p:cNvPicPr/>
            <p:nvPr/>
          </p:nvPicPr>
          <p:blipFill>
            <a:blip r:embed="rId6"/>
            <a:stretch/>
          </p:blipFill>
          <p:spPr>
            <a:xfrm>
              <a:off x="4716360" y="5084640"/>
              <a:ext cx="2084400" cy="1581120"/>
            </a:xfrm>
            <a:prstGeom prst="rect">
              <a:avLst/>
            </a:prstGeom>
            <a:ln w="38160">
              <a:solidFill>
                <a:srgbClr val="deb54e"/>
              </a:solidFill>
              <a:miter/>
            </a:ln>
          </p:spPr>
        </p:pic>
        <p:pic>
          <p:nvPicPr>
            <p:cNvPr id="302" name="" descr=""/>
            <p:cNvPicPr/>
            <p:nvPr/>
          </p:nvPicPr>
          <p:blipFill>
            <a:blip r:embed="rId7"/>
            <a:stretch/>
          </p:blipFill>
          <p:spPr>
            <a:xfrm>
              <a:off x="3348000" y="4581360"/>
              <a:ext cx="1365120" cy="1076400"/>
            </a:xfrm>
            <a:prstGeom prst="rect">
              <a:avLst/>
            </a:prstGeom>
            <a:ln w="38160">
              <a:solidFill>
                <a:srgbClr val="deb54e"/>
              </a:solidFill>
              <a:miter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5000002980232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8" name="type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</a:rPr>
              <a:t>A hot cross bun is</a:t>
            </a:r>
            <a:br>
              <a:rPr sz="4800"/>
            </a:br>
            <a:r>
              <a:rPr b="0" lang="en-US" sz="4800" spc="-1" strike="noStrike">
                <a:solidFill>
                  <a:srgbClr val="edd39f"/>
                </a:solidFill>
                <a:latin typeface="Times New Roman"/>
              </a:rPr>
              <a:t> a traditional meal o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Halloween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St.Valentine’s Day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w Year’s Day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Easter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38" name="">
            <a:hlinkClick r:id="rId5" action="ppaction://hlinksldjump"/>
          </p:cNvPr>
          <p:cNvSpPr/>
          <p:nvPr/>
        </p:nvSpPr>
        <p:spPr>
          <a:xfrm>
            <a:off x="8244000" y="6237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10800" y="1481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3">
                <a:moveTo>
                  <a:pt x="11905" y="14288"/>
                </a:moveTo>
                <a:lnTo>
                  <a:pt x="11905" y="12330"/>
                </a:lnTo>
                <a:cubicBezTo>
                  <a:pt x="11905" y="11503"/>
                  <a:pt x="12236" y="10807"/>
                  <a:pt x="12837" y="10807"/>
                </a:cubicBezTo>
                <a:cubicBezTo>
                  <a:pt x="13968" y="10807"/>
                  <a:pt x="14865" y="9440"/>
                  <a:pt x="14865" y="7856"/>
                </a:cubicBezTo>
                <a:cubicBezTo>
                  <a:pt x="14865" y="5541"/>
                  <a:pt x="13011" y="3800"/>
                  <a:pt x="10800" y="3800"/>
                </a:cubicBezTo>
                <a:cubicBezTo>
                  <a:pt x="8589" y="3800"/>
                  <a:pt x="6918" y="5541"/>
                  <a:pt x="6918" y="7856"/>
                </a:cubicBezTo>
                <a:lnTo>
                  <a:pt x="8772" y="7856"/>
                </a:lnTo>
                <a:cubicBezTo>
                  <a:pt x="8772" y="6716"/>
                  <a:pt x="9695" y="5828"/>
                  <a:pt x="10800" y="5828"/>
                </a:cubicBezTo>
                <a:cubicBezTo>
                  <a:pt x="11905" y="5828"/>
                  <a:pt x="12837" y="6716"/>
                  <a:pt x="12837" y="7856"/>
                </a:cubicBezTo>
                <a:cubicBezTo>
                  <a:pt x="12837" y="8596"/>
                  <a:pt x="12367" y="9327"/>
                  <a:pt x="11905" y="9327"/>
                </a:cubicBezTo>
                <a:cubicBezTo>
                  <a:pt x="10800" y="9327"/>
                  <a:pt x="9695" y="10807"/>
                  <a:pt x="9695" y="12330"/>
                </a:cubicBezTo>
                <a:lnTo>
                  <a:pt x="9695" y="14288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0.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</a:rPr>
              <a:t> The London Zoo is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in Regent’s Park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in St.James’s Park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 Hyde Park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Green Park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42" name="">
            <a:hlinkClick r:id="rId5" action="ppaction://hlinksldjump"/>
          </p:cNvPr>
          <p:cNvSpPr/>
          <p:nvPr/>
        </p:nvSpPr>
        <p:spPr>
          <a:xfrm>
            <a:off x="8244000" y="6202440"/>
            <a:ext cx="576000" cy="61128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11280"/>
              <a:gd name="textAreaBottom" fmla="*/ 574200 h 611280"/>
            </a:gdLst>
            <a:ahLst/>
            <a:rect l="textAreaLeft" t="textAreaTop" r="textAreaRight" b="textAreaBottom"/>
            <a:pathLst>
              <a:path w="21600" h="22922">
                <a:moveTo>
                  <a:pt x="0" y="0"/>
                </a:moveTo>
                <a:lnTo>
                  <a:pt x="21600" y="0"/>
                </a:lnTo>
                <a:lnTo>
                  <a:pt x="21600" y="22922"/>
                </a:lnTo>
                <a:lnTo>
                  <a:pt x="0" y="22922"/>
                </a:lnTo>
                <a:close/>
              </a:path>
              <a:path fill="lightenLess" w="21600" h="22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22">
                <a:moveTo>
                  <a:pt x="21600" y="0"/>
                </a:moveTo>
                <a:lnTo>
                  <a:pt x="21600" y="22922"/>
                </a:lnTo>
                <a:lnTo>
                  <a:pt x="20200" y="21522"/>
                </a:lnTo>
                <a:lnTo>
                  <a:pt x="20200" y="1400"/>
                </a:lnTo>
                <a:close/>
              </a:path>
              <a:path fill="darkenLess" w="21600" h="22922">
                <a:moveTo>
                  <a:pt x="21600" y="22922"/>
                </a:moveTo>
                <a:lnTo>
                  <a:pt x="0" y="22922"/>
                </a:lnTo>
                <a:lnTo>
                  <a:pt x="1400" y="21522"/>
                </a:lnTo>
                <a:lnTo>
                  <a:pt x="20200" y="21522"/>
                </a:lnTo>
                <a:close/>
              </a:path>
              <a:path fill="lighten" w="21600" h="22922">
                <a:moveTo>
                  <a:pt x="0" y="22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22"/>
                </a:lnTo>
                <a:close/>
              </a:path>
              <a:path fill="darken" w="21600" h="22922">
                <a:moveTo>
                  <a:pt x="10800" y="1546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922">
                <a:moveTo>
                  <a:pt x="11905" y="14943"/>
                </a:moveTo>
                <a:lnTo>
                  <a:pt x="11905" y="12984"/>
                </a:lnTo>
                <a:cubicBezTo>
                  <a:pt x="11905" y="12157"/>
                  <a:pt x="12236" y="11461"/>
                  <a:pt x="12837" y="11461"/>
                </a:cubicBezTo>
                <a:cubicBezTo>
                  <a:pt x="13968" y="11461"/>
                  <a:pt x="14865" y="10095"/>
                  <a:pt x="14865" y="8511"/>
                </a:cubicBezTo>
                <a:cubicBezTo>
                  <a:pt x="14865" y="6195"/>
                  <a:pt x="13011" y="4455"/>
                  <a:pt x="10800" y="4455"/>
                </a:cubicBezTo>
                <a:cubicBezTo>
                  <a:pt x="8589" y="4455"/>
                  <a:pt x="6918" y="6195"/>
                  <a:pt x="6918" y="8511"/>
                </a:cubicBezTo>
                <a:lnTo>
                  <a:pt x="8772" y="8511"/>
                </a:lnTo>
                <a:cubicBezTo>
                  <a:pt x="8772" y="7370"/>
                  <a:pt x="9695" y="6483"/>
                  <a:pt x="10800" y="6483"/>
                </a:cubicBezTo>
                <a:cubicBezTo>
                  <a:pt x="11905" y="6483"/>
                  <a:pt x="12837" y="7370"/>
                  <a:pt x="12837" y="8511"/>
                </a:cubicBezTo>
                <a:cubicBezTo>
                  <a:pt x="12837" y="9250"/>
                  <a:pt x="12367" y="9981"/>
                  <a:pt x="11905" y="9981"/>
                </a:cubicBezTo>
                <a:cubicBezTo>
                  <a:pt x="10800" y="9981"/>
                  <a:pt x="9695" y="11461"/>
                  <a:pt x="9695" y="12984"/>
                </a:cubicBezTo>
                <a:lnTo>
                  <a:pt x="9695" y="14943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1.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</a:rPr>
              <a:t> The Tower of London is</a:t>
            </a:r>
            <a:br>
              <a:rPr sz="4800"/>
            </a:br>
            <a:r>
              <a:rPr b="0" lang="en-US" sz="4800" spc="-1" strike="noStrike">
                <a:solidFill>
                  <a:srgbClr val="edd39f"/>
                </a:solidFill>
                <a:latin typeface="Times New Roman"/>
              </a:rPr>
              <a:t>now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a fortress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a royal palace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 prison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 museum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46" name="">
            <a:hlinkClick r:id="rId5" action="ppaction://hlinksldjump"/>
          </p:cNvPr>
          <p:cNvSpPr/>
          <p:nvPr/>
        </p:nvSpPr>
        <p:spPr>
          <a:xfrm>
            <a:off x="8028000" y="609300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119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988" h="21600">
                <a:moveTo>
                  <a:pt x="13099" y="14281"/>
                </a:moveTo>
                <a:lnTo>
                  <a:pt x="13099" y="12323"/>
                </a:lnTo>
                <a:cubicBezTo>
                  <a:pt x="13099" y="11496"/>
                  <a:pt x="13430" y="10800"/>
                  <a:pt x="14031" y="10800"/>
                </a:cubicBezTo>
                <a:cubicBezTo>
                  <a:pt x="15162" y="10800"/>
                  <a:pt x="16059" y="9434"/>
                  <a:pt x="16059" y="7849"/>
                </a:cubicBezTo>
                <a:cubicBezTo>
                  <a:pt x="16059" y="5534"/>
                  <a:pt x="14205" y="3794"/>
                  <a:pt x="11994" y="3794"/>
                </a:cubicBezTo>
                <a:cubicBezTo>
                  <a:pt x="9783" y="3794"/>
                  <a:pt x="8112" y="5534"/>
                  <a:pt x="8112" y="7849"/>
                </a:cubicBezTo>
                <a:lnTo>
                  <a:pt x="9966" y="7849"/>
                </a:lnTo>
                <a:cubicBezTo>
                  <a:pt x="9966" y="6709"/>
                  <a:pt x="10889" y="5821"/>
                  <a:pt x="11994" y="5821"/>
                </a:cubicBezTo>
                <a:cubicBezTo>
                  <a:pt x="13099" y="5821"/>
                  <a:pt x="14031" y="6709"/>
                  <a:pt x="14031" y="7849"/>
                </a:cubicBezTo>
                <a:cubicBezTo>
                  <a:pt x="14031" y="8589"/>
                  <a:pt x="13561" y="9320"/>
                  <a:pt x="13099" y="9320"/>
                </a:cubicBezTo>
                <a:cubicBezTo>
                  <a:pt x="11994" y="9320"/>
                  <a:pt x="10889" y="10800"/>
                  <a:pt x="10889" y="12323"/>
                </a:cubicBezTo>
                <a:lnTo>
                  <a:pt x="10889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2.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</a:rPr>
              <a:t> A fine collection of European paintings is i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the British Museum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the National Gallery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ovent Garden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Tower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50" name="">
            <a:hlinkClick r:id="rId5" action="ppaction://hlinksldjump"/>
          </p:cNvPr>
          <p:cNvSpPr/>
          <p:nvPr/>
        </p:nvSpPr>
        <p:spPr>
          <a:xfrm>
            <a:off x="8101080" y="616572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10800" y="1481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2">
                <a:moveTo>
                  <a:pt x="11905" y="14287"/>
                </a:moveTo>
                <a:lnTo>
                  <a:pt x="11905" y="12329"/>
                </a:lnTo>
                <a:cubicBezTo>
                  <a:pt x="11905" y="11502"/>
                  <a:pt x="12236" y="10806"/>
                  <a:pt x="12837" y="10806"/>
                </a:cubicBezTo>
                <a:cubicBezTo>
                  <a:pt x="13968" y="10806"/>
                  <a:pt x="14865" y="9440"/>
                  <a:pt x="14865" y="7855"/>
                </a:cubicBezTo>
                <a:cubicBezTo>
                  <a:pt x="14865" y="5540"/>
                  <a:pt x="13011" y="3800"/>
                  <a:pt x="10800" y="3800"/>
                </a:cubicBezTo>
                <a:cubicBezTo>
                  <a:pt x="8589" y="3800"/>
                  <a:pt x="6918" y="5540"/>
                  <a:pt x="6918" y="7855"/>
                </a:cubicBezTo>
                <a:lnTo>
                  <a:pt x="8772" y="7855"/>
                </a:lnTo>
                <a:cubicBezTo>
                  <a:pt x="8772" y="6715"/>
                  <a:pt x="9695" y="5827"/>
                  <a:pt x="10800" y="5827"/>
                </a:cubicBezTo>
                <a:cubicBezTo>
                  <a:pt x="11905" y="5827"/>
                  <a:pt x="12837" y="6715"/>
                  <a:pt x="12837" y="7855"/>
                </a:cubicBezTo>
                <a:cubicBezTo>
                  <a:pt x="12837" y="8595"/>
                  <a:pt x="12367" y="9326"/>
                  <a:pt x="11905" y="9326"/>
                </a:cubicBezTo>
                <a:cubicBezTo>
                  <a:pt x="10800" y="9326"/>
                  <a:pt x="9695" y="10806"/>
                  <a:pt x="9695" y="12329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85800" y="917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13.</a:t>
            </a:r>
            <a:r>
              <a:rPr b="0" i="1" lang="en-US" sz="4800" spc="-1" strike="noStrike">
                <a:solidFill>
                  <a:srgbClr val="edd39f"/>
                </a:solidFill>
                <a:latin typeface="Times New Roman"/>
              </a:rPr>
              <a:t> “Many happy returns of the day”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</a:rPr>
              <a:t> is a greeting for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Christmas Day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Birthday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aster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w Year’s Day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54" name="">
            <a:hlinkClick r:id="rId5" action="ppaction://hlinksldjump"/>
          </p:cNvPr>
          <p:cNvSpPr/>
          <p:nvPr/>
        </p:nvSpPr>
        <p:spPr>
          <a:xfrm>
            <a:off x="8244000" y="621036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4.</a:t>
            </a: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 Changing the Guard happens every day nea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Buckingham Palace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Westminster Abbey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uses of Parliament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.Paul’s Cathedral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58" name="">
            <a:hlinkClick r:id="rId5" action="ppaction://hlinksldjump"/>
          </p:cNvPr>
          <p:cNvSpPr/>
          <p:nvPr/>
        </p:nvSpPr>
        <p:spPr>
          <a:xfrm>
            <a:off x="8101080" y="6165720"/>
            <a:ext cx="576360" cy="648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8000"/>
              <a:gd name="textAreaBottom" fmla="*/ 610920 h 648000"/>
            </a:gdLst>
            <a:ahLst/>
            <a:rect l="textAreaLeft" t="textAreaTop" r="textAreaRight" b="textAreaBottom"/>
            <a:pathLst>
              <a:path w="21600" h="24283">
                <a:moveTo>
                  <a:pt x="0" y="0"/>
                </a:moveTo>
                <a:lnTo>
                  <a:pt x="21600" y="0"/>
                </a:lnTo>
                <a:lnTo>
                  <a:pt x="21600" y="24283"/>
                </a:lnTo>
                <a:lnTo>
                  <a:pt x="0" y="24283"/>
                </a:lnTo>
                <a:close/>
              </a:path>
              <a:path fill="lightenLess" w="21600" h="242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3">
                <a:moveTo>
                  <a:pt x="21600" y="0"/>
                </a:moveTo>
                <a:lnTo>
                  <a:pt x="21600" y="24283"/>
                </a:lnTo>
                <a:lnTo>
                  <a:pt x="20200" y="22883"/>
                </a:lnTo>
                <a:lnTo>
                  <a:pt x="20200" y="1400"/>
                </a:lnTo>
                <a:close/>
              </a:path>
              <a:path fill="darkenLess" w="21600" h="24283">
                <a:moveTo>
                  <a:pt x="21600" y="24283"/>
                </a:moveTo>
                <a:lnTo>
                  <a:pt x="0" y="24283"/>
                </a:lnTo>
                <a:lnTo>
                  <a:pt x="1400" y="22883"/>
                </a:lnTo>
                <a:lnTo>
                  <a:pt x="20200" y="22883"/>
                </a:lnTo>
                <a:close/>
              </a:path>
              <a:path fill="lighten" w="21600" h="24283">
                <a:moveTo>
                  <a:pt x="0" y="242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3"/>
                </a:lnTo>
                <a:close/>
              </a:path>
              <a:path fill="darken" w="21600" h="24283">
                <a:moveTo>
                  <a:pt x="10800" y="1614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283">
                <a:moveTo>
                  <a:pt x="11905" y="15623"/>
                </a:moveTo>
                <a:lnTo>
                  <a:pt x="11905" y="13665"/>
                </a:lnTo>
                <a:cubicBezTo>
                  <a:pt x="11905" y="12838"/>
                  <a:pt x="12236" y="12142"/>
                  <a:pt x="12837" y="12142"/>
                </a:cubicBezTo>
                <a:cubicBezTo>
                  <a:pt x="13968" y="12142"/>
                  <a:pt x="14865" y="10775"/>
                  <a:pt x="14865" y="9191"/>
                </a:cubicBezTo>
                <a:cubicBezTo>
                  <a:pt x="14865" y="6876"/>
                  <a:pt x="13011" y="5135"/>
                  <a:pt x="10800" y="5135"/>
                </a:cubicBezTo>
                <a:cubicBezTo>
                  <a:pt x="8589" y="5135"/>
                  <a:pt x="6918" y="6876"/>
                  <a:pt x="6918" y="9191"/>
                </a:cubicBezTo>
                <a:lnTo>
                  <a:pt x="8772" y="9191"/>
                </a:lnTo>
                <a:cubicBezTo>
                  <a:pt x="8772" y="8051"/>
                  <a:pt x="9695" y="7163"/>
                  <a:pt x="10800" y="7163"/>
                </a:cubicBezTo>
                <a:cubicBezTo>
                  <a:pt x="11905" y="7163"/>
                  <a:pt x="12837" y="8051"/>
                  <a:pt x="12837" y="9191"/>
                </a:cubicBezTo>
                <a:cubicBezTo>
                  <a:pt x="12837" y="9931"/>
                  <a:pt x="12367" y="10662"/>
                  <a:pt x="11905" y="10662"/>
                </a:cubicBezTo>
                <a:cubicBezTo>
                  <a:pt x="10800" y="10662"/>
                  <a:pt x="9695" y="12142"/>
                  <a:pt x="9695" y="13665"/>
                </a:cubicBezTo>
                <a:lnTo>
                  <a:pt x="9695" y="15623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5.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</a:rPr>
              <a:t> Piccadilly Circus is the meeting point  of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8 streets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7 streets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6 streets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5 streets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62" name="">
            <a:hlinkClick r:id="rId5" action="ppaction://hlinksldjump"/>
          </p:cNvPr>
          <p:cNvSpPr/>
          <p:nvPr/>
        </p:nvSpPr>
        <p:spPr>
          <a:xfrm>
            <a:off x="8172360" y="6165720"/>
            <a:ext cx="647640" cy="692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92280"/>
              <a:gd name="textAreaBottom" fmla="*/ 650520 h 692280"/>
            </a:gdLst>
            <a:ahLst/>
            <a:rect l="textAreaLeft" t="textAreaTop" r="textAreaRight" b="textAreaBottom"/>
            <a:pathLst>
              <a:path w="21600" h="23088">
                <a:moveTo>
                  <a:pt x="0" y="0"/>
                </a:moveTo>
                <a:lnTo>
                  <a:pt x="21600" y="0"/>
                </a:lnTo>
                <a:lnTo>
                  <a:pt x="21600" y="23088"/>
                </a:lnTo>
                <a:lnTo>
                  <a:pt x="0" y="23088"/>
                </a:lnTo>
                <a:close/>
              </a:path>
              <a:path fill="lightenLess" w="21600" h="23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88">
                <a:moveTo>
                  <a:pt x="21600" y="0"/>
                </a:moveTo>
                <a:lnTo>
                  <a:pt x="21600" y="23088"/>
                </a:lnTo>
                <a:lnTo>
                  <a:pt x="20200" y="21688"/>
                </a:lnTo>
                <a:lnTo>
                  <a:pt x="20200" y="1400"/>
                </a:lnTo>
                <a:close/>
              </a:path>
              <a:path fill="darkenLess" w="21600" h="23088">
                <a:moveTo>
                  <a:pt x="21600" y="23088"/>
                </a:moveTo>
                <a:lnTo>
                  <a:pt x="0" y="23088"/>
                </a:lnTo>
                <a:lnTo>
                  <a:pt x="1400" y="21688"/>
                </a:lnTo>
                <a:lnTo>
                  <a:pt x="20200" y="21688"/>
                </a:lnTo>
                <a:close/>
              </a:path>
              <a:path fill="lighten" w="21600" h="23088">
                <a:moveTo>
                  <a:pt x="0" y="23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88"/>
                </a:lnTo>
                <a:close/>
              </a:path>
              <a:path fill="darken" w="21600" h="23088">
                <a:moveTo>
                  <a:pt x="10800" y="1554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088">
                <a:moveTo>
                  <a:pt x="11905" y="15025"/>
                </a:moveTo>
                <a:lnTo>
                  <a:pt x="11905" y="13067"/>
                </a:lnTo>
                <a:cubicBezTo>
                  <a:pt x="11905" y="12240"/>
                  <a:pt x="12236" y="11544"/>
                  <a:pt x="12837" y="11544"/>
                </a:cubicBezTo>
                <a:cubicBezTo>
                  <a:pt x="13968" y="11544"/>
                  <a:pt x="14865" y="10178"/>
                  <a:pt x="14865" y="8593"/>
                </a:cubicBezTo>
                <a:cubicBezTo>
                  <a:pt x="14865" y="6278"/>
                  <a:pt x="13011" y="4538"/>
                  <a:pt x="10800" y="4538"/>
                </a:cubicBezTo>
                <a:cubicBezTo>
                  <a:pt x="8589" y="4538"/>
                  <a:pt x="6918" y="6278"/>
                  <a:pt x="6918" y="8593"/>
                </a:cubicBezTo>
                <a:lnTo>
                  <a:pt x="8772" y="8593"/>
                </a:lnTo>
                <a:cubicBezTo>
                  <a:pt x="8772" y="7453"/>
                  <a:pt x="9695" y="6565"/>
                  <a:pt x="10800" y="6565"/>
                </a:cubicBezTo>
                <a:cubicBezTo>
                  <a:pt x="11905" y="6565"/>
                  <a:pt x="12837" y="7453"/>
                  <a:pt x="12837" y="8593"/>
                </a:cubicBezTo>
                <a:cubicBezTo>
                  <a:pt x="12837" y="9333"/>
                  <a:pt x="12367" y="10064"/>
                  <a:pt x="11905" y="10064"/>
                </a:cubicBezTo>
                <a:cubicBezTo>
                  <a:pt x="10800" y="10064"/>
                  <a:pt x="9695" y="11544"/>
                  <a:pt x="9695" y="13067"/>
                </a:cubicBezTo>
                <a:lnTo>
                  <a:pt x="9695" y="15025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6.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</a:rPr>
              <a:t> On what holiday people dress as witches and ghosts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aster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Christmas Day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alloween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.Valentine’s Day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66" name="">
            <a:hlinkClick r:id="rId5" action="ppaction://hlinksldjump"/>
          </p:cNvPr>
          <p:cNvSpPr/>
          <p:nvPr/>
        </p:nvSpPr>
        <p:spPr>
          <a:xfrm>
            <a:off x="8066160" y="6165720"/>
            <a:ext cx="753840" cy="648000"/>
          </a:xfrm>
          <a:custGeom>
            <a:avLst/>
            <a:gdLst>
              <a:gd name="textAreaLeft" fmla="*/ 41760 w 753840"/>
              <a:gd name="textAreaRight" fmla="*/ 712080 w 7538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5126" h="21600">
                <a:moveTo>
                  <a:pt x="0" y="0"/>
                </a:moveTo>
                <a:lnTo>
                  <a:pt x="25126" y="0"/>
                </a:lnTo>
                <a:lnTo>
                  <a:pt x="25126" y="21600"/>
                </a:lnTo>
                <a:lnTo>
                  <a:pt x="0" y="21600"/>
                </a:lnTo>
                <a:close/>
              </a:path>
              <a:path fill="lightenLess" w="25126" h="21600">
                <a:moveTo>
                  <a:pt x="0" y="0"/>
                </a:moveTo>
                <a:lnTo>
                  <a:pt x="25126" y="0"/>
                </a:lnTo>
                <a:lnTo>
                  <a:pt x="23726" y="1400"/>
                </a:lnTo>
                <a:lnTo>
                  <a:pt x="1400" y="1400"/>
                </a:lnTo>
                <a:close/>
              </a:path>
              <a:path fill="darken" w="25126" h="21600">
                <a:moveTo>
                  <a:pt x="25126" y="0"/>
                </a:moveTo>
                <a:lnTo>
                  <a:pt x="25126" y="21600"/>
                </a:lnTo>
                <a:lnTo>
                  <a:pt x="23726" y="20200"/>
                </a:lnTo>
                <a:lnTo>
                  <a:pt x="23726" y="1400"/>
                </a:lnTo>
                <a:close/>
              </a:path>
              <a:path fill="darkenLess" w="25126" h="21600">
                <a:moveTo>
                  <a:pt x="251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26" y="20200"/>
                </a:lnTo>
                <a:close/>
              </a:path>
              <a:path fill="lighten" w="251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26" h="21600">
                <a:moveTo>
                  <a:pt x="1256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26" h="21600">
                <a:moveTo>
                  <a:pt x="13668" y="14281"/>
                </a:moveTo>
                <a:lnTo>
                  <a:pt x="13668" y="12323"/>
                </a:lnTo>
                <a:cubicBezTo>
                  <a:pt x="13668" y="11496"/>
                  <a:pt x="13999" y="10800"/>
                  <a:pt x="14600" y="10800"/>
                </a:cubicBezTo>
                <a:cubicBezTo>
                  <a:pt x="15731" y="10800"/>
                  <a:pt x="16628" y="9434"/>
                  <a:pt x="16628" y="7849"/>
                </a:cubicBezTo>
                <a:cubicBezTo>
                  <a:pt x="16628" y="5534"/>
                  <a:pt x="14774" y="3794"/>
                  <a:pt x="12563" y="3794"/>
                </a:cubicBezTo>
                <a:cubicBezTo>
                  <a:pt x="10352" y="3794"/>
                  <a:pt x="8681" y="5534"/>
                  <a:pt x="8681" y="7849"/>
                </a:cubicBezTo>
                <a:lnTo>
                  <a:pt x="10535" y="7849"/>
                </a:lnTo>
                <a:cubicBezTo>
                  <a:pt x="10535" y="6709"/>
                  <a:pt x="11458" y="5821"/>
                  <a:pt x="12563" y="5821"/>
                </a:cubicBezTo>
                <a:cubicBezTo>
                  <a:pt x="13668" y="5821"/>
                  <a:pt x="14600" y="6709"/>
                  <a:pt x="14600" y="7849"/>
                </a:cubicBezTo>
                <a:cubicBezTo>
                  <a:pt x="14600" y="8589"/>
                  <a:pt x="14130" y="9320"/>
                  <a:pt x="13668" y="9320"/>
                </a:cubicBezTo>
                <a:cubicBezTo>
                  <a:pt x="12563" y="9320"/>
                  <a:pt x="11458" y="10800"/>
                  <a:pt x="11458" y="12323"/>
                </a:cubicBezTo>
                <a:lnTo>
                  <a:pt x="11458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7.</a:t>
            </a: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 The name of the Queen </a:t>
            </a: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of the UK i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ary Tudor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Victoria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lizabeth I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lizabeth II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70" name="">
            <a:hlinkClick r:id="rId5" action="ppaction://hlinksldjump"/>
          </p:cNvPr>
          <p:cNvSpPr/>
          <p:nvPr/>
        </p:nvSpPr>
        <p:spPr>
          <a:xfrm>
            <a:off x="8244000" y="6235560"/>
            <a:ext cx="576000" cy="6494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52">
                <a:moveTo>
                  <a:pt x="0" y="0"/>
                </a:moveTo>
                <a:lnTo>
                  <a:pt x="21600" y="0"/>
                </a:lnTo>
                <a:lnTo>
                  <a:pt x="21600" y="24352"/>
                </a:lnTo>
                <a:lnTo>
                  <a:pt x="0" y="24352"/>
                </a:lnTo>
                <a:close/>
              </a:path>
              <a:path fill="lightenLess" w="21600" h="243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52">
                <a:moveTo>
                  <a:pt x="21600" y="0"/>
                </a:moveTo>
                <a:lnTo>
                  <a:pt x="21600" y="24352"/>
                </a:lnTo>
                <a:lnTo>
                  <a:pt x="20200" y="22952"/>
                </a:lnTo>
                <a:lnTo>
                  <a:pt x="20200" y="1400"/>
                </a:lnTo>
                <a:close/>
              </a:path>
              <a:path fill="darkenLess" w="21600" h="24352">
                <a:moveTo>
                  <a:pt x="21600" y="24352"/>
                </a:moveTo>
                <a:lnTo>
                  <a:pt x="0" y="24352"/>
                </a:lnTo>
                <a:lnTo>
                  <a:pt x="1400" y="22952"/>
                </a:lnTo>
                <a:lnTo>
                  <a:pt x="20200" y="22952"/>
                </a:lnTo>
                <a:close/>
              </a:path>
              <a:path fill="lighten" w="21600" h="24352">
                <a:moveTo>
                  <a:pt x="0" y="243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52"/>
                </a:lnTo>
                <a:close/>
              </a:path>
              <a:path fill="darken" w="21600" h="24352">
                <a:moveTo>
                  <a:pt x="10800" y="1618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352">
                <a:moveTo>
                  <a:pt x="11905" y="15658"/>
                </a:moveTo>
                <a:lnTo>
                  <a:pt x="11905" y="13699"/>
                </a:lnTo>
                <a:cubicBezTo>
                  <a:pt x="11905" y="12872"/>
                  <a:pt x="12236" y="12176"/>
                  <a:pt x="12837" y="12176"/>
                </a:cubicBezTo>
                <a:cubicBezTo>
                  <a:pt x="13968" y="12176"/>
                  <a:pt x="14865" y="10810"/>
                  <a:pt x="14865" y="9226"/>
                </a:cubicBezTo>
                <a:cubicBezTo>
                  <a:pt x="14865" y="6910"/>
                  <a:pt x="13011" y="5170"/>
                  <a:pt x="10800" y="5170"/>
                </a:cubicBezTo>
                <a:cubicBezTo>
                  <a:pt x="8589" y="5170"/>
                  <a:pt x="6918" y="6910"/>
                  <a:pt x="6918" y="9226"/>
                </a:cubicBezTo>
                <a:lnTo>
                  <a:pt x="8772" y="9226"/>
                </a:lnTo>
                <a:cubicBezTo>
                  <a:pt x="8772" y="8085"/>
                  <a:pt x="9695" y="7198"/>
                  <a:pt x="10800" y="7198"/>
                </a:cubicBezTo>
                <a:cubicBezTo>
                  <a:pt x="11905" y="7198"/>
                  <a:pt x="12837" y="8085"/>
                  <a:pt x="12837" y="9226"/>
                </a:cubicBezTo>
                <a:cubicBezTo>
                  <a:pt x="12837" y="9965"/>
                  <a:pt x="12367" y="10697"/>
                  <a:pt x="11905" y="10697"/>
                </a:cubicBezTo>
                <a:cubicBezTo>
                  <a:pt x="10800" y="10697"/>
                  <a:pt x="9695" y="12176"/>
                  <a:pt x="9695" y="13699"/>
                </a:cubicBezTo>
                <a:lnTo>
                  <a:pt x="9695" y="15658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8.</a:t>
            </a: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 Who wrote the book</a:t>
            </a: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 “Winnie- the-Poor”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wis Carrol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Alan Milne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dyard Kipl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atrix Potter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74" name="">
            <a:hlinkClick r:id="rId5" action="ppaction://hlinksldjump"/>
          </p:cNvPr>
          <p:cNvSpPr/>
          <p:nvPr/>
        </p:nvSpPr>
        <p:spPr>
          <a:xfrm>
            <a:off x="8172360" y="616572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10800" y="1481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2">
                <a:moveTo>
                  <a:pt x="11905" y="14287"/>
                </a:moveTo>
                <a:lnTo>
                  <a:pt x="11905" y="12329"/>
                </a:lnTo>
                <a:cubicBezTo>
                  <a:pt x="11905" y="11502"/>
                  <a:pt x="12236" y="10806"/>
                  <a:pt x="12837" y="10806"/>
                </a:cubicBezTo>
                <a:cubicBezTo>
                  <a:pt x="13968" y="10806"/>
                  <a:pt x="14865" y="9440"/>
                  <a:pt x="14865" y="7855"/>
                </a:cubicBezTo>
                <a:cubicBezTo>
                  <a:pt x="14865" y="5540"/>
                  <a:pt x="13011" y="3800"/>
                  <a:pt x="10800" y="3800"/>
                </a:cubicBezTo>
                <a:cubicBezTo>
                  <a:pt x="8589" y="3800"/>
                  <a:pt x="6918" y="5540"/>
                  <a:pt x="6918" y="7855"/>
                </a:cubicBezTo>
                <a:lnTo>
                  <a:pt x="8772" y="7855"/>
                </a:lnTo>
                <a:cubicBezTo>
                  <a:pt x="8772" y="6715"/>
                  <a:pt x="9695" y="5827"/>
                  <a:pt x="10800" y="5827"/>
                </a:cubicBezTo>
                <a:cubicBezTo>
                  <a:pt x="11905" y="5827"/>
                  <a:pt x="12837" y="6715"/>
                  <a:pt x="12837" y="7855"/>
                </a:cubicBezTo>
                <a:cubicBezTo>
                  <a:pt x="12837" y="8595"/>
                  <a:pt x="12367" y="9326"/>
                  <a:pt x="11905" y="9326"/>
                </a:cubicBezTo>
                <a:cubicBezTo>
                  <a:pt x="10800" y="9326"/>
                  <a:pt x="9695" y="10806"/>
                  <a:pt x="9695" y="12329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85800" y="77472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ru-RU" sz="4800" spc="-1" strike="noStrike">
                <a:solidFill>
                  <a:srgbClr val="edd39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</a:rPr>
              <a:t>How many countries are there</a:t>
            </a:r>
            <a:r>
              <a:rPr b="0" lang="ru-RU" sz="4800" spc="-1" strike="noStrike">
                <a:solidFill>
                  <a:srgbClr val="edd39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</a:rPr>
              <a:t>in the UK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4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5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06" name="">
            <a:hlinkClick r:id="rId5" action="ppaction://hlinksldjump"/>
          </p:cNvPr>
          <p:cNvSpPr/>
          <p:nvPr/>
        </p:nvSpPr>
        <p:spPr>
          <a:xfrm>
            <a:off x="8207280" y="623736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9.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</a:rPr>
              <a:t> Where can you see pelicans and ducks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 St.James’s park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in Hyde Park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 the Tower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 Covent Garden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78" name="">
            <a:hlinkClick r:id="rId5" action="ppaction://hlinksldjump"/>
          </p:cNvPr>
          <p:cNvSpPr/>
          <p:nvPr/>
        </p:nvSpPr>
        <p:spPr>
          <a:xfrm>
            <a:off x="8172360" y="616572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10800" y="1481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2">
                <a:moveTo>
                  <a:pt x="11905" y="14287"/>
                </a:moveTo>
                <a:lnTo>
                  <a:pt x="11905" y="12329"/>
                </a:lnTo>
                <a:cubicBezTo>
                  <a:pt x="11905" y="11502"/>
                  <a:pt x="12236" y="10806"/>
                  <a:pt x="12837" y="10806"/>
                </a:cubicBezTo>
                <a:cubicBezTo>
                  <a:pt x="13968" y="10806"/>
                  <a:pt x="14865" y="9440"/>
                  <a:pt x="14865" y="7855"/>
                </a:cubicBezTo>
                <a:cubicBezTo>
                  <a:pt x="14865" y="5540"/>
                  <a:pt x="13011" y="3800"/>
                  <a:pt x="10800" y="3800"/>
                </a:cubicBezTo>
                <a:cubicBezTo>
                  <a:pt x="8589" y="3800"/>
                  <a:pt x="6918" y="5540"/>
                  <a:pt x="6918" y="7855"/>
                </a:cubicBezTo>
                <a:lnTo>
                  <a:pt x="8772" y="7855"/>
                </a:lnTo>
                <a:cubicBezTo>
                  <a:pt x="8772" y="6715"/>
                  <a:pt x="9695" y="5827"/>
                  <a:pt x="10800" y="5827"/>
                </a:cubicBezTo>
                <a:cubicBezTo>
                  <a:pt x="11905" y="5827"/>
                  <a:pt x="12837" y="6715"/>
                  <a:pt x="12837" y="7855"/>
                </a:cubicBezTo>
                <a:cubicBezTo>
                  <a:pt x="12837" y="8595"/>
                  <a:pt x="12367" y="9326"/>
                  <a:pt x="11905" y="9326"/>
                </a:cubicBezTo>
                <a:cubicBezTo>
                  <a:pt x="10800" y="9326"/>
                  <a:pt x="9695" y="10806"/>
                  <a:pt x="9695" y="12329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0.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</a:rPr>
              <a:t> London is on the river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128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ile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Mississipi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ames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Amazon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82" name="">
            <a:hlinkClick r:id="rId5" action="ppaction://hlinksldjump"/>
          </p:cNvPr>
          <p:cNvSpPr/>
          <p:nvPr/>
        </p:nvSpPr>
        <p:spPr>
          <a:xfrm>
            <a:off x="8172360" y="6165720"/>
            <a:ext cx="647640" cy="692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92280"/>
              <a:gd name="textAreaBottom" fmla="*/ 650520 h 692280"/>
            </a:gdLst>
            <a:ahLst/>
            <a:rect l="textAreaLeft" t="textAreaTop" r="textAreaRight" b="textAreaBottom"/>
            <a:pathLst>
              <a:path w="21600" h="23088">
                <a:moveTo>
                  <a:pt x="0" y="0"/>
                </a:moveTo>
                <a:lnTo>
                  <a:pt x="21600" y="0"/>
                </a:lnTo>
                <a:lnTo>
                  <a:pt x="21600" y="23088"/>
                </a:lnTo>
                <a:lnTo>
                  <a:pt x="0" y="23088"/>
                </a:lnTo>
                <a:close/>
              </a:path>
              <a:path fill="lightenLess" w="21600" h="23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88">
                <a:moveTo>
                  <a:pt x="21600" y="0"/>
                </a:moveTo>
                <a:lnTo>
                  <a:pt x="21600" y="23088"/>
                </a:lnTo>
                <a:lnTo>
                  <a:pt x="20200" y="21688"/>
                </a:lnTo>
                <a:lnTo>
                  <a:pt x="20200" y="1400"/>
                </a:lnTo>
                <a:close/>
              </a:path>
              <a:path fill="darkenLess" w="21600" h="23088">
                <a:moveTo>
                  <a:pt x="21600" y="23088"/>
                </a:moveTo>
                <a:lnTo>
                  <a:pt x="0" y="23088"/>
                </a:lnTo>
                <a:lnTo>
                  <a:pt x="1400" y="21688"/>
                </a:lnTo>
                <a:lnTo>
                  <a:pt x="20200" y="21688"/>
                </a:lnTo>
                <a:close/>
              </a:path>
              <a:path fill="lighten" w="21600" h="23088">
                <a:moveTo>
                  <a:pt x="0" y="23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88"/>
                </a:lnTo>
                <a:close/>
              </a:path>
              <a:path fill="darken" w="21600" h="23088">
                <a:moveTo>
                  <a:pt x="10800" y="1554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088">
                <a:moveTo>
                  <a:pt x="11905" y="15025"/>
                </a:moveTo>
                <a:lnTo>
                  <a:pt x="11905" y="13067"/>
                </a:lnTo>
                <a:cubicBezTo>
                  <a:pt x="11905" y="12240"/>
                  <a:pt x="12236" y="11544"/>
                  <a:pt x="12837" y="11544"/>
                </a:cubicBezTo>
                <a:cubicBezTo>
                  <a:pt x="13968" y="11544"/>
                  <a:pt x="14865" y="10178"/>
                  <a:pt x="14865" y="8593"/>
                </a:cubicBezTo>
                <a:cubicBezTo>
                  <a:pt x="14865" y="6278"/>
                  <a:pt x="13011" y="4538"/>
                  <a:pt x="10800" y="4538"/>
                </a:cubicBezTo>
                <a:cubicBezTo>
                  <a:pt x="8589" y="4538"/>
                  <a:pt x="6918" y="6278"/>
                  <a:pt x="6918" y="8593"/>
                </a:cubicBezTo>
                <a:lnTo>
                  <a:pt x="8772" y="8593"/>
                </a:lnTo>
                <a:cubicBezTo>
                  <a:pt x="8772" y="7453"/>
                  <a:pt x="9695" y="6565"/>
                  <a:pt x="10800" y="6565"/>
                </a:cubicBezTo>
                <a:cubicBezTo>
                  <a:pt x="11905" y="6565"/>
                  <a:pt x="12837" y="7453"/>
                  <a:pt x="12837" y="8593"/>
                </a:cubicBezTo>
                <a:cubicBezTo>
                  <a:pt x="12837" y="9333"/>
                  <a:pt x="12367" y="10064"/>
                  <a:pt x="11905" y="10064"/>
                </a:cubicBezTo>
                <a:cubicBezTo>
                  <a:pt x="10800" y="10064"/>
                  <a:pt x="9695" y="11544"/>
                  <a:pt x="9695" y="13067"/>
                </a:cubicBezTo>
                <a:lnTo>
                  <a:pt x="9695" y="15025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2627280" y="18900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3960720" cy="561672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219640" y="907920"/>
            <a:ext cx="3024360" cy="360072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7596360" y="4724280"/>
            <a:ext cx="688680" cy="208944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sp>
        <p:nvSpPr>
          <p:cNvPr id="387" name="">
            <a:hlinkClick r:id="rId4" action="ppaction://hlinksldjump"/>
          </p:cNvPr>
          <p:cNvSpPr/>
          <p:nvPr/>
        </p:nvSpPr>
        <p:spPr>
          <a:xfrm>
            <a:off x="8531280" y="623736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8447"/>
                </a:moveTo>
                <a:lnTo>
                  <a:pt x="7301" y="8447"/>
                </a:lnTo>
                <a:lnTo>
                  <a:pt x="7301" y="13782"/>
                </a:lnTo>
                <a:cubicBezTo>
                  <a:pt x="7301" y="14705"/>
                  <a:pt x="8102" y="15436"/>
                  <a:pt x="9138" y="15436"/>
                </a:cubicBezTo>
                <a:lnTo>
                  <a:pt x="10800" y="15436"/>
                </a:lnTo>
                <a:cubicBezTo>
                  <a:pt x="11836" y="15436"/>
                  <a:pt x="12636" y="14705"/>
                  <a:pt x="12636" y="13782"/>
                </a:cubicBezTo>
                <a:lnTo>
                  <a:pt x="12636" y="8447"/>
                </a:lnTo>
                <a:lnTo>
                  <a:pt x="10800" y="8447"/>
                </a:lnTo>
                <a:lnTo>
                  <a:pt x="14308" y="4940"/>
                </a:lnTo>
                <a:lnTo>
                  <a:pt x="17981" y="8447"/>
                </a:lnTo>
                <a:lnTo>
                  <a:pt x="16144" y="8447"/>
                </a:lnTo>
                <a:lnTo>
                  <a:pt x="16144" y="13782"/>
                </a:lnTo>
                <a:cubicBezTo>
                  <a:pt x="16144" y="16550"/>
                  <a:pt x="13568" y="19109"/>
                  <a:pt x="10800" y="19109"/>
                </a:cubicBezTo>
                <a:lnTo>
                  <a:pt x="9138" y="19109"/>
                </a:lnTo>
                <a:cubicBezTo>
                  <a:pt x="6370" y="19109"/>
                  <a:pt x="3794" y="16550"/>
                  <a:pt x="3794" y="13782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5"/>
          <a:stretch/>
        </p:blipFill>
        <p:spPr>
          <a:xfrm>
            <a:off x="4572000" y="4535640"/>
            <a:ext cx="3395520" cy="180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fill="hold">
                      <p:stCondLst>
                        <p:cond delay="0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2556000" y="18900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4319640" cy="35179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391" name=""/>
          <p:cNvSpPr txBox="1"/>
          <p:nvPr/>
        </p:nvSpPr>
        <p:spPr>
          <a:xfrm rot="20880000">
            <a:off x="4163760" y="5226120"/>
            <a:ext cx="460044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66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ELCOME to BRITAI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66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2" name="">
            <a:hlinkClick r:id="rId2" action="ppaction://hlinksldjump"/>
          </p:cNvPr>
          <p:cNvSpPr/>
          <p:nvPr/>
        </p:nvSpPr>
        <p:spPr>
          <a:xfrm>
            <a:off x="8459640" y="6192720"/>
            <a:ext cx="611280" cy="62100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1000"/>
              <a:gd name="textAreaBottom" fmla="*/ 581400 h 621000"/>
            </a:gdLst>
            <a:ahLst/>
            <a:rect l="textAreaLeft" t="textAreaTop" r="textAreaRight" b="textAreaBottom"/>
            <a:pathLst>
              <a:path w="21600" h="21943">
                <a:moveTo>
                  <a:pt x="0" y="0"/>
                </a:moveTo>
                <a:lnTo>
                  <a:pt x="21600" y="0"/>
                </a:lnTo>
                <a:lnTo>
                  <a:pt x="21600" y="21943"/>
                </a:lnTo>
                <a:lnTo>
                  <a:pt x="0" y="21943"/>
                </a:lnTo>
                <a:close/>
              </a:path>
              <a:path fill="lightenLess" w="21600" h="219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43">
                <a:moveTo>
                  <a:pt x="21600" y="0"/>
                </a:moveTo>
                <a:lnTo>
                  <a:pt x="21600" y="21943"/>
                </a:lnTo>
                <a:lnTo>
                  <a:pt x="20200" y="20543"/>
                </a:lnTo>
                <a:lnTo>
                  <a:pt x="20200" y="1400"/>
                </a:lnTo>
                <a:close/>
              </a:path>
              <a:path fill="darkenLess" w="21600" h="21943">
                <a:moveTo>
                  <a:pt x="21600" y="21943"/>
                </a:moveTo>
                <a:lnTo>
                  <a:pt x="0" y="21943"/>
                </a:lnTo>
                <a:lnTo>
                  <a:pt x="1400" y="20543"/>
                </a:lnTo>
                <a:lnTo>
                  <a:pt x="20200" y="20543"/>
                </a:lnTo>
                <a:close/>
              </a:path>
              <a:path fill="lighten" w="21600" h="21943">
                <a:moveTo>
                  <a:pt x="0" y="219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43"/>
                </a:lnTo>
                <a:close/>
              </a:path>
              <a:path fill="darken" w="21600" h="21943">
                <a:moveTo>
                  <a:pt x="3794" y="7664"/>
                </a:moveTo>
                <a:lnTo>
                  <a:pt x="7301" y="7664"/>
                </a:lnTo>
                <a:lnTo>
                  <a:pt x="7301" y="13000"/>
                </a:lnTo>
                <a:cubicBezTo>
                  <a:pt x="7301" y="13922"/>
                  <a:pt x="8102" y="14653"/>
                  <a:pt x="9138" y="14653"/>
                </a:cubicBezTo>
                <a:lnTo>
                  <a:pt x="10800" y="14653"/>
                </a:lnTo>
                <a:cubicBezTo>
                  <a:pt x="11836" y="14653"/>
                  <a:pt x="12636" y="13922"/>
                  <a:pt x="12636" y="13000"/>
                </a:cubicBezTo>
                <a:lnTo>
                  <a:pt x="12636" y="7664"/>
                </a:lnTo>
                <a:lnTo>
                  <a:pt x="10800" y="7664"/>
                </a:lnTo>
                <a:lnTo>
                  <a:pt x="14308" y="4157"/>
                </a:lnTo>
                <a:lnTo>
                  <a:pt x="17981" y="7664"/>
                </a:lnTo>
                <a:lnTo>
                  <a:pt x="16144" y="7664"/>
                </a:lnTo>
                <a:lnTo>
                  <a:pt x="16144" y="13000"/>
                </a:lnTo>
                <a:cubicBezTo>
                  <a:pt x="16144" y="15767"/>
                  <a:pt x="13568" y="18326"/>
                  <a:pt x="10800" y="18326"/>
                </a:cubicBezTo>
                <a:lnTo>
                  <a:pt x="9138" y="18326"/>
                </a:lnTo>
                <a:cubicBezTo>
                  <a:pt x="6370" y="18326"/>
                  <a:pt x="3794" y="15767"/>
                  <a:pt x="3794" y="13000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5435640" y="907920"/>
            <a:ext cx="2879640" cy="352908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  <p:pic>
        <p:nvPicPr>
          <p:cNvPr id="394" name="" descr=""/>
          <p:cNvPicPr/>
          <p:nvPr/>
        </p:nvPicPr>
        <p:blipFill>
          <a:blip r:embed="rId4"/>
          <a:stretch/>
        </p:blipFill>
        <p:spPr>
          <a:xfrm>
            <a:off x="971640" y="4618080"/>
            <a:ext cx="3024000" cy="197964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0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" dur="2000" fill="hold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2000" fill="hold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2627280" y="18900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5292720" y="907920"/>
            <a:ext cx="2808360" cy="27370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900000" y="907920"/>
            <a:ext cx="3959280" cy="46818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398" name="">
            <a:hlinkClick r:id="rId3" action="ppaction://hlinksldjump"/>
          </p:cNvPr>
          <p:cNvSpPr/>
          <p:nvPr/>
        </p:nvSpPr>
        <p:spPr>
          <a:xfrm>
            <a:off x="8426520" y="6237360"/>
            <a:ext cx="682560" cy="620640"/>
          </a:xfrm>
          <a:custGeom>
            <a:avLst/>
            <a:gdLst>
              <a:gd name="textAreaLeft" fmla="*/ 39960 w 682560"/>
              <a:gd name="textAreaRight" fmla="*/ 642600 w 6825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754" h="21600">
                <a:moveTo>
                  <a:pt x="0" y="0"/>
                </a:moveTo>
                <a:lnTo>
                  <a:pt x="23754" y="0"/>
                </a:lnTo>
                <a:lnTo>
                  <a:pt x="23754" y="21600"/>
                </a:lnTo>
                <a:lnTo>
                  <a:pt x="0" y="21600"/>
                </a:lnTo>
                <a:close/>
              </a:path>
              <a:path fill="lightenLess" w="23754" h="21600">
                <a:moveTo>
                  <a:pt x="0" y="0"/>
                </a:moveTo>
                <a:lnTo>
                  <a:pt x="23754" y="0"/>
                </a:lnTo>
                <a:lnTo>
                  <a:pt x="22354" y="1400"/>
                </a:lnTo>
                <a:lnTo>
                  <a:pt x="1400" y="1400"/>
                </a:lnTo>
                <a:close/>
              </a:path>
              <a:path fill="darken" w="23754" h="21600">
                <a:moveTo>
                  <a:pt x="23754" y="0"/>
                </a:moveTo>
                <a:lnTo>
                  <a:pt x="23754" y="21600"/>
                </a:lnTo>
                <a:lnTo>
                  <a:pt x="22354" y="20200"/>
                </a:lnTo>
                <a:lnTo>
                  <a:pt x="22354" y="1400"/>
                </a:lnTo>
                <a:close/>
              </a:path>
              <a:path fill="darkenLess" w="23754" h="21600">
                <a:moveTo>
                  <a:pt x="237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4" y="20200"/>
                </a:lnTo>
                <a:close/>
              </a:path>
              <a:path fill="lighten" w="237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4" h="21600">
                <a:moveTo>
                  <a:pt x="4870" y="7493"/>
                </a:moveTo>
                <a:lnTo>
                  <a:pt x="8378" y="7493"/>
                </a:lnTo>
                <a:lnTo>
                  <a:pt x="8378" y="12828"/>
                </a:lnTo>
                <a:cubicBezTo>
                  <a:pt x="8378" y="13751"/>
                  <a:pt x="9179" y="14482"/>
                  <a:pt x="10214" y="14482"/>
                </a:cubicBezTo>
                <a:lnTo>
                  <a:pt x="11877" y="14482"/>
                </a:lnTo>
                <a:cubicBezTo>
                  <a:pt x="12913" y="14482"/>
                  <a:pt x="13713" y="13751"/>
                  <a:pt x="13713" y="12828"/>
                </a:cubicBezTo>
                <a:lnTo>
                  <a:pt x="13713" y="7493"/>
                </a:lnTo>
                <a:lnTo>
                  <a:pt x="11877" y="7493"/>
                </a:lnTo>
                <a:lnTo>
                  <a:pt x="15384" y="3985"/>
                </a:lnTo>
                <a:lnTo>
                  <a:pt x="19057" y="7493"/>
                </a:lnTo>
                <a:lnTo>
                  <a:pt x="17221" y="7493"/>
                </a:lnTo>
                <a:lnTo>
                  <a:pt x="17221" y="12828"/>
                </a:lnTo>
                <a:cubicBezTo>
                  <a:pt x="17221" y="15596"/>
                  <a:pt x="14645" y="18155"/>
                  <a:pt x="11877" y="18155"/>
                </a:cubicBezTo>
                <a:lnTo>
                  <a:pt x="10214" y="18155"/>
                </a:lnTo>
                <a:cubicBezTo>
                  <a:pt x="7447" y="18155"/>
                  <a:pt x="4870" y="15596"/>
                  <a:pt x="4870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5292720" y="3833640"/>
            <a:ext cx="2808360" cy="27640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400" name=""/>
          <p:cNvSpPr txBox="1"/>
          <p:nvPr/>
        </p:nvSpPr>
        <p:spPr>
          <a:xfrm>
            <a:off x="1116000" y="5830920"/>
            <a:ext cx="3743280" cy="911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Westminster  Abbe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0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627280" y="18900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3894120" cy="4608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403" name="">
            <a:hlinkClick r:id="rId2" action="ppaction://hlinksldjump"/>
          </p:cNvPr>
          <p:cNvSpPr/>
          <p:nvPr/>
        </p:nvSpPr>
        <p:spPr>
          <a:xfrm>
            <a:off x="8354880" y="6237360"/>
            <a:ext cx="754200" cy="620640"/>
          </a:xfrm>
          <a:custGeom>
            <a:avLst/>
            <a:gdLst>
              <a:gd name="textAreaLeft" fmla="*/ 39960 w 754200"/>
              <a:gd name="textAreaRight" fmla="*/ 714240 w 7542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46" h="21600">
                <a:moveTo>
                  <a:pt x="0" y="0"/>
                </a:moveTo>
                <a:lnTo>
                  <a:pt x="26246" y="0"/>
                </a:lnTo>
                <a:lnTo>
                  <a:pt x="26246" y="21600"/>
                </a:lnTo>
                <a:lnTo>
                  <a:pt x="0" y="21600"/>
                </a:lnTo>
                <a:close/>
              </a:path>
              <a:path fill="lightenLess" w="26246" h="21600">
                <a:moveTo>
                  <a:pt x="0" y="0"/>
                </a:moveTo>
                <a:lnTo>
                  <a:pt x="26246" y="0"/>
                </a:lnTo>
                <a:lnTo>
                  <a:pt x="24846" y="1400"/>
                </a:lnTo>
                <a:lnTo>
                  <a:pt x="1400" y="1400"/>
                </a:lnTo>
                <a:close/>
              </a:path>
              <a:path fill="darken" w="26246" h="21600">
                <a:moveTo>
                  <a:pt x="26246" y="0"/>
                </a:moveTo>
                <a:lnTo>
                  <a:pt x="26246" y="21600"/>
                </a:lnTo>
                <a:lnTo>
                  <a:pt x="24846" y="20200"/>
                </a:lnTo>
                <a:lnTo>
                  <a:pt x="24846" y="1400"/>
                </a:lnTo>
                <a:close/>
              </a:path>
              <a:path fill="darkenLess" w="26246" h="21600">
                <a:moveTo>
                  <a:pt x="2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6" y="20200"/>
                </a:lnTo>
                <a:close/>
              </a:path>
              <a:path fill="lighten" w="2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46" h="21600">
                <a:moveTo>
                  <a:pt x="6116" y="7493"/>
                </a:moveTo>
                <a:lnTo>
                  <a:pt x="9624" y="7493"/>
                </a:lnTo>
                <a:lnTo>
                  <a:pt x="9624" y="12828"/>
                </a:lnTo>
                <a:cubicBezTo>
                  <a:pt x="9624" y="13751"/>
                  <a:pt x="10425" y="14482"/>
                  <a:pt x="11460" y="14482"/>
                </a:cubicBezTo>
                <a:lnTo>
                  <a:pt x="13123" y="14482"/>
                </a:lnTo>
                <a:cubicBezTo>
                  <a:pt x="14159" y="14482"/>
                  <a:pt x="14959" y="13751"/>
                  <a:pt x="14959" y="12828"/>
                </a:cubicBezTo>
                <a:lnTo>
                  <a:pt x="14959" y="7493"/>
                </a:lnTo>
                <a:lnTo>
                  <a:pt x="13123" y="7493"/>
                </a:lnTo>
                <a:lnTo>
                  <a:pt x="16630" y="3985"/>
                </a:lnTo>
                <a:lnTo>
                  <a:pt x="20303" y="7493"/>
                </a:lnTo>
                <a:lnTo>
                  <a:pt x="18467" y="7493"/>
                </a:lnTo>
                <a:lnTo>
                  <a:pt x="18467" y="12828"/>
                </a:lnTo>
                <a:cubicBezTo>
                  <a:pt x="18467" y="15596"/>
                  <a:pt x="15891" y="18155"/>
                  <a:pt x="13123" y="18155"/>
                </a:cubicBezTo>
                <a:lnTo>
                  <a:pt x="11460" y="18155"/>
                </a:lnTo>
                <a:cubicBezTo>
                  <a:pt x="8693" y="18155"/>
                  <a:pt x="6116" y="15596"/>
                  <a:pt x="6116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5154480" y="1268280"/>
            <a:ext cx="3089520" cy="3456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405" name=""/>
          <p:cNvSpPr/>
          <p:nvPr/>
        </p:nvSpPr>
        <p:spPr>
          <a:xfrm>
            <a:off x="5078520" y="5075280"/>
            <a:ext cx="380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The first English peop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In Russ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411280" y="1268280"/>
            <a:ext cx="936720" cy="1873440"/>
          </a:xfrm>
          <a:prstGeom prst="rect">
            <a:avLst/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4720" y="1268280"/>
            <a:ext cx="574560" cy="1873440"/>
          </a:xfrm>
          <a:prstGeom prst="rect">
            <a:avLst/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71640" y="1268280"/>
            <a:ext cx="431640" cy="1873440"/>
          </a:xfrm>
          <a:prstGeom prst="rect">
            <a:avLst/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71640" y="3141720"/>
            <a:ext cx="144720" cy="2735280"/>
          </a:xfrm>
          <a:prstGeom prst="rect">
            <a:avLst/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43280" y="5661000"/>
            <a:ext cx="2016000" cy="216000"/>
          </a:xfrm>
          <a:prstGeom prst="rect">
            <a:avLst/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71640" y="4653000"/>
            <a:ext cx="1944720" cy="1224000"/>
          </a:xfrm>
          <a:prstGeom prst="rect">
            <a:avLst/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er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2565360"/>
            <a:ext cx="1008000" cy="576360"/>
          </a:xfrm>
          <a:prstGeom prst="rect">
            <a:avLst/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van IV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48000" y="2637000"/>
            <a:ext cx="936720" cy="504720"/>
          </a:xfrm>
          <a:prstGeom prst="rect">
            <a:avLst/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izabeth 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627280" y="18900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415" name="">
            <a:hlinkClick r:id="rId1" action="ppaction://hlinksldjump"/>
          </p:cNvPr>
          <p:cNvSpPr/>
          <p:nvPr/>
        </p:nvSpPr>
        <p:spPr>
          <a:xfrm>
            <a:off x="8459640" y="6165720"/>
            <a:ext cx="649440" cy="64800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3818" y="7493"/>
                </a:moveTo>
                <a:lnTo>
                  <a:pt x="7325" y="7493"/>
                </a:lnTo>
                <a:lnTo>
                  <a:pt x="7325" y="12828"/>
                </a:lnTo>
                <a:cubicBezTo>
                  <a:pt x="7325" y="13751"/>
                  <a:pt x="8126" y="14482"/>
                  <a:pt x="9162" y="14482"/>
                </a:cubicBezTo>
                <a:lnTo>
                  <a:pt x="10824" y="14482"/>
                </a:lnTo>
                <a:cubicBezTo>
                  <a:pt x="11860" y="14482"/>
                  <a:pt x="12660" y="13751"/>
                  <a:pt x="12660" y="12828"/>
                </a:cubicBezTo>
                <a:lnTo>
                  <a:pt x="12660" y="7493"/>
                </a:lnTo>
                <a:lnTo>
                  <a:pt x="10824" y="7493"/>
                </a:lnTo>
                <a:lnTo>
                  <a:pt x="14332" y="3985"/>
                </a:lnTo>
                <a:lnTo>
                  <a:pt x="18005" y="7493"/>
                </a:lnTo>
                <a:lnTo>
                  <a:pt x="16168" y="7493"/>
                </a:lnTo>
                <a:lnTo>
                  <a:pt x="16168" y="12828"/>
                </a:lnTo>
                <a:cubicBezTo>
                  <a:pt x="16168" y="15596"/>
                  <a:pt x="13592" y="18155"/>
                  <a:pt x="10824" y="18155"/>
                </a:cubicBezTo>
                <a:lnTo>
                  <a:pt x="9162" y="18155"/>
                </a:lnTo>
                <a:cubicBezTo>
                  <a:pt x="6394" y="18155"/>
                  <a:pt x="3818" y="15596"/>
                  <a:pt x="3818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1149480" y="981000"/>
            <a:ext cx="3638520" cy="5184720"/>
          </a:xfrm>
          <a:prstGeom prst="rect">
            <a:avLst/>
          </a:prstGeom>
          <a:ln w="76320">
            <a:solidFill>
              <a:srgbClr val="00cc99"/>
            </a:solidFill>
            <a:miter/>
          </a:ln>
        </p:spPr>
      </p:pic>
      <p:sp>
        <p:nvSpPr>
          <p:cNvPr id="417" name=""/>
          <p:cNvSpPr/>
          <p:nvPr/>
        </p:nvSpPr>
        <p:spPr>
          <a:xfrm>
            <a:off x="4929120" y="4786200"/>
            <a:ext cx="382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Agatha Christi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(1891 – 1976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rote 75 detective stor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5214960" y="981000"/>
            <a:ext cx="2714760" cy="3805200"/>
          </a:xfrm>
          <a:prstGeom prst="rect">
            <a:avLst/>
          </a:prstGeom>
          <a:ln w="76320">
            <a:solidFill>
              <a:srgbClr val="3cc2c2"/>
            </a:solidFill>
            <a:miter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0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2627280" y="18900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420" name="">
            <a:hlinkClick r:id="rId1" action="ppaction://hlinksldjump"/>
          </p:cNvPr>
          <p:cNvSpPr/>
          <p:nvPr/>
        </p:nvSpPr>
        <p:spPr>
          <a:xfrm>
            <a:off x="8388360" y="609300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1042920" y="906480"/>
            <a:ext cx="6912000" cy="518652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0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" dur="3000" fill="hold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2627280" y="18900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423" name="">
            <a:hlinkClick r:id="rId1" action="ppaction://hlinksldjump"/>
          </p:cNvPr>
          <p:cNvSpPr/>
          <p:nvPr/>
        </p:nvSpPr>
        <p:spPr>
          <a:xfrm>
            <a:off x="8426520" y="6203880"/>
            <a:ext cx="682560" cy="609840"/>
          </a:xfrm>
          <a:custGeom>
            <a:avLst/>
            <a:gdLst>
              <a:gd name="textAreaLeft" fmla="*/ 39240 w 682560"/>
              <a:gd name="textAreaRight" fmla="*/ 643320 w 6825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174" h="21600">
                <a:moveTo>
                  <a:pt x="0" y="0"/>
                </a:moveTo>
                <a:lnTo>
                  <a:pt x="24174" y="0"/>
                </a:lnTo>
                <a:lnTo>
                  <a:pt x="24174" y="21600"/>
                </a:lnTo>
                <a:lnTo>
                  <a:pt x="0" y="21600"/>
                </a:lnTo>
                <a:close/>
              </a:path>
              <a:path fill="lightenLess" w="24174" h="21600">
                <a:moveTo>
                  <a:pt x="0" y="0"/>
                </a:moveTo>
                <a:lnTo>
                  <a:pt x="24174" y="0"/>
                </a:lnTo>
                <a:lnTo>
                  <a:pt x="22774" y="1400"/>
                </a:lnTo>
                <a:lnTo>
                  <a:pt x="1400" y="1400"/>
                </a:lnTo>
                <a:close/>
              </a:path>
              <a:path fill="darken" w="24174" h="21600">
                <a:moveTo>
                  <a:pt x="24174" y="0"/>
                </a:moveTo>
                <a:lnTo>
                  <a:pt x="24174" y="21600"/>
                </a:lnTo>
                <a:lnTo>
                  <a:pt x="22774" y="20200"/>
                </a:lnTo>
                <a:lnTo>
                  <a:pt x="22774" y="1400"/>
                </a:lnTo>
                <a:close/>
              </a:path>
              <a:path fill="darkenLess" w="24174" h="21600">
                <a:moveTo>
                  <a:pt x="24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4" y="20200"/>
                </a:lnTo>
                <a:close/>
              </a:path>
              <a:path fill="lighten" w="24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4" h="21600">
                <a:moveTo>
                  <a:pt x="5081" y="7493"/>
                </a:moveTo>
                <a:lnTo>
                  <a:pt x="8588" y="7493"/>
                </a:lnTo>
                <a:lnTo>
                  <a:pt x="8588" y="12828"/>
                </a:lnTo>
                <a:cubicBezTo>
                  <a:pt x="8588" y="13751"/>
                  <a:pt x="9389" y="14482"/>
                  <a:pt x="10425" y="14482"/>
                </a:cubicBezTo>
                <a:lnTo>
                  <a:pt x="12087" y="14482"/>
                </a:lnTo>
                <a:cubicBezTo>
                  <a:pt x="13123" y="14482"/>
                  <a:pt x="13924" y="13751"/>
                  <a:pt x="13924" y="12828"/>
                </a:cubicBezTo>
                <a:lnTo>
                  <a:pt x="13924" y="7493"/>
                </a:lnTo>
                <a:lnTo>
                  <a:pt x="12087" y="7493"/>
                </a:lnTo>
                <a:lnTo>
                  <a:pt x="15595" y="3985"/>
                </a:lnTo>
                <a:lnTo>
                  <a:pt x="19268" y="7493"/>
                </a:lnTo>
                <a:lnTo>
                  <a:pt x="17431" y="7493"/>
                </a:lnTo>
                <a:lnTo>
                  <a:pt x="17431" y="12828"/>
                </a:lnTo>
                <a:cubicBezTo>
                  <a:pt x="17431" y="15596"/>
                  <a:pt x="14855" y="18155"/>
                  <a:pt x="12087" y="18155"/>
                </a:cubicBezTo>
                <a:lnTo>
                  <a:pt x="10425" y="18155"/>
                </a:lnTo>
                <a:cubicBezTo>
                  <a:pt x="7657" y="18155"/>
                  <a:pt x="5081" y="15596"/>
                  <a:pt x="5081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814320" y="981000"/>
            <a:ext cx="4262400" cy="5616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5295960" y="981000"/>
            <a:ext cx="3021120" cy="39607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426" name=""/>
          <p:cNvSpPr txBox="1"/>
          <p:nvPr/>
        </p:nvSpPr>
        <p:spPr>
          <a:xfrm>
            <a:off x="5364000" y="5229360"/>
            <a:ext cx="28814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CHARLIE CHAPLIN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902560" y="589752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89 – 1977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0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" dur="500" fill="hold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" dur="500" fill="hold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2627280" y="18900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947880" y="1052640"/>
            <a:ext cx="3639960" cy="482436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5796000" y="3429000"/>
            <a:ext cx="2376360" cy="21970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5796000" y="1052640"/>
            <a:ext cx="2440080" cy="18208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 rot="5400000">
            <a:off x="2920320" y="3287880"/>
            <a:ext cx="432108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EASTER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33" name="">
            <a:hlinkClick r:id="rId4" action="ppaction://hlinksldjump"/>
          </p:cNvPr>
          <p:cNvSpPr/>
          <p:nvPr/>
        </p:nvSpPr>
        <p:spPr>
          <a:xfrm>
            <a:off x="8426520" y="6165720"/>
            <a:ext cx="682560" cy="69228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92280"/>
              <a:gd name="textAreaBottom" fmla="*/ 648360 h 692280"/>
            </a:gdLst>
            <a:ahLst/>
            <a:rect l="textAreaLeft" t="textAreaTop" r="textAreaRight" b="textAreaBottom"/>
            <a:pathLst>
              <a:path w="21600" h="21907">
                <a:moveTo>
                  <a:pt x="0" y="0"/>
                </a:moveTo>
                <a:lnTo>
                  <a:pt x="21600" y="0"/>
                </a:lnTo>
                <a:lnTo>
                  <a:pt x="21600" y="21907"/>
                </a:lnTo>
                <a:lnTo>
                  <a:pt x="0" y="21907"/>
                </a:lnTo>
                <a:close/>
              </a:path>
              <a:path fill="lightenLess" w="21600" h="219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07">
                <a:moveTo>
                  <a:pt x="21600" y="0"/>
                </a:moveTo>
                <a:lnTo>
                  <a:pt x="21600" y="21907"/>
                </a:lnTo>
                <a:lnTo>
                  <a:pt x="20200" y="20507"/>
                </a:lnTo>
                <a:lnTo>
                  <a:pt x="20200" y="1400"/>
                </a:lnTo>
                <a:close/>
              </a:path>
              <a:path fill="darkenLess" w="21600" h="21907">
                <a:moveTo>
                  <a:pt x="21600" y="21907"/>
                </a:moveTo>
                <a:lnTo>
                  <a:pt x="0" y="21907"/>
                </a:lnTo>
                <a:lnTo>
                  <a:pt x="1400" y="20507"/>
                </a:lnTo>
                <a:lnTo>
                  <a:pt x="20200" y="20507"/>
                </a:lnTo>
                <a:close/>
              </a:path>
              <a:path fill="lighten" w="21600" h="21907">
                <a:moveTo>
                  <a:pt x="0" y="219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07"/>
                </a:lnTo>
                <a:close/>
              </a:path>
              <a:path fill="darken" w="21600" h="21907">
                <a:moveTo>
                  <a:pt x="3794" y="7646"/>
                </a:moveTo>
                <a:lnTo>
                  <a:pt x="7301" y="7646"/>
                </a:lnTo>
                <a:lnTo>
                  <a:pt x="7301" y="12982"/>
                </a:lnTo>
                <a:cubicBezTo>
                  <a:pt x="7301" y="13904"/>
                  <a:pt x="8102" y="14635"/>
                  <a:pt x="9138" y="14635"/>
                </a:cubicBezTo>
                <a:lnTo>
                  <a:pt x="10800" y="14635"/>
                </a:lnTo>
                <a:cubicBezTo>
                  <a:pt x="11836" y="14635"/>
                  <a:pt x="12636" y="13904"/>
                  <a:pt x="12636" y="12982"/>
                </a:cubicBezTo>
                <a:lnTo>
                  <a:pt x="12636" y="7646"/>
                </a:lnTo>
                <a:lnTo>
                  <a:pt x="10800" y="7646"/>
                </a:lnTo>
                <a:lnTo>
                  <a:pt x="14308" y="4139"/>
                </a:lnTo>
                <a:lnTo>
                  <a:pt x="17981" y="7646"/>
                </a:lnTo>
                <a:lnTo>
                  <a:pt x="16144" y="7646"/>
                </a:lnTo>
                <a:lnTo>
                  <a:pt x="16144" y="12982"/>
                </a:lnTo>
                <a:cubicBezTo>
                  <a:pt x="16144" y="15749"/>
                  <a:pt x="13568" y="18308"/>
                  <a:pt x="10800" y="18308"/>
                </a:cubicBezTo>
                <a:lnTo>
                  <a:pt x="9138" y="18308"/>
                </a:lnTo>
                <a:cubicBezTo>
                  <a:pt x="6370" y="18308"/>
                  <a:pt x="3794" y="15749"/>
                  <a:pt x="3794" y="12982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0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1" dur="3000" fill="hold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4" dur="3000" fill="hold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" dur="3000" fill="hold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5800" y="63180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Where is the statue to </a:t>
            </a:r>
            <a:br>
              <a:rPr sz="4800"/>
            </a:b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Admiral Nelson?</a:t>
            </a:r>
            <a:r>
              <a:rPr b="0" lang="ru-RU" sz="44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 algn="just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in Piccadilly Circus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 algn="just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in Trafalgar Square</a:t>
            </a:r>
            <a:r>
              <a:rPr b="0" lang="en-US" sz="5400" spc="-1" strike="noStrike" baseline="30000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 algn="just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in Oxford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near Big Ben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10" name="">
            <a:hlinkClick r:id="rId5" action="ppaction://hlinksldjump"/>
          </p:cNvPr>
          <p:cNvSpPr/>
          <p:nvPr/>
        </p:nvSpPr>
        <p:spPr>
          <a:xfrm>
            <a:off x="8244000" y="6248520"/>
            <a:ext cx="576000" cy="60948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09480"/>
              <a:gd name="textAreaBottom" fmla="*/ 572400 h 609480"/>
            </a:gdLst>
            <a:ahLst/>
            <a:rect l="textAreaLeft" t="textAreaTop" r="textAreaRight" b="textAreaBottom"/>
            <a:pathLst>
              <a:path w="21600" h="22855">
                <a:moveTo>
                  <a:pt x="0" y="0"/>
                </a:moveTo>
                <a:lnTo>
                  <a:pt x="21600" y="0"/>
                </a:lnTo>
                <a:lnTo>
                  <a:pt x="21600" y="22855"/>
                </a:lnTo>
                <a:lnTo>
                  <a:pt x="0" y="22855"/>
                </a:lnTo>
                <a:close/>
              </a:path>
              <a:path fill="lightenLess" w="21600" h="228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55">
                <a:moveTo>
                  <a:pt x="21600" y="0"/>
                </a:moveTo>
                <a:lnTo>
                  <a:pt x="21600" y="22855"/>
                </a:lnTo>
                <a:lnTo>
                  <a:pt x="20200" y="21455"/>
                </a:lnTo>
                <a:lnTo>
                  <a:pt x="20200" y="1400"/>
                </a:lnTo>
                <a:close/>
              </a:path>
              <a:path fill="darkenLess" w="21600" h="22855">
                <a:moveTo>
                  <a:pt x="21600" y="22855"/>
                </a:moveTo>
                <a:lnTo>
                  <a:pt x="0" y="22855"/>
                </a:lnTo>
                <a:lnTo>
                  <a:pt x="1400" y="21455"/>
                </a:lnTo>
                <a:lnTo>
                  <a:pt x="20200" y="21455"/>
                </a:lnTo>
                <a:close/>
              </a:path>
              <a:path fill="lighten" w="21600" h="22855">
                <a:moveTo>
                  <a:pt x="0" y="228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55"/>
                </a:lnTo>
                <a:close/>
              </a:path>
              <a:path fill="darken" w="21600" h="22855">
                <a:moveTo>
                  <a:pt x="10800" y="1543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855">
                <a:moveTo>
                  <a:pt x="11905" y="14909"/>
                </a:moveTo>
                <a:lnTo>
                  <a:pt x="11905" y="12951"/>
                </a:lnTo>
                <a:cubicBezTo>
                  <a:pt x="11905" y="12124"/>
                  <a:pt x="12236" y="11427"/>
                  <a:pt x="12837" y="11427"/>
                </a:cubicBezTo>
                <a:cubicBezTo>
                  <a:pt x="13968" y="11427"/>
                  <a:pt x="14865" y="10061"/>
                  <a:pt x="14865" y="8477"/>
                </a:cubicBezTo>
                <a:cubicBezTo>
                  <a:pt x="14865" y="6162"/>
                  <a:pt x="13011" y="4421"/>
                  <a:pt x="10800" y="4421"/>
                </a:cubicBezTo>
                <a:cubicBezTo>
                  <a:pt x="8589" y="4421"/>
                  <a:pt x="6918" y="6162"/>
                  <a:pt x="6918" y="8477"/>
                </a:cubicBezTo>
                <a:lnTo>
                  <a:pt x="8772" y="8477"/>
                </a:lnTo>
                <a:cubicBezTo>
                  <a:pt x="8772" y="7337"/>
                  <a:pt x="9695" y="6449"/>
                  <a:pt x="10800" y="6449"/>
                </a:cubicBezTo>
                <a:cubicBezTo>
                  <a:pt x="11905" y="6449"/>
                  <a:pt x="12837" y="7337"/>
                  <a:pt x="12837" y="8477"/>
                </a:cubicBezTo>
                <a:cubicBezTo>
                  <a:pt x="12837" y="9217"/>
                  <a:pt x="12367" y="9948"/>
                  <a:pt x="11905" y="9948"/>
                </a:cubicBezTo>
                <a:cubicBezTo>
                  <a:pt x="10800" y="9948"/>
                  <a:pt x="9695" y="11427"/>
                  <a:pt x="9695" y="12951"/>
                </a:cubicBezTo>
                <a:lnTo>
                  <a:pt x="9695" y="14909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41128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1069920" y="1052640"/>
            <a:ext cx="3214800" cy="4392360"/>
          </a:xfrm>
          <a:prstGeom prst="rect">
            <a:avLst/>
          </a:prstGeom>
          <a:ln w="57240">
            <a:solidFill>
              <a:srgbClr val="33cccc"/>
            </a:solidFill>
            <a:miter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4513320" y="1052640"/>
            <a:ext cx="3587760" cy="4392360"/>
          </a:xfrm>
          <a:prstGeom prst="rect">
            <a:avLst/>
          </a:prstGeom>
          <a:ln w="57240">
            <a:solidFill>
              <a:srgbClr val="33cccc"/>
            </a:solidFill>
            <a:miter/>
          </a:ln>
        </p:spPr>
      </p:pic>
      <p:sp>
        <p:nvSpPr>
          <p:cNvPr id="437" name="">
            <a:hlinkClick r:id="rId3" action="ppaction://hlinksldjump"/>
          </p:cNvPr>
          <p:cNvSpPr/>
          <p:nvPr/>
        </p:nvSpPr>
        <p:spPr>
          <a:xfrm>
            <a:off x="8317080" y="6237360"/>
            <a:ext cx="718920" cy="5763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6939" h="21600">
                <a:moveTo>
                  <a:pt x="0" y="0"/>
                </a:moveTo>
                <a:lnTo>
                  <a:pt x="26939" y="0"/>
                </a:lnTo>
                <a:lnTo>
                  <a:pt x="26939" y="21600"/>
                </a:lnTo>
                <a:lnTo>
                  <a:pt x="0" y="21600"/>
                </a:lnTo>
                <a:close/>
              </a:path>
              <a:path fill="lightenLess" w="26939" h="21600">
                <a:moveTo>
                  <a:pt x="0" y="0"/>
                </a:moveTo>
                <a:lnTo>
                  <a:pt x="26939" y="0"/>
                </a:lnTo>
                <a:lnTo>
                  <a:pt x="25539" y="1400"/>
                </a:lnTo>
                <a:lnTo>
                  <a:pt x="1400" y="1400"/>
                </a:lnTo>
                <a:close/>
              </a:path>
              <a:path fill="darken" w="26939" h="21600">
                <a:moveTo>
                  <a:pt x="26939" y="0"/>
                </a:moveTo>
                <a:lnTo>
                  <a:pt x="26939" y="21600"/>
                </a:lnTo>
                <a:lnTo>
                  <a:pt x="25539" y="20200"/>
                </a:lnTo>
                <a:lnTo>
                  <a:pt x="25539" y="1400"/>
                </a:lnTo>
                <a:close/>
              </a:path>
              <a:path fill="darkenLess" w="26939" h="21600">
                <a:moveTo>
                  <a:pt x="269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9" y="20200"/>
                </a:lnTo>
                <a:close/>
              </a:path>
              <a:path fill="lighten" w="269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9" h="21600">
                <a:moveTo>
                  <a:pt x="6463" y="7493"/>
                </a:moveTo>
                <a:lnTo>
                  <a:pt x="9971" y="7493"/>
                </a:lnTo>
                <a:lnTo>
                  <a:pt x="9971" y="12828"/>
                </a:lnTo>
                <a:cubicBezTo>
                  <a:pt x="9971" y="13751"/>
                  <a:pt x="10772" y="14482"/>
                  <a:pt x="11807" y="14482"/>
                </a:cubicBezTo>
                <a:lnTo>
                  <a:pt x="13470" y="14482"/>
                </a:lnTo>
                <a:cubicBezTo>
                  <a:pt x="14505" y="14482"/>
                  <a:pt x="15306" y="13751"/>
                  <a:pt x="15306" y="12828"/>
                </a:cubicBezTo>
                <a:lnTo>
                  <a:pt x="15306" y="7493"/>
                </a:lnTo>
                <a:lnTo>
                  <a:pt x="13470" y="7493"/>
                </a:lnTo>
                <a:lnTo>
                  <a:pt x="16977" y="3985"/>
                </a:lnTo>
                <a:lnTo>
                  <a:pt x="20650" y="7493"/>
                </a:lnTo>
                <a:lnTo>
                  <a:pt x="18814" y="7493"/>
                </a:lnTo>
                <a:lnTo>
                  <a:pt x="18814" y="12828"/>
                </a:lnTo>
                <a:cubicBezTo>
                  <a:pt x="18814" y="15596"/>
                  <a:pt x="16237" y="18155"/>
                  <a:pt x="13470" y="18155"/>
                </a:cubicBezTo>
                <a:lnTo>
                  <a:pt x="11807" y="18155"/>
                </a:lnTo>
                <a:cubicBezTo>
                  <a:pt x="9039" y="18155"/>
                  <a:pt x="6463" y="15596"/>
                  <a:pt x="6463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2700360" y="5589720"/>
            <a:ext cx="3962520" cy="86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99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Times New Roman"/>
              </a:rPr>
              <a:t>The Tower of Lond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99"/>
                  </a:gs>
                  <a:gs pos="100000">
                    <a:srgbClr val="ffffcc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dur="indefinite" fill="hold">
                      <p:stCondLst>
                        <p:cond delay="0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2556000" y="11592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1872000" cy="952560"/>
          </a:xfrm>
          <a:prstGeom prst="rect">
            <a:avLst/>
          </a:prstGeom>
          <a:ln w="0">
            <a:noFill/>
          </a:ln>
        </p:spPr>
      </p:pic>
      <p:sp>
        <p:nvSpPr>
          <p:cNvPr id="441" name="">
            <a:hlinkClick r:id="rId2" action="ppaction://hlinksldjump"/>
          </p:cNvPr>
          <p:cNvSpPr/>
          <p:nvPr/>
        </p:nvSpPr>
        <p:spPr>
          <a:xfrm>
            <a:off x="8353440" y="6130800"/>
            <a:ext cx="682560" cy="6829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920"/>
              <a:gd name="textAreaBottom" fmla="*/ 639000 h 68292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7498"/>
                </a:moveTo>
                <a:lnTo>
                  <a:pt x="7301" y="7498"/>
                </a:lnTo>
                <a:lnTo>
                  <a:pt x="7301" y="12834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4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1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4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4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4067280" y="1052640"/>
            <a:ext cx="4136760" cy="4248000"/>
          </a:xfrm>
          <a:prstGeom prst="rect">
            <a:avLst/>
          </a:prstGeom>
          <a:ln w="57240">
            <a:solidFill>
              <a:srgbClr val="3366ff"/>
            </a:solidFill>
            <a:prstDash val="sysDot"/>
            <a:miter/>
          </a:ln>
        </p:spPr>
      </p:pic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1187280" y="2492280"/>
            <a:ext cx="2592720" cy="3343320"/>
          </a:xfrm>
          <a:prstGeom prst="rect">
            <a:avLst/>
          </a:prstGeom>
          <a:ln w="57240">
            <a:solidFill>
              <a:srgbClr val="3366ff"/>
            </a:solidFill>
            <a:prstDash val="sysDot"/>
            <a:miter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2484360" y="11592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5041800" cy="3625560"/>
          </a:xfrm>
          <a:prstGeom prst="rect">
            <a:avLst/>
          </a:prstGeom>
          <a:ln w="76320">
            <a:solidFill>
              <a:srgbClr val="00cc99"/>
            </a:solidFill>
            <a:miter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6372360" y="1700280"/>
            <a:ext cx="1728720" cy="164124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7380360" y="4941720"/>
            <a:ext cx="647640" cy="628920"/>
          </a:xfrm>
          <a:prstGeom prst="rect">
            <a:avLst/>
          </a:prstGeom>
          <a:ln w="0">
            <a:noFill/>
          </a:ln>
        </p:spPr>
      </p:pic>
      <p:sp>
        <p:nvSpPr>
          <p:cNvPr id="448" name="">
            <a:hlinkClick r:id="rId4" action="ppaction://hlinksldjump"/>
          </p:cNvPr>
          <p:cNvSpPr/>
          <p:nvPr/>
        </p:nvSpPr>
        <p:spPr>
          <a:xfrm>
            <a:off x="8317080" y="6165720"/>
            <a:ext cx="718920" cy="5763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6939" h="21600">
                <a:moveTo>
                  <a:pt x="0" y="0"/>
                </a:moveTo>
                <a:lnTo>
                  <a:pt x="26939" y="0"/>
                </a:lnTo>
                <a:lnTo>
                  <a:pt x="26939" y="21600"/>
                </a:lnTo>
                <a:lnTo>
                  <a:pt x="0" y="21600"/>
                </a:lnTo>
                <a:close/>
              </a:path>
              <a:path fill="lightenLess" w="26939" h="21600">
                <a:moveTo>
                  <a:pt x="0" y="0"/>
                </a:moveTo>
                <a:lnTo>
                  <a:pt x="26939" y="0"/>
                </a:lnTo>
                <a:lnTo>
                  <a:pt x="25539" y="1400"/>
                </a:lnTo>
                <a:lnTo>
                  <a:pt x="1400" y="1400"/>
                </a:lnTo>
                <a:close/>
              </a:path>
              <a:path fill="darken" w="26939" h="21600">
                <a:moveTo>
                  <a:pt x="26939" y="0"/>
                </a:moveTo>
                <a:lnTo>
                  <a:pt x="26939" y="21600"/>
                </a:lnTo>
                <a:lnTo>
                  <a:pt x="25539" y="20200"/>
                </a:lnTo>
                <a:lnTo>
                  <a:pt x="25539" y="1400"/>
                </a:lnTo>
                <a:close/>
              </a:path>
              <a:path fill="darkenLess" w="26939" h="21600">
                <a:moveTo>
                  <a:pt x="269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9" y="20200"/>
                </a:lnTo>
                <a:close/>
              </a:path>
              <a:path fill="lighten" w="269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9" h="21600">
                <a:moveTo>
                  <a:pt x="6463" y="7493"/>
                </a:moveTo>
                <a:lnTo>
                  <a:pt x="9971" y="7493"/>
                </a:lnTo>
                <a:lnTo>
                  <a:pt x="9971" y="12828"/>
                </a:lnTo>
                <a:cubicBezTo>
                  <a:pt x="9971" y="13751"/>
                  <a:pt x="10772" y="14482"/>
                  <a:pt x="11807" y="14482"/>
                </a:cubicBezTo>
                <a:lnTo>
                  <a:pt x="13470" y="14482"/>
                </a:lnTo>
                <a:cubicBezTo>
                  <a:pt x="14505" y="14482"/>
                  <a:pt x="15306" y="13751"/>
                  <a:pt x="15306" y="12828"/>
                </a:cubicBezTo>
                <a:lnTo>
                  <a:pt x="15306" y="7493"/>
                </a:lnTo>
                <a:lnTo>
                  <a:pt x="13470" y="7493"/>
                </a:lnTo>
                <a:lnTo>
                  <a:pt x="16977" y="3985"/>
                </a:lnTo>
                <a:lnTo>
                  <a:pt x="20650" y="7493"/>
                </a:lnTo>
                <a:lnTo>
                  <a:pt x="18814" y="7493"/>
                </a:lnTo>
                <a:lnTo>
                  <a:pt x="18814" y="12828"/>
                </a:lnTo>
                <a:cubicBezTo>
                  <a:pt x="18814" y="15596"/>
                  <a:pt x="16237" y="18155"/>
                  <a:pt x="13470" y="18155"/>
                </a:cubicBezTo>
                <a:lnTo>
                  <a:pt x="11807" y="18155"/>
                </a:lnTo>
                <a:cubicBezTo>
                  <a:pt x="9039" y="18155"/>
                  <a:pt x="6463" y="15596"/>
                  <a:pt x="6463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5"/>
          <a:stretch/>
        </p:blipFill>
        <p:spPr>
          <a:xfrm>
            <a:off x="7308720" y="4508640"/>
            <a:ext cx="648000" cy="6285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6"/>
          <a:stretch/>
        </p:blipFill>
        <p:spPr>
          <a:xfrm>
            <a:off x="6948360" y="4724280"/>
            <a:ext cx="648000" cy="6289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257120" y="4797360"/>
            <a:ext cx="4815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appy birthday to you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appy birthday to you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appy birthday, happy birthday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appy birthday to you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dur="indefinite" fill="hold">
                      <p:stCondLst>
                        <p:cond delay="0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2627280" y="18900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rcRect l="0" t="0" r="0" b="11100"/>
          <a:stretch/>
        </p:blipFill>
        <p:spPr>
          <a:xfrm>
            <a:off x="1258920" y="1052640"/>
            <a:ext cx="6697800" cy="44416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6156360" y="1125360"/>
            <a:ext cx="1620720" cy="127332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2490840" y="5599080"/>
            <a:ext cx="416232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anging the Guard</a:t>
            </a:r>
            <a:endParaRPr b="0" lang="en-US" sz="2400" spc="1" strike="noStrike">
              <a:ln w="19080">
                <a:solidFill>
                  <a:srgbClr val="3366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t Buckingham Palace</a:t>
            </a:r>
            <a:endParaRPr b="0" lang="en-US" sz="2400" spc="1" strike="noStrike">
              <a:ln w="19080">
                <a:solidFill>
                  <a:srgbClr val="3366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6" name="">
            <a:hlinkClick r:id="rId3" action="ppaction://hlinksldjump"/>
          </p:cNvPr>
          <p:cNvSpPr/>
          <p:nvPr/>
        </p:nvSpPr>
        <p:spPr>
          <a:xfrm>
            <a:off x="8388360" y="6130800"/>
            <a:ext cx="684360" cy="68292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82920"/>
              <a:gd name="textAreaBottom" fmla="*/ 638640 h 682920"/>
            </a:gdLst>
            <a:ahLst/>
            <a:rect l="textAreaLeft" t="textAreaTop" r="textAreaRight" b="textAreaBottom"/>
            <a:pathLst>
              <a:path w="21646" h="21600">
                <a:moveTo>
                  <a:pt x="0" y="0"/>
                </a:moveTo>
                <a:lnTo>
                  <a:pt x="21646" y="0"/>
                </a:lnTo>
                <a:lnTo>
                  <a:pt x="21646" y="21600"/>
                </a:lnTo>
                <a:lnTo>
                  <a:pt x="0" y="21600"/>
                </a:lnTo>
                <a:close/>
              </a:path>
              <a:path fill="lightenLess" w="21646" h="21600">
                <a:moveTo>
                  <a:pt x="0" y="0"/>
                </a:moveTo>
                <a:lnTo>
                  <a:pt x="21646" y="0"/>
                </a:lnTo>
                <a:lnTo>
                  <a:pt x="20246" y="1400"/>
                </a:lnTo>
                <a:lnTo>
                  <a:pt x="1400" y="1400"/>
                </a:lnTo>
                <a:close/>
              </a:path>
              <a:path fill="darken" w="21646" h="21600">
                <a:moveTo>
                  <a:pt x="21646" y="0"/>
                </a:moveTo>
                <a:lnTo>
                  <a:pt x="21646" y="21600"/>
                </a:lnTo>
                <a:lnTo>
                  <a:pt x="20246" y="20200"/>
                </a:lnTo>
                <a:lnTo>
                  <a:pt x="20246" y="1400"/>
                </a:lnTo>
                <a:close/>
              </a:path>
              <a:path fill="darkenLess" w="21646" h="21600">
                <a:moveTo>
                  <a:pt x="21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6" y="20200"/>
                </a:lnTo>
                <a:close/>
              </a:path>
              <a:path fill="lighten" w="21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6" h="21600">
                <a:moveTo>
                  <a:pt x="3816" y="7493"/>
                </a:moveTo>
                <a:lnTo>
                  <a:pt x="7324" y="7493"/>
                </a:lnTo>
                <a:lnTo>
                  <a:pt x="7324" y="12828"/>
                </a:lnTo>
                <a:cubicBezTo>
                  <a:pt x="7324" y="13751"/>
                  <a:pt x="8125" y="14482"/>
                  <a:pt x="9160" y="14482"/>
                </a:cubicBezTo>
                <a:lnTo>
                  <a:pt x="10823" y="14482"/>
                </a:lnTo>
                <a:cubicBezTo>
                  <a:pt x="11859" y="14482"/>
                  <a:pt x="12659" y="13751"/>
                  <a:pt x="12659" y="12828"/>
                </a:cubicBezTo>
                <a:lnTo>
                  <a:pt x="12659" y="7493"/>
                </a:lnTo>
                <a:lnTo>
                  <a:pt x="10823" y="7493"/>
                </a:lnTo>
                <a:lnTo>
                  <a:pt x="14330" y="3985"/>
                </a:lnTo>
                <a:lnTo>
                  <a:pt x="18003" y="7493"/>
                </a:lnTo>
                <a:lnTo>
                  <a:pt x="16167" y="7493"/>
                </a:lnTo>
                <a:lnTo>
                  <a:pt x="16167" y="12828"/>
                </a:lnTo>
                <a:cubicBezTo>
                  <a:pt x="16167" y="15596"/>
                  <a:pt x="13591" y="18155"/>
                  <a:pt x="10823" y="18155"/>
                </a:cubicBezTo>
                <a:lnTo>
                  <a:pt x="9160" y="18155"/>
                </a:lnTo>
                <a:cubicBezTo>
                  <a:pt x="6393" y="18155"/>
                  <a:pt x="3816" y="15596"/>
                  <a:pt x="3816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dur="indefinite" fill="hold">
                      <p:stCondLst>
                        <p:cond delay="0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2484360" y="11592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458" name=""/>
          <p:cNvSpPr txBox="1"/>
          <p:nvPr/>
        </p:nvSpPr>
        <p:spPr>
          <a:xfrm rot="16020000">
            <a:off x="5668200" y="4205880"/>
            <a:ext cx="1800000" cy="19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Circle">
              <a:avLst>
                <a:gd name="adj" fmla="val 10860002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iccadilly  circus  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3682800" cy="49802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sp>
        <p:nvSpPr>
          <p:cNvPr id="460" name="">
            <a:hlinkClick r:id="rId2" action="ppaction://hlinksldjump"/>
          </p:cNvPr>
          <p:cNvSpPr/>
          <p:nvPr/>
        </p:nvSpPr>
        <p:spPr>
          <a:xfrm>
            <a:off x="8389800" y="6093000"/>
            <a:ext cx="719280" cy="64908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3935" h="21600">
                <a:moveTo>
                  <a:pt x="0" y="0"/>
                </a:moveTo>
                <a:lnTo>
                  <a:pt x="23935" y="0"/>
                </a:lnTo>
                <a:lnTo>
                  <a:pt x="23935" y="21600"/>
                </a:lnTo>
                <a:lnTo>
                  <a:pt x="0" y="21600"/>
                </a:lnTo>
                <a:close/>
              </a:path>
              <a:path fill="lightenLess" w="23935" h="21600">
                <a:moveTo>
                  <a:pt x="0" y="0"/>
                </a:moveTo>
                <a:lnTo>
                  <a:pt x="23935" y="0"/>
                </a:lnTo>
                <a:lnTo>
                  <a:pt x="22535" y="1400"/>
                </a:lnTo>
                <a:lnTo>
                  <a:pt x="1400" y="1400"/>
                </a:lnTo>
                <a:close/>
              </a:path>
              <a:path fill="darken" w="23935" h="21600">
                <a:moveTo>
                  <a:pt x="23935" y="0"/>
                </a:moveTo>
                <a:lnTo>
                  <a:pt x="23935" y="21600"/>
                </a:lnTo>
                <a:lnTo>
                  <a:pt x="22535" y="20200"/>
                </a:lnTo>
                <a:lnTo>
                  <a:pt x="22535" y="1400"/>
                </a:lnTo>
                <a:close/>
              </a:path>
              <a:path fill="darkenLess" w="23935" h="21600">
                <a:moveTo>
                  <a:pt x="2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35" y="20200"/>
                </a:lnTo>
                <a:close/>
              </a:path>
              <a:path fill="lighten" w="2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35" h="21600">
                <a:moveTo>
                  <a:pt x="4961" y="7493"/>
                </a:moveTo>
                <a:lnTo>
                  <a:pt x="8469" y="7493"/>
                </a:lnTo>
                <a:lnTo>
                  <a:pt x="8469" y="12828"/>
                </a:lnTo>
                <a:cubicBezTo>
                  <a:pt x="8469" y="13751"/>
                  <a:pt x="9269" y="14482"/>
                  <a:pt x="10305" y="14482"/>
                </a:cubicBezTo>
                <a:lnTo>
                  <a:pt x="11967" y="14482"/>
                </a:lnTo>
                <a:cubicBezTo>
                  <a:pt x="13003" y="14482"/>
                  <a:pt x="13804" y="13751"/>
                  <a:pt x="13804" y="12828"/>
                </a:cubicBezTo>
                <a:lnTo>
                  <a:pt x="13804" y="7493"/>
                </a:lnTo>
                <a:lnTo>
                  <a:pt x="11967" y="7493"/>
                </a:lnTo>
                <a:lnTo>
                  <a:pt x="15475" y="3985"/>
                </a:lnTo>
                <a:lnTo>
                  <a:pt x="19148" y="7493"/>
                </a:lnTo>
                <a:lnTo>
                  <a:pt x="17311" y="7493"/>
                </a:lnTo>
                <a:lnTo>
                  <a:pt x="17311" y="12828"/>
                </a:lnTo>
                <a:cubicBezTo>
                  <a:pt x="17311" y="15596"/>
                  <a:pt x="14735" y="18155"/>
                  <a:pt x="11967" y="18155"/>
                </a:cubicBezTo>
                <a:lnTo>
                  <a:pt x="10305" y="18155"/>
                </a:lnTo>
                <a:cubicBezTo>
                  <a:pt x="7537" y="18155"/>
                  <a:pt x="4961" y="15596"/>
                  <a:pt x="4961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4788000" y="981000"/>
            <a:ext cx="3552840" cy="28814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0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2556000" y="168120"/>
            <a:ext cx="430524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4148280" cy="4753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64" name=""/>
          <p:cNvSpPr txBox="1"/>
          <p:nvPr/>
        </p:nvSpPr>
        <p:spPr>
          <a:xfrm rot="20700000">
            <a:off x="5721480" y="4727520"/>
            <a:ext cx="286704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fafa06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TREAT or TRICK!"</a:t>
            </a:r>
            <a:endParaRPr b="0" lang="en-US" sz="2400" spc="1" strike="noStrike">
              <a:ln w="9360">
                <a:solidFill>
                  <a:srgbClr val="fafa06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5508720" y="1238400"/>
            <a:ext cx="2695320" cy="2695320"/>
          </a:xfrm>
          <a:prstGeom prst="rect">
            <a:avLst/>
          </a:prstGeom>
          <a:ln w="0">
            <a:noFill/>
          </a:ln>
        </p:spPr>
      </p:pic>
      <p:sp>
        <p:nvSpPr>
          <p:cNvPr id="466" name="">
            <a:hlinkClick r:id="rId3" action="ppaction://hlinksldjump"/>
          </p:cNvPr>
          <p:cNvSpPr/>
          <p:nvPr/>
        </p:nvSpPr>
        <p:spPr>
          <a:xfrm>
            <a:off x="8388360" y="6093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dur="indefinite" fill="hold">
                      <p:stCondLst>
                        <p:cond delay="0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2556000" y="11592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714240" y="1197000"/>
            <a:ext cx="4643640" cy="5256360"/>
          </a:xfrm>
          <a:prstGeom prst="rect">
            <a:avLst/>
          </a:prstGeom>
          <a:ln w="76320">
            <a:solidFill>
              <a:srgbClr val="cc0099"/>
            </a:solidFill>
            <a:miter/>
          </a:ln>
        </p:spPr>
      </p:pic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5643720" y="1197000"/>
            <a:ext cx="2313000" cy="3168720"/>
          </a:xfrm>
          <a:prstGeom prst="rect">
            <a:avLst/>
          </a:prstGeom>
          <a:ln w="76320">
            <a:solidFill>
              <a:srgbClr val="cc0099"/>
            </a:solidFill>
            <a:miter/>
          </a:ln>
        </p:spPr>
      </p:pic>
      <p:sp>
        <p:nvSpPr>
          <p:cNvPr id="470" name="">
            <a:hlinkClick r:id="rId3" action="ppaction://hlinksldjump"/>
          </p:cNvPr>
          <p:cNvSpPr/>
          <p:nvPr/>
        </p:nvSpPr>
        <p:spPr>
          <a:xfrm>
            <a:off x="8353440" y="6093000"/>
            <a:ext cx="755640" cy="684000"/>
          </a:xfrm>
          <a:custGeom>
            <a:avLst/>
            <a:gdLst>
              <a:gd name="textAreaLeft" fmla="*/ 44280 w 755640"/>
              <a:gd name="textAreaRight" fmla="*/ 711360 w 755640"/>
              <a:gd name="textAreaTop" fmla="*/ 44280 h 684000"/>
              <a:gd name="textAreaBottom" fmla="*/ 639720 h 684000"/>
            </a:gdLst>
            <a:ahLst/>
            <a:rect l="textAreaLeft" t="textAreaTop" r="textAreaRight" b="textAreaBottom"/>
            <a:pathLst>
              <a:path w="23861" h="21600">
                <a:moveTo>
                  <a:pt x="0" y="0"/>
                </a:moveTo>
                <a:lnTo>
                  <a:pt x="23861" y="0"/>
                </a:lnTo>
                <a:lnTo>
                  <a:pt x="23861" y="21600"/>
                </a:lnTo>
                <a:lnTo>
                  <a:pt x="0" y="21600"/>
                </a:lnTo>
                <a:close/>
              </a:path>
              <a:path fill="lightenLess" w="23861" h="21600">
                <a:moveTo>
                  <a:pt x="0" y="0"/>
                </a:moveTo>
                <a:lnTo>
                  <a:pt x="23861" y="0"/>
                </a:lnTo>
                <a:lnTo>
                  <a:pt x="22461" y="1400"/>
                </a:lnTo>
                <a:lnTo>
                  <a:pt x="1400" y="1400"/>
                </a:lnTo>
                <a:close/>
              </a:path>
              <a:path fill="darken" w="23861" h="21600">
                <a:moveTo>
                  <a:pt x="23861" y="0"/>
                </a:moveTo>
                <a:lnTo>
                  <a:pt x="23861" y="21600"/>
                </a:lnTo>
                <a:lnTo>
                  <a:pt x="22461" y="20200"/>
                </a:lnTo>
                <a:lnTo>
                  <a:pt x="22461" y="1400"/>
                </a:lnTo>
                <a:close/>
              </a:path>
              <a:path fill="darkenLess" w="23861" h="21600">
                <a:moveTo>
                  <a:pt x="23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61" y="20200"/>
                </a:lnTo>
                <a:close/>
              </a:path>
              <a:path fill="lighten" w="23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61" h="21600">
                <a:moveTo>
                  <a:pt x="4924" y="7493"/>
                </a:moveTo>
                <a:lnTo>
                  <a:pt x="8432" y="7493"/>
                </a:lnTo>
                <a:lnTo>
                  <a:pt x="8432" y="12828"/>
                </a:lnTo>
                <a:cubicBezTo>
                  <a:pt x="8432" y="13751"/>
                  <a:pt x="9232" y="14482"/>
                  <a:pt x="10268" y="14482"/>
                </a:cubicBezTo>
                <a:lnTo>
                  <a:pt x="11931" y="14482"/>
                </a:lnTo>
                <a:cubicBezTo>
                  <a:pt x="12966" y="14482"/>
                  <a:pt x="13767" y="13751"/>
                  <a:pt x="13767" y="12828"/>
                </a:cubicBezTo>
                <a:lnTo>
                  <a:pt x="13767" y="7493"/>
                </a:lnTo>
                <a:lnTo>
                  <a:pt x="11931" y="7493"/>
                </a:lnTo>
                <a:lnTo>
                  <a:pt x="15438" y="3985"/>
                </a:lnTo>
                <a:lnTo>
                  <a:pt x="19111" y="7493"/>
                </a:lnTo>
                <a:lnTo>
                  <a:pt x="17275" y="7493"/>
                </a:lnTo>
                <a:lnTo>
                  <a:pt x="17275" y="12828"/>
                </a:lnTo>
                <a:cubicBezTo>
                  <a:pt x="17275" y="15596"/>
                  <a:pt x="14698" y="18155"/>
                  <a:pt x="11931" y="18155"/>
                </a:cubicBezTo>
                <a:lnTo>
                  <a:pt x="10268" y="18155"/>
                </a:lnTo>
                <a:cubicBezTo>
                  <a:pt x="7500" y="18155"/>
                  <a:pt x="4924" y="15596"/>
                  <a:pt x="4924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5715000" y="4786200"/>
            <a:ext cx="2238480" cy="925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LIZABETH  II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dur="indefinite" fill="hold">
                      <p:stCondLst>
                        <p:cond delay="0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 fill="hold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241128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3619440" cy="446400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5076720" y="1052640"/>
            <a:ext cx="3027600" cy="295272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  <p:sp>
        <p:nvSpPr>
          <p:cNvPr id="475" name="">
            <a:hlinkClick r:id="rId3" action="ppaction://hlinksldjump"/>
          </p:cNvPr>
          <p:cNvSpPr/>
          <p:nvPr/>
        </p:nvSpPr>
        <p:spPr>
          <a:xfrm>
            <a:off x="8388360" y="6093000"/>
            <a:ext cx="720720" cy="684000"/>
          </a:xfrm>
          <a:custGeom>
            <a:avLst/>
            <a:gdLst>
              <a:gd name="textAreaLeft" fmla="*/ 44280 w 720720"/>
              <a:gd name="textAreaRight" fmla="*/ 676440 w 720720"/>
              <a:gd name="textAreaTop" fmla="*/ 44280 h 684000"/>
              <a:gd name="textAreaBottom" fmla="*/ 639720 h 684000"/>
            </a:gdLst>
            <a:ahLst/>
            <a:rect l="textAreaLeft" t="textAreaTop" r="textAreaRight" b="textAreaBottom"/>
            <a:pathLst>
              <a:path w="22759" h="21600">
                <a:moveTo>
                  <a:pt x="0" y="0"/>
                </a:moveTo>
                <a:lnTo>
                  <a:pt x="22759" y="0"/>
                </a:lnTo>
                <a:lnTo>
                  <a:pt x="22759" y="21600"/>
                </a:lnTo>
                <a:lnTo>
                  <a:pt x="0" y="21600"/>
                </a:lnTo>
                <a:close/>
              </a:path>
              <a:path fill="lightenLess" w="22759" h="21600">
                <a:moveTo>
                  <a:pt x="0" y="0"/>
                </a:moveTo>
                <a:lnTo>
                  <a:pt x="22759" y="0"/>
                </a:lnTo>
                <a:lnTo>
                  <a:pt x="21359" y="1400"/>
                </a:lnTo>
                <a:lnTo>
                  <a:pt x="1400" y="1400"/>
                </a:lnTo>
                <a:close/>
              </a:path>
              <a:path fill="darken" w="22759" h="21600">
                <a:moveTo>
                  <a:pt x="22759" y="0"/>
                </a:moveTo>
                <a:lnTo>
                  <a:pt x="22759" y="21600"/>
                </a:lnTo>
                <a:lnTo>
                  <a:pt x="21359" y="20200"/>
                </a:lnTo>
                <a:lnTo>
                  <a:pt x="21359" y="1400"/>
                </a:lnTo>
                <a:close/>
              </a:path>
              <a:path fill="darkenLess" w="22759" h="21600">
                <a:moveTo>
                  <a:pt x="22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59" y="20200"/>
                </a:lnTo>
                <a:close/>
              </a:path>
              <a:path fill="lighten" w="22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59" h="21600">
                <a:moveTo>
                  <a:pt x="4373" y="7493"/>
                </a:moveTo>
                <a:lnTo>
                  <a:pt x="7881" y="7493"/>
                </a:lnTo>
                <a:lnTo>
                  <a:pt x="7881" y="12828"/>
                </a:lnTo>
                <a:cubicBezTo>
                  <a:pt x="7881" y="13751"/>
                  <a:pt x="8681" y="14482"/>
                  <a:pt x="9717" y="14482"/>
                </a:cubicBezTo>
                <a:lnTo>
                  <a:pt x="11379" y="14482"/>
                </a:lnTo>
                <a:cubicBezTo>
                  <a:pt x="12415" y="14482"/>
                  <a:pt x="13216" y="13751"/>
                  <a:pt x="13216" y="12828"/>
                </a:cubicBezTo>
                <a:lnTo>
                  <a:pt x="13216" y="7493"/>
                </a:lnTo>
                <a:lnTo>
                  <a:pt x="11379" y="7493"/>
                </a:lnTo>
                <a:lnTo>
                  <a:pt x="14887" y="3985"/>
                </a:lnTo>
                <a:lnTo>
                  <a:pt x="18560" y="7493"/>
                </a:lnTo>
                <a:lnTo>
                  <a:pt x="16724" y="7493"/>
                </a:lnTo>
                <a:lnTo>
                  <a:pt x="16724" y="12828"/>
                </a:lnTo>
                <a:cubicBezTo>
                  <a:pt x="16724" y="15596"/>
                  <a:pt x="14147" y="18155"/>
                  <a:pt x="11379" y="18155"/>
                </a:cubicBezTo>
                <a:lnTo>
                  <a:pt x="9717" y="18155"/>
                </a:lnTo>
                <a:cubicBezTo>
                  <a:pt x="6949" y="18155"/>
                  <a:pt x="4373" y="15596"/>
                  <a:pt x="4373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47640" y="5516640"/>
            <a:ext cx="26449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a0c"/>
                </a:solidFill>
                <a:latin typeface="Times New Roman"/>
              </a:rPr>
              <a:t>Alan Milne</a:t>
            </a:r>
            <a:r>
              <a:rPr b="0" lang="en-US" sz="2800" spc="-1" strike="noStrike">
                <a:solidFill>
                  <a:srgbClr val="fffa0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1882-1956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92720" y="4437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innie-the-Poor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926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2556000" y="18900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4392720" cy="327816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5796000" y="1197000"/>
            <a:ext cx="2376360" cy="25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81" name="" descr=""/>
          <p:cNvPicPr/>
          <p:nvPr/>
        </p:nvPicPr>
        <p:blipFill>
          <a:blip r:embed="rId3"/>
          <a:stretch/>
        </p:blipFill>
        <p:spPr>
          <a:xfrm>
            <a:off x="5651640" y="4076640"/>
            <a:ext cx="2850840" cy="2448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482" name="">
            <a:hlinkClick r:id="rId4" action="ppaction://hlinksldjump"/>
          </p:cNvPr>
          <p:cNvSpPr/>
          <p:nvPr/>
        </p:nvSpPr>
        <p:spPr>
          <a:xfrm>
            <a:off x="8388360" y="6173640"/>
            <a:ext cx="755640" cy="684360"/>
          </a:xfrm>
          <a:custGeom>
            <a:avLst/>
            <a:gdLst>
              <a:gd name="textAreaLeft" fmla="*/ 44280 w 755640"/>
              <a:gd name="textAreaRight" fmla="*/ 711360 w 755640"/>
              <a:gd name="textAreaTop" fmla="*/ 44280 h 684360"/>
              <a:gd name="textAreaBottom" fmla="*/ 640080 h 684360"/>
            </a:gdLst>
            <a:ahLst/>
            <a:rect l="textAreaLeft" t="textAreaTop" r="textAreaRight" b="textAreaBottom"/>
            <a:pathLst>
              <a:path w="23849" h="21600">
                <a:moveTo>
                  <a:pt x="0" y="0"/>
                </a:moveTo>
                <a:lnTo>
                  <a:pt x="23849" y="0"/>
                </a:lnTo>
                <a:lnTo>
                  <a:pt x="23849" y="21600"/>
                </a:lnTo>
                <a:lnTo>
                  <a:pt x="0" y="21600"/>
                </a:lnTo>
                <a:close/>
              </a:path>
              <a:path fill="lightenLess" w="23849" h="21600">
                <a:moveTo>
                  <a:pt x="0" y="0"/>
                </a:moveTo>
                <a:lnTo>
                  <a:pt x="23849" y="0"/>
                </a:lnTo>
                <a:lnTo>
                  <a:pt x="22449" y="1400"/>
                </a:lnTo>
                <a:lnTo>
                  <a:pt x="1400" y="1400"/>
                </a:lnTo>
                <a:close/>
              </a:path>
              <a:path fill="darken" w="23849" h="21600">
                <a:moveTo>
                  <a:pt x="23849" y="0"/>
                </a:moveTo>
                <a:lnTo>
                  <a:pt x="23849" y="21600"/>
                </a:lnTo>
                <a:lnTo>
                  <a:pt x="22449" y="20200"/>
                </a:lnTo>
                <a:lnTo>
                  <a:pt x="22449" y="1400"/>
                </a:lnTo>
                <a:close/>
              </a:path>
              <a:path fill="darkenLess" w="23849" h="21600">
                <a:moveTo>
                  <a:pt x="23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49" y="20200"/>
                </a:lnTo>
                <a:close/>
              </a:path>
              <a:path fill="lighten" w="23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49" h="21600">
                <a:moveTo>
                  <a:pt x="4918" y="7493"/>
                </a:moveTo>
                <a:lnTo>
                  <a:pt x="8425" y="7493"/>
                </a:lnTo>
                <a:lnTo>
                  <a:pt x="8425" y="12828"/>
                </a:lnTo>
                <a:cubicBezTo>
                  <a:pt x="8425" y="13751"/>
                  <a:pt x="9226" y="14482"/>
                  <a:pt x="10262" y="14482"/>
                </a:cubicBezTo>
                <a:lnTo>
                  <a:pt x="11924" y="14482"/>
                </a:lnTo>
                <a:cubicBezTo>
                  <a:pt x="12960" y="14482"/>
                  <a:pt x="13761" y="13751"/>
                  <a:pt x="13761" y="12828"/>
                </a:cubicBezTo>
                <a:lnTo>
                  <a:pt x="13761" y="7493"/>
                </a:lnTo>
                <a:lnTo>
                  <a:pt x="11924" y="7493"/>
                </a:lnTo>
                <a:lnTo>
                  <a:pt x="15432" y="3985"/>
                </a:lnTo>
                <a:lnTo>
                  <a:pt x="19105" y="7493"/>
                </a:lnTo>
                <a:lnTo>
                  <a:pt x="17268" y="7493"/>
                </a:lnTo>
                <a:lnTo>
                  <a:pt x="17268" y="12828"/>
                </a:lnTo>
                <a:cubicBezTo>
                  <a:pt x="17268" y="15596"/>
                  <a:pt x="14692" y="18155"/>
                  <a:pt x="11924" y="18155"/>
                </a:cubicBezTo>
                <a:lnTo>
                  <a:pt x="10262" y="18155"/>
                </a:lnTo>
                <a:cubicBezTo>
                  <a:pt x="7494" y="18155"/>
                  <a:pt x="4918" y="15596"/>
                  <a:pt x="4918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664280" y="5430960"/>
            <a:ext cx="29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St. James’s Par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2484360" y="18900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1258920" y="1052640"/>
            <a:ext cx="2805120" cy="3525840"/>
            <a:chOff x="1258920" y="1052640"/>
            <a:chExt cx="2805120" cy="3525840"/>
          </a:xfrm>
        </p:grpSpPr>
        <p:pic>
          <p:nvPicPr>
            <p:cNvPr id="486" name="" descr=""/>
            <p:cNvPicPr/>
            <p:nvPr/>
          </p:nvPicPr>
          <p:blipFill>
            <a:blip r:embed="rId1"/>
            <a:stretch/>
          </p:blipFill>
          <p:spPr>
            <a:xfrm>
              <a:off x="1258920" y="2975040"/>
              <a:ext cx="2805120" cy="16034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pic>
          <p:nvPicPr>
            <p:cNvPr id="487" name="" descr=""/>
            <p:cNvPicPr/>
            <p:nvPr/>
          </p:nvPicPr>
          <p:blipFill>
            <a:blip r:embed="rId2"/>
            <a:stretch/>
          </p:blipFill>
          <p:spPr>
            <a:xfrm>
              <a:off x="1258920" y="1052640"/>
              <a:ext cx="2805120" cy="19746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</p:grpSp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4284720" y="1125360"/>
            <a:ext cx="3564000" cy="35276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489" name="" descr=""/>
          <p:cNvPicPr/>
          <p:nvPr/>
        </p:nvPicPr>
        <p:blipFill>
          <a:blip r:embed="rId4"/>
          <a:stretch/>
        </p:blipFill>
        <p:spPr>
          <a:xfrm>
            <a:off x="1258920" y="4722840"/>
            <a:ext cx="2808360" cy="15145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490" name=""/>
          <p:cNvSpPr txBox="1"/>
          <p:nvPr/>
        </p:nvSpPr>
        <p:spPr>
          <a:xfrm>
            <a:off x="4925880" y="5229360"/>
            <a:ext cx="2238480" cy="61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fffa0c"/>
                  </a:solidFill>
                  <a:miter/>
                </a:ln>
                <a:solidFill>
                  <a:srgbClr val="fffa0c"/>
                </a:solidFill>
                <a:latin typeface="Times New Roman"/>
              </a:rPr>
              <a:t>The Thames</a:t>
            </a:r>
            <a:endParaRPr b="0" lang="en-US" sz="2400" spc="1" strike="noStrike">
              <a:ln w="9360">
                <a:solidFill>
                  <a:srgbClr val="fffa0c"/>
                </a:solidFill>
                <a:miter/>
              </a:ln>
              <a:solidFill>
                <a:srgbClr val="fffa0c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85800" y="662040"/>
            <a:ext cx="777240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</a:t>
            </a:r>
            <a:r>
              <a:rPr b="0" lang="en-US" sz="44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What colour are the buses and telephone boxes</a:t>
            </a:r>
            <a:r>
              <a:rPr b="0" lang="ru-RU" sz="44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in Britain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red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 algn="just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yellow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 algn="just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ed and blue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lack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14" name="">
            <a:hlinkClick r:id="rId5" action="ppaction://hlinksldjump"/>
          </p:cNvPr>
          <p:cNvSpPr/>
          <p:nvPr/>
        </p:nvSpPr>
        <p:spPr>
          <a:xfrm>
            <a:off x="8172360" y="616572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10800" y="1481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2">
                <a:moveTo>
                  <a:pt x="11905" y="14287"/>
                </a:moveTo>
                <a:lnTo>
                  <a:pt x="11905" y="12329"/>
                </a:lnTo>
                <a:cubicBezTo>
                  <a:pt x="11905" y="11502"/>
                  <a:pt x="12236" y="10806"/>
                  <a:pt x="12837" y="10806"/>
                </a:cubicBezTo>
                <a:cubicBezTo>
                  <a:pt x="13968" y="10806"/>
                  <a:pt x="14865" y="9440"/>
                  <a:pt x="14865" y="7855"/>
                </a:cubicBezTo>
                <a:cubicBezTo>
                  <a:pt x="14865" y="5540"/>
                  <a:pt x="13011" y="3800"/>
                  <a:pt x="10800" y="3800"/>
                </a:cubicBezTo>
                <a:cubicBezTo>
                  <a:pt x="8589" y="3800"/>
                  <a:pt x="6918" y="5540"/>
                  <a:pt x="6918" y="7855"/>
                </a:cubicBezTo>
                <a:lnTo>
                  <a:pt x="8772" y="7855"/>
                </a:lnTo>
                <a:cubicBezTo>
                  <a:pt x="8772" y="6715"/>
                  <a:pt x="9695" y="5827"/>
                  <a:pt x="10800" y="5827"/>
                </a:cubicBezTo>
                <a:cubicBezTo>
                  <a:pt x="11905" y="5827"/>
                  <a:pt x="12837" y="6715"/>
                  <a:pt x="12837" y="7855"/>
                </a:cubicBezTo>
                <a:cubicBezTo>
                  <a:pt x="12837" y="8595"/>
                  <a:pt x="12367" y="9326"/>
                  <a:pt x="11905" y="9326"/>
                </a:cubicBezTo>
                <a:cubicBezTo>
                  <a:pt x="10800" y="9326"/>
                  <a:pt x="9695" y="10806"/>
                  <a:pt x="9695" y="12329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2340000" y="11592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2340000" y="3500280"/>
            <a:ext cx="4680000" cy="269568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 txBox="1"/>
          <p:nvPr/>
        </p:nvSpPr>
        <p:spPr>
          <a:xfrm>
            <a:off x="2495520" y="1557360"/>
            <a:ext cx="428616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What's your score?</a:t>
            </a:r>
            <a:endParaRPr b="0" lang="en-US" sz="2400" spc="1" strike="noStrike">
              <a:ln w="9360">
                <a:solidFill>
                  <a:srgbClr val="eaeaea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524720" y="6165720"/>
            <a:ext cx="1224000" cy="432000"/>
          </a:xfrm>
          <a:prstGeom prst="rect">
            <a:avLst/>
          </a:prstGeom>
          <a:solidFill>
            <a:srgbClr val="c9c6b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KE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241128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1368360" cy="85896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 txBox="1"/>
          <p:nvPr/>
        </p:nvSpPr>
        <p:spPr>
          <a:xfrm>
            <a:off x="3433680" y="1052640"/>
            <a:ext cx="20480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THE  KE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835280" y="1700280"/>
            <a:ext cx="5331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396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  - 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1 - 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3960">
              <a:buClr>
                <a:srgbClr val="eaeaea"/>
              </a:buClr>
              <a:buFont typeface="Times New Roman"/>
              <a:buAutoNum type="arabicPlain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 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2 - 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3960">
              <a:buClr>
                <a:srgbClr val="eaeaea"/>
              </a:buClr>
              <a:buFont typeface="Times New Roman"/>
              <a:buAutoNum type="arabicPlain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 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3 - 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3960">
              <a:buClr>
                <a:srgbClr val="eaeaea"/>
              </a:buClr>
              <a:buFont typeface="Times New Roman"/>
              <a:buAutoNum type="arabicPlain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 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4 - 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3960">
              <a:buClr>
                <a:srgbClr val="eaeaea"/>
              </a:buClr>
              <a:buFont typeface="Times New Roman"/>
              <a:buAutoNum type="arabicPlain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 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5 - 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3960">
              <a:buClr>
                <a:srgbClr val="eaeaea"/>
              </a:buClr>
              <a:buFont typeface="Times New Roman"/>
              <a:buAutoNum type="arabicPlain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 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6 - 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3960">
              <a:buClr>
                <a:srgbClr val="eaeaea"/>
              </a:buClr>
              <a:buFont typeface="Times New Roman"/>
              <a:buAutoNum type="arabicPlain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 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7 - 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3960">
              <a:buClr>
                <a:srgbClr val="eaeaea"/>
              </a:buClr>
              <a:buFont typeface="Times New Roman"/>
              <a:buAutoNum type="arabicPlain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 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8 - 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3960">
              <a:buClr>
                <a:srgbClr val="eaeaea"/>
              </a:buClr>
              <a:buFont typeface="Times New Roman"/>
              <a:buAutoNum type="arabicPlain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 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9 - 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3960">
              <a:buClr>
                <a:srgbClr val="eaeaea"/>
              </a:buClr>
              <a:buFont typeface="Times New Roman"/>
              <a:buAutoNum type="arabicPlain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 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0 - 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The Westminster Abbey i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a museum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a royal church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a park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a gallery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18" name="">
            <a:hlinkClick r:id="rId5" action="ppaction://hlinksldjump"/>
          </p:cNvPr>
          <p:cNvSpPr/>
          <p:nvPr/>
        </p:nvSpPr>
        <p:spPr>
          <a:xfrm>
            <a:off x="8139240" y="6237360"/>
            <a:ext cx="609480" cy="576360"/>
          </a:xfrm>
          <a:custGeom>
            <a:avLst/>
            <a:gdLst>
              <a:gd name="textAreaLeft" fmla="*/ 37080 w 609480"/>
              <a:gd name="textAreaRight" fmla="*/ 572400 w 6094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2840" h="21600">
                <a:moveTo>
                  <a:pt x="0" y="0"/>
                </a:moveTo>
                <a:lnTo>
                  <a:pt x="22840" y="0"/>
                </a:lnTo>
                <a:lnTo>
                  <a:pt x="22840" y="21600"/>
                </a:lnTo>
                <a:lnTo>
                  <a:pt x="0" y="21600"/>
                </a:lnTo>
                <a:close/>
              </a:path>
              <a:path fill="lightenLess" w="22840" h="21600">
                <a:moveTo>
                  <a:pt x="0" y="0"/>
                </a:moveTo>
                <a:lnTo>
                  <a:pt x="22840" y="0"/>
                </a:lnTo>
                <a:lnTo>
                  <a:pt x="21440" y="1400"/>
                </a:lnTo>
                <a:lnTo>
                  <a:pt x="1400" y="1400"/>
                </a:lnTo>
                <a:close/>
              </a:path>
              <a:path fill="darken" w="22840" h="21600">
                <a:moveTo>
                  <a:pt x="22840" y="0"/>
                </a:moveTo>
                <a:lnTo>
                  <a:pt x="22840" y="21600"/>
                </a:lnTo>
                <a:lnTo>
                  <a:pt x="21440" y="20200"/>
                </a:lnTo>
                <a:lnTo>
                  <a:pt x="21440" y="1400"/>
                </a:lnTo>
                <a:close/>
              </a:path>
              <a:path fill="darkenLess" w="22840" h="21600">
                <a:moveTo>
                  <a:pt x="228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40" y="20200"/>
                </a:lnTo>
                <a:close/>
              </a:path>
              <a:path fill="lighten" w="228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40" h="21600">
                <a:moveTo>
                  <a:pt x="114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840" h="21600">
                <a:moveTo>
                  <a:pt x="12526" y="14281"/>
                </a:moveTo>
                <a:lnTo>
                  <a:pt x="12526" y="12323"/>
                </a:lnTo>
                <a:cubicBezTo>
                  <a:pt x="12526" y="11496"/>
                  <a:pt x="12856" y="10800"/>
                  <a:pt x="13457" y="10800"/>
                </a:cubicBezTo>
                <a:cubicBezTo>
                  <a:pt x="14588" y="10800"/>
                  <a:pt x="15485" y="9434"/>
                  <a:pt x="15485" y="7849"/>
                </a:cubicBezTo>
                <a:cubicBezTo>
                  <a:pt x="15485" y="5534"/>
                  <a:pt x="13631" y="3794"/>
                  <a:pt x="11420" y="3794"/>
                </a:cubicBezTo>
                <a:cubicBezTo>
                  <a:pt x="9209" y="3794"/>
                  <a:pt x="7538" y="5534"/>
                  <a:pt x="7538" y="7849"/>
                </a:cubicBezTo>
                <a:lnTo>
                  <a:pt x="9392" y="7849"/>
                </a:lnTo>
                <a:cubicBezTo>
                  <a:pt x="9392" y="6709"/>
                  <a:pt x="10315" y="5821"/>
                  <a:pt x="11420" y="5821"/>
                </a:cubicBezTo>
                <a:cubicBezTo>
                  <a:pt x="12526" y="5821"/>
                  <a:pt x="13457" y="6709"/>
                  <a:pt x="13457" y="7849"/>
                </a:cubicBezTo>
                <a:cubicBezTo>
                  <a:pt x="13457" y="8589"/>
                  <a:pt x="12987" y="9320"/>
                  <a:pt x="12526" y="9320"/>
                </a:cubicBezTo>
                <a:cubicBezTo>
                  <a:pt x="11420" y="9320"/>
                  <a:pt x="10315" y="10800"/>
                  <a:pt x="10315" y="12323"/>
                </a:cubicBezTo>
                <a:lnTo>
                  <a:pt x="10315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4360" y="70164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The first Englishman in Russia wa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Admiral Nelson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Rudyard Kipling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Richard Chancellor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William Hogarth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22" name="">
            <a:hlinkClick r:id="rId5" action="ppaction://hlinksldjump"/>
          </p:cNvPr>
          <p:cNvSpPr/>
          <p:nvPr/>
        </p:nvSpPr>
        <p:spPr>
          <a:xfrm>
            <a:off x="8170920" y="621036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48" h="21600">
                <a:moveTo>
                  <a:pt x="11929" y="14281"/>
                </a:moveTo>
                <a:lnTo>
                  <a:pt x="11929" y="12323"/>
                </a:lnTo>
                <a:cubicBezTo>
                  <a:pt x="11929" y="11496"/>
                  <a:pt x="12260" y="10800"/>
                  <a:pt x="12861" y="10800"/>
                </a:cubicBezTo>
                <a:cubicBezTo>
                  <a:pt x="13992" y="10800"/>
                  <a:pt x="14889" y="9434"/>
                  <a:pt x="14889" y="7849"/>
                </a:cubicBezTo>
                <a:cubicBezTo>
                  <a:pt x="14889" y="5534"/>
                  <a:pt x="13035" y="3794"/>
                  <a:pt x="10824" y="3794"/>
                </a:cubicBezTo>
                <a:cubicBezTo>
                  <a:pt x="8613" y="3794"/>
                  <a:pt x="6942" y="5534"/>
                  <a:pt x="6942" y="7849"/>
                </a:cubicBezTo>
                <a:lnTo>
                  <a:pt x="8796" y="7849"/>
                </a:lnTo>
                <a:cubicBezTo>
                  <a:pt x="8796" y="6709"/>
                  <a:pt x="9719" y="5821"/>
                  <a:pt x="10824" y="5821"/>
                </a:cubicBezTo>
                <a:cubicBezTo>
                  <a:pt x="11929" y="5821"/>
                  <a:pt x="12861" y="6709"/>
                  <a:pt x="12861" y="7849"/>
                </a:cubicBezTo>
                <a:cubicBezTo>
                  <a:pt x="12861" y="8589"/>
                  <a:pt x="12391" y="9320"/>
                  <a:pt x="11929" y="9320"/>
                </a:cubicBezTo>
                <a:cubicBezTo>
                  <a:pt x="10824" y="9320"/>
                  <a:pt x="9719" y="10800"/>
                  <a:pt x="9719" y="12323"/>
                </a:cubicBezTo>
                <a:lnTo>
                  <a:pt x="9719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685800" y="54144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Agatha Christie wrote</a:t>
            </a:r>
            <a:r>
              <a:rPr b="0" lang="en-US" sz="60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…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detective stories</a:t>
            </a:r>
            <a:r>
              <a:rPr b="0" lang="ru-RU" sz="32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45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 algn="just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55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 algn="just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65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75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26" name="">
            <a:hlinkClick r:id="rId5" action="ppaction://hlinksldjump"/>
          </p:cNvPr>
          <p:cNvSpPr/>
          <p:nvPr/>
        </p:nvSpPr>
        <p:spPr>
          <a:xfrm>
            <a:off x="8172360" y="623736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270" h="21600">
                <a:moveTo>
                  <a:pt x="13240" y="14281"/>
                </a:moveTo>
                <a:lnTo>
                  <a:pt x="13240" y="12323"/>
                </a:lnTo>
                <a:cubicBezTo>
                  <a:pt x="13240" y="11496"/>
                  <a:pt x="13571" y="10800"/>
                  <a:pt x="14171" y="10800"/>
                </a:cubicBezTo>
                <a:cubicBezTo>
                  <a:pt x="15303" y="10800"/>
                  <a:pt x="16199" y="9434"/>
                  <a:pt x="16199" y="7849"/>
                </a:cubicBezTo>
                <a:cubicBezTo>
                  <a:pt x="16199" y="5534"/>
                  <a:pt x="14346" y="3794"/>
                  <a:pt x="12135" y="3794"/>
                </a:cubicBezTo>
                <a:cubicBezTo>
                  <a:pt x="9924" y="3794"/>
                  <a:pt x="8253" y="5534"/>
                  <a:pt x="8253" y="7849"/>
                </a:cubicBezTo>
                <a:lnTo>
                  <a:pt x="10107" y="7849"/>
                </a:lnTo>
                <a:cubicBezTo>
                  <a:pt x="10107" y="6709"/>
                  <a:pt x="11029" y="5821"/>
                  <a:pt x="12135" y="5821"/>
                </a:cubicBezTo>
                <a:cubicBezTo>
                  <a:pt x="13240" y="5821"/>
                  <a:pt x="14171" y="6709"/>
                  <a:pt x="14171" y="7849"/>
                </a:cubicBezTo>
                <a:cubicBezTo>
                  <a:pt x="14171" y="8589"/>
                  <a:pt x="13701" y="9320"/>
                  <a:pt x="13240" y="9320"/>
                </a:cubicBezTo>
                <a:cubicBezTo>
                  <a:pt x="12135" y="9320"/>
                  <a:pt x="11029" y="10800"/>
                  <a:pt x="11029" y="12323"/>
                </a:cubicBezTo>
                <a:lnTo>
                  <a:pt x="11029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The symbol of England i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 algn="just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a shamrock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a daffodil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 algn="just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a rose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a thistle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30" name="">
            <a:hlinkClick r:id="rId5" action="ppaction://hlinksldjump"/>
          </p:cNvPr>
          <p:cNvSpPr/>
          <p:nvPr/>
        </p:nvSpPr>
        <p:spPr>
          <a:xfrm>
            <a:off x="8170920" y="621036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48" h="21600">
                <a:moveTo>
                  <a:pt x="11929" y="14281"/>
                </a:moveTo>
                <a:lnTo>
                  <a:pt x="11929" y="12323"/>
                </a:lnTo>
                <a:cubicBezTo>
                  <a:pt x="11929" y="11496"/>
                  <a:pt x="12260" y="10800"/>
                  <a:pt x="12861" y="10800"/>
                </a:cubicBezTo>
                <a:cubicBezTo>
                  <a:pt x="13992" y="10800"/>
                  <a:pt x="14889" y="9434"/>
                  <a:pt x="14889" y="7849"/>
                </a:cubicBezTo>
                <a:cubicBezTo>
                  <a:pt x="14889" y="5534"/>
                  <a:pt x="13035" y="3794"/>
                  <a:pt x="10824" y="3794"/>
                </a:cubicBezTo>
                <a:cubicBezTo>
                  <a:pt x="8613" y="3794"/>
                  <a:pt x="6942" y="5534"/>
                  <a:pt x="6942" y="7849"/>
                </a:cubicBezTo>
                <a:lnTo>
                  <a:pt x="8796" y="7849"/>
                </a:lnTo>
                <a:cubicBezTo>
                  <a:pt x="8796" y="6709"/>
                  <a:pt x="9719" y="5821"/>
                  <a:pt x="10824" y="5821"/>
                </a:cubicBezTo>
                <a:cubicBezTo>
                  <a:pt x="11929" y="5821"/>
                  <a:pt x="12861" y="6709"/>
                  <a:pt x="12861" y="7849"/>
                </a:cubicBezTo>
                <a:cubicBezTo>
                  <a:pt x="12861" y="8589"/>
                  <a:pt x="12391" y="9320"/>
                  <a:pt x="11929" y="9320"/>
                </a:cubicBezTo>
                <a:cubicBezTo>
                  <a:pt x="10824" y="9320"/>
                  <a:pt x="9719" y="10800"/>
                  <a:pt x="9719" y="12323"/>
                </a:cubicBezTo>
                <a:lnTo>
                  <a:pt x="9719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.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He was a film actor</a:t>
            </a:r>
            <a:r>
              <a:rPr b="0" lang="ru-RU" sz="44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 algn="just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Athur Conan Doyle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Charlie Chaplin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 algn="just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Isaak Newton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Alexander Bell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419200" y="18900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BE THE BEST!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334" name="">
            <a:hlinkClick r:id="rId5" action="ppaction://hlinksldjump"/>
          </p:cNvPr>
          <p:cNvSpPr/>
          <p:nvPr/>
        </p:nvSpPr>
        <p:spPr>
          <a:xfrm>
            <a:off x="8101080" y="616572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10800" y="1481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2">
                <a:moveTo>
                  <a:pt x="11905" y="14287"/>
                </a:moveTo>
                <a:lnTo>
                  <a:pt x="11905" y="12329"/>
                </a:lnTo>
                <a:cubicBezTo>
                  <a:pt x="11905" y="11502"/>
                  <a:pt x="12236" y="10806"/>
                  <a:pt x="12837" y="10806"/>
                </a:cubicBezTo>
                <a:cubicBezTo>
                  <a:pt x="13968" y="10806"/>
                  <a:pt x="14865" y="9440"/>
                  <a:pt x="14865" y="7855"/>
                </a:cubicBezTo>
                <a:cubicBezTo>
                  <a:pt x="14865" y="5540"/>
                  <a:pt x="13011" y="3800"/>
                  <a:pt x="10800" y="3800"/>
                </a:cubicBezTo>
                <a:cubicBezTo>
                  <a:pt x="8589" y="3800"/>
                  <a:pt x="6918" y="5540"/>
                  <a:pt x="6918" y="7855"/>
                </a:cubicBezTo>
                <a:lnTo>
                  <a:pt x="8772" y="7855"/>
                </a:lnTo>
                <a:cubicBezTo>
                  <a:pt x="8772" y="6715"/>
                  <a:pt x="9695" y="5827"/>
                  <a:pt x="10800" y="5827"/>
                </a:cubicBezTo>
                <a:cubicBezTo>
                  <a:pt x="11905" y="5827"/>
                  <a:pt x="12837" y="6715"/>
                  <a:pt x="12837" y="7855"/>
                </a:cubicBezTo>
                <a:cubicBezTo>
                  <a:pt x="12837" y="8595"/>
                  <a:pt x="12367" y="9326"/>
                  <a:pt x="11905" y="9326"/>
                </a:cubicBezTo>
                <a:cubicBezTo>
                  <a:pt x="10800" y="9326"/>
                  <a:pt x="9695" y="10806"/>
                  <a:pt x="9695" y="12329"/>
                </a:cubicBezTo>
                <a:lnTo>
                  <a:pt x="9695" y="14287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09-02-14T16:21:01Z</dcterms:modified>
  <cp:revision>413</cp:revision>
  <dc:subject/>
  <dc:title>PowerPoint Presentation</dc:title>
</cp:coreProperties>
</file>