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8FA-796E-4296-A55D-24717FE0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434-99AA-44B7-8F76-2AE8894A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689-922B-4CA2-B432-903977ED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994-E076-4982-912D-80DFDF72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383-354D-4EB5-A354-5C0444A7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97E-56EA-42AF-BB62-3057F2E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145-0B1E-415B-9C65-4EB22B3F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E69-7A42-4264-BB24-9623B02B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907-1BDE-494F-8534-F3090CCA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FE7-7601-4B21-AB9D-6B0C4F68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D9F-B823-4891-AA42-DA8482C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19A-4061-4285-B098-B5E4B05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D61-8D74-4167-9391-F49BEB5E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C:\Documents and Settings\наталия\Мои документы\Учёба\для Наташи\Palace.of.westminster.ar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3"/>
          <a:stretch/>
        </p:blipFill>
        <p:spPr>
          <a:xfrm>
            <a:off x="493560" y="2401920"/>
            <a:ext cx="8242560" cy="1378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024F3BE3-80E3-4A0B-96FF-D1E2ABD71EDF_mw800_mh6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268360" y="0"/>
            <a:ext cx="48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It is difficult to speak about the centre of London as of centres, each with a distinct character: the financial and business centre called the City (spelt with a capital C), the shopping and entertainment centre in the West End, the government centre in Westmin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london_parlament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42920" y="214200"/>
            <a:ext cx="42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pposite the Houses of Parliament stands Westminster Abb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14280" y="1143000"/>
            <a:ext cx="6400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убанова Наталь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класс, МОУ «СОШ № 5 с УИОП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Старый Оскол Белгородской обла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крабалюк Елена Иванов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C:\Documents and Settings\наталия\Рабочий стол\лондон\www_textsite_1_1188548111.05_0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0" y="0"/>
            <a:ext cx="19288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The United Kingdom of Great Britain and Northern       Ireland is   situated on the       British  Isles</a:t>
            </a:r>
            <a:r>
              <a:rPr b="1" lang="ru-RU" sz="2200" spc="-1" strike="noStrike">
                <a:solidFill>
                  <a:srgbClr val="0d0d0d"/>
                </a:solidFill>
                <a:latin typeface="Segoe UI"/>
              </a:rPr>
              <a:t>.</a:t>
            </a:r>
            <a:r>
              <a:rPr b="1" lang="en-US" sz="2200" spc="-1" strike="noStrike">
                <a:solidFill>
                  <a:srgbClr val="c00000"/>
                </a:solidFill>
                <a:latin typeface="Script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6215040" y="200016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It consists of four parts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 England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 Wales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d0d0d"/>
                </a:solidFill>
                <a:latin typeface="Script MT Bold"/>
              </a:rPr>
              <a:t> Scotland and Northern Ireland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ast End Birds ey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785960" y="142920"/>
            <a:ext cx="614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The territory of the United Kingdom is about 244000 square kilometers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 population is over 56 million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57120" y="3071880"/>
            <a:ext cx="82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The mountains are not very high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 rivers are not very long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 most important of them are the Severn and the Thames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c000"/>
                </a:solidFill>
                <a:latin typeface="Script MT Bold"/>
              </a:rPr>
              <a:t> There are many beautiful lakes in the mountainous part of the coun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наталия\Мои документы\Учёба\для Наташи\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0" y="0"/>
            <a:ext cx="5929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The United Kingdom  is a monarchy and the Queen is the head of the state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But in practice it is ruled by the elected government with the Prime Minister at the head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The British Parliament consists  of two chambers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70c0"/>
                </a:solidFill>
                <a:latin typeface="Script MT Bold"/>
              </a:rPr>
              <a:t> the House of Lords and the House of Commons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наталия\Рабочий стол\картинки\4120_289071_photos_a1_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857160" y="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Script MT Bold"/>
              </a:rPr>
              <a:t>        </a:t>
            </a:r>
            <a:r>
              <a:rPr b="0" lang="en-US" sz="6000" spc="-1" strike="noStrike">
                <a:solidFill>
                  <a:srgbClr val="0d0d0d"/>
                </a:solidFill>
                <a:latin typeface="Script MT Bold"/>
              </a:rPr>
              <a:t>English me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00040" y="857160"/>
            <a:ext cx="828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Script MT Bold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The English usually have 4 meals a day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: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breakfast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,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lunch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,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 tea 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(5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o’clock</a:t>
            </a:r>
            <a:r>
              <a:rPr b="0" lang="ru-RU" sz="2600" spc="-1" strike="noStrike">
                <a:solidFill>
                  <a:srgbClr val="0d0d0d"/>
                </a:solidFill>
                <a:latin typeface="Bookman Old Style"/>
              </a:rPr>
              <a:t>) </a:t>
            </a:r>
            <a:r>
              <a:rPr b="0" lang="en-US" sz="2600" spc="-1" strike="noStrike">
                <a:solidFill>
                  <a:srgbClr val="0d0d0d"/>
                </a:solidFill>
                <a:latin typeface="Bookman Old Style"/>
              </a:rPr>
              <a:t>and dinner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214200" y="2025720"/>
            <a:ext cx="4286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Breakfast can be a full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English breakfast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»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of corn flakes with milk and sugar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or bacon and egg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toast and marmalad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tea or coffe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Some peopl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however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have just a cup of tea or coffee with a toast or something similar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This is usually called a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continental  breakfast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».</a:t>
            </a:r>
            <a:r>
              <a:rPr b="0" lang="en-US" sz="2600" spc="-1" strike="noStrike">
                <a:solidFill>
                  <a:srgbClr val="c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5214960" y="2000160"/>
            <a:ext cx="3571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At midday everything is stopped for Lunch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Most offices and small shops are closed for an hour and the city pavements are full of people on their way to cafe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coffee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bar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 restaurants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0000"/>
                </a:solidFill>
                <a:latin typeface="Arial Rounded MT Bold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C:\Documents and Settings\наталия\Рабочий стол\картинки\2f47eafe957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14200" y="142920"/>
            <a:ext cx="4071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Afternoon  tea is taken at about 5 o’clock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 but it can hardly be called a meal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 It is a cup of tea and a cake or biscuits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b050"/>
                </a:solidFill>
                <a:latin typeface="Berlin Sans FB Demi"/>
              </a:rPr>
              <a:t>At the  weekends afternoon tea is a special occasion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4572000" y="285840"/>
            <a:ext cx="457200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Dinner is the most substantial meal  of the whole day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It is usually eaten at 7 o’clock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The  first course may be soup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though the English don’t like it very much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).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The main course will often be fish or meat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perhaps the traditional roast  beef of old England and  a lot of vegetables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The next course will be something sweet and often baked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such  as a fruit pie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Last of all there may be  cheese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ffff00"/>
                </a:solidFill>
                <a:latin typeface="Berlin Sans FB Demi"/>
              </a:rPr>
              <a:t> often with biscuits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0" y="4714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Eras Demi ITC"/>
              </a:rPr>
              <a:t>On Christmas Day  a roast turkey is traditionally cooked for dinner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2f2f2"/>
                </a:solidFill>
                <a:latin typeface="Eras Demi ITC"/>
              </a:rPr>
              <a:t> It is usually followed by Christmas pudding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наталия\Рабочий стол\картинки\photos0-800x600.jpg"/>
          <p:cNvPicPr/>
          <p:nvPr/>
        </p:nvPicPr>
        <p:blipFill>
          <a:blip r:embed="rId2"/>
          <a:stretch/>
        </p:blipFill>
        <p:spPr>
          <a:xfrm>
            <a:off x="-125280" y="0"/>
            <a:ext cx="9269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2061720" y="0"/>
            <a:ext cx="40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ress in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екст 2"/>
          <p:cNvSpPr/>
          <p:nvPr/>
        </p:nvSpPr>
        <p:spPr>
          <a:xfrm>
            <a:off x="0" y="500040"/>
            <a:ext cx="585792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Probably in no other country are there such great differences between the daily newspaper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On the one hand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re are the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«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quality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» 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newspaper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:  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The Time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 Independent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 Guardian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 Financial Time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and The  Daily Telegraph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These concern themselves with  factual reports of major national and international events in the world of politics and business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c00000"/>
                </a:solidFill>
                <a:latin typeface="Bookman Old Style"/>
              </a:rPr>
              <a:t> art and sport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In addition to the 12 daily newspaper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 there are nine newspapers which are published on Sunday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 Beside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,</a:t>
            </a:r>
            <a:r>
              <a:rPr b="0" lang="en-US" sz="2000" spc="-1" strike="noStrike">
                <a:solidFill>
                  <a:srgbClr val="ffc000"/>
                </a:solidFill>
                <a:latin typeface="Bookman Old Style"/>
              </a:rPr>
              <a:t> nearly every area in Britain has one or several local newspapers</a:t>
            </a: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наталия\Рабочий стол\картинки\1239609627_pressgazette.jpg"/>
          <p:cNvPicPr/>
          <p:nvPr/>
        </p:nvPicPr>
        <p:blipFill>
          <a:blip r:embed="rId3"/>
          <a:stretch/>
        </p:blipFill>
        <p:spPr>
          <a:xfrm>
            <a:off x="5857920" y="2571840"/>
            <a:ext cx="328608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наталия\Рабочий стол\картинки\o-00049584-a-000126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214200" y="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cript MT Bold"/>
              </a:rPr>
              <a:t>Life of youth in Bri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85716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Young people  from all walks of life are united according to their interests by the established youth organizations in Britain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These organizations develop because of the contribution of both full-time and part-time youth workers and a great number of  volunteer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4572000" y="71424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Young  people participate  in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expedition course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lasting 8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12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or 20 days and involving adventurous journeys by land or sea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There are also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specialist course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»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for young people aged 17 and over  to become involved in work with such groups as the homeless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70c0"/>
                </a:solidFill>
                <a:latin typeface="Berlin Sans FB Demi"/>
              </a:rPr>
              <a:t> the elderly and the disab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lond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47640" y="4762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 Rounded MT Bold"/>
              </a:rPr>
              <a:t>London is the capital of Great Bri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18:22Z</dcterms:created>
  <dc:creator>НаташКа</dc:creator>
  <dc:description/>
  <dc:language>en-US</dc:language>
  <cp:lastModifiedBy>Максим</cp:lastModifiedBy>
  <dcterms:modified xsi:type="dcterms:W3CDTF">2010-01-07T20:05:49Z</dcterms:modified>
  <cp:revision>62</cp:revision>
  <dc:subject/>
  <dc:title>The  United Kingdom</dc:title>
</cp:coreProperties>
</file>