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3E7-F76A-4037-993A-FE442196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380-644C-4CC8-8EDE-FCEFEFF8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443-B6EA-4CF3-A749-53527747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675-9B67-43E2-AD79-BB00A23E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90C-2490-471F-B281-EE07B196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BFF-6AF0-433B-94F7-700D1DDF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A4B-917C-4490-A7E8-8D33B777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861-4AEC-46E5-A211-22DB8B13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32B-AA77-42F1-874C-EF36512B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63E-62BD-4951-B1DF-E983A8D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A19-A06D-451D-8870-EE0D3B96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E7B-15BF-4A87-94DD-A20D7CE3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FDB4-FEDB-4A6B-AFF5-AACD8DA3A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C:\Documents and Settings\наталия\Мои документы\Учёба\для Наташи\Palace.of.westminster.ar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Заголовок 1" descr=""/>
          <p:cNvPicPr/>
          <p:nvPr/>
        </p:nvPicPr>
        <p:blipFill>
          <a:blip r:embed="rId3"/>
          <a:stretch/>
        </p:blipFill>
        <p:spPr>
          <a:xfrm>
            <a:off x="493560" y="2401920"/>
            <a:ext cx="8242560" cy="1378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024F3BE3-80E3-4A0B-96FF-D1E2ABD71EDF_mw800_mh6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268360" y="0"/>
            <a:ext cx="489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It is difficult to speak about the centre of London as of centres, each with a distinct character: the financial and business centre called the City (spelt with a capital C), the shopping and entertainment centre in the West End, the government centre in Westmin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london_parlament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42920" y="214200"/>
            <a:ext cx="42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Opposite the Houses of Parliament stands Westminster Abb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214280" y="1143000"/>
            <a:ext cx="6400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убанова Наталь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 класс, МОУ «СОШ № 5 с УИОП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. Старый Оскол Белгородской обла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уководител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крабалюк Елена Иванов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C:\Documents and Settings\наталия\Рабочий стол\лондон\www_textsite_1_1188548111.05_0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0" y="0"/>
            <a:ext cx="19288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Script MT Bold"/>
              </a:rPr>
              <a:t>The United Kingdom of Great Britain and Northern       Ireland is   situated on the       British  Isles</a:t>
            </a:r>
            <a:r>
              <a:rPr b="1" lang="ru-RU" sz="2200" spc="-1" strike="noStrike">
                <a:solidFill>
                  <a:srgbClr val="0d0d0d"/>
                </a:solidFill>
                <a:latin typeface="Segoe UI"/>
              </a:rPr>
              <a:t>.</a:t>
            </a:r>
            <a:r>
              <a:rPr b="1" lang="en-US" sz="2200" spc="-1" strike="noStrike">
                <a:solidFill>
                  <a:srgbClr val="c00000"/>
                </a:solidFill>
                <a:latin typeface="Script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6215040" y="2000160"/>
            <a:ext cx="26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Script MT Bold"/>
              </a:rPr>
              <a:t>It consists of four parts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d0d0d"/>
                </a:solidFill>
                <a:latin typeface="Script MT Bold"/>
              </a:rPr>
              <a:t> England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d0d0d"/>
                </a:solidFill>
                <a:latin typeface="Script MT Bold"/>
              </a:rPr>
              <a:t> Wales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d0d0d"/>
                </a:solidFill>
                <a:latin typeface="Script MT Bold"/>
              </a:rPr>
              <a:t> Scotland and Northern Ireland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East End Birds ey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1785960" y="142920"/>
            <a:ext cx="614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The territory of the United Kingdom is about 244000 square kilometers</a:t>
            </a: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 The population is over 56 million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57120" y="3071880"/>
            <a:ext cx="821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The mountains are not very high</a:t>
            </a: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 The rivers are not very long</a:t>
            </a: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 The most important of them are the Severn and the Thames</a:t>
            </a: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 There are many beautiful lakes in the mountainous part of the coun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наталия\Мои документы\Учёба\для Наташи\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0" y="0"/>
            <a:ext cx="5929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Script MT Bold"/>
              </a:rPr>
              <a:t>The United Kingdom  is a monarchy and the Queen is the head of the state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70c0"/>
                </a:solidFill>
                <a:latin typeface="Script MT Bold"/>
              </a:rPr>
              <a:t> But in practice it is ruled by the elected government with the Prime Minister at the head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70c0"/>
                </a:solidFill>
                <a:latin typeface="Script MT Bold"/>
              </a:rPr>
              <a:t> The British Parliament consists  of two chambers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70c0"/>
                </a:solidFill>
                <a:latin typeface="Script MT Bold"/>
              </a:rPr>
              <a:t> the House of Lords and the House of Commons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наталия\Рабочий стол\картинки\4120_289071_photos_a1_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6"/>
          <p:cNvSpPr/>
          <p:nvPr/>
        </p:nvSpPr>
        <p:spPr>
          <a:xfrm>
            <a:off x="857160" y="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Script MT Bold"/>
              </a:rPr>
              <a:t>        </a:t>
            </a:r>
            <a:r>
              <a:rPr b="0" lang="en-US" sz="6000" spc="-1" strike="noStrike">
                <a:solidFill>
                  <a:srgbClr val="0d0d0d"/>
                </a:solidFill>
                <a:latin typeface="Script MT Bold"/>
              </a:rPr>
              <a:t>English me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500040" y="857160"/>
            <a:ext cx="8286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Script MT Bold"/>
              </a:rPr>
              <a:t> 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The English usually have 4 meals a day</a:t>
            </a:r>
            <a:r>
              <a:rPr b="0" lang="ru-RU" sz="2600" spc="-1" strike="noStrike">
                <a:solidFill>
                  <a:srgbClr val="0d0d0d"/>
                </a:solidFill>
                <a:latin typeface="Bookman Old Style"/>
              </a:rPr>
              <a:t>: 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 breakfast</a:t>
            </a:r>
            <a:r>
              <a:rPr b="0" lang="ru-RU" sz="2600" spc="-1" strike="noStrike">
                <a:solidFill>
                  <a:srgbClr val="0d0d0d"/>
                </a:solidFill>
                <a:latin typeface="Bookman Old Style"/>
              </a:rPr>
              <a:t>,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 lunch</a:t>
            </a:r>
            <a:r>
              <a:rPr b="0" lang="ru-RU" sz="2600" spc="-1" strike="noStrike">
                <a:solidFill>
                  <a:srgbClr val="0d0d0d"/>
                </a:solidFill>
                <a:latin typeface="Bookman Old Style"/>
              </a:rPr>
              <a:t>,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 tea </a:t>
            </a:r>
            <a:r>
              <a:rPr b="0" lang="ru-RU" sz="2600" spc="-1" strike="noStrike">
                <a:solidFill>
                  <a:srgbClr val="0d0d0d"/>
                </a:solidFill>
                <a:latin typeface="Bookman Old Style"/>
              </a:rPr>
              <a:t>(5 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o’clock</a:t>
            </a:r>
            <a:r>
              <a:rPr b="0" lang="ru-RU" sz="2600" spc="-1" strike="noStrike">
                <a:solidFill>
                  <a:srgbClr val="0d0d0d"/>
                </a:solidFill>
                <a:latin typeface="Bookman Old Style"/>
              </a:rPr>
              <a:t>) 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and dinner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214200" y="2025720"/>
            <a:ext cx="4286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Breakfast can be a full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English breakfast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»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of corn flakes with milk and sugar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or bacon and eggs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toast and marmalade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tea or coffee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Some people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however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have just a cup of tea or coffee with a toast or something similar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This is usually called a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continental  breakfast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».</a:t>
            </a:r>
            <a:r>
              <a:rPr b="0" lang="en-US" sz="2600" spc="-1" strike="noStrike">
                <a:solidFill>
                  <a:srgbClr val="c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5214960" y="2000160"/>
            <a:ext cx="3571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At midday everything is stopped for Lunch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Most offices and small shops are closed for an hour and the city pavements are full of people on their way to cafes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coffee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bars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 restaurants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C:\Documents and Settings\наталия\Рабочий стол\картинки\2f47eafe957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214200" y="142920"/>
            <a:ext cx="4071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Berlin Sans FB Demi"/>
              </a:rPr>
              <a:t>Afternoon  tea is taken at about 5 o’clock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b050"/>
                </a:solidFill>
                <a:latin typeface="Berlin Sans FB Demi"/>
              </a:rPr>
              <a:t> but it can hardly be called a meal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b050"/>
                </a:solidFill>
                <a:latin typeface="Berlin Sans FB Demi"/>
              </a:rPr>
              <a:t> It is a cup of tea and a cake or biscuits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b050"/>
                </a:solidFill>
                <a:latin typeface="Berlin Sans FB Demi"/>
              </a:rPr>
              <a:t>At the  weekends afternoon tea is a special occasion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4572000" y="285840"/>
            <a:ext cx="457200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Dinner is the most substantial meal  of the whole day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 It is usually eaten at 7 o’clock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The  first course may be soup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though the English don’t like it very much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).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 The main course will often be fish or meat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perhaps the traditional roast  beef of old England and  a lot of vegetables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 The next course will be something sweet and often baked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such  as a fruit pie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 Last of all there may be  cheese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 often with biscuits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0" y="4714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Eras Demi ITC"/>
              </a:rPr>
              <a:t>On Christmas Day  a roast turkey is traditionally cooked for dinner</a:t>
            </a:r>
            <a:r>
              <a:rPr b="0" lang="ru-RU" sz="2400" spc="-1" strike="noStrike">
                <a:solidFill>
                  <a:srgbClr val="f2f2f2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2f2f2"/>
                </a:solidFill>
                <a:latin typeface="Eras Demi ITC"/>
              </a:rPr>
              <a:t> It is usually followed by Christmas pudding</a:t>
            </a:r>
            <a:r>
              <a:rPr b="0" lang="ru-RU" sz="2400" spc="-1" strike="noStrike">
                <a:solidFill>
                  <a:srgbClr val="f2f2f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наталия\Рабочий стол\картинки\photos0-800x600.jpg"/>
          <p:cNvPicPr/>
          <p:nvPr/>
        </p:nvPicPr>
        <p:blipFill>
          <a:blip r:embed="rId2"/>
          <a:stretch/>
        </p:blipFill>
        <p:spPr>
          <a:xfrm>
            <a:off x="-12528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2061720" y="0"/>
            <a:ext cx="40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Press in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Текст 2"/>
          <p:cNvSpPr/>
          <p:nvPr/>
        </p:nvSpPr>
        <p:spPr>
          <a:xfrm>
            <a:off x="0" y="500040"/>
            <a:ext cx="585792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Probably in no other country are there such great differences between the daily newspapers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.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On the one hand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there are the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 «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quality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» 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newspapers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:  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The Times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The Independent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The Guardian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The Financial Times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and The  Daily Telegraph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.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These concern themselves with  factual reports of major national and international events in the world of politics and business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art and sport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Bookman Old Style"/>
              </a:rPr>
              <a:t>In addition to the 12 daily newspapers</a:t>
            </a:r>
            <a:r>
              <a:rPr b="0" lang="ru-RU" sz="2000" spc="-1" strike="noStrike">
                <a:solidFill>
                  <a:srgbClr val="ffc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ffc000"/>
                </a:solidFill>
                <a:latin typeface="Bookman Old Style"/>
              </a:rPr>
              <a:t> there are nine newspapers which are published on Sundays</a:t>
            </a:r>
            <a:r>
              <a:rPr b="0" lang="ru-RU" sz="2000" spc="-1" strike="noStrike">
                <a:solidFill>
                  <a:srgbClr val="ffc000"/>
                </a:solidFill>
                <a:latin typeface="Bookman Old Style"/>
              </a:rPr>
              <a:t>.</a:t>
            </a:r>
            <a:r>
              <a:rPr b="0" lang="en-US" sz="2000" spc="-1" strike="noStrike">
                <a:solidFill>
                  <a:srgbClr val="ffc000"/>
                </a:solidFill>
                <a:latin typeface="Bookman Old Style"/>
              </a:rPr>
              <a:t> Besides</a:t>
            </a:r>
            <a:r>
              <a:rPr b="0" lang="ru-RU" sz="2000" spc="-1" strike="noStrike">
                <a:solidFill>
                  <a:srgbClr val="ffc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ffc000"/>
                </a:solidFill>
                <a:latin typeface="Bookman Old Style"/>
              </a:rPr>
              <a:t> nearly every area in Britain has one or several local newspapers</a:t>
            </a:r>
            <a:r>
              <a:rPr b="0" lang="ru-RU" sz="2000" spc="-1" strike="noStrike">
                <a:solidFill>
                  <a:srgbClr val="ffc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наталия\Рабочий стол\картинки\1239609627_pressgazette.jpg"/>
          <p:cNvPicPr/>
          <p:nvPr/>
        </p:nvPicPr>
        <p:blipFill>
          <a:blip r:embed="rId3"/>
          <a:stretch/>
        </p:blipFill>
        <p:spPr>
          <a:xfrm>
            <a:off x="5857920" y="2571840"/>
            <a:ext cx="328608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наталия\Рабочий стол\картинки\o-00049584-a-000126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214200" y="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cript MT Bold"/>
              </a:rPr>
              <a:t>Life of youth in Brit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0" y="85716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Young people  from all walks of life are united according to their interests by the established youth organizations in Britain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 These organizations develop because of the contribution of both full-time and part-time youth workers and a great number of  volunteers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4572000" y="71424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Young  people participate  in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expedition courses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»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 lasting 8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12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or 20 days and involving adventurous journeys by land or sea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 There are also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specialist courses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»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for young people aged 17 and over  to become involved in work with such groups as the homeless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 the elderly and the disabl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lond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547640" y="47628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 Rounded MT Bold"/>
              </a:rPr>
              <a:t>London is the capital of Great Bri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0:18:22Z</dcterms:created>
  <dc:creator>НаташКа</dc:creator>
  <dc:description/>
  <dc:language>en-US</dc:language>
  <cp:lastModifiedBy>Максим</cp:lastModifiedBy>
  <dcterms:modified xsi:type="dcterms:W3CDTF">2010-01-07T20:05:49Z</dcterms:modified>
  <cp:revision>62</cp:revision>
  <dc:subject/>
  <dc:title>The  United Kingdom</dc:title>
</cp:coreProperties>
</file>